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13.jpeg" ContentType="image/jpeg"/>
  <Override PartName="/ppt/media/image6.png" ContentType="image/png"/>
  <Override PartName="/ppt/media/image10.wmf" ContentType="image/x-wmf"/>
  <Override PartName="/ppt/media/image11.png" ContentType="image/png"/>
  <Override PartName="/ppt/media/image12.jpeg" ContentType="image/jpeg"/>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CD52D-5C1B-45CD-A039-172725482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4D48A-EB70-42CF-AC5D-5C588F9B4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292AB-FB78-484F-A65B-9F67E75E9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85AF3-7F26-4A0C-A816-47F7F2BFC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805CC-A826-41D0-B771-DA7E5C537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39C3C-6163-49EB-AFDE-42EAD481C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98AE3-F2B5-4EBD-96A6-F6D7FE5B2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89ABA-9A54-4CC1-92E3-46B429F16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EFB93-DE78-4719-9256-BA091E25B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8204-D658-43F5-A635-462D50787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4677E-F112-47C3-90D5-778A45B63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79F0-A544-40A3-8693-CBB7817FF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987B-ECAB-4C93-AC9B-5BF8F5C38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eci Komputerowe</a:t>
            </a:r>
            <a:endParaRPr b="0" lang="en-US" sz="5400" spc="-1" strike="noStrike">
              <a:solidFill>
                <a:srgbClr val="000000"/>
              </a:solidFill>
              <a:latin typeface="Times New Roman"/>
            </a:endParaRPr>
          </a:p>
        </p:txBody>
      </p:sp>
      <p:sp>
        <p:nvSpPr>
          <p:cNvPr id="42" name=""/>
          <p:cNvSpPr/>
          <p:nvPr/>
        </p:nvSpPr>
        <p:spPr>
          <a:xfrm>
            <a:off x="3354120" y="3581280"/>
            <a:ext cx="20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Wykład 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IPv4 podsieci</a:t>
            </a:r>
            <a:endParaRPr b="0" lang="en-US" sz="3200" spc="-1" strike="noStrike">
              <a:solidFill>
                <a:srgbClr val="000000"/>
              </a:solidFill>
              <a:latin typeface="Times New Roman"/>
            </a:endParaRPr>
          </a:p>
        </p:txBody>
      </p:sp>
      <p:sp>
        <p:nvSpPr>
          <p:cNvPr id="299"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04920" y="762120"/>
            <a:ext cx="8686800" cy="531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niej więcej od roku 1997 podział na klasy sieci jest już nie aktualn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Obecnie adresy IPv4 są przydzielane bez specjalnego zwracania uwagi na klasy sieci - wg założeń CSDIR (classless routing) - ponieważ powodowało to duże marnotrawstwo I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worzenie podsieci polega na dzieleniu bloków adresów IP przypisanych klasie A, B lub C na większą liczbę mniejszych bloków adresowych. Po podziale można korzystać z mniejszych grup adresów w celu bardziej efektywnego zarządzania adresami.  W celu odróżnienia części adresu IP przypisanej hostowi od części IP przypisanej sieci używamy zestawu bitów zwanych maską podsieci (subnet mask). </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IPv4 - maska podsieci</a:t>
            </a:r>
            <a:endParaRPr b="0" lang="en-US" sz="3200" spc="-1" strike="noStrike">
              <a:solidFill>
                <a:srgbClr val="000000"/>
              </a:solidFill>
              <a:latin typeface="Times New Roman"/>
            </a:endParaRPr>
          </a:p>
        </p:txBody>
      </p:sp>
      <p:sp>
        <p:nvSpPr>
          <p:cNvPr id="302"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28600" y="1066680"/>
            <a:ext cx="8686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Maska</a:t>
            </a:r>
            <a:r>
              <a:rPr b="0" lang="pl-PL" sz="2400" spc="-1" strike="noStrike">
                <a:solidFill>
                  <a:srgbClr val="000000"/>
                </a:solidFill>
                <a:latin typeface="Times New Roman"/>
              </a:rPr>
              <a:t> - jest to adres IP, który ma jedynki na pozycjach bitów odpowiadających adresowi sieciowemu i zera na pozycjach odpowiadających adresowi hosta. Klasa adresów sieciowych wyznacza maskę sieciową.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Zadaniem maski podsieci jest identyfikacja długości i wartości ID sieci. IP używa maski lokalnej podsieci w połączeniu z lokalnym adresem IP do identyfikacji lokalnej sieci</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04" name=""/>
          <p:cNvGrpSpPr/>
          <p:nvPr/>
        </p:nvGrpSpPr>
        <p:grpSpPr>
          <a:xfrm>
            <a:off x="533520" y="3962520"/>
            <a:ext cx="8152920" cy="1523880"/>
            <a:chOff x="533520" y="3962520"/>
            <a:chExt cx="8152920" cy="1523880"/>
          </a:xfrm>
        </p:grpSpPr>
        <p:grpSp>
          <p:nvGrpSpPr>
            <p:cNvPr id="305" name=""/>
            <p:cNvGrpSpPr/>
            <p:nvPr/>
          </p:nvGrpSpPr>
          <p:grpSpPr>
            <a:xfrm>
              <a:off x="539640" y="3965040"/>
              <a:ext cx="8139960" cy="1518120"/>
              <a:chOff x="539640" y="3965040"/>
              <a:chExt cx="8139960" cy="1518120"/>
            </a:xfrm>
          </p:grpSpPr>
          <p:grpSp>
            <p:nvGrpSpPr>
              <p:cNvPr id="306" name=""/>
              <p:cNvGrpSpPr/>
              <p:nvPr/>
            </p:nvGrpSpPr>
            <p:grpSpPr>
              <a:xfrm>
                <a:off x="539640" y="3965040"/>
                <a:ext cx="1254240" cy="379440"/>
                <a:chOff x="539640" y="3965040"/>
                <a:chExt cx="1254240" cy="379440"/>
              </a:xfrm>
            </p:grpSpPr>
            <p:sp>
              <p:nvSpPr>
                <p:cNvPr id="307" name=""/>
                <p:cNvSpPr/>
                <p:nvPr/>
              </p:nvSpPr>
              <p:spPr>
                <a:xfrm>
                  <a:off x="539640" y="3965040"/>
                  <a:ext cx="125424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539640" y="3965040"/>
                  <a:ext cx="1253880" cy="379440"/>
                  <a:chOff x="539640" y="3965040"/>
                  <a:chExt cx="1253880" cy="379440"/>
                </a:xfrm>
              </p:grpSpPr>
              <p:sp>
                <p:nvSpPr>
                  <p:cNvPr id="309" name=""/>
                  <p:cNvSpPr/>
                  <p:nvPr/>
                </p:nvSpPr>
                <p:spPr>
                  <a:xfrm>
                    <a:off x="598320" y="3965040"/>
                    <a:ext cx="1136160" cy="37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724280"/>
                        <a:tab algn="l" pos="482904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lasa</a:t>
                    </a:r>
                    <a:endParaRPr b="0" lang="en-US" sz="1400" spc="-1" strike="noStrike">
                      <a:solidFill>
                        <a:srgbClr val="000000"/>
                      </a:solidFill>
                      <a:latin typeface="Times New Roman"/>
                    </a:endParaRPr>
                  </a:p>
                  <a:p>
                    <a:pPr algn="just">
                      <a:tabLst>
                        <a:tab algn="l" pos="0"/>
                        <a:tab algn="l" pos="4724280"/>
                        <a:tab algn="l" pos="48290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0" name=""/>
                  <p:cNvSpPr/>
                  <p:nvPr/>
                </p:nvSpPr>
                <p:spPr>
                  <a:xfrm>
                    <a:off x="539640" y="3965040"/>
                    <a:ext cx="125388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 name=""/>
              <p:cNvGrpSpPr/>
              <p:nvPr/>
            </p:nvGrpSpPr>
            <p:grpSpPr>
              <a:xfrm>
                <a:off x="1794240" y="3965040"/>
                <a:ext cx="2275200" cy="379440"/>
                <a:chOff x="1794240" y="3965040"/>
                <a:chExt cx="2275200" cy="379440"/>
              </a:xfrm>
            </p:grpSpPr>
            <p:sp>
              <p:nvSpPr>
                <p:cNvPr id="312" name=""/>
                <p:cNvSpPr/>
                <p:nvPr/>
              </p:nvSpPr>
              <p:spPr>
                <a:xfrm>
                  <a:off x="1794240" y="3965040"/>
                  <a:ext cx="227520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 name=""/>
                <p:cNvGrpSpPr/>
                <p:nvPr/>
              </p:nvGrpSpPr>
              <p:grpSpPr>
                <a:xfrm>
                  <a:off x="1794240" y="3965040"/>
                  <a:ext cx="2274840" cy="379440"/>
                  <a:chOff x="1794240" y="3965040"/>
                  <a:chExt cx="2274840" cy="379440"/>
                </a:xfrm>
              </p:grpSpPr>
              <p:sp>
                <p:nvSpPr>
                  <p:cNvPr id="314" name=""/>
                  <p:cNvSpPr/>
                  <p:nvPr/>
                </p:nvSpPr>
                <p:spPr>
                  <a:xfrm>
                    <a:off x="1853280" y="3965040"/>
                    <a:ext cx="2156040" cy="37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724280"/>
                        <a:tab algn="l" pos="482904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tacja kropkow</a:t>
                    </a:r>
                    <a:r>
                      <a:rPr b="1" lang="en-US" sz="1200" spc="-1" strike="noStrike">
                        <a:solidFill>
                          <a:srgbClr val="000000"/>
                        </a:solidFill>
                        <a:latin typeface="Times New Roman"/>
                      </a:rPr>
                      <a:t>o dziesiętna</a:t>
                    </a:r>
                    <a:endParaRPr b="0" lang="en-US" sz="1200" spc="-1" strike="noStrike">
                      <a:solidFill>
                        <a:srgbClr val="000000"/>
                      </a:solidFill>
                      <a:latin typeface="Times New Roman"/>
                    </a:endParaRPr>
                  </a:p>
                  <a:p>
                    <a:pPr algn="just">
                      <a:tabLst>
                        <a:tab algn="l" pos="0"/>
                        <a:tab algn="l" pos="4724280"/>
                        <a:tab algn="l" pos="48290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1794240" y="3965040"/>
                    <a:ext cx="227484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6" name=""/>
              <p:cNvGrpSpPr/>
              <p:nvPr/>
            </p:nvGrpSpPr>
            <p:grpSpPr>
              <a:xfrm>
                <a:off x="4070160" y="3965040"/>
                <a:ext cx="4609440" cy="379440"/>
                <a:chOff x="4070160" y="3965040"/>
                <a:chExt cx="4609440" cy="379440"/>
              </a:xfrm>
            </p:grpSpPr>
            <p:sp>
              <p:nvSpPr>
                <p:cNvPr id="317" name=""/>
                <p:cNvSpPr/>
                <p:nvPr/>
              </p:nvSpPr>
              <p:spPr>
                <a:xfrm>
                  <a:off x="4070160" y="3965040"/>
                  <a:ext cx="460944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 name=""/>
                <p:cNvGrpSpPr/>
                <p:nvPr/>
              </p:nvGrpSpPr>
              <p:grpSpPr>
                <a:xfrm>
                  <a:off x="4070160" y="3965040"/>
                  <a:ext cx="4609080" cy="379440"/>
                  <a:chOff x="4070160" y="3965040"/>
                  <a:chExt cx="4609080" cy="379440"/>
                </a:xfrm>
              </p:grpSpPr>
              <p:sp>
                <p:nvSpPr>
                  <p:cNvPr id="319" name=""/>
                  <p:cNvSpPr/>
                  <p:nvPr/>
                </p:nvSpPr>
                <p:spPr>
                  <a:xfrm>
                    <a:off x="4128840" y="3965040"/>
                    <a:ext cx="4490640" cy="37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724280"/>
                        <a:tab algn="l" pos="482904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zorzec binarny</a:t>
                    </a:r>
                    <a:endParaRPr b="0" lang="en-US" sz="1400" spc="-1" strike="noStrike">
                      <a:solidFill>
                        <a:srgbClr val="000000"/>
                      </a:solidFill>
                      <a:latin typeface="Times New Roman"/>
                    </a:endParaRPr>
                  </a:p>
                  <a:p>
                    <a:pPr algn="just">
                      <a:tabLst>
                        <a:tab algn="l" pos="0"/>
                        <a:tab algn="l" pos="4724280"/>
                        <a:tab algn="l" pos="48290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0" name=""/>
                  <p:cNvSpPr/>
                  <p:nvPr/>
                </p:nvSpPr>
                <p:spPr>
                  <a:xfrm>
                    <a:off x="4070160" y="3965040"/>
                    <a:ext cx="460908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1" name=""/>
              <p:cNvGrpSpPr/>
              <p:nvPr/>
            </p:nvGrpSpPr>
            <p:grpSpPr>
              <a:xfrm>
                <a:off x="539640" y="4344480"/>
                <a:ext cx="1254240" cy="379440"/>
                <a:chOff x="539640" y="4344480"/>
                <a:chExt cx="1254240" cy="379440"/>
              </a:xfrm>
            </p:grpSpPr>
            <p:sp>
              <p:nvSpPr>
                <p:cNvPr id="322" name=""/>
                <p:cNvSpPr/>
                <p:nvPr/>
              </p:nvSpPr>
              <p:spPr>
                <a:xfrm>
                  <a:off x="539640" y="4344480"/>
                  <a:ext cx="125424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539640" y="4344480"/>
                  <a:ext cx="1253880" cy="379440"/>
                  <a:chOff x="539640" y="4344480"/>
                  <a:chExt cx="1253880" cy="379440"/>
                </a:xfrm>
              </p:grpSpPr>
              <p:sp>
                <p:nvSpPr>
                  <p:cNvPr id="324" name=""/>
                  <p:cNvSpPr/>
                  <p:nvPr/>
                </p:nvSpPr>
                <p:spPr>
                  <a:xfrm>
                    <a:off x="598320" y="4344480"/>
                    <a:ext cx="1136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724280"/>
                        <a:tab algn="l" pos="48290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a:t>
                    </a:r>
                    <a:endParaRPr b="0" lang="en-US" sz="1400" spc="-1" strike="noStrike">
                      <a:solidFill>
                        <a:srgbClr val="000000"/>
                      </a:solidFill>
                      <a:latin typeface="Times New Roman"/>
                    </a:endParaRPr>
                  </a:p>
                  <a:p>
                    <a:pPr algn="ctr">
                      <a:tabLst>
                        <a:tab algn="l" pos="0"/>
                        <a:tab algn="l" pos="4724280"/>
                        <a:tab algn="l" pos="48290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539640" y="4344480"/>
                    <a:ext cx="125388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6" name=""/>
              <p:cNvGrpSpPr/>
              <p:nvPr/>
            </p:nvGrpSpPr>
            <p:grpSpPr>
              <a:xfrm>
                <a:off x="1794240" y="4344480"/>
                <a:ext cx="2275200" cy="379440"/>
                <a:chOff x="1794240" y="4344480"/>
                <a:chExt cx="2275200" cy="379440"/>
              </a:xfrm>
            </p:grpSpPr>
            <p:sp>
              <p:nvSpPr>
                <p:cNvPr id="327" name=""/>
                <p:cNvSpPr/>
                <p:nvPr/>
              </p:nvSpPr>
              <p:spPr>
                <a:xfrm>
                  <a:off x="1794240" y="4344480"/>
                  <a:ext cx="227520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794240" y="4344480"/>
                  <a:ext cx="2274840" cy="379440"/>
                  <a:chOff x="1794240" y="4344480"/>
                  <a:chExt cx="2274840" cy="379440"/>
                </a:xfrm>
              </p:grpSpPr>
              <p:sp>
                <p:nvSpPr>
                  <p:cNvPr id="329" name=""/>
                  <p:cNvSpPr/>
                  <p:nvPr/>
                </p:nvSpPr>
                <p:spPr>
                  <a:xfrm>
                    <a:off x="1853280" y="4344480"/>
                    <a:ext cx="2156040" cy="37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724280"/>
                        <a:tab algn="l" pos="48290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5.0.0.0</a:t>
                    </a:r>
                    <a:endParaRPr b="0" lang="en-US" sz="1400" spc="-1" strike="noStrike">
                      <a:solidFill>
                        <a:srgbClr val="000000"/>
                      </a:solidFill>
                      <a:latin typeface="Times New Roman"/>
                    </a:endParaRPr>
                  </a:p>
                  <a:p>
                    <a:pPr algn="just">
                      <a:tabLst>
                        <a:tab algn="l" pos="0"/>
                        <a:tab algn="l" pos="4724280"/>
                        <a:tab algn="l" pos="48290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0" name=""/>
                  <p:cNvSpPr/>
                  <p:nvPr/>
                </p:nvSpPr>
                <p:spPr>
                  <a:xfrm>
                    <a:off x="1794240" y="4344480"/>
                    <a:ext cx="227484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1" name=""/>
              <p:cNvGrpSpPr/>
              <p:nvPr/>
            </p:nvGrpSpPr>
            <p:grpSpPr>
              <a:xfrm>
                <a:off x="4070160" y="4344480"/>
                <a:ext cx="4609440" cy="379440"/>
                <a:chOff x="4070160" y="4344480"/>
                <a:chExt cx="4609440" cy="379440"/>
              </a:xfrm>
            </p:grpSpPr>
            <p:sp>
              <p:nvSpPr>
                <p:cNvPr id="332" name=""/>
                <p:cNvSpPr/>
                <p:nvPr/>
              </p:nvSpPr>
              <p:spPr>
                <a:xfrm>
                  <a:off x="4070160" y="4344480"/>
                  <a:ext cx="460944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 name=""/>
                <p:cNvGrpSpPr/>
                <p:nvPr/>
              </p:nvGrpSpPr>
              <p:grpSpPr>
                <a:xfrm>
                  <a:off x="4070160" y="4344480"/>
                  <a:ext cx="4609080" cy="379440"/>
                  <a:chOff x="4070160" y="4344480"/>
                  <a:chExt cx="4609080" cy="379440"/>
                </a:xfrm>
              </p:grpSpPr>
              <p:sp>
                <p:nvSpPr>
                  <p:cNvPr id="334" name=""/>
                  <p:cNvSpPr/>
                  <p:nvPr/>
                </p:nvSpPr>
                <p:spPr>
                  <a:xfrm>
                    <a:off x="4128840" y="4344480"/>
                    <a:ext cx="4490640" cy="37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724280"/>
                        <a:tab algn="l" pos="48290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111111 00000000 00000000 00000000</a:t>
                    </a:r>
                    <a:endParaRPr b="0" lang="en-US" sz="1400" spc="-1" strike="noStrike">
                      <a:solidFill>
                        <a:srgbClr val="000000"/>
                      </a:solidFill>
                      <a:latin typeface="Times New Roman"/>
                    </a:endParaRPr>
                  </a:p>
                  <a:p>
                    <a:pPr algn="just">
                      <a:tabLst>
                        <a:tab algn="l" pos="0"/>
                        <a:tab algn="l" pos="4724280"/>
                        <a:tab algn="l" pos="48290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5" name=""/>
                  <p:cNvSpPr/>
                  <p:nvPr/>
                </p:nvSpPr>
                <p:spPr>
                  <a:xfrm>
                    <a:off x="4070160" y="4344480"/>
                    <a:ext cx="460908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6" name=""/>
              <p:cNvGrpSpPr/>
              <p:nvPr/>
            </p:nvGrpSpPr>
            <p:grpSpPr>
              <a:xfrm>
                <a:off x="539640" y="4724280"/>
                <a:ext cx="1254240" cy="379440"/>
                <a:chOff x="539640" y="4724280"/>
                <a:chExt cx="1254240" cy="379440"/>
              </a:xfrm>
            </p:grpSpPr>
            <p:sp>
              <p:nvSpPr>
                <p:cNvPr id="337" name=""/>
                <p:cNvSpPr/>
                <p:nvPr/>
              </p:nvSpPr>
              <p:spPr>
                <a:xfrm>
                  <a:off x="539640" y="4724280"/>
                  <a:ext cx="125424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 name=""/>
                <p:cNvGrpSpPr/>
                <p:nvPr/>
              </p:nvGrpSpPr>
              <p:grpSpPr>
                <a:xfrm>
                  <a:off x="539640" y="4724280"/>
                  <a:ext cx="1253880" cy="379440"/>
                  <a:chOff x="539640" y="4724280"/>
                  <a:chExt cx="1253880" cy="379440"/>
                </a:xfrm>
              </p:grpSpPr>
              <p:sp>
                <p:nvSpPr>
                  <p:cNvPr id="339" name=""/>
                  <p:cNvSpPr/>
                  <p:nvPr/>
                </p:nvSpPr>
                <p:spPr>
                  <a:xfrm>
                    <a:off x="598320" y="4724280"/>
                    <a:ext cx="1136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724280"/>
                        <a:tab algn="l" pos="48290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endParaRPr b="0" lang="en-US" sz="1400" spc="-1" strike="noStrike">
                      <a:solidFill>
                        <a:srgbClr val="000000"/>
                      </a:solidFill>
                      <a:latin typeface="Times New Roman"/>
                    </a:endParaRPr>
                  </a:p>
                  <a:p>
                    <a:pPr algn="ctr">
                      <a:tabLst>
                        <a:tab algn="l" pos="0"/>
                        <a:tab algn="l" pos="4724280"/>
                        <a:tab algn="l" pos="48290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0" name=""/>
                  <p:cNvSpPr/>
                  <p:nvPr/>
                </p:nvSpPr>
                <p:spPr>
                  <a:xfrm>
                    <a:off x="539640" y="4724280"/>
                    <a:ext cx="125388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1" name=""/>
              <p:cNvGrpSpPr/>
              <p:nvPr/>
            </p:nvGrpSpPr>
            <p:grpSpPr>
              <a:xfrm>
                <a:off x="1794240" y="4724280"/>
                <a:ext cx="2275200" cy="379440"/>
                <a:chOff x="1794240" y="4724280"/>
                <a:chExt cx="2275200" cy="379440"/>
              </a:xfrm>
            </p:grpSpPr>
            <p:sp>
              <p:nvSpPr>
                <p:cNvPr id="342" name=""/>
                <p:cNvSpPr/>
                <p:nvPr/>
              </p:nvSpPr>
              <p:spPr>
                <a:xfrm>
                  <a:off x="1794240" y="4724280"/>
                  <a:ext cx="227520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 name=""/>
                <p:cNvGrpSpPr/>
                <p:nvPr/>
              </p:nvGrpSpPr>
              <p:grpSpPr>
                <a:xfrm>
                  <a:off x="1794240" y="4724280"/>
                  <a:ext cx="2274840" cy="379440"/>
                  <a:chOff x="1794240" y="4724280"/>
                  <a:chExt cx="2274840" cy="379440"/>
                </a:xfrm>
              </p:grpSpPr>
              <p:sp>
                <p:nvSpPr>
                  <p:cNvPr id="344" name=""/>
                  <p:cNvSpPr/>
                  <p:nvPr/>
                </p:nvSpPr>
                <p:spPr>
                  <a:xfrm>
                    <a:off x="1853280" y="4724280"/>
                    <a:ext cx="2156040" cy="37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724280"/>
                        <a:tab algn="l" pos="48290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5.255.0.0</a:t>
                    </a:r>
                    <a:endParaRPr b="0" lang="en-US" sz="1400" spc="-1" strike="noStrike">
                      <a:solidFill>
                        <a:srgbClr val="000000"/>
                      </a:solidFill>
                      <a:latin typeface="Times New Roman"/>
                    </a:endParaRPr>
                  </a:p>
                  <a:p>
                    <a:pPr algn="just">
                      <a:tabLst>
                        <a:tab algn="l" pos="0"/>
                        <a:tab algn="l" pos="4724280"/>
                        <a:tab algn="l" pos="48290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5" name=""/>
                  <p:cNvSpPr/>
                  <p:nvPr/>
                </p:nvSpPr>
                <p:spPr>
                  <a:xfrm>
                    <a:off x="1794240" y="4724280"/>
                    <a:ext cx="227484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4070160" y="4724280"/>
                <a:ext cx="4609440" cy="379440"/>
                <a:chOff x="4070160" y="4724280"/>
                <a:chExt cx="4609440" cy="379440"/>
              </a:xfrm>
            </p:grpSpPr>
            <p:sp>
              <p:nvSpPr>
                <p:cNvPr id="347" name=""/>
                <p:cNvSpPr/>
                <p:nvPr/>
              </p:nvSpPr>
              <p:spPr>
                <a:xfrm>
                  <a:off x="4070160" y="4724280"/>
                  <a:ext cx="460944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4070160" y="4724280"/>
                  <a:ext cx="4609080" cy="379440"/>
                  <a:chOff x="4070160" y="4724280"/>
                  <a:chExt cx="4609080" cy="379440"/>
                </a:xfrm>
              </p:grpSpPr>
              <p:sp>
                <p:nvSpPr>
                  <p:cNvPr id="349" name=""/>
                  <p:cNvSpPr/>
                  <p:nvPr/>
                </p:nvSpPr>
                <p:spPr>
                  <a:xfrm>
                    <a:off x="4128840" y="4724280"/>
                    <a:ext cx="4490640" cy="37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724280"/>
                        <a:tab algn="l" pos="48290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111111 11111111 00000000 00000000</a:t>
                    </a:r>
                    <a:endParaRPr b="0" lang="en-US" sz="1400" spc="-1" strike="noStrike">
                      <a:solidFill>
                        <a:srgbClr val="000000"/>
                      </a:solidFill>
                      <a:latin typeface="Times New Roman"/>
                    </a:endParaRPr>
                  </a:p>
                  <a:p>
                    <a:pPr algn="just">
                      <a:tabLst>
                        <a:tab algn="l" pos="0"/>
                        <a:tab algn="l" pos="4724280"/>
                        <a:tab algn="l" pos="48290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0" name=""/>
                  <p:cNvSpPr/>
                  <p:nvPr/>
                </p:nvSpPr>
                <p:spPr>
                  <a:xfrm>
                    <a:off x="4070160" y="4724280"/>
                    <a:ext cx="460908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1" name=""/>
              <p:cNvGrpSpPr/>
              <p:nvPr/>
            </p:nvGrpSpPr>
            <p:grpSpPr>
              <a:xfrm>
                <a:off x="539640" y="5103720"/>
                <a:ext cx="1254240" cy="379440"/>
                <a:chOff x="539640" y="5103720"/>
                <a:chExt cx="1254240" cy="379440"/>
              </a:xfrm>
            </p:grpSpPr>
            <p:sp>
              <p:nvSpPr>
                <p:cNvPr id="352" name=""/>
                <p:cNvSpPr/>
                <p:nvPr/>
              </p:nvSpPr>
              <p:spPr>
                <a:xfrm>
                  <a:off x="539640" y="5103720"/>
                  <a:ext cx="125424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539640" y="5103720"/>
                  <a:ext cx="1253880" cy="379440"/>
                  <a:chOff x="539640" y="5103720"/>
                  <a:chExt cx="1253880" cy="379440"/>
                </a:xfrm>
              </p:grpSpPr>
              <p:sp>
                <p:nvSpPr>
                  <p:cNvPr id="354" name=""/>
                  <p:cNvSpPr/>
                  <p:nvPr/>
                </p:nvSpPr>
                <p:spPr>
                  <a:xfrm>
                    <a:off x="598320" y="5103720"/>
                    <a:ext cx="1136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724280"/>
                        <a:tab algn="l" pos="48290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t>
                    </a:r>
                    <a:endParaRPr b="0" lang="en-US" sz="1400" spc="-1" strike="noStrike">
                      <a:solidFill>
                        <a:srgbClr val="000000"/>
                      </a:solidFill>
                      <a:latin typeface="Times New Roman"/>
                    </a:endParaRPr>
                  </a:p>
                  <a:p>
                    <a:pPr algn="ctr">
                      <a:tabLst>
                        <a:tab algn="l" pos="0"/>
                        <a:tab algn="l" pos="4724280"/>
                        <a:tab algn="l" pos="48290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5" name=""/>
                  <p:cNvSpPr/>
                  <p:nvPr/>
                </p:nvSpPr>
                <p:spPr>
                  <a:xfrm>
                    <a:off x="539640" y="5103720"/>
                    <a:ext cx="125388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6" name=""/>
              <p:cNvGrpSpPr/>
              <p:nvPr/>
            </p:nvGrpSpPr>
            <p:grpSpPr>
              <a:xfrm>
                <a:off x="1794240" y="5103720"/>
                <a:ext cx="2275200" cy="379440"/>
                <a:chOff x="1794240" y="5103720"/>
                <a:chExt cx="2275200" cy="379440"/>
              </a:xfrm>
            </p:grpSpPr>
            <p:sp>
              <p:nvSpPr>
                <p:cNvPr id="357" name=""/>
                <p:cNvSpPr/>
                <p:nvPr/>
              </p:nvSpPr>
              <p:spPr>
                <a:xfrm>
                  <a:off x="1794240" y="5103720"/>
                  <a:ext cx="227520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1794240" y="5103720"/>
                  <a:ext cx="2274840" cy="379440"/>
                  <a:chOff x="1794240" y="5103720"/>
                  <a:chExt cx="2274840" cy="379440"/>
                </a:xfrm>
              </p:grpSpPr>
              <p:sp>
                <p:nvSpPr>
                  <p:cNvPr id="359" name=""/>
                  <p:cNvSpPr/>
                  <p:nvPr/>
                </p:nvSpPr>
                <p:spPr>
                  <a:xfrm>
                    <a:off x="1853280" y="5103720"/>
                    <a:ext cx="2156040" cy="37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724280"/>
                        <a:tab algn="l" pos="48290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5.255.255.0</a:t>
                    </a:r>
                    <a:endParaRPr b="0" lang="en-US" sz="1400" spc="-1" strike="noStrike">
                      <a:solidFill>
                        <a:srgbClr val="000000"/>
                      </a:solidFill>
                      <a:latin typeface="Times New Roman"/>
                    </a:endParaRPr>
                  </a:p>
                  <a:p>
                    <a:pPr algn="just">
                      <a:tabLst>
                        <a:tab algn="l" pos="0"/>
                        <a:tab algn="l" pos="4724280"/>
                        <a:tab algn="l" pos="48290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0" name=""/>
                  <p:cNvSpPr/>
                  <p:nvPr/>
                </p:nvSpPr>
                <p:spPr>
                  <a:xfrm>
                    <a:off x="1794240" y="5103720"/>
                    <a:ext cx="227484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1" name=""/>
              <p:cNvGrpSpPr/>
              <p:nvPr/>
            </p:nvGrpSpPr>
            <p:grpSpPr>
              <a:xfrm>
                <a:off x="4070160" y="5103720"/>
                <a:ext cx="4609440" cy="379440"/>
                <a:chOff x="4070160" y="5103720"/>
                <a:chExt cx="4609440" cy="379440"/>
              </a:xfrm>
            </p:grpSpPr>
            <p:sp>
              <p:nvSpPr>
                <p:cNvPr id="362" name=""/>
                <p:cNvSpPr/>
                <p:nvPr/>
              </p:nvSpPr>
              <p:spPr>
                <a:xfrm>
                  <a:off x="4070160" y="5103720"/>
                  <a:ext cx="460944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4070160" y="5103720"/>
                  <a:ext cx="4609080" cy="379440"/>
                  <a:chOff x="4070160" y="5103720"/>
                  <a:chExt cx="4609080" cy="379440"/>
                </a:xfrm>
              </p:grpSpPr>
              <p:sp>
                <p:nvSpPr>
                  <p:cNvPr id="364" name=""/>
                  <p:cNvSpPr/>
                  <p:nvPr/>
                </p:nvSpPr>
                <p:spPr>
                  <a:xfrm>
                    <a:off x="4128840" y="5103720"/>
                    <a:ext cx="4490640" cy="37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724280"/>
                        <a:tab algn="l" pos="48290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111111 11111111 11111111 00000000</a:t>
                    </a:r>
                    <a:endParaRPr b="0" lang="en-US" sz="1400" spc="-1" strike="noStrike">
                      <a:solidFill>
                        <a:srgbClr val="000000"/>
                      </a:solidFill>
                      <a:latin typeface="Times New Roman"/>
                    </a:endParaRPr>
                  </a:p>
                  <a:p>
                    <a:pPr algn="just">
                      <a:tabLst>
                        <a:tab algn="l" pos="0"/>
                        <a:tab algn="l" pos="4724280"/>
                        <a:tab algn="l" pos="48290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
                  <p:cNvSpPr/>
                  <p:nvPr/>
                </p:nvSpPr>
                <p:spPr>
                  <a:xfrm>
                    <a:off x="4070160" y="5103720"/>
                    <a:ext cx="460908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66" name=""/>
            <p:cNvSpPr/>
            <p:nvPr/>
          </p:nvSpPr>
          <p:spPr>
            <a:xfrm>
              <a:off x="533520" y="3962520"/>
              <a:ext cx="8152920" cy="1523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457200" y="579132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rzenie podsieci pozwala lepiej wykorzystać adresy I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IPv4 - maska podsieci</a:t>
            </a:r>
            <a:endParaRPr b="0" lang="en-US" sz="3200" spc="-1" strike="noStrike">
              <a:solidFill>
                <a:srgbClr val="000000"/>
              </a:solidFill>
              <a:latin typeface="Times New Roman"/>
            </a:endParaRPr>
          </a:p>
        </p:txBody>
      </p:sp>
      <p:sp>
        <p:nvSpPr>
          <p:cNvPr id="369"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8600" y="1066680"/>
            <a:ext cx="8381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 użyciu są także maski nie będące czysto maskami wg klas adresów IP, np. 11111111111111111111111111100000 (255.255.255.224) co pozwala na objęcie podsiecią 30 hostów.</a:t>
            </a:r>
            <a:endParaRPr b="0" lang="en-US" sz="2400" spc="-1" strike="noStrike">
              <a:solidFill>
                <a:srgbClr val="000000"/>
              </a:solidFill>
              <a:latin typeface="Times New Roman"/>
            </a:endParaRPr>
          </a:p>
        </p:txBody>
      </p:sp>
      <p:pic>
        <p:nvPicPr>
          <p:cNvPr id="371" name="" descr=""/>
          <p:cNvPicPr/>
          <p:nvPr/>
        </p:nvPicPr>
        <p:blipFill>
          <a:blip r:embed="rId2"/>
          <a:stretch/>
        </p:blipFill>
        <p:spPr>
          <a:xfrm>
            <a:off x="0" y="3048120"/>
            <a:ext cx="8991720" cy="301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IPv4 – adres sieciowy</a:t>
            </a:r>
            <a:endParaRPr b="0" lang="en-US" sz="3200" spc="-1" strike="noStrike">
              <a:solidFill>
                <a:srgbClr val="000000"/>
              </a:solidFill>
              <a:latin typeface="Times New Roman"/>
            </a:endParaRPr>
          </a:p>
        </p:txBody>
      </p:sp>
      <p:sp>
        <p:nvSpPr>
          <p:cNvPr id="373"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52280" y="1066680"/>
            <a:ext cx="883944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2857680"/>
                <a:tab algn="l" pos="3809880"/>
                <a:tab algn="l" pos="4762440"/>
                <a:tab algn="l" pos="5715000"/>
                <a:tab algn="l" pos="6667560"/>
                <a:tab algn="l" pos="7620120"/>
                <a:tab algn="l" pos="8572680"/>
                <a:tab algn="l" pos="9524880"/>
                <a:tab algn="l" pos="10477440"/>
              </a:tabLst>
            </a:pPr>
            <a:r>
              <a:rPr b="0" lang="en-US" sz="2200" spc="-1" strike="noStrike">
                <a:solidFill>
                  <a:srgbClr val="000000"/>
                </a:solidFill>
                <a:latin typeface="Times New Roman"/>
              </a:rPr>
              <a:t>Adres sieciowy jest bitowym iloczynem maski sieciowej z którymkolwiek z adresów IP sieci. </a:t>
            </a:r>
            <a:endParaRPr b="0" lang="en-US" sz="2200" spc="-1" strike="noStrike">
              <a:solidFill>
                <a:srgbClr val="000000"/>
              </a:solidFill>
              <a:latin typeface="Times New Roman"/>
            </a:endParaRPr>
          </a:p>
          <a:p>
            <a:pPr>
              <a:tabLst>
                <a:tab algn="l" pos="0"/>
                <a:tab algn="l" pos="762120"/>
                <a:tab algn="l" pos="2857680"/>
                <a:tab algn="l" pos="3809880"/>
                <a:tab algn="l" pos="4762440"/>
                <a:tab algn="l" pos="5715000"/>
                <a:tab algn="l" pos="6667560"/>
                <a:tab algn="l" pos="7620120"/>
                <a:tab algn="l" pos="8572680"/>
                <a:tab algn="l" pos="9524880"/>
                <a:tab algn="l" pos="10477440"/>
              </a:tabLst>
            </a:pPr>
            <a:r>
              <a:rPr b="0" lang="en-US" sz="2200" spc="-1" strike="noStrike">
                <a:solidFill>
                  <a:srgbClr val="000000"/>
                </a:solidFill>
                <a:latin typeface="Times New Roman"/>
              </a:rPr>
              <a:t>Przykładowo: dla adresu 190.197.168.200 i maski 255.255.0.0 adres 190.197.0.0 jest adresem sieciowym.</a:t>
            </a:r>
            <a:endParaRPr b="0" lang="en-US" sz="2200" spc="-1" strike="noStrike">
              <a:solidFill>
                <a:srgbClr val="000000"/>
              </a:solidFill>
              <a:latin typeface="Times New Roman"/>
            </a:endParaRPr>
          </a:p>
          <a:p>
            <a:pPr>
              <a:tabLst>
                <a:tab algn="l" pos="0"/>
                <a:tab algn="l" pos="762120"/>
                <a:tab algn="l" pos="2857680"/>
                <a:tab algn="l" pos="3809880"/>
                <a:tab algn="l" pos="4762440"/>
                <a:tab algn="l" pos="5715000"/>
                <a:tab algn="l" pos="6667560"/>
                <a:tab algn="l" pos="7620120"/>
                <a:tab algn="l" pos="8572680"/>
                <a:tab algn="l" pos="9524880"/>
                <a:tab algn="l" pos="10477440"/>
              </a:tabLst>
            </a:pPr>
            <a:endParaRPr b="0" lang="en-US" sz="2200" spc="-1" strike="noStrike">
              <a:solidFill>
                <a:srgbClr val="000000"/>
              </a:solidFill>
              <a:latin typeface="Times New Roman"/>
            </a:endParaRPr>
          </a:p>
          <a:p>
            <a:pPr>
              <a:tabLst>
                <a:tab algn="l" pos="0"/>
                <a:tab algn="l" pos="762120"/>
                <a:tab algn="l" pos="2857680"/>
                <a:tab algn="l" pos="3809880"/>
                <a:tab algn="l" pos="4762440"/>
                <a:tab algn="l" pos="5715000"/>
                <a:tab algn="l" pos="6667560"/>
                <a:tab algn="l" pos="7620120"/>
                <a:tab algn="l" pos="8572680"/>
                <a:tab algn="l" pos="9524880"/>
                <a:tab algn="l" pos="10477440"/>
              </a:tabLst>
            </a:pPr>
            <a:r>
              <a:rPr b="0" lang="en-US" sz="2200" spc="-1" strike="noStrike">
                <a:solidFill>
                  <a:srgbClr val="000000"/>
                </a:solidFill>
                <a:latin typeface="Times New Roman"/>
              </a:rPr>
              <a:t>Bardziej ogólnie:</a:t>
            </a:r>
            <a:endParaRPr b="0" lang="en-US" sz="2200" spc="-1" strike="noStrike">
              <a:solidFill>
                <a:srgbClr val="000000"/>
              </a:solidFill>
              <a:latin typeface="Times New Roman"/>
            </a:endParaRPr>
          </a:p>
          <a:p>
            <a:pPr>
              <a:tabLst>
                <a:tab algn="l" pos="0"/>
                <a:tab algn="l" pos="762120"/>
                <a:tab algn="l" pos="2857680"/>
                <a:tab algn="l" pos="3809880"/>
                <a:tab algn="l" pos="4762440"/>
                <a:tab algn="l" pos="5715000"/>
                <a:tab algn="l" pos="6667560"/>
                <a:tab algn="l" pos="7620120"/>
                <a:tab algn="l" pos="8572680"/>
                <a:tab algn="l" pos="9524880"/>
                <a:tab algn="l" pos="10477440"/>
              </a:tabLst>
            </a:pPr>
            <a:r>
              <a:rPr b="0" lang="en-US" sz="2200" spc="-1" strike="noStrike">
                <a:solidFill>
                  <a:srgbClr val="000000"/>
                </a:solidFill>
                <a:latin typeface="Times New Roman"/>
              </a:rPr>
              <a:t>IP</a:t>
            </a:r>
            <a:r>
              <a:rPr b="0" lang="en-US" sz="2200" spc="-1" strike="noStrike">
                <a:solidFill>
                  <a:srgbClr val="000000"/>
                </a:solidFill>
                <a:latin typeface="Times New Roman"/>
              </a:rPr>
              <a:t>	</a:t>
            </a:r>
            <a:r>
              <a:rPr b="0" lang="en-US" sz="2200" spc="-1" strike="noStrike">
                <a:solidFill>
                  <a:srgbClr val="000000"/>
                </a:solidFill>
                <a:latin typeface="Times New Roman"/>
              </a:rPr>
              <a:t>190.197.168.200</a:t>
            </a:r>
            <a:r>
              <a:rPr b="0" lang="en-US" sz="2200" spc="-1" strike="noStrike">
                <a:solidFill>
                  <a:srgbClr val="000000"/>
                </a:solidFill>
                <a:latin typeface="Times New Roman"/>
              </a:rPr>
              <a:t>	</a:t>
            </a:r>
            <a:r>
              <a:rPr b="0" lang="en-US" sz="2200" spc="-1" strike="noStrike">
                <a:solidFill>
                  <a:srgbClr val="000000"/>
                </a:solidFill>
                <a:latin typeface="Times New Roman"/>
              </a:rPr>
              <a:t>(11001110110001011010100011001000) </a:t>
            </a:r>
            <a:endParaRPr b="0" lang="en-US" sz="2200" spc="-1" strike="noStrike">
              <a:solidFill>
                <a:srgbClr val="000000"/>
              </a:solidFill>
              <a:latin typeface="Times New Roman"/>
            </a:endParaRPr>
          </a:p>
          <a:p>
            <a:pPr>
              <a:tabLst>
                <a:tab algn="l" pos="0"/>
                <a:tab algn="l" pos="762120"/>
                <a:tab algn="l" pos="2857680"/>
                <a:tab algn="l" pos="3809880"/>
                <a:tab algn="l" pos="4762440"/>
                <a:tab algn="l" pos="5715000"/>
                <a:tab algn="l" pos="6667560"/>
                <a:tab algn="l" pos="7620120"/>
                <a:tab algn="l" pos="8572680"/>
                <a:tab algn="l" pos="9524880"/>
                <a:tab algn="l" pos="10477440"/>
              </a:tabLst>
            </a:pPr>
            <a:r>
              <a:rPr b="0" lang="en-US" sz="2200" spc="-1" strike="noStrike">
                <a:solidFill>
                  <a:srgbClr val="000000"/>
                </a:solidFill>
                <a:latin typeface="Times New Roman"/>
              </a:rPr>
              <a:t>maska</a:t>
            </a:r>
            <a:r>
              <a:rPr b="0" lang="en-US" sz="2200" spc="-1" strike="noStrike">
                <a:solidFill>
                  <a:srgbClr val="000000"/>
                </a:solidFill>
                <a:latin typeface="Times New Roman"/>
              </a:rPr>
              <a:t>	</a:t>
            </a:r>
            <a:r>
              <a:rPr b="0" lang="en-US" sz="2200" spc="-1" strike="noStrike">
                <a:solidFill>
                  <a:srgbClr val="000000"/>
                </a:solidFill>
                <a:latin typeface="Times New Roman"/>
              </a:rPr>
              <a:t>255.255.192.0</a:t>
            </a:r>
            <a:r>
              <a:rPr b="0" lang="en-US" sz="2200" spc="-1" strike="noStrike">
                <a:solidFill>
                  <a:srgbClr val="000000"/>
                </a:solidFill>
                <a:latin typeface="Times New Roman"/>
              </a:rPr>
              <a:t>	</a:t>
            </a:r>
            <a:r>
              <a:rPr b="0" lang="en-US" sz="2200" spc="-1" strike="noStrike">
                <a:solidFill>
                  <a:srgbClr val="000000"/>
                </a:solidFill>
                <a:latin typeface="Times New Roman"/>
              </a:rPr>
              <a:t>(11111111111111111100000000000000)</a:t>
            </a:r>
            <a:endParaRPr b="0" lang="en-US" sz="2200" spc="-1" strike="noStrike">
              <a:solidFill>
                <a:srgbClr val="000000"/>
              </a:solidFill>
              <a:latin typeface="Times New Roman"/>
            </a:endParaRPr>
          </a:p>
          <a:p>
            <a:pPr>
              <a:tabLst>
                <a:tab algn="l" pos="0"/>
                <a:tab algn="l" pos="762120"/>
                <a:tab algn="l" pos="2857680"/>
                <a:tab algn="l" pos="3809880"/>
                <a:tab algn="l" pos="4762440"/>
                <a:tab algn="l" pos="5715000"/>
                <a:tab algn="l" pos="6667560"/>
                <a:tab algn="l" pos="7620120"/>
                <a:tab algn="l" pos="8572680"/>
                <a:tab algn="l" pos="9524880"/>
                <a:tab algn="l" pos="10477440"/>
              </a:tabLst>
            </a:pPr>
            <a:r>
              <a:rPr b="0" lang="en-US" sz="2200" spc="-1" strike="noStrike">
                <a:solidFill>
                  <a:srgbClr val="000000"/>
                </a:solidFill>
                <a:latin typeface="Times New Roman"/>
              </a:rPr>
              <a:t>siec</a:t>
            </a:r>
            <a:r>
              <a:rPr b="0" lang="en-US" sz="2200" spc="-1" strike="noStrike">
                <a:solidFill>
                  <a:srgbClr val="000000"/>
                </a:solidFill>
                <a:latin typeface="Times New Roman"/>
              </a:rPr>
              <a:t>	</a:t>
            </a:r>
            <a:r>
              <a:rPr b="0" lang="en-US" sz="2200" spc="-1" strike="noStrike">
                <a:solidFill>
                  <a:srgbClr val="000000"/>
                </a:solidFill>
                <a:latin typeface="Times New Roman"/>
              </a:rPr>
              <a:t>190.197.128.0</a:t>
            </a:r>
            <a:r>
              <a:rPr b="0" lang="en-US" sz="2200" spc="-1" strike="noStrike">
                <a:solidFill>
                  <a:srgbClr val="000000"/>
                </a:solidFill>
                <a:latin typeface="Times New Roman"/>
              </a:rPr>
              <a:t>	</a:t>
            </a:r>
            <a:r>
              <a:rPr b="0" lang="en-US" sz="2200" spc="-1" strike="noStrike">
                <a:solidFill>
                  <a:srgbClr val="000000"/>
                </a:solidFill>
                <a:latin typeface="Times New Roman"/>
              </a:rPr>
              <a:t>(11001110110001011000000000000000).</a:t>
            </a:r>
            <a:endParaRPr b="0" lang="en-US" sz="2200" spc="-1" strike="noStrike">
              <a:solidFill>
                <a:srgbClr val="000000"/>
              </a:solidFill>
              <a:latin typeface="Times New Roman"/>
            </a:endParaRPr>
          </a:p>
          <a:p>
            <a:pPr>
              <a:tabLst>
                <a:tab algn="l" pos="0"/>
                <a:tab algn="l" pos="762120"/>
                <a:tab algn="l" pos="2857680"/>
                <a:tab algn="l" pos="3809880"/>
                <a:tab algn="l" pos="4762440"/>
                <a:tab algn="l" pos="5715000"/>
                <a:tab algn="l" pos="6667560"/>
                <a:tab algn="l" pos="7620120"/>
                <a:tab algn="l" pos="8572680"/>
                <a:tab algn="l" pos="9524880"/>
                <a:tab algn="l" pos="10477440"/>
              </a:tabLst>
            </a:pPr>
            <a:r>
              <a:rPr b="0" lang="en-US" sz="2200" spc="-1" strike="noStrike">
                <a:solidFill>
                  <a:srgbClr val="000000"/>
                </a:solidFill>
                <a:latin typeface="Times New Roman"/>
              </a:rPr>
              <a:t>Czasami można spotkać skrótowo zapisany adres sieciowy w postaci: 168.100.189.0/24 gdzie część stojąca przed znakiem „/” jest adresem IP zaś liczba 24 jest skrótowo zapisaną maską sieciową. Jest to liczba bitów ustawionych w masce sieciowej na 1, czyli przy standardowej 32 bitowej masce jest to:</a:t>
            </a:r>
            <a:br>
              <a:rPr sz="2200"/>
            </a:br>
            <a:r>
              <a:rPr b="0" lang="en-US" sz="2200" spc="-1" strike="noStrike">
                <a:solidFill>
                  <a:srgbClr val="000000"/>
                </a:solidFill>
                <a:latin typeface="Times New Roman"/>
              </a:rPr>
              <a:t>maska</a:t>
            </a:r>
            <a:r>
              <a:rPr b="0" lang="en-US" sz="2200" spc="-1" strike="noStrike">
                <a:solidFill>
                  <a:srgbClr val="000000"/>
                </a:solidFill>
                <a:latin typeface="Times New Roman"/>
              </a:rPr>
              <a:t>	</a:t>
            </a:r>
            <a:r>
              <a:rPr b="0" lang="en-US" sz="2200" spc="-1" strike="noStrike">
                <a:solidFill>
                  <a:srgbClr val="000000"/>
                </a:solidFill>
                <a:latin typeface="Times New Roman"/>
              </a:rPr>
              <a:t>255.255.255.0 </a:t>
            </a:r>
            <a:r>
              <a:rPr b="0" lang="en-US" sz="2200" spc="-1" strike="noStrike">
                <a:solidFill>
                  <a:srgbClr val="000000"/>
                </a:solidFill>
                <a:latin typeface="Times New Roman"/>
              </a:rPr>
              <a:t>	</a:t>
            </a:r>
            <a:r>
              <a:rPr b="0" lang="en-US" sz="2200" spc="-1" strike="noStrike">
                <a:solidFill>
                  <a:srgbClr val="000000"/>
                </a:solidFill>
                <a:latin typeface="Times New Roman"/>
              </a:rPr>
              <a:t>(111111111111111111111110000000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IPv4 – adres sieciowy</a:t>
            </a:r>
            <a:endParaRPr b="0" lang="en-US" sz="3200" spc="-1" strike="noStrike">
              <a:solidFill>
                <a:srgbClr val="000000"/>
              </a:solidFill>
              <a:latin typeface="Times New Roman"/>
            </a:endParaRPr>
          </a:p>
        </p:txBody>
      </p:sp>
      <p:sp>
        <p:nvSpPr>
          <p:cNvPr id="376"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28600" y="1066680"/>
            <a:ext cx="8534520" cy="60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ewne zakresy adresów IP (określone w dokumencie RFC 1918 „Address Allocation for Private Internets”) mogą być użyte wewnątrz sieci prywatnej.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arezerwowane są dla nich trzy grupy adresów I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	</a:t>
            </a:r>
            <a:r>
              <a:rPr b="0" lang="pl-PL" sz="2400" spc="-1" strike="noStrike">
                <a:solidFill>
                  <a:srgbClr val="000000"/>
                </a:solidFill>
                <a:latin typeface="Times New Roman"/>
              </a:rPr>
              <a:t>od 10.0.0.0 do 10.255.255.25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	</a:t>
            </a:r>
            <a:r>
              <a:rPr b="0" lang="pl-PL" sz="2400" spc="-1" strike="noStrike">
                <a:solidFill>
                  <a:srgbClr val="000000"/>
                </a:solidFill>
                <a:latin typeface="Times New Roman"/>
              </a:rPr>
              <a:t>od 172.16.0.0 do 172.16.255.25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	</a:t>
            </a:r>
            <a:r>
              <a:rPr b="0" lang="pl-PL" sz="2400" spc="-1" strike="noStrike">
                <a:solidFill>
                  <a:srgbClr val="000000"/>
                </a:solidFill>
                <a:latin typeface="Times New Roman"/>
              </a:rPr>
              <a:t>od 192.1 68.0.0 do 192.168.255.25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tosowanie tych adresów gwarantuje uniknięcie problemów polegających na dublowaniu się adresów IP w sieci lokalnej oraz w Internecie. Adresy z tych grup zwane są „nierutowalnymi” ze względu na nie obsługiwanie ich przez routery </a:t>
            </a:r>
            <a:br>
              <a:rPr sz="2400"/>
            </a:br>
            <a:r>
              <a:rPr b="0" lang="pl-PL" sz="2400" spc="-1" strike="noStrike">
                <a:solidFill>
                  <a:srgbClr val="000000"/>
                </a:solidFill>
                <a:latin typeface="Times New Roman"/>
              </a:rPr>
              <a:t>w węzłach siec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RP</a:t>
            </a:r>
            <a:endParaRPr b="0" lang="en-US" sz="3200" spc="-1" strike="noStrike">
              <a:solidFill>
                <a:srgbClr val="000000"/>
              </a:solidFill>
              <a:latin typeface="Times New Roman"/>
            </a:endParaRPr>
          </a:p>
        </p:txBody>
      </p:sp>
      <p:sp>
        <p:nvSpPr>
          <p:cNvPr id="379"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28600" y="1066680"/>
            <a:ext cx="85345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Z wiadomości o adresowaniu IP wynika, że sieci wchodzące w skład internetu, nie znają wewnętrznej konfiguracji innych sieci. Natomiast sieć ma informacje o wyodrębnionych poprzez maskę jej podsieciach. Sieci mogą wyodrębnić ze swojego IP część sieci, podsieci i host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Adres IP funkcjonuje w warstwie trzeciej (sieciowej) modelu OSI natomiast adres MAC w warstwie drugiej (łącza danych). Obydwa adresy nadawcy i odbiorcy muszą być znane, żeby możliwe było przekazanie danych do warstw wyższych.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Do uzyskiwania adresu sprzętowego MAC na podstawie znanego IP komputera docelowego służy protokół </a:t>
            </a:r>
            <a:r>
              <a:rPr b="0" lang="pl-PL" sz="2400" spc="-1" strike="noStrike">
                <a:solidFill>
                  <a:srgbClr val="000000"/>
                </a:solidFill>
                <a:latin typeface="Times New Roman"/>
                <a:ea typeface="Times New Roman"/>
              </a:rPr>
              <a:t>odwzorowania adresów ARP (ang</a:t>
            </a:r>
            <a:r>
              <a:rPr b="0" i="1" lang="pl-PL"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Address Resolution Protocol</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RP</a:t>
            </a:r>
            <a:endParaRPr b="0" lang="en-US" sz="3200" spc="-1" strike="noStrike">
              <a:solidFill>
                <a:srgbClr val="000000"/>
              </a:solidFill>
              <a:latin typeface="Times New Roman"/>
            </a:endParaRPr>
          </a:p>
        </p:txBody>
      </p:sp>
      <p:sp>
        <p:nvSpPr>
          <p:cNvPr id="382"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28600" y="1066680"/>
            <a:ext cx="85345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Adresy są pozyskiwane przez urządzenia poprzez rozsyłanie w sieci tzw. zapytań ARP do wszystkich komputerów w sieci przy wykorzystaniu adresu rozgłoszeniowego MAC o postaci FF.FF.FF.FF.FF.FF i adresu IP komputera docelowego.</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4" name=""/>
          <p:cNvSpPr/>
          <p:nvPr/>
        </p:nvSpPr>
        <p:spPr>
          <a:xfrm>
            <a:off x="219060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5" name="arp" descr=""/>
          <p:cNvPicPr/>
          <p:nvPr/>
        </p:nvPicPr>
        <p:blipFill>
          <a:blip r:embed="rId2"/>
          <a:stretch/>
        </p:blipFill>
        <p:spPr>
          <a:xfrm>
            <a:off x="1752480" y="2819520"/>
            <a:ext cx="5737320" cy="3763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RP</a:t>
            </a:r>
            <a:endParaRPr b="0" lang="en-US" sz="3200" spc="-1" strike="noStrike">
              <a:solidFill>
                <a:srgbClr val="000000"/>
              </a:solidFill>
              <a:latin typeface="Times New Roman"/>
            </a:endParaRPr>
          </a:p>
        </p:txBody>
      </p:sp>
      <p:sp>
        <p:nvSpPr>
          <p:cNvPr id="387"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8600" y="106668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Po uzyskaniu odpowiedzi para danych MAC-IP zapisywana jest w okresowo aktualizowanej tabeli ARP znajdującej się najczęściej w pamięci podręcznej. Wpisy do tabeli pochodzą z własnych zapytań ARP oraz z zapytań rozgłoszeniowych wysyłanych przez inne urządzenia sieciowe.</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ykładowa tabela ARP pokazująca powiązania adresów IP z adresami MAC oraz informacją przez który interfejs sieciowy należy przesyłać dane do określonego urządzenia docelowego.</a:t>
            </a:r>
            <a:endParaRPr b="0" lang="en-US" sz="2400" spc="-1" strike="noStrike">
              <a:solidFill>
                <a:srgbClr val="000000"/>
              </a:solidFill>
              <a:latin typeface="Times New Roman"/>
            </a:endParaRPr>
          </a:p>
        </p:txBody>
      </p:sp>
      <p:sp>
        <p:nvSpPr>
          <p:cNvPr id="389" name=""/>
          <p:cNvSpPr/>
          <p:nvPr/>
        </p:nvSpPr>
        <p:spPr>
          <a:xfrm>
            <a:off x="219060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0" name=""/>
          <p:cNvGraphicFramePr/>
          <p:nvPr/>
        </p:nvGraphicFramePr>
        <p:xfrm>
          <a:off x="1752480" y="4800600"/>
          <a:ext cx="6064200" cy="1316160"/>
        </p:xfrm>
        <a:graphic>
          <a:graphicData uri="http://schemas.openxmlformats.org/presentationml/2006/ole">
            <p:oleObj r:id="rId2" spid="">
              <p:embed/>
              <p:pic>
                <p:nvPicPr>
                  <p:cNvPr id="391" name="" descr=""/>
                  <p:cNvPicPr/>
                  <p:nvPr/>
                </p:nvPicPr>
                <p:blipFill>
                  <a:blip r:embed="rId3"/>
                  <a:stretch/>
                </p:blipFill>
                <p:spPr>
                  <a:xfrm>
                    <a:off x="1752480" y="4800600"/>
                    <a:ext cx="6064200" cy="13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RP</a:t>
            </a:r>
            <a:endParaRPr b="0" lang="en-US" sz="3200" spc="-1" strike="noStrike">
              <a:solidFill>
                <a:srgbClr val="000000"/>
              </a:solidFill>
              <a:latin typeface="Times New Roman"/>
            </a:endParaRPr>
          </a:p>
        </p:txBody>
      </p:sp>
      <p:sp>
        <p:nvSpPr>
          <p:cNvPr id="393"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28600" y="1066680"/>
            <a:ext cx="85345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W przypadku, gdy korzystamy z komputerów nie wyposażonych w twardy dysk umożliwiający zapisanie informacji o konfiguracji sieci, korzystamy z </a:t>
            </a:r>
            <a:r>
              <a:rPr b="0" lang="pl-PL" sz="2400" spc="-1" strike="noStrike">
                <a:solidFill>
                  <a:srgbClr val="000000"/>
                </a:solidFill>
                <a:latin typeface="Times New Roman"/>
                <a:ea typeface="Times New Roman"/>
              </a:rPr>
              <a:t>pomocy protokołu odwrotnego odwzorowania adresów RARP (ang</a:t>
            </a:r>
            <a:r>
              <a:rPr b="0" i="1" lang="pl-PL"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Reverse Address Resolution Protocol</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395" name=""/>
          <p:cNvSpPr/>
          <p:nvPr/>
        </p:nvSpPr>
        <p:spPr>
          <a:xfrm>
            <a:off x="219060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6" name=""/>
          <p:cNvSpPr/>
          <p:nvPr/>
        </p:nvSpPr>
        <p:spPr>
          <a:xfrm>
            <a:off x="219060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7" name="rarp" descr=""/>
          <p:cNvPicPr/>
          <p:nvPr/>
        </p:nvPicPr>
        <p:blipFill>
          <a:blip r:embed="rId2"/>
          <a:stretch/>
        </p:blipFill>
        <p:spPr>
          <a:xfrm>
            <a:off x="1676520" y="2666880"/>
            <a:ext cx="5736960" cy="388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IPv4 a IPv6</a:t>
            </a:r>
            <a:endParaRPr b="0" lang="en-US" sz="3200" spc="-1" strike="noStrike">
              <a:solidFill>
                <a:srgbClr val="000000"/>
              </a:solidFill>
              <a:latin typeface="Times New Roman"/>
            </a:endParaRPr>
          </a:p>
        </p:txBody>
      </p:sp>
      <p:sp>
        <p:nvSpPr>
          <p:cNvPr id="399"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28600" y="1066680"/>
            <a:ext cx="86104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jbardziej istotnymi różnicami w porównaniu do pakietów protokołu IPv4 </a:t>
            </a:r>
            <a:r>
              <a:rPr b="0" lang="pl-PL" sz="2400" spc="-1" strike="noStrike" u="sng">
                <a:solidFill>
                  <a:srgbClr val="000000"/>
                </a:solidFill>
                <a:uFillTx/>
                <a:latin typeface="Times New Roman"/>
              </a:rPr>
              <a:t>jest udoskonalenie systemu adresowania, który używa 128 bitów w miejsce 32 oraz zmiana formatu pakietu</a:t>
            </a:r>
            <a:r>
              <a:rPr b="0" lang="pl-PL" sz="2400" spc="-1" strike="noStrike">
                <a:solidFill>
                  <a:srgbClr val="000000"/>
                </a:solidFill>
                <a:latin typeface="Times New Roman"/>
              </a:rPr>
              <a:t>, która pozwala umieszczać opcje w nagłówkach rozszerzających. Zapewnia to optymalizację przepływu pakietów przez routery, ponieważ każdy host i router, badając nagłówki, może trafnie dobrać funkcje sterujące przepływem pakietów.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by IPv6 kiedykolwiek zastąpił IPv4 konieczne jest stopniowe przejście z jednego typu na drugi. Muszą razem współistnieć przez długi okres przejściow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 okresie przejściowym następujący adres sieciowy jest poprawny: 0:0:0:0:0:0:128.10.2.1.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dresowanie IP</a:t>
            </a:r>
            <a:endParaRPr b="0" lang="en-US" sz="3200" spc="-1" strike="noStrike">
              <a:solidFill>
                <a:srgbClr val="000000"/>
              </a:solidFill>
              <a:latin typeface="Times New Roman"/>
            </a:endParaRPr>
          </a:p>
        </p:txBody>
      </p:sp>
      <p:sp>
        <p:nvSpPr>
          <p:cNvPr id="44"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28600" y="99072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IP (Internet Protoc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P udostępnia usługi pakowania i adresowania. IP identyfikuje hosty lokalne i zdalne. Gdy trasa do sieci docelowej wymaga innych rozmiarów pakietu, IP dzieli pakiet na fragmenty, co pozwala na ich transmisję bez błędów, a następnie składa razem fragmenty w pakiet w hoście docelowym. IP odrzuca też pakiety przeterminowane oraz przekazuje wyznaczone pakiety do protokołów w wyższych warstwach. Adresowanie IP jest opisane w RFC 79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IPv4 a IPv6</a:t>
            </a:r>
            <a:endParaRPr b="0" lang="en-US" sz="3200" spc="-1" strike="noStrike">
              <a:solidFill>
                <a:srgbClr val="000000"/>
              </a:solidFill>
              <a:latin typeface="Times New Roman"/>
            </a:endParaRPr>
          </a:p>
        </p:txBody>
      </p:sp>
      <p:sp>
        <p:nvSpPr>
          <p:cNvPr id="402"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80880" y="1066680"/>
            <a:ext cx="8534520" cy="515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la zapisu adresu IPv6 zaproponowano używanie notacji szesnastkowej z dwukropkami co umożliwia dodatkowo kompresję z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res kropkowo-dziesiętny dla IPv6 wyglądał by przykładowo tak: 104.230.140.100.255.255.255.255.0.0.17.128.150.10.255.255. </a:t>
            </a:r>
            <a:br>
              <a:rPr sz="2400"/>
            </a:br>
            <a:r>
              <a:rPr b="0" lang="en-US" sz="2400" spc="-1" strike="noStrike">
                <a:solidFill>
                  <a:srgbClr val="000000"/>
                </a:solidFill>
                <a:latin typeface="Times New Roman"/>
              </a:rPr>
              <a:t>Adres taki można przedstawić w formie krótszej stosując zapis szesnastkowy: 68E6:8C64:FFFF:FFFF:0:1180:96A:FFF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za tym, jak wspomniano wyżej, możliwa jest tzw. kompresja zer – ciąg powtarzających się zer jest zastępowany przez parę dwukropków. Adres FF05:0:0:0:0:0:0:B3 może zostać zapisany jako FF05::B3. Aby zapewnić, że kompresja zer nie powoduje niejednoznaczności w zapisie, może być ona zastosowana tylko raz.</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ystemy nazw domen</a:t>
            </a:r>
            <a:endParaRPr b="0" lang="en-US" sz="3200" spc="-1" strike="noStrike">
              <a:solidFill>
                <a:srgbClr val="000000"/>
              </a:solidFill>
              <a:latin typeface="Times New Roman"/>
            </a:endParaRPr>
          </a:p>
        </p:txBody>
      </p:sp>
      <p:sp>
        <p:nvSpPr>
          <p:cNvPr id="405"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28600" y="838080"/>
            <a:ext cx="86868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udności wynikające z konieczności zapamiętywania adresów IP komputerów w sieci spowodowały utworzenie serwerów tłumaczących adresy domenowe (it.pw.edu.pl) na adresy kropkowo-dziesiętne (148.81.78.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zywa się je serwerami </a:t>
            </a:r>
            <a:r>
              <a:rPr b="1" lang="pl-PL" sz="2400" spc="-1" strike="noStrike">
                <a:solidFill>
                  <a:srgbClr val="800000"/>
                </a:solidFill>
                <a:latin typeface="Times New Roman"/>
              </a:rPr>
              <a:t>DNS (Domain Name Serv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rwery dokonujące translacji w drugą stronę, to serwery </a:t>
            </a:r>
            <a:r>
              <a:rPr b="1" lang="pl-PL" sz="2400" spc="-1" strike="noStrike">
                <a:solidFill>
                  <a:srgbClr val="800000"/>
                </a:solidFill>
                <a:latin typeface="Times New Roman"/>
              </a:rPr>
              <a:t>Rev-DNS</a:t>
            </a:r>
            <a:r>
              <a:rPr b="0" lang="pl-P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ystem ten nosi nazwę systemu nazw domenowych (Domain Name System). Nazwa domenowa tworzona jest od strony prawej do lewej. Na początku występują nazwy domen najwyższego poziomu (Top-Level Domains), następnie domeny niższych poziomów, a na końcu znajduje się nazwa hosta. Nazwy te są oddzielone od siebie kropkam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ystemy nazw domen</a:t>
            </a:r>
            <a:endParaRPr b="0" lang="en-US" sz="3200" spc="-1" strike="noStrike">
              <a:solidFill>
                <a:srgbClr val="000000"/>
              </a:solidFill>
              <a:latin typeface="Times New Roman"/>
            </a:endParaRPr>
          </a:p>
        </p:txBody>
      </p:sp>
      <p:sp>
        <p:nvSpPr>
          <p:cNvPr id="408"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52280" y="1219320"/>
            <a:ext cx="87631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Domeny najwyższego poziomu podzielone są na domeny geograficzne (Country Code Domains) dwuliterowe identyfikatory przyznane poszczególnym krajom</a:t>
            </a:r>
            <a:r>
              <a:rPr b="0" lang="pl-P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np.: uk,.de,.jp,.us, it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oraz organizacyj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Generic Domains) przyznawane w zależności od prowadzonej działalnośc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np.: com,.org,.net,.edu,.gov,.mil,.i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ystemy nazw domen</a:t>
            </a:r>
            <a:endParaRPr b="0" lang="en-US" sz="3200" spc="-1" strike="noStrike">
              <a:solidFill>
                <a:srgbClr val="000000"/>
              </a:solidFill>
              <a:latin typeface="Times New Roman"/>
            </a:endParaRPr>
          </a:p>
        </p:txBody>
      </p:sp>
      <p:sp>
        <p:nvSpPr>
          <p:cNvPr id="411"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2" name="" descr=""/>
          <p:cNvPicPr/>
          <p:nvPr/>
        </p:nvPicPr>
        <p:blipFill>
          <a:blip r:embed="rId2"/>
          <a:stretch/>
        </p:blipFill>
        <p:spPr>
          <a:xfrm>
            <a:off x="1219320" y="1019160"/>
            <a:ext cx="7162560" cy="583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dres URL</a:t>
            </a:r>
            <a:endParaRPr b="0" lang="en-US" sz="3200" spc="-1" strike="noStrike">
              <a:solidFill>
                <a:srgbClr val="000000"/>
              </a:solidFill>
              <a:latin typeface="Times New Roman"/>
            </a:endParaRPr>
          </a:p>
        </p:txBody>
      </p:sp>
      <p:sp>
        <p:nvSpPr>
          <p:cNvPr id="414"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04920" y="838080"/>
            <a:ext cx="83818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by otrzymać informacje szukane w sieci Internet, przeglądarka musi wiedzieć z jakiego miejsca ma pobrać interesujące nas informacje oraz w jaki sposób ma porozumieć się z serwerem, na którym znajduje się dany dokument. </a:t>
            </a:r>
            <a:br>
              <a:rPr sz="2400"/>
            </a:br>
            <a:r>
              <a:rPr b="0" lang="pl-PL" sz="2400" spc="-1" strike="noStrike">
                <a:solidFill>
                  <a:srgbClr val="000000"/>
                </a:solidFill>
                <a:latin typeface="Times New Roman"/>
              </a:rPr>
              <a:t>      Obecnie został przyjęty standard adresowania dokumentów noszący nazwę </a:t>
            </a:r>
            <a:r>
              <a:rPr b="1" lang="pl-PL" sz="2400" spc="-1" strike="noStrike">
                <a:solidFill>
                  <a:srgbClr val="000000"/>
                </a:solidFill>
                <a:latin typeface="Times New Roman"/>
              </a:rPr>
              <a:t>URL</a:t>
            </a:r>
            <a:r>
              <a:rPr b="0" lang="pl-PL" sz="2400" spc="-1" strike="noStrike">
                <a:solidFill>
                  <a:srgbClr val="000000"/>
                </a:solidFill>
                <a:latin typeface="Times New Roman"/>
              </a:rPr>
              <a:t> (Uniform Resourse Locator). Powstał on w celu ujednolicenia sposobu adresowania wszystkich zasobów sieci Internet. </a:t>
            </a:r>
            <a:r>
              <a:rPr b="1" lang="pl-PL" sz="2400" spc="-1" strike="noStrike">
                <a:solidFill>
                  <a:srgbClr val="000000"/>
                </a:solidFill>
                <a:latin typeface="Times New Roman"/>
              </a:rPr>
              <a:t>URL</a:t>
            </a:r>
            <a:r>
              <a:rPr b="0" lang="pl-PL" sz="2400" spc="-1" strike="noStrike">
                <a:solidFill>
                  <a:srgbClr val="000000"/>
                </a:solidFill>
                <a:latin typeface="Times New Roman"/>
              </a:rPr>
              <a:t> używany jest wyłącznie do zapisu informacji, która umożliwi odnalezienia interesującego Nas dokumentu. </a:t>
            </a:r>
            <a:br>
              <a:rPr sz="2400"/>
            </a:br>
            <a:r>
              <a:rPr b="0" lang="pl-PL" sz="2400" spc="-1" strike="noStrike">
                <a:solidFill>
                  <a:srgbClr val="000000"/>
                </a:solidFill>
                <a:latin typeface="Times New Roman"/>
              </a:rPr>
              <a:t>      Praktycznie identyfikator </a:t>
            </a:r>
            <a:r>
              <a:rPr b="1" lang="pl-PL" sz="2400" spc="-1" strike="noStrike">
                <a:solidFill>
                  <a:srgbClr val="000000"/>
                </a:solidFill>
                <a:latin typeface="Times New Roman"/>
              </a:rPr>
              <a:t>URL</a:t>
            </a:r>
            <a:r>
              <a:rPr b="0" lang="pl-PL" sz="2400" spc="-1" strike="noStrike">
                <a:solidFill>
                  <a:srgbClr val="000000"/>
                </a:solidFill>
                <a:latin typeface="Times New Roman"/>
              </a:rPr>
              <a:t> należy traktować jako specyficzny adres sieciowy. Adres ten nie odnosi się jednak do komputera głównego ale do obiektu, znajdującego się na danym serwerze. </a:t>
            </a:r>
            <a:r>
              <a:rPr b="1" lang="pl-PL" sz="2400" spc="-1" strike="noStrike">
                <a:solidFill>
                  <a:srgbClr val="000000"/>
                </a:solidFill>
                <a:latin typeface="Times New Roman"/>
              </a:rPr>
              <a:t>URL</a:t>
            </a:r>
            <a:r>
              <a:rPr b="0" lang="pl-PL" sz="2400" spc="-1" strike="noStrike">
                <a:solidFill>
                  <a:srgbClr val="000000"/>
                </a:solidFill>
                <a:latin typeface="Times New Roman"/>
              </a:rPr>
              <a:t> zawiera również informacje w jaki sposób zostanie zrealizowany dostęp do poszukiwanego obiekt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dres URL</a:t>
            </a:r>
            <a:endParaRPr b="0" lang="en-US" sz="3200" spc="-1" strike="noStrike">
              <a:solidFill>
                <a:srgbClr val="000000"/>
              </a:solidFill>
              <a:latin typeface="Times New Roman"/>
            </a:endParaRPr>
          </a:p>
        </p:txBody>
      </p:sp>
      <p:sp>
        <p:nvSpPr>
          <p:cNvPr id="417"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04920" y="838080"/>
            <a:ext cx="8381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Specyfikacja identyfikatora </a:t>
            </a:r>
            <a:r>
              <a:rPr b="1" lang="pl-PL" sz="2400" spc="-1" strike="noStrike">
                <a:solidFill>
                  <a:srgbClr val="000000"/>
                </a:solidFill>
                <a:latin typeface="Times New Roman"/>
              </a:rPr>
              <a:t>URL</a:t>
            </a:r>
            <a:r>
              <a:rPr b="0" lang="pl-PL" sz="2400" spc="-1" strike="noStrike">
                <a:solidFill>
                  <a:srgbClr val="000000"/>
                </a:solidFill>
                <a:latin typeface="Times New Roman"/>
              </a:rPr>
              <a:t> została opisana w dokumencie RFC numer 1738 zatytułowanym </a:t>
            </a:r>
            <a:r>
              <a:rPr b="0" i="1" lang="pl-PL" sz="2400" spc="-1" strike="noStrike">
                <a:solidFill>
                  <a:srgbClr val="000000"/>
                </a:solidFill>
                <a:latin typeface="Times New Roman"/>
              </a:rPr>
              <a:t>"Uniform Resource Locators (URL)"</a:t>
            </a:r>
            <a:r>
              <a:rPr b="0" lang="pl-PL" sz="2400" spc="-1" strike="noStrike">
                <a:solidFill>
                  <a:srgbClr val="000000"/>
                </a:solidFill>
                <a:latin typeface="Times New Roman"/>
              </a:rPr>
              <a:t> napisanym przez Bernersa-Lee, Masintera i McCahilla w 1994 roku. Realizacje dostępu do obiektu nazywa się - schematem. W wielu przypadkach sposób dostępu można utożsamić z protokołe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br>
              <a:rPr sz="2400"/>
            </a:br>
            <a:r>
              <a:rPr b="0" lang="pl-PL" sz="2400" spc="-1" strike="noStrike">
                <a:solidFill>
                  <a:srgbClr val="000000"/>
                </a:solidFill>
                <a:latin typeface="Times New Roman"/>
              </a:rPr>
              <a:t>      </a:t>
            </a:r>
            <a:r>
              <a:rPr b="0" lang="pl-PL" sz="2400" spc="-1" strike="noStrike">
                <a:solidFill>
                  <a:srgbClr val="000000"/>
                </a:solidFill>
                <a:latin typeface="Times New Roman"/>
              </a:rPr>
              <a:t>Podstawowa składnia schematu </a:t>
            </a:r>
            <a:r>
              <a:rPr b="1" lang="pl-PL" sz="2400" spc="-1" strike="noStrike">
                <a:solidFill>
                  <a:srgbClr val="000000"/>
                </a:solidFill>
                <a:latin typeface="Times New Roman"/>
              </a:rPr>
              <a:t>URL</a:t>
            </a:r>
            <a:r>
              <a:rPr b="0" lang="pl-PL" sz="2400" spc="-1" strike="noStrike">
                <a:solidFill>
                  <a:srgbClr val="000000"/>
                </a:solidFill>
                <a:latin typeface="Times New Roman"/>
              </a:rPr>
              <a:t> jest stosunkowo prosta i składa się ona z dwóch części: pierwsza z nich - </a:t>
            </a:r>
            <a:r>
              <a:rPr b="0" i="1" lang="pl-PL" sz="2400" spc="-1" strike="noStrike">
                <a:solidFill>
                  <a:srgbClr val="000000"/>
                </a:solidFill>
                <a:latin typeface="Times New Roman"/>
              </a:rPr>
              <a:t>schemat</a:t>
            </a:r>
            <a:r>
              <a:rPr b="0" lang="pl-PL" sz="2400" spc="-1" strike="noStrike">
                <a:solidFill>
                  <a:srgbClr val="000000"/>
                </a:solidFill>
                <a:latin typeface="Times New Roman"/>
              </a:rPr>
              <a:t>, zawiera nazwę protokołu umożliwiającego dostęp do danego obiektu, natomiast druga część - </a:t>
            </a:r>
            <a:r>
              <a:rPr b="0" i="1" lang="pl-PL" sz="2400" spc="-1" strike="noStrike">
                <a:solidFill>
                  <a:srgbClr val="000000"/>
                </a:solidFill>
                <a:latin typeface="Times New Roman"/>
              </a:rPr>
              <a:t>specyfikacja schematu</a:t>
            </a:r>
            <a:r>
              <a:rPr b="0" lang="pl-PL" sz="2400" spc="-1" strike="noStrike">
                <a:solidFill>
                  <a:srgbClr val="000000"/>
                </a:solidFill>
                <a:latin typeface="Times New Roman"/>
              </a:rPr>
              <a:t>, zawiera informacje związane z danym schematem, takie jak nazwa oraz miejsce danego obiekt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dres URL</a:t>
            </a:r>
            <a:endParaRPr b="0" lang="en-US" sz="3200" spc="-1" strike="noStrike">
              <a:solidFill>
                <a:srgbClr val="000000"/>
              </a:solidFill>
              <a:latin typeface="Times New Roman"/>
            </a:endParaRPr>
          </a:p>
        </p:txBody>
      </p:sp>
      <p:sp>
        <p:nvSpPr>
          <p:cNvPr id="420"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04920" y="838080"/>
            <a:ext cx="83818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URL s</a:t>
            </a:r>
            <a:r>
              <a:rPr b="0" lang="pl-PL" sz="2400" spc="-1" strike="noStrike">
                <a:solidFill>
                  <a:srgbClr val="000000"/>
                </a:solidFill>
                <a:latin typeface="Times New Roman"/>
              </a:rPr>
              <a:t>kłada się z trzech głównych częśc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1" lang="pl-PL" sz="2400" spc="-1" strike="noStrike">
                <a:solidFill>
                  <a:srgbClr val="800000"/>
                </a:solidFill>
                <a:latin typeface="Times New Roman"/>
              </a:rPr>
              <a:t>identyfikatora usług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htt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ft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gop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tel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new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nazwy domeny (adres serwera),</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oże składać się z adresu domenowego lub adresu kropkowo-dziesiętnego n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 www.firma.c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 148.81.78.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ścieżki dostępu</a:t>
            </a:r>
            <a:r>
              <a:rPr b="0" lang="pl-PL" sz="2400" spc="-1" strike="noStrike">
                <a:solidFill>
                  <a:srgbClr val="000000"/>
                </a:solidFill>
                <a:latin typeface="Times New Roman"/>
              </a:rPr>
              <a:t> określającej ścieżkę katalogową na serwerze prowadzącą do pliku, który ma być sprowadzony n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c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dres URL</a:t>
            </a:r>
            <a:endParaRPr b="0" lang="en-US" sz="3200" spc="-1" strike="noStrike">
              <a:solidFill>
                <a:srgbClr val="000000"/>
              </a:solidFill>
              <a:latin typeface="Times New Roman"/>
            </a:endParaRPr>
          </a:p>
        </p:txBody>
      </p:sp>
      <p:sp>
        <p:nvSpPr>
          <p:cNvPr id="423"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04920" y="838080"/>
            <a:ext cx="8381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aaaa00"/>
                </a:solidFill>
                <a:latin typeface="Times New Roman"/>
              </a:rPr>
              <a:t>FTP </a:t>
            </a:r>
            <a:r>
              <a:rPr b="0" lang="pl-PL" sz="2400" spc="-1" strike="noStrike">
                <a:solidFill>
                  <a:srgbClr val="000000"/>
                </a:solidFill>
                <a:latin typeface="Times New Roman"/>
              </a:rPr>
              <a:t>pobranie zbioru z serwera FTP (File Transfer Protocol) jako </a:t>
            </a:r>
            <a:r>
              <a:rPr b="0" i="1" lang="pl-PL" sz="2400" spc="-1" strike="noStrike">
                <a:solidFill>
                  <a:srgbClr val="000000"/>
                </a:solidFill>
                <a:latin typeface="Times New Roman"/>
              </a:rPr>
              <a:t>anonymous</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aaaa00"/>
                </a:solidFill>
                <a:latin typeface="Times New Roman"/>
              </a:rPr>
              <a:t>HTTP </a:t>
            </a:r>
            <a:r>
              <a:rPr b="0" lang="pl-PL" sz="2400" spc="-1" strike="noStrike">
                <a:solidFill>
                  <a:srgbClr val="000000"/>
                </a:solidFill>
                <a:latin typeface="Times New Roman"/>
              </a:rPr>
              <a:t>(Hypertext Transfer Protocol) zbiór obsługiwany bezpośrednio przez serwer WWW, istotny jest atrybut wykonywalności </a:t>
            </a:r>
            <a:r>
              <a:rPr b="0" i="1" lang="pl-PL" sz="2400" spc="-1" strike="noStrike">
                <a:solidFill>
                  <a:srgbClr val="000000"/>
                </a:solidFill>
                <a:latin typeface="Times New Roman"/>
              </a:rPr>
              <a:t>execute</a:t>
            </a:r>
            <a:r>
              <a:rPr b="0" lang="pl-PL" sz="2400" spc="-1" strike="noStrike">
                <a:solidFill>
                  <a:srgbClr val="000000"/>
                </a:solidFill>
                <a:latin typeface="Times New Roman"/>
              </a:rPr>
              <a:t> i miejsce jego przechowywania, w przypadku skryptów lub programów powinien być to katalog </a:t>
            </a:r>
            <a:r>
              <a:rPr b="0" i="1" lang="pl-PL" sz="2400" spc="-1" strike="noStrike">
                <a:solidFill>
                  <a:srgbClr val="000000"/>
                </a:solidFill>
                <a:latin typeface="Times New Roman"/>
              </a:rPr>
              <a:t>.../cgi-bin/</a:t>
            </a:r>
            <a:r>
              <a:rPr b="0" lang="pl-PL" sz="2400" spc="-1" strike="noStrike">
                <a:solidFill>
                  <a:srgbClr val="000000"/>
                </a:solidFill>
                <a:latin typeface="Times New Roman"/>
              </a:rPr>
              <a:t>, program powinien odesłac informacje do serwera w postaci pliku HTML, gdy brak nazwy zbioru, ładowany jest plik: </a:t>
            </a:r>
            <a:r>
              <a:rPr b="0" i="1" lang="pl-PL" sz="2400" spc="-1" strike="noStrike">
                <a:solidFill>
                  <a:srgbClr val="000000"/>
                </a:solidFill>
                <a:latin typeface="Times New Roman"/>
              </a:rPr>
              <a:t>index.html</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aaaa00"/>
                </a:solidFill>
                <a:latin typeface="Times New Roman"/>
              </a:rPr>
              <a:t>MAILTO </a:t>
            </a:r>
            <a:r>
              <a:rPr b="0" lang="pl-PL" sz="2400" spc="-1" strike="noStrike">
                <a:solidFill>
                  <a:srgbClr val="000000"/>
                </a:solidFill>
                <a:latin typeface="Times New Roman"/>
              </a:rPr>
              <a:t>wysłanie listu pocztą elektroniczną pod wskazany adres, wg standardu przyjętego w poczcie elektronicznej, np: </a:t>
            </a:r>
            <a:r>
              <a:rPr b="0" i="1" lang="pl-PL" sz="2400" spc="-1" strike="noStrike">
                <a:solidFill>
                  <a:srgbClr val="000000"/>
                </a:solidFill>
                <a:latin typeface="Times New Roman"/>
              </a:rPr>
              <a:t>MAILTO:nazwa@domena.pl</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aaaa00"/>
                </a:solidFill>
                <a:latin typeface="Times New Roman"/>
              </a:rPr>
              <a:t>NEWS </a:t>
            </a:r>
            <a:r>
              <a:rPr b="0" lang="pl-PL" sz="2400" spc="-1" strike="noStrike">
                <a:solidFill>
                  <a:srgbClr val="000000"/>
                </a:solidFill>
                <a:latin typeface="Times New Roman"/>
              </a:rPr>
              <a:t>informacja sieci USENE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dres URL</a:t>
            </a:r>
            <a:endParaRPr b="0" lang="en-US" sz="3200" spc="-1" strike="noStrike">
              <a:solidFill>
                <a:srgbClr val="000000"/>
              </a:solidFill>
              <a:latin typeface="Times New Roman"/>
            </a:endParaRPr>
          </a:p>
        </p:txBody>
      </p:sp>
      <p:sp>
        <p:nvSpPr>
          <p:cNvPr id="426"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04920" y="838080"/>
            <a:ext cx="8381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aaaa00"/>
                </a:solidFill>
                <a:latin typeface="Times New Roman"/>
              </a:rPr>
              <a:t>TELNET </a:t>
            </a:r>
            <a:r>
              <a:rPr b="0" lang="pl-PL" sz="2400" spc="-1" strike="noStrike">
                <a:solidFill>
                  <a:srgbClr val="000000"/>
                </a:solidFill>
                <a:latin typeface="Times New Roman"/>
              </a:rPr>
              <a:t>połączenie TELNE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aaaa00"/>
                </a:solidFill>
                <a:latin typeface="Times New Roman"/>
              </a:rPr>
              <a:t>FILE </a:t>
            </a:r>
            <a:r>
              <a:rPr b="0" lang="pl-PL" sz="2400" spc="-1" strike="noStrike">
                <a:solidFill>
                  <a:srgbClr val="000000"/>
                </a:solidFill>
                <a:latin typeface="Times New Roman"/>
              </a:rPr>
              <a:t>zbiór znajdujący się w lokalnch zasobach komputera, na którym pracuje przeglądark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aaaa00"/>
                </a:solidFill>
                <a:latin typeface="Times New Roman"/>
              </a:rPr>
              <a:t>GOPHER </a:t>
            </a:r>
            <a:r>
              <a:rPr b="0" lang="pl-PL" sz="2400" spc="-1" strike="noStrike">
                <a:solidFill>
                  <a:srgbClr val="000000"/>
                </a:solidFill>
                <a:latin typeface="Times New Roman"/>
              </a:rPr>
              <a:t>zbiór dostępny w zasobach serwera GOPH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aaaa00"/>
                </a:solidFill>
                <a:latin typeface="Times New Roman"/>
              </a:rPr>
              <a:t>NNTP </a:t>
            </a:r>
            <a:r>
              <a:rPr b="0" lang="pl-PL" sz="2400" spc="-1" strike="noStrike">
                <a:solidFill>
                  <a:srgbClr val="000000"/>
                </a:solidFill>
                <a:latin typeface="Times New Roman"/>
              </a:rPr>
              <a:t>informacja sieci USENET z dostępem NNTP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aaaa00"/>
                </a:solidFill>
                <a:latin typeface="Times New Roman"/>
              </a:rPr>
              <a:t>PROSPERO </a:t>
            </a:r>
            <a:r>
              <a:rPr b="0" lang="pl-PL" sz="2400" spc="-1" strike="noStrike">
                <a:solidFill>
                  <a:srgbClr val="000000"/>
                </a:solidFill>
                <a:latin typeface="Times New Roman"/>
              </a:rPr>
              <a:t>usługa Prospero Directory Servic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aaaa00"/>
                </a:solidFill>
                <a:latin typeface="Times New Roman"/>
              </a:rPr>
              <a:t>WAIS </a:t>
            </a:r>
            <a:r>
              <a:rPr b="0" lang="pl-PL" sz="2400" spc="-1" strike="noStrike">
                <a:solidFill>
                  <a:srgbClr val="000000"/>
                </a:solidFill>
                <a:latin typeface="Times New Roman"/>
              </a:rPr>
              <a:t>zbiór dostępny w zasobach serwera WAIS (Wide Area Information Serv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spółdzielenie adresu IP</a:t>
            </a:r>
            <a:endParaRPr b="0" lang="en-US" sz="3200" spc="-1" strike="noStrike">
              <a:solidFill>
                <a:srgbClr val="000000"/>
              </a:solidFill>
              <a:latin typeface="Times New Roman"/>
            </a:endParaRPr>
          </a:p>
        </p:txBody>
      </p:sp>
      <p:sp>
        <p:nvSpPr>
          <p:cNvPr id="429"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04920" y="923760"/>
            <a:ext cx="8381880" cy="57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ała liczba dostępnych adresów publicznych IPv4 spowodowała powstanie technologii pozwalających na współdzielenie jednego rutowalnego adresu przez wiele hostów w sieci lokalnej. Wystarczy w takim wypadku jeden komputer z adresem publicznym pełniący w sieci rolę tzw. bramy, pozostałe komputery mogą korzystać z adresów niepubliczny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NAT - (Network Address Translation)</a:t>
            </a:r>
            <a:r>
              <a:rPr b="0" lang="pl-PL" sz="2400" spc="-1" strike="noStrike">
                <a:solidFill>
                  <a:srgbClr val="000000"/>
                </a:solidFill>
                <a:latin typeface="Times New Roman"/>
              </a:rPr>
              <a:t> jest technologią pozwalającą na mapowanie adresów zewnętrznych IP do adresów IP hostów wewnętrzny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PAT (Port Address Translation), IP-Masqarade</a:t>
            </a:r>
            <a:r>
              <a:rPr b="0" lang="pl-PL" sz="2400" spc="-1" strike="noStrike">
                <a:solidFill>
                  <a:srgbClr val="000000"/>
                </a:solidFill>
                <a:latin typeface="Times New Roman"/>
              </a:rPr>
              <a:t> - zapewniają takie modyfikowanie ramek pakietów na bramie sieci lokalnej, aby możliwa była komunikacja przez pojedynczy adres publiczny, i żeby informacja zwrotna trafiała na odpowiednie komputery w podsieci lokaln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truktura adresów protokołu IPv4 </a:t>
            </a:r>
            <a:endParaRPr b="0" lang="en-US" sz="3200" spc="-1" strike="noStrike">
              <a:solidFill>
                <a:srgbClr val="000000"/>
              </a:solidFill>
              <a:latin typeface="Times New Roman"/>
            </a:endParaRPr>
          </a:p>
        </p:txBody>
      </p:sp>
      <p:sp>
        <p:nvSpPr>
          <p:cNvPr id="47"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28600" y="762120"/>
            <a:ext cx="86104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Oryginalny adres IP jest czterobajtową (32 bitową) liczbą.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yjęła się konwencja zapisu każdego bajtu w postaci dziesiętnej i oddzielania ich kropkami. Ten sposób zapisu zwany jest notacją kropkowo-dziesiętn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148.81.78.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 postaci binarnej adres ten wyglądał następują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100101000101000101001110000000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 postaci dziesiętne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248835635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Bity w adresie IP są interpretowane jak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lt;adres sieciowy, adres hos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Określona liczba bitów 32-bitowego adresu IP jest adresem sieciowym, a reszta adresem hostowym. Adres sieciowy określa sieć LAN, zaś adres hosta konkretną stację roboczą w tej sieci. By dopasować sieci o różnych rozmiarach (różnej liczbie komputerów), adresy IP podzielono na kilka k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800000"/>
                </a:solidFill>
                <a:latin typeface="Times New Roman"/>
              </a:rPr>
              <a:t>Datagram  IP</a:t>
            </a:r>
            <a:endParaRPr b="0" lang="en-US" sz="3200" spc="-1" strike="noStrike">
              <a:solidFill>
                <a:srgbClr val="000000"/>
              </a:solidFill>
              <a:latin typeface="Times New Roman"/>
            </a:endParaRPr>
          </a:p>
        </p:txBody>
      </p:sp>
      <p:sp>
        <p:nvSpPr>
          <p:cNvPr id="432"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04920" y="923760"/>
            <a:ext cx="8381880" cy="54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iagram IP składa się z dwóch odrębnych części:</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nagłówka</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ładun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Nagłówek służy do sterowania zachowaniem w warstwie IP:</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sowaniem,</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fragmentacją,it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główki i dane protokołów z wyższych warstw są zawarte w ładunku IP, czyli w obszarze dany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Minimalna długość nagłówka IP, bez uwzględniania pól opcji i uzupełnienia, wynosi 20 oktetów. Nagłówek poprzedza informację, którą przenosi datagram, może to być np.: nagłówek protokołu TCP i dane wyższej warstw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Nagłówek  IP</a:t>
            </a:r>
            <a:endParaRPr b="0" lang="en-US" sz="3200" spc="-1" strike="noStrike">
              <a:solidFill>
                <a:srgbClr val="000000"/>
              </a:solidFill>
              <a:latin typeface="Times New Roman"/>
            </a:endParaRPr>
          </a:p>
        </p:txBody>
      </p:sp>
      <p:sp>
        <p:nvSpPr>
          <p:cNvPr id="435"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36" name=""/>
          <p:cNvGraphicFramePr/>
          <p:nvPr/>
        </p:nvGraphicFramePr>
        <p:xfrm>
          <a:off x="0" y="838080"/>
          <a:ext cx="9144000" cy="3029040"/>
        </p:xfrm>
        <a:graphic>
          <a:graphicData uri="http://schemas.openxmlformats.org/presentationml/2006/ole">
            <p:oleObj r:id="rId2" spid="">
              <p:embed/>
              <p:pic>
                <p:nvPicPr>
                  <p:cNvPr id="437" name="" descr=""/>
                  <p:cNvPicPr/>
                  <p:nvPr/>
                </p:nvPicPr>
                <p:blipFill>
                  <a:blip r:embed="rId3"/>
                  <a:stretch/>
                </p:blipFill>
                <p:spPr>
                  <a:xfrm>
                    <a:off x="0" y="838080"/>
                    <a:ext cx="9144000" cy="3029040"/>
                  </a:xfrm>
                  <a:prstGeom prst="rect">
                    <a:avLst/>
                  </a:prstGeom>
                  <a:ln w="0">
                    <a:noFill/>
                  </a:ln>
                </p:spPr>
              </p:pic>
            </p:oleObj>
          </a:graphicData>
        </a:graphic>
      </p:graphicFrame>
      <p:sp>
        <p:nvSpPr>
          <p:cNvPr id="438" name=""/>
          <p:cNvSpPr/>
          <p:nvPr/>
        </p:nvSpPr>
        <p:spPr>
          <a:xfrm>
            <a:off x="304920" y="3886200"/>
            <a:ext cx="8610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W</a:t>
            </a:r>
            <a:r>
              <a:rPr b="1" lang="pl-PL" sz="2400" spc="-1" strike="noStrike">
                <a:solidFill>
                  <a:srgbClr val="000000"/>
                </a:solidFill>
                <a:latin typeface="Times New Roman"/>
                <a:ea typeface="Times New Roman"/>
              </a:rPr>
              <a:t>ersja (Ver.)</a:t>
            </a:r>
            <a:r>
              <a:rPr b="0" lang="pl-PL" sz="2400" spc="-1" strike="noStrike">
                <a:solidFill>
                  <a:srgbClr val="000000"/>
                </a:solidFill>
                <a:latin typeface="Times New Roman"/>
                <a:ea typeface="Times New Roman"/>
              </a:rPr>
              <a:t> — stosowana wersja protokołu IP (obecnie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ea typeface="Times New Roman"/>
              </a:rPr>
              <a:t>Długość nagłówka IP (IHL — IP Header Length)</a:t>
            </a:r>
            <a:r>
              <a:rPr b="0" lang="pl-PL" sz="2400" spc="-1" strike="noStrike">
                <a:solidFill>
                  <a:srgbClr val="000000"/>
                </a:solidFill>
                <a:latin typeface="Times New Roman"/>
                <a:ea typeface="Times New Roman"/>
              </a:rPr>
              <a:t> — długość nagłówka IP mierzona w 32-bitowych słowa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ea typeface="Times New Roman"/>
              </a:rPr>
              <a:t>Typ usługi</a:t>
            </a:r>
            <a:r>
              <a:rPr b="0" lang="pl-PL" sz="2400" spc="-1" strike="noStrike">
                <a:solidFill>
                  <a:srgbClr val="000000"/>
                </a:solidFill>
                <a:latin typeface="Times New Roman"/>
                <a:ea typeface="Times New Roman"/>
              </a:rPr>
              <a:t> — w razie konieczności pole to pozwala na ustalenie pierwszeństwa ruchu i wprowadzanie opóźnie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Nagłówek  IP</a:t>
            </a:r>
            <a:endParaRPr b="0" lang="en-US" sz="3200" spc="-1" strike="noStrike">
              <a:solidFill>
                <a:srgbClr val="000000"/>
              </a:solidFill>
              <a:latin typeface="Times New Roman"/>
            </a:endParaRPr>
          </a:p>
        </p:txBody>
      </p:sp>
      <p:sp>
        <p:nvSpPr>
          <p:cNvPr id="440"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41" name=""/>
          <p:cNvGraphicFramePr/>
          <p:nvPr/>
        </p:nvGraphicFramePr>
        <p:xfrm>
          <a:off x="0" y="838080"/>
          <a:ext cx="9144000" cy="3029040"/>
        </p:xfrm>
        <a:graphic>
          <a:graphicData uri="http://schemas.openxmlformats.org/presentationml/2006/ole">
            <p:oleObj r:id="rId2" spid="">
              <p:embed/>
              <p:pic>
                <p:nvPicPr>
                  <p:cNvPr id="442" name="" descr=""/>
                  <p:cNvPicPr/>
                  <p:nvPr/>
                </p:nvPicPr>
                <p:blipFill>
                  <a:blip r:embed="rId3"/>
                  <a:stretch/>
                </p:blipFill>
                <p:spPr>
                  <a:xfrm>
                    <a:off x="0" y="838080"/>
                    <a:ext cx="9144000" cy="3029040"/>
                  </a:xfrm>
                  <a:prstGeom prst="rect">
                    <a:avLst/>
                  </a:prstGeom>
                  <a:ln w="0">
                    <a:noFill/>
                  </a:ln>
                </p:spPr>
              </p:pic>
            </p:oleObj>
          </a:graphicData>
        </a:graphic>
      </p:graphicFrame>
      <p:sp>
        <p:nvSpPr>
          <p:cNvPr id="443" name=""/>
          <p:cNvSpPr/>
          <p:nvPr/>
        </p:nvSpPr>
        <p:spPr>
          <a:xfrm>
            <a:off x="380880" y="3962520"/>
            <a:ext cx="85345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łkowita długość</a:t>
            </a:r>
            <a:r>
              <a:rPr b="0" lang="en-US" sz="2400" spc="-1" strike="noStrike">
                <a:solidFill>
                  <a:srgbClr val="000000"/>
                </a:solidFill>
                <a:latin typeface="Times New Roman"/>
              </a:rPr>
              <a:t> — całkowita długość pakietu mierzona w oktetach — razem nagłówka i danych. Wartość minimalna wynosi 576 oktetów, maksymalna 65 535 oktetów (64 kilobaj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yfikacja</a:t>
            </a:r>
            <a:r>
              <a:rPr b="0" lang="en-US" sz="2400" spc="-1" strike="noStrike">
                <a:solidFill>
                  <a:srgbClr val="000000"/>
                </a:solidFill>
                <a:latin typeface="Times New Roman"/>
              </a:rPr>
              <a:t> — pole zawierające unikatowy, 8-bitowy identyfikator dla każdego pakie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i</a:t>
            </a:r>
            <a:r>
              <a:rPr b="0" lang="en-US" sz="2400" spc="-1" strike="noStrike">
                <a:solidFill>
                  <a:srgbClr val="000000"/>
                </a:solidFill>
                <a:latin typeface="Times New Roman"/>
              </a:rPr>
              <a:t> — to 3-bitowe pole pozwala sterować fragmentacją; decyduje, czy pakiet wolno fragmentować (lub bardziej fragmentowa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Nagłówek  IP</a:t>
            </a:r>
            <a:endParaRPr b="0" lang="en-US" sz="3200" spc="-1" strike="noStrike">
              <a:solidFill>
                <a:srgbClr val="000000"/>
              </a:solidFill>
              <a:latin typeface="Times New Roman"/>
            </a:endParaRPr>
          </a:p>
        </p:txBody>
      </p:sp>
      <p:sp>
        <p:nvSpPr>
          <p:cNvPr id="445"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46" name=""/>
          <p:cNvGraphicFramePr/>
          <p:nvPr/>
        </p:nvGraphicFramePr>
        <p:xfrm>
          <a:off x="0" y="838080"/>
          <a:ext cx="9144000" cy="3029040"/>
        </p:xfrm>
        <a:graphic>
          <a:graphicData uri="http://schemas.openxmlformats.org/presentationml/2006/ole">
            <p:oleObj r:id="rId2" spid="">
              <p:embed/>
              <p:pic>
                <p:nvPicPr>
                  <p:cNvPr id="447" name="" descr=""/>
                  <p:cNvPicPr/>
                  <p:nvPr/>
                </p:nvPicPr>
                <p:blipFill>
                  <a:blip r:embed="rId3"/>
                  <a:stretch/>
                </p:blipFill>
                <p:spPr>
                  <a:xfrm>
                    <a:off x="0" y="838080"/>
                    <a:ext cx="9144000" cy="3029040"/>
                  </a:xfrm>
                  <a:prstGeom prst="rect">
                    <a:avLst/>
                  </a:prstGeom>
                  <a:ln w="0">
                    <a:noFill/>
                  </a:ln>
                </p:spPr>
              </p:pic>
            </p:oleObj>
          </a:graphicData>
        </a:graphic>
      </p:graphicFrame>
      <p:sp>
        <p:nvSpPr>
          <p:cNvPr id="448" name=""/>
          <p:cNvSpPr/>
          <p:nvPr/>
        </p:nvSpPr>
        <p:spPr>
          <a:xfrm>
            <a:off x="152280" y="3962520"/>
            <a:ext cx="8763120" cy="22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Przesunięcie fragmentu</a:t>
            </a:r>
            <a:r>
              <a:rPr b="0" lang="pl-PL" sz="2000" spc="-1" strike="noStrike">
                <a:solidFill>
                  <a:srgbClr val="000000"/>
                </a:solidFill>
                <a:latin typeface="Times New Roman"/>
              </a:rPr>
              <a:t> — w przypadku pakietu pofragmentowanego, pole to służy do określenia, gdzie dany fragment mieści się w pakiecie, licząc od początku datagramu. Przesunięcie mierzone jest w jednostkach 64-bitowy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Czas życia (TTL)</a:t>
            </a:r>
            <a:r>
              <a:rPr b="0" lang="pl-PL" sz="2000" spc="-1" strike="noStrike">
                <a:solidFill>
                  <a:srgbClr val="000000"/>
                </a:solidFill>
                <a:latin typeface="Times New Roman"/>
              </a:rPr>
              <a:t> — czas życia pakietu, mierzony w hopach (przejściach przez kolejne rutery) lub sekundach. Pakiety o TTL równym zero są odrzuca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Protokół</a:t>
            </a:r>
            <a:r>
              <a:rPr b="0" lang="pl-PL" sz="2000" spc="-1" strike="noStrike">
                <a:solidFill>
                  <a:srgbClr val="000000"/>
                </a:solidFill>
                <a:latin typeface="Times New Roman"/>
              </a:rPr>
              <a:t> — to pole wskazuje nagłówek protokołu następnego po IP. Jeśli wartość w tym polu wynosi 6, pakiet zostanie przekazany do protokołu TCP.</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artości pola protokołu w nagłówku IP</a:t>
            </a:r>
            <a:endParaRPr b="0" lang="en-US" sz="3200" spc="-1" strike="noStrike">
              <a:solidFill>
                <a:srgbClr val="000000"/>
              </a:solidFill>
              <a:latin typeface="Times New Roman"/>
            </a:endParaRPr>
          </a:p>
        </p:txBody>
      </p:sp>
      <p:sp>
        <p:nvSpPr>
          <p:cNvPr id="450"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1" name="" descr=""/>
          <p:cNvPicPr/>
          <p:nvPr/>
        </p:nvPicPr>
        <p:blipFill>
          <a:blip r:embed="rId2"/>
          <a:stretch/>
        </p:blipFill>
        <p:spPr>
          <a:xfrm>
            <a:off x="152280" y="1219320"/>
            <a:ext cx="8991720" cy="2867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Nagłówek  IP</a:t>
            </a:r>
            <a:endParaRPr b="0" lang="en-US" sz="3200" spc="-1" strike="noStrike">
              <a:solidFill>
                <a:srgbClr val="000000"/>
              </a:solidFill>
              <a:latin typeface="Times New Roman"/>
            </a:endParaRPr>
          </a:p>
        </p:txBody>
      </p:sp>
      <p:sp>
        <p:nvSpPr>
          <p:cNvPr id="453"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4" name=""/>
          <p:cNvGraphicFramePr/>
          <p:nvPr/>
        </p:nvGraphicFramePr>
        <p:xfrm>
          <a:off x="0" y="838080"/>
          <a:ext cx="9144000" cy="3029040"/>
        </p:xfrm>
        <a:graphic>
          <a:graphicData uri="http://schemas.openxmlformats.org/presentationml/2006/ole">
            <p:oleObj r:id="rId2" spid="">
              <p:embed/>
              <p:pic>
                <p:nvPicPr>
                  <p:cNvPr id="455" name="" descr=""/>
                  <p:cNvPicPr/>
                  <p:nvPr/>
                </p:nvPicPr>
                <p:blipFill>
                  <a:blip r:embed="rId3"/>
                  <a:stretch/>
                </p:blipFill>
                <p:spPr>
                  <a:xfrm>
                    <a:off x="0" y="838080"/>
                    <a:ext cx="9144000" cy="3029040"/>
                  </a:xfrm>
                  <a:prstGeom prst="rect">
                    <a:avLst/>
                  </a:prstGeom>
                  <a:ln w="0">
                    <a:noFill/>
                  </a:ln>
                </p:spPr>
              </p:pic>
            </p:oleObj>
          </a:graphicData>
        </a:graphic>
      </p:graphicFrame>
      <p:sp>
        <p:nvSpPr>
          <p:cNvPr id="456" name=""/>
          <p:cNvSpPr/>
          <p:nvPr/>
        </p:nvSpPr>
        <p:spPr>
          <a:xfrm>
            <a:off x="304920" y="3962520"/>
            <a:ext cx="8610480" cy="24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Suma kontrolna nagłówka</a:t>
            </a:r>
            <a:r>
              <a:rPr b="0" lang="pl-PL" sz="2000" spc="-1" strike="noStrike">
                <a:solidFill>
                  <a:srgbClr val="000000"/>
                </a:solidFill>
                <a:latin typeface="Times New Roman"/>
              </a:rPr>
              <a:t> — matematyczna suma kontrolna, przeliczana w każdym ruterze z uwagi na zmiany informacji nagłówk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Adres źródłowy</a:t>
            </a:r>
            <a:r>
              <a:rPr b="0" lang="pl-PL" sz="2000" spc="-1" strike="noStrike">
                <a:solidFill>
                  <a:srgbClr val="000000"/>
                </a:solidFill>
                <a:latin typeface="Times New Roman"/>
              </a:rPr>
              <a:t> — adres IP hosta źródłowego w 32-bitowej notacji dwójkowej.</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Adres docelowy</a:t>
            </a:r>
            <a:r>
              <a:rPr b="0" lang="pl-PL" sz="2000" spc="-1" strike="noStrike">
                <a:solidFill>
                  <a:srgbClr val="000000"/>
                </a:solidFill>
                <a:latin typeface="Times New Roman"/>
              </a:rPr>
              <a:t> — adres IP hosta docelowego w 32-bitowej notacji dwójkowej.</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Opcje i wypełnienie</a:t>
            </a:r>
            <a:r>
              <a:rPr b="0" lang="pl-PL" sz="2000" spc="-1" strike="noStrike">
                <a:solidFill>
                  <a:srgbClr val="000000"/>
                </a:solidFill>
                <a:latin typeface="Times New Roman"/>
              </a:rPr>
              <a:t> — to pole może posłużyć do zawarcia opcji wybranych przez nadawcę, na przykład trasy, którą pakiet powinien podążać do miejsca przeznaczenia. Wypełnienie zapewnia, iż długość nagłówka to wielokrotność 32 bitó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Ładunek  IP</a:t>
            </a:r>
            <a:endParaRPr b="0" lang="en-US" sz="3200" spc="-1" strike="noStrike">
              <a:solidFill>
                <a:srgbClr val="000000"/>
              </a:solidFill>
              <a:latin typeface="Times New Roman"/>
            </a:endParaRPr>
          </a:p>
        </p:txBody>
      </p:sp>
      <p:sp>
        <p:nvSpPr>
          <p:cNvPr id="458"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28600" y="1066680"/>
            <a:ext cx="86104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ea typeface="Times New Roman"/>
              </a:rPr>
              <a:t>Ładunek I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to pole o zmiennej długości — od 8 bitów do 64 kilobajtów, łącznie z nagłówkiem IP oraz danymi wyższych warstw. Ładunek w warstwie IP składa się z nagłówków protokołów wyższych warstw, na przykład TCP lub UDP, oraz z danych aplikacji, które używają tych protokołów.</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Protokół ICMP</a:t>
            </a:r>
            <a:endParaRPr b="0" lang="en-US" sz="3200" spc="-1" strike="noStrike">
              <a:solidFill>
                <a:srgbClr val="000000"/>
              </a:solidFill>
              <a:latin typeface="Times New Roman"/>
            </a:endParaRPr>
          </a:p>
        </p:txBody>
      </p:sp>
      <p:sp>
        <p:nvSpPr>
          <p:cNvPr id="461"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28600" y="1066680"/>
            <a:ext cx="8610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rotokół komunikacyjny zarządzania siecią Internet (ICMP — Internet Control Message Protocol).</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CMP jest protokołem serwisowym, który zgłasza błędy łączności między hostami. Protokół ten został udokumentowany w RFC 79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otokół ICMP jest zestawem komunikatów, przesyłanych w datagramach IP i zdolnych do zgłaszania błędów w dostarczaniu innych datagramów I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Protokół ICMP</a:t>
            </a:r>
            <a:endParaRPr b="0" lang="en-US" sz="3200" spc="-1" strike="noStrike">
              <a:solidFill>
                <a:srgbClr val="000000"/>
              </a:solidFill>
              <a:latin typeface="Times New Roman"/>
            </a:endParaRPr>
          </a:p>
        </p:txBody>
      </p:sp>
      <p:sp>
        <p:nvSpPr>
          <p:cNvPr id="464"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28600" y="1066680"/>
            <a:ext cx="86104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owody, z których bramy lub hosty mogą wysyłać komunikaty ICMP:</a:t>
            </a:r>
            <a:endParaRPr b="0" lang="en-US" sz="2400" spc="-1" strike="noStrike">
              <a:solidFill>
                <a:srgbClr val="000000"/>
              </a:solidFill>
              <a:latin typeface="Times New Roman"/>
            </a:endParaRPr>
          </a:p>
        </p:txBody>
      </p:sp>
      <p:sp>
        <p:nvSpPr>
          <p:cNvPr id="466" name=""/>
          <p:cNvSpPr/>
          <p:nvPr/>
        </p:nvSpPr>
        <p:spPr>
          <a:xfrm>
            <a:off x="0" y="2057400"/>
            <a:ext cx="8915400" cy="4483080"/>
          </a:xfrm>
          <a:prstGeom prst="rect">
            <a:avLst/>
          </a:prstGeom>
          <a:noFill/>
          <a:ln w="0">
            <a:noFill/>
          </a:ln>
        </p:spPr>
        <p:style>
          <a:lnRef idx="0"/>
          <a:fillRef idx="0"/>
          <a:effectRef idx="0"/>
          <a:fontRef idx="minor"/>
        </p:style>
        <p:txBody>
          <a:bodyPr lIns="90000" rIns="90000" tIns="46800" bIns="46800" anchor="t">
            <a:spAutoFit/>
          </a:bodyPr>
          <a:p>
            <a:pPr marL="282600" indent="-282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Gdy ruter lub host jest zbyt obciążony, by móc przyjąć do buforów kolejne datagramy, komunikaty ICMP służą do zwolnienia szybkości napływania datagramów do danego rutera.</a:t>
            </a:r>
            <a:endParaRPr b="0" lang="en-US" sz="2400" spc="-1" strike="noStrike">
              <a:solidFill>
                <a:srgbClr val="000000"/>
              </a:solidFill>
              <a:latin typeface="Times New Roman"/>
            </a:endParaRPr>
          </a:p>
          <a:p>
            <a:pPr marL="282600" indent="-282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Gdy ruter lub host znajduje lepszą trasę do miejsca przeznaczenia, może wysłać do hosta źródłowego komunikat ICMP, powiadamiający o krótszej trasie.</a:t>
            </a:r>
            <a:endParaRPr b="0" lang="en-US" sz="2400" spc="-1" strike="noStrike">
              <a:solidFill>
                <a:srgbClr val="000000"/>
              </a:solidFill>
              <a:latin typeface="Times New Roman"/>
            </a:endParaRPr>
          </a:p>
          <a:p>
            <a:pPr marL="282600" indent="-282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Gdy host docelowy jest nieosiągalny, ostatnia brama wysyła komunikat ICMP z powrotem do hosta źródłowego, informując o niedostępności adresata.</a:t>
            </a:r>
            <a:endParaRPr b="0" lang="en-US" sz="2400" spc="-1" strike="noStrike">
              <a:solidFill>
                <a:srgbClr val="000000"/>
              </a:solidFill>
              <a:latin typeface="Times New Roman"/>
            </a:endParaRPr>
          </a:p>
          <a:p>
            <a:pPr marL="282600" indent="-282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Gdy host lub brama przetwarza pakiet o TTL równym 0 hopów, wówczas odrzuca ten pakiet i ewentualnie wysyła komunikat ICMP do hosta źródłow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Pakiety ICMP</a:t>
            </a:r>
            <a:endParaRPr b="0" lang="en-US" sz="3200" spc="-1" strike="noStrike">
              <a:solidFill>
                <a:srgbClr val="000000"/>
              </a:solidFill>
              <a:latin typeface="Times New Roman"/>
            </a:endParaRPr>
          </a:p>
        </p:txBody>
      </p:sp>
      <p:sp>
        <p:nvSpPr>
          <p:cNvPr id="468"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8600" y="1066680"/>
            <a:ext cx="8610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akiet ICMP jest zawarty w samym datagramie IP i identyfikowany przez wartość w polu Protokół równą 1. Pakiet ICMP zawiera 8-bitowe pola Typ i Kod oraz 16-bitowe pole sumy kontrolnej.</a:t>
            </a:r>
            <a:endParaRPr b="0" lang="en-US" sz="2400" spc="-1" strike="noStrike">
              <a:solidFill>
                <a:srgbClr val="000000"/>
              </a:solidFill>
              <a:latin typeface="Times New Roman"/>
            </a:endParaRPr>
          </a:p>
        </p:txBody>
      </p:sp>
      <p:grpSp>
        <p:nvGrpSpPr>
          <p:cNvPr id="470" name=""/>
          <p:cNvGrpSpPr/>
          <p:nvPr/>
        </p:nvGrpSpPr>
        <p:grpSpPr>
          <a:xfrm>
            <a:off x="380880" y="2362320"/>
            <a:ext cx="8381880" cy="1197000"/>
            <a:chOff x="380880" y="2362320"/>
            <a:chExt cx="8381880" cy="1197000"/>
          </a:xfrm>
        </p:grpSpPr>
        <p:grpSp>
          <p:nvGrpSpPr>
            <p:cNvPr id="471" name=""/>
            <p:cNvGrpSpPr/>
            <p:nvPr/>
          </p:nvGrpSpPr>
          <p:grpSpPr>
            <a:xfrm>
              <a:off x="388080" y="2367000"/>
              <a:ext cx="8366040" cy="1187280"/>
              <a:chOff x="388080" y="2367000"/>
              <a:chExt cx="8366040" cy="1187280"/>
            </a:xfrm>
          </p:grpSpPr>
          <p:grpSp>
            <p:nvGrpSpPr>
              <p:cNvPr id="472" name=""/>
              <p:cNvGrpSpPr/>
              <p:nvPr/>
            </p:nvGrpSpPr>
            <p:grpSpPr>
              <a:xfrm>
                <a:off x="388080" y="2367000"/>
                <a:ext cx="2696760" cy="593640"/>
                <a:chOff x="388080" y="2367000"/>
                <a:chExt cx="2696760" cy="593640"/>
              </a:xfrm>
            </p:grpSpPr>
            <p:sp>
              <p:nvSpPr>
                <p:cNvPr id="473" name=""/>
                <p:cNvSpPr/>
                <p:nvPr/>
              </p:nvSpPr>
              <p:spPr>
                <a:xfrm>
                  <a:off x="457560" y="2367000"/>
                  <a:ext cx="255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 bitów</a:t>
                  </a:r>
                  <a:endParaRPr b="0" lang="en-US" sz="2000" spc="-1" strike="noStrike">
                    <a:solidFill>
                      <a:srgbClr val="000000"/>
                    </a:solidFill>
                    <a:latin typeface="Times New Roman"/>
                  </a:endParaRPr>
                </a:p>
              </p:txBody>
            </p:sp>
            <p:sp>
              <p:nvSpPr>
                <p:cNvPr id="474" name=""/>
                <p:cNvSpPr/>
                <p:nvPr/>
              </p:nvSpPr>
              <p:spPr>
                <a:xfrm>
                  <a:off x="388080" y="2367000"/>
                  <a:ext cx="2696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5" name=""/>
              <p:cNvGrpSpPr/>
              <p:nvPr/>
            </p:nvGrpSpPr>
            <p:grpSpPr>
              <a:xfrm>
                <a:off x="3085200" y="2367000"/>
                <a:ext cx="2691720" cy="593640"/>
                <a:chOff x="3085200" y="2367000"/>
                <a:chExt cx="2691720" cy="593640"/>
              </a:xfrm>
            </p:grpSpPr>
            <p:sp>
              <p:nvSpPr>
                <p:cNvPr id="476" name=""/>
                <p:cNvSpPr/>
                <p:nvPr/>
              </p:nvSpPr>
              <p:spPr>
                <a:xfrm>
                  <a:off x="3154680" y="2367000"/>
                  <a:ext cx="2551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 bitów</a:t>
                  </a:r>
                  <a:endParaRPr b="0" lang="en-US" sz="2000" spc="-1" strike="noStrike">
                    <a:solidFill>
                      <a:srgbClr val="000000"/>
                    </a:solidFill>
                    <a:latin typeface="Times New Roman"/>
                  </a:endParaRPr>
                </a:p>
              </p:txBody>
            </p:sp>
            <p:sp>
              <p:nvSpPr>
                <p:cNvPr id="477" name=""/>
                <p:cNvSpPr/>
                <p:nvPr/>
              </p:nvSpPr>
              <p:spPr>
                <a:xfrm>
                  <a:off x="3085200" y="2367000"/>
                  <a:ext cx="2691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5777640" y="2367000"/>
                <a:ext cx="2976480" cy="593640"/>
                <a:chOff x="5777640" y="2367000"/>
                <a:chExt cx="2976480" cy="593640"/>
              </a:xfrm>
            </p:grpSpPr>
            <p:sp>
              <p:nvSpPr>
                <p:cNvPr id="479" name=""/>
                <p:cNvSpPr/>
                <p:nvPr/>
              </p:nvSpPr>
              <p:spPr>
                <a:xfrm>
                  <a:off x="5847120" y="2367000"/>
                  <a:ext cx="28368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 bitów</a:t>
                  </a:r>
                  <a:endParaRPr b="0" lang="en-US" sz="2000" spc="-1" strike="noStrike">
                    <a:solidFill>
                      <a:srgbClr val="000000"/>
                    </a:solidFill>
                    <a:latin typeface="Times New Roman"/>
                  </a:endParaRPr>
                </a:p>
              </p:txBody>
            </p:sp>
            <p:sp>
              <p:nvSpPr>
                <p:cNvPr id="480" name=""/>
                <p:cNvSpPr/>
                <p:nvPr/>
              </p:nvSpPr>
              <p:spPr>
                <a:xfrm>
                  <a:off x="5777640" y="2367000"/>
                  <a:ext cx="297648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1" name=""/>
              <p:cNvGrpSpPr/>
              <p:nvPr/>
            </p:nvGrpSpPr>
            <p:grpSpPr>
              <a:xfrm>
                <a:off x="388080" y="2960640"/>
                <a:ext cx="2696760" cy="593640"/>
                <a:chOff x="388080" y="2960640"/>
                <a:chExt cx="2696760" cy="593640"/>
              </a:xfrm>
            </p:grpSpPr>
            <p:sp>
              <p:nvSpPr>
                <p:cNvPr id="482" name=""/>
                <p:cNvSpPr/>
                <p:nvPr/>
              </p:nvSpPr>
              <p:spPr>
                <a:xfrm>
                  <a:off x="457560" y="2960640"/>
                  <a:ext cx="255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yp</a:t>
                  </a:r>
                  <a:endParaRPr b="0" lang="en-US" sz="2000" spc="-1" strike="noStrike">
                    <a:solidFill>
                      <a:srgbClr val="000000"/>
                    </a:solidFill>
                    <a:latin typeface="Times New Roman"/>
                  </a:endParaRPr>
                </a:p>
              </p:txBody>
            </p:sp>
            <p:sp>
              <p:nvSpPr>
                <p:cNvPr id="483" name=""/>
                <p:cNvSpPr/>
                <p:nvPr/>
              </p:nvSpPr>
              <p:spPr>
                <a:xfrm>
                  <a:off x="388080" y="2960640"/>
                  <a:ext cx="26967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4" name=""/>
              <p:cNvGrpSpPr/>
              <p:nvPr/>
            </p:nvGrpSpPr>
            <p:grpSpPr>
              <a:xfrm>
                <a:off x="3085200" y="2960640"/>
                <a:ext cx="2691720" cy="593640"/>
                <a:chOff x="3085200" y="2960640"/>
                <a:chExt cx="2691720" cy="593640"/>
              </a:xfrm>
            </p:grpSpPr>
            <p:sp>
              <p:nvSpPr>
                <p:cNvPr id="485" name=""/>
                <p:cNvSpPr/>
                <p:nvPr/>
              </p:nvSpPr>
              <p:spPr>
                <a:xfrm>
                  <a:off x="3154680" y="2960640"/>
                  <a:ext cx="2551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od</a:t>
                  </a:r>
                  <a:endParaRPr b="0" lang="en-US" sz="2000" spc="-1" strike="noStrike">
                    <a:solidFill>
                      <a:srgbClr val="000000"/>
                    </a:solidFill>
                    <a:latin typeface="Times New Roman"/>
                  </a:endParaRPr>
                </a:p>
              </p:txBody>
            </p:sp>
            <p:sp>
              <p:nvSpPr>
                <p:cNvPr id="486" name=""/>
                <p:cNvSpPr/>
                <p:nvPr/>
              </p:nvSpPr>
              <p:spPr>
                <a:xfrm>
                  <a:off x="3085200" y="2960640"/>
                  <a:ext cx="2691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7" name=""/>
              <p:cNvGrpSpPr/>
              <p:nvPr/>
            </p:nvGrpSpPr>
            <p:grpSpPr>
              <a:xfrm>
                <a:off x="5777640" y="2960640"/>
                <a:ext cx="2976480" cy="593640"/>
                <a:chOff x="5777640" y="2960640"/>
                <a:chExt cx="2976480" cy="593640"/>
              </a:xfrm>
            </p:grpSpPr>
            <p:sp>
              <p:nvSpPr>
                <p:cNvPr id="488" name=""/>
                <p:cNvSpPr/>
                <p:nvPr/>
              </p:nvSpPr>
              <p:spPr>
                <a:xfrm>
                  <a:off x="5847120" y="2960640"/>
                  <a:ext cx="28368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ma kontrolna</a:t>
                  </a:r>
                  <a:endParaRPr b="0" lang="en-US" sz="2000" spc="-1" strike="noStrike">
                    <a:solidFill>
                      <a:srgbClr val="000000"/>
                    </a:solidFill>
                    <a:latin typeface="Times New Roman"/>
                  </a:endParaRPr>
                </a:p>
              </p:txBody>
            </p:sp>
            <p:sp>
              <p:nvSpPr>
                <p:cNvPr id="489" name=""/>
                <p:cNvSpPr/>
                <p:nvPr/>
              </p:nvSpPr>
              <p:spPr>
                <a:xfrm>
                  <a:off x="5777640" y="2960640"/>
                  <a:ext cx="297648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0" name=""/>
            <p:cNvSpPr/>
            <p:nvPr/>
          </p:nvSpPr>
          <p:spPr>
            <a:xfrm>
              <a:off x="380880" y="2362320"/>
              <a:ext cx="8381880" cy="119700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1" name=""/>
          <p:cNvSpPr/>
          <p:nvPr/>
        </p:nvSpPr>
        <p:spPr>
          <a:xfrm>
            <a:off x="228600" y="3809880"/>
            <a:ext cx="86104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le Typ służy do identyfikacji typu komunikatu ICM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truktura adresów protokołu IPv4 </a:t>
            </a:r>
            <a:endParaRPr b="0" lang="en-US" sz="3200" spc="-1" strike="noStrike">
              <a:solidFill>
                <a:srgbClr val="000000"/>
              </a:solidFill>
              <a:latin typeface="Times New Roman"/>
            </a:endParaRPr>
          </a:p>
        </p:txBody>
      </p:sp>
      <p:sp>
        <p:nvSpPr>
          <p:cNvPr id="50"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28600" y="762120"/>
            <a:ext cx="86104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dres IP składa się z dwóch części:</a:t>
            </a:r>
            <a:endParaRPr b="0" lang="en-US" sz="2400" spc="-1" strike="noStrike">
              <a:solidFill>
                <a:srgbClr val="000000"/>
              </a:solidFill>
              <a:latin typeface="Times New Roman"/>
            </a:endParaRPr>
          </a:p>
          <a:p>
            <a:pPr>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ID sieci (adresu sieci),</a:t>
            </a:r>
            <a:endParaRPr b="0" lang="en-US" sz="2400" spc="-1" strike="noStrike">
              <a:solidFill>
                <a:srgbClr val="000000"/>
              </a:solidFill>
              <a:latin typeface="Times New Roman"/>
            </a:endParaRPr>
          </a:p>
          <a:p>
            <a:pPr>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ID hosta (adresu hos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ntique Olive"/>
              </a:rPr>
              <a:t>ID sieci (adres siec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Każda sieć IP musi posiadać unikatowy identyfikator, wspólny dla wszystkich hostów w danym segmencie. Ponieważ sieci widoczne w Internecie identyfikowane są przez swoje ID sieci, identyfikatory te muszą być unikatowe na skalę światową. Dwie sieci nie mogą posiadać tego samego ID. Identyfikator sieci możemy zarezerwować, kontaktując się z dostawcą usług internetowych (ISP) lub organizacją IANA (</a:t>
            </a:r>
            <a:r>
              <a:rPr b="0" i="1" lang="pl-PL" sz="2400" spc="-1" strike="noStrike">
                <a:solidFill>
                  <a:srgbClr val="000000"/>
                </a:solidFill>
                <a:latin typeface="Times New Roman"/>
                <a:ea typeface="Times New Roman"/>
              </a:rPr>
              <a:t>Internet Assig­ned Numbers Authority</a:t>
            </a:r>
            <a:r>
              <a:rPr b="0" lang="pl-PL" sz="2400" spc="-1" strike="noStrike">
                <a:solidFill>
                  <a:srgbClr val="000000"/>
                </a:solidFill>
                <a:latin typeface="Times New Roman"/>
                <a:ea typeface="Times New Roman"/>
              </a:rPr>
              <a:t>) — </a:t>
            </a:r>
            <a:r>
              <a:rPr b="0" i="1" lang="pl-PL" sz="2400" spc="-1" strike="noStrike">
                <a:solidFill>
                  <a:srgbClr val="000000"/>
                </a:solidFill>
                <a:latin typeface="Times New Roman"/>
                <a:ea typeface="Times New Roman"/>
              </a:rPr>
              <a:t>www.iana.org</a:t>
            </a:r>
            <a:r>
              <a:rPr b="0" lang="pl-PL" sz="2400" spc="-1" strike="noStrike">
                <a:solidFill>
                  <a:srgbClr val="000000"/>
                </a:solidFill>
                <a:latin typeface="Times New Roman"/>
                <a:ea typeface="Times New Roman"/>
              </a:rPr>
              <a:t>. Standardowe ID sieci mają długość 8, 16 lub 24 bitów.</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Typy i kody ICMP</a:t>
            </a:r>
            <a:endParaRPr b="0" lang="en-US" sz="3200" spc="-1" strike="noStrike">
              <a:solidFill>
                <a:srgbClr val="000000"/>
              </a:solidFill>
              <a:latin typeface="Times New Roman"/>
            </a:endParaRPr>
          </a:p>
        </p:txBody>
      </p:sp>
      <p:sp>
        <p:nvSpPr>
          <p:cNvPr id="493"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28600" y="1066680"/>
            <a:ext cx="861048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Pole kodu zawiera w razie potrzeby dodatkowe informacje o typie komunikatu:</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Żądanie echa</a:t>
            </a:r>
            <a:r>
              <a:rPr b="0" lang="pl-PL" sz="2000" spc="-1" strike="noStrike">
                <a:solidFill>
                  <a:srgbClr val="000000"/>
                </a:solidFill>
                <a:latin typeface="Times New Roman"/>
              </a:rPr>
              <a:t> — służy do sprawdzenia łączności pomiędzy dwoma hostami. Narzędzie ping wysyła żądania echa ICMP.</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Odpowiedź echa</a:t>
            </a:r>
            <a:r>
              <a:rPr b="0" lang="pl-PL" sz="2000" spc="-1" strike="noStrike">
                <a:solidFill>
                  <a:srgbClr val="000000"/>
                </a:solidFill>
                <a:latin typeface="Times New Roman"/>
              </a:rPr>
              <a:t> — odpowiedź na komunikat Żądanie ech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strzymaj przesyłanie danych</a:t>
            </a:r>
            <a:r>
              <a:rPr b="0" lang="pl-PL" sz="2000" spc="-1" strike="noStrike">
                <a:solidFill>
                  <a:srgbClr val="000000"/>
                </a:solidFill>
                <a:latin typeface="Times New Roman"/>
              </a:rPr>
              <a:t> — gdy ruter jest przeciążony ruchem z danego hosta, może do niego wysłać komunikat Wstrzymaj przesyłanie danych. Komunikat ten wskazuje na zagrożenie utratą danych z uwagi na zator w ruterz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Przekierowanie </a:t>
            </a:r>
            <a:r>
              <a:rPr b="0" lang="pl-PL" sz="2000" spc="-1" strike="noStrike">
                <a:solidFill>
                  <a:srgbClr val="000000"/>
                </a:solidFill>
                <a:latin typeface="Times New Roman"/>
              </a:rPr>
              <a:t>— gdy ruter zna lepszą trasę do miejsca przeznaczenia, wówczas może za pomocą komunikatu Przekierowanie poinformować hosty o tej trasi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Przekroczony czas</a:t>
            </a:r>
            <a:r>
              <a:rPr b="0" lang="pl-PL" sz="2000" spc="-1" strike="noStrike">
                <a:solidFill>
                  <a:srgbClr val="000000"/>
                </a:solidFill>
                <a:latin typeface="Times New Roman"/>
              </a:rPr>
              <a:t> — gdy ruter otrzymuje pakiet o TTL równym 0, może wysłać ten komunikat do hosta źródłoweg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Cel nieosiągalny</a:t>
            </a:r>
            <a:r>
              <a:rPr b="0" lang="pl-PL" sz="2000" spc="-1" strike="noStrike">
                <a:solidFill>
                  <a:srgbClr val="000000"/>
                </a:solidFill>
                <a:latin typeface="Times New Roman"/>
              </a:rPr>
              <a:t> — z różnych powodów może zaistnieć niemożliwość dostarczenia pakietu. Komunikat Cel nieosiągalny zawiera kody wskazujące na niektóre z powodów niemożności osiągnięcia przez pakiet miejsca przeznaczen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 </a:t>
            </a:r>
            <a:r>
              <a:rPr b="1" lang="en-US" sz="3200" spc="-1" strike="noStrike">
                <a:solidFill>
                  <a:srgbClr val="800000"/>
                </a:solidFill>
                <a:latin typeface="Times New Roman"/>
              </a:rPr>
              <a:t>Kody komunikatu Cel nieosiągalny</a:t>
            </a:r>
            <a:endParaRPr b="0" lang="en-US" sz="3200" spc="-1" strike="noStrike">
              <a:solidFill>
                <a:srgbClr val="000000"/>
              </a:solidFill>
              <a:latin typeface="Times New Roman"/>
            </a:endParaRPr>
          </a:p>
        </p:txBody>
      </p:sp>
      <p:sp>
        <p:nvSpPr>
          <p:cNvPr id="496"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97" name=""/>
          <p:cNvGraphicFramePr/>
          <p:nvPr/>
        </p:nvGraphicFramePr>
        <p:xfrm>
          <a:off x="457200" y="1219320"/>
          <a:ext cx="8458200" cy="4087800"/>
        </p:xfrm>
        <a:graphic>
          <a:graphicData uri="http://schemas.openxmlformats.org/presentationml/2006/ole">
            <p:oleObj progId="Word.Document.12" r:id="rId2" spid="">
              <p:embed/>
              <p:pic>
                <p:nvPicPr>
                  <p:cNvPr id="498" name="" descr=""/>
                  <p:cNvPicPr/>
                  <p:nvPr/>
                </p:nvPicPr>
                <p:blipFill>
                  <a:blip r:embed="rId3"/>
                  <a:stretch/>
                </p:blipFill>
                <p:spPr>
                  <a:xfrm>
                    <a:off x="457200" y="1219320"/>
                    <a:ext cx="8458200" cy="408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Narzędzia ICMP</a:t>
            </a:r>
            <a:endParaRPr b="0" lang="en-US" sz="3200" spc="-1" strike="noStrike">
              <a:solidFill>
                <a:srgbClr val="000000"/>
              </a:solidFill>
              <a:latin typeface="Times New Roman"/>
            </a:endParaRPr>
          </a:p>
        </p:txBody>
      </p:sp>
      <p:sp>
        <p:nvSpPr>
          <p:cNvPr id="500"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28600" y="1066680"/>
            <a:ext cx="86104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rzędzie PING (Packet InterNet Groper Utility) jest najlepiej znanym i powszechnie używanym narzędziem rozwiązywania problemów warstwy internetowej. PING używa komunikatów ICMP Echo i Odpowiedź echa do weryfikacji połączenia pomiędzy dwoma hostami IP. W rzeczywistości PING w powtarzający się sposób wysyła z hosta źródłowego do docelowego część alfabetu. W hoście docelowym ICMP odpowiada na żądanie echa pakietem Odpowiedź echa. Po dotarciu danych z powrotem do hosta źródłowego, wyświetlane są w nim różne informacje, na przykład o czasie, jaki zajęła podróż pakietu tam i z powro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Protokół IGMP</a:t>
            </a:r>
            <a:endParaRPr b="0" lang="en-US" sz="3200" spc="-1" strike="noStrike">
              <a:solidFill>
                <a:srgbClr val="000000"/>
              </a:solidFill>
              <a:latin typeface="Times New Roman"/>
            </a:endParaRPr>
          </a:p>
        </p:txBody>
      </p:sp>
      <p:sp>
        <p:nvSpPr>
          <p:cNvPr id="503"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28600" y="1066680"/>
            <a:ext cx="86104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IGMP </a:t>
            </a:r>
            <a:r>
              <a:rPr b="0" lang="pl-PL" sz="2400" spc="-1" strike="noStrike">
                <a:solidFill>
                  <a:srgbClr val="000000"/>
                </a:solidFill>
                <a:latin typeface="Times New Roman"/>
              </a:rPr>
              <a:t>jest protokołem warstwy internetowej, który umożliwia hostom (aplikacjom) przyłączać się do grupy multicast (adresowania grupowego) lub opuścić ją, zaś w niektórych przypadkach podaje źródło informacji grupowych. W ruterze IGMP pozwala śledzić, do których sieci trzeba wysyłać transmisje grupowe, na podstawie przynależności hostów do grup. Protokół IGMP jest opisany w RFC 111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Trasowanie</a:t>
            </a:r>
            <a:endParaRPr b="0" lang="en-US" sz="3200" spc="-1" strike="noStrike">
              <a:solidFill>
                <a:srgbClr val="000000"/>
              </a:solidFill>
              <a:latin typeface="Times New Roman"/>
            </a:endParaRPr>
          </a:p>
        </p:txBody>
      </p:sp>
      <p:sp>
        <p:nvSpPr>
          <p:cNvPr id="506"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28600" y="1066680"/>
            <a:ext cx="86104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Trasowanie (Routing)</a:t>
            </a:r>
            <a:r>
              <a:rPr b="0" lang="pl-PL" sz="2400" spc="-1" strike="noStrike">
                <a:solidFill>
                  <a:srgbClr val="000000"/>
                </a:solidFill>
                <a:latin typeface="Times New Roman"/>
              </a:rPr>
              <a:t> jest mechanizmem kierowania i przenoszenia informacji w intersieci, od stacji nadawczej (Source) do stacji odbiorczej (Destination).Na tej drodze informacja musi przejść przez co najmniej jeden element pośredniczący, którym może być most lub rou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 pierwszy rzut oka </a:t>
            </a:r>
            <a:r>
              <a:rPr b="1" lang="pl-PL" sz="2400" spc="-1" strike="noStrike">
                <a:solidFill>
                  <a:srgbClr val="000000"/>
                </a:solidFill>
                <a:latin typeface="Times New Roman"/>
              </a:rPr>
              <a:t>trasowanie</a:t>
            </a:r>
            <a:r>
              <a:rPr b="0" lang="pl-PL" sz="2400" spc="-1" strike="noStrike">
                <a:solidFill>
                  <a:srgbClr val="000000"/>
                </a:solidFill>
                <a:latin typeface="Times New Roman"/>
              </a:rPr>
              <a:t> i </a:t>
            </a:r>
            <a:r>
              <a:rPr b="1" lang="pl-PL" sz="2400" spc="-1" strike="noStrike">
                <a:solidFill>
                  <a:srgbClr val="000000"/>
                </a:solidFill>
                <a:latin typeface="Times New Roman"/>
              </a:rPr>
              <a:t>mostowanie</a:t>
            </a:r>
            <a:r>
              <a:rPr b="0" lang="pl-PL" sz="2400" spc="-1" strike="noStrike">
                <a:solidFill>
                  <a:srgbClr val="000000"/>
                </a:solidFill>
                <a:latin typeface="Times New Roman"/>
              </a:rPr>
              <a:t> to mechanizmy bardzo podobne. Tak jednak nie jest - różnią się one istotni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br>
              <a:rPr sz="2400"/>
            </a:br>
            <a:r>
              <a:rPr b="0" lang="pl-PL" sz="2400" spc="-1" strike="noStrike">
                <a:solidFill>
                  <a:srgbClr val="000000"/>
                </a:solidFill>
                <a:latin typeface="Times New Roman"/>
              </a:rPr>
              <a:t>Zasadnicza różnica polega na tym, że </a:t>
            </a:r>
            <a:r>
              <a:rPr b="1" lang="pl-PL" sz="2400" spc="-1" strike="noStrike">
                <a:solidFill>
                  <a:srgbClr val="000000"/>
                </a:solidFill>
                <a:latin typeface="Times New Roman"/>
              </a:rPr>
              <a:t>mostowanie</a:t>
            </a:r>
            <a:r>
              <a:rPr b="0" lang="pl-PL" sz="2400" spc="-1" strike="noStrike">
                <a:solidFill>
                  <a:srgbClr val="000000"/>
                </a:solidFill>
                <a:latin typeface="Times New Roman"/>
              </a:rPr>
              <a:t> realizowane jest w warstwie </a:t>
            </a:r>
            <a:r>
              <a:rPr b="1" lang="pl-PL" sz="2400" spc="-1" strike="noStrike">
                <a:solidFill>
                  <a:srgbClr val="000000"/>
                </a:solidFill>
                <a:latin typeface="Times New Roman"/>
              </a:rPr>
              <a:t>2 modelu OSI (warstwa Łącza danych), a trasowanie w warstwie 3 (Sieciowa).</a:t>
            </a:r>
            <a:r>
              <a:rPr b="0" lang="pl-PL" sz="2400" spc="-1" strike="noStrike">
                <a:solidFill>
                  <a:srgbClr val="000000"/>
                </a:solidFill>
                <a:latin typeface="Times New Roman"/>
              </a:rPr>
              <a:t> Mostowanie i trasowanie korzystają więc z różnych informacji w procesie przenoszenia danych od stacji nadawczej do stacji odbiorczej, a to sprawia, że ich funkcje są realizowane w różny sposó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1522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800000"/>
                </a:solidFill>
                <a:latin typeface="Times New Roman"/>
              </a:rPr>
              <a:t>MOSTOWANIE SRB (Source-Route Bridging)</a:t>
            </a:r>
            <a:endParaRPr b="0" lang="en-US" sz="3200" spc="-1" strike="noStrike">
              <a:solidFill>
                <a:srgbClr val="000000"/>
              </a:solidFill>
              <a:latin typeface="Times New Roman"/>
            </a:endParaRPr>
          </a:p>
        </p:txBody>
      </p:sp>
      <p:sp>
        <p:nvSpPr>
          <p:cNvPr id="509"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28600" y="1066680"/>
            <a:ext cx="861048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Algorytm SRB</a:t>
            </a:r>
            <a:r>
              <a:rPr b="0" lang="pl-PL" sz="2400" spc="-1" strike="noStrike">
                <a:solidFill>
                  <a:srgbClr val="000000"/>
                </a:solidFill>
                <a:latin typeface="Times New Roman"/>
              </a:rPr>
              <a:t> został opracowany przez IBM jako mechanizm mostowania między wszystkimi technologiami sieci LAN. Pomimo ukazania się nowego standardu SRT (Source Route Transparent) – SRB jest ciągle szeroko stosowan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zwa </a:t>
            </a:r>
            <a:r>
              <a:rPr b="1" lang="pl-PL" sz="2400" spc="-1" strike="noStrike">
                <a:solidFill>
                  <a:srgbClr val="000000"/>
                </a:solidFill>
                <a:latin typeface="Times New Roman"/>
              </a:rPr>
              <a:t>mostowania SRB</a:t>
            </a:r>
            <a:r>
              <a:rPr b="0" lang="pl-PL" sz="2400" spc="-1" strike="noStrike">
                <a:solidFill>
                  <a:srgbClr val="000000"/>
                </a:solidFill>
                <a:latin typeface="Times New Roman"/>
              </a:rPr>
              <a:t> wywodzi się od tego, że kompletna trasa między stacją nadawczą a odbiorczą (Source to Destination Route) jest umieszczana we wszystkich ramkach wysyłanych przez stację nadawczą. Algorytm SRB transportuje ramki stosownie do trasy pamiętanej w odpowiednim polu ramk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ałóżmy, że stacja A zamierza wysłać ramkę do stacji B. Początkowo stacja A nie wie, czy stacja odbiorcza B znajduje się w tej samej co A sieci czy innej sieci LAN. Aby się tego dowiedzieć A wysyła ramkę testową. Jeśli ramka ta powróci bez informacji, że stacja B widziała tą ramkę, to A zakłada że B znajduje się w innej sieci niż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1522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800000"/>
                </a:solidFill>
                <a:latin typeface="Times New Roman"/>
              </a:rPr>
              <a:t>MOSTOWANIE SRB (Source-Route Bridging)</a:t>
            </a:r>
            <a:endParaRPr b="0" lang="en-US" sz="3200" spc="-1" strike="noStrike">
              <a:solidFill>
                <a:srgbClr val="000000"/>
              </a:solidFill>
              <a:latin typeface="Times New Roman"/>
            </a:endParaRPr>
          </a:p>
        </p:txBody>
      </p:sp>
      <p:sp>
        <p:nvSpPr>
          <p:cNvPr id="512"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28600" y="1066680"/>
            <a:ext cx="86104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 celu precyzyjnego określenia zdalnej lokalizacji położenia stacji B, stacja A wysyła ramkę o nazwie eksplorator (Explorer). Każdy most przyjmując ramkę eksploratora (most 1 i most 4) kopiuje ją do swoich portów wyjściowych. Informacja trasowania jest dodawana do ramek eksploratora, w miarę jak przepływają one przez sieć.</a:t>
            </a:r>
            <a:br>
              <a:rPr sz="2400"/>
            </a:br>
            <a:r>
              <a:rPr b="0" lang="pl-PL" sz="2400" spc="-1" strike="noStrike">
                <a:solidFill>
                  <a:srgbClr val="000000"/>
                </a:solidFill>
                <a:latin typeface="Times New Roman"/>
              </a:rPr>
              <a:t>W momencie kiedy ramki eksploratora stacji A osiągną stację B, ta druga odpowiada na każdą z nich indywidualnie, używając zapisanej informacji o trasowani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 podstawie przyjęcia wszystkich ramek odpowiedzi stacja A wybiera ścieżkę opartą na pewnym, z góry przyjętym kryteriu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 przykładzie pokazanym na rysunku proces będzie przebiegał dwiema trasam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	</a:t>
            </a:r>
            <a:r>
              <a:rPr b="0" lang="pl-PL" sz="2400" spc="-1" strike="noStrike">
                <a:solidFill>
                  <a:srgbClr val="000000"/>
                </a:solidFill>
                <a:latin typeface="Times New Roman"/>
              </a:rPr>
              <a:t>LAN1 do Most1 do LAN2 do Most2 do LAN3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	</a:t>
            </a:r>
            <a:r>
              <a:rPr b="0" lang="pl-PL" sz="2400" spc="-1" strike="noStrike">
                <a:solidFill>
                  <a:srgbClr val="000000"/>
                </a:solidFill>
                <a:latin typeface="Times New Roman"/>
              </a:rPr>
              <a:t>LAN1 do Most4 do LAN4 do Most3 do LAN3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1522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800000"/>
                </a:solidFill>
                <a:latin typeface="Times New Roman"/>
              </a:rPr>
              <a:t>MOSTOWANIE SRB (Source-Route Bridging)</a:t>
            </a:r>
            <a:endParaRPr b="0" lang="en-US" sz="3200" spc="-1" strike="noStrike">
              <a:solidFill>
                <a:srgbClr val="000000"/>
              </a:solidFill>
              <a:latin typeface="Times New Roman"/>
            </a:endParaRPr>
          </a:p>
        </p:txBody>
      </p:sp>
      <p:sp>
        <p:nvSpPr>
          <p:cNvPr id="515"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28600" y="1066680"/>
            <a:ext cx="86104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przykładzie pokazanym na rysunku proces będzie przebiegał dwiema trasam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AN1 do Most1 do LAN2 do Most2 do LAN3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AN1 do Most4 do LAN4 do Most3 do LAN3 </a:t>
            </a:r>
            <a:endParaRPr b="0" lang="en-US" sz="2400" spc="-1" strike="noStrike">
              <a:solidFill>
                <a:srgbClr val="000000"/>
              </a:solidFill>
              <a:latin typeface="Times New Roman"/>
            </a:endParaRPr>
          </a:p>
        </p:txBody>
      </p:sp>
      <p:pic>
        <p:nvPicPr>
          <p:cNvPr id="517" name="" descr=""/>
          <p:cNvPicPr/>
          <p:nvPr/>
        </p:nvPicPr>
        <p:blipFill>
          <a:blip r:embed="rId2"/>
          <a:stretch/>
        </p:blipFill>
        <p:spPr>
          <a:xfrm>
            <a:off x="1219320" y="2666880"/>
            <a:ext cx="6248160" cy="4186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1522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MOSTOWANIE PRZEZROCZYSTE SRT</a:t>
            </a:r>
            <a:endParaRPr b="0" lang="en-US" sz="3200" spc="-1" strike="noStrike">
              <a:solidFill>
                <a:srgbClr val="000000"/>
              </a:solidFill>
              <a:latin typeface="Times New Roman"/>
            </a:endParaRPr>
          </a:p>
        </p:txBody>
      </p:sp>
      <p:sp>
        <p:nvSpPr>
          <p:cNvPr id="519"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28600" y="838080"/>
            <a:ext cx="861048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Mostowanie przezroczyste SRT (Source Route Transparen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zwa “most przezroczysty” wywodzi się stąd, że zarówno obecność mostu jak i jego działanie są "przezroczyste” dla stacji sieciowych, tzn. ramka po przejściu przez most nie podlega żadnym zmianom. Po włączeniu zasilania każdy most przezroczysty uczy się topologii sieci, analizując adresy stacji nadawczych, zapamiętanych </a:t>
            </a:r>
            <a:br>
              <a:rPr sz="2400"/>
            </a:br>
            <a:r>
              <a:rPr b="0" lang="pl-PL" sz="2400" spc="-1" strike="noStrike">
                <a:solidFill>
                  <a:srgbClr val="000000"/>
                </a:solidFill>
                <a:latin typeface="Times New Roman"/>
              </a:rPr>
              <a:t>w ramkach napływających ze wszystkich sieci podłączonych do tego most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osty przezroczyste istotnie zmniejszają ruch między segmentami sieci, co w konsekwencji redukuje ruch w każdym segmencie. Skraca to czas odpowiedzi sieci, co daje się zauważyć po stronie użytkownik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00"/>
                </a:solidFill>
                <a:latin typeface="Times New Roman"/>
              </a:rPr>
              <a:t>Most przezroczysty (Transparent Bridge) opracowano w firmie DEC (Digital Equipment Corporation) na początku lat 80-tych.</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Podstawowe funkcje trasowania</a:t>
            </a:r>
            <a:endParaRPr b="0" lang="en-US" sz="3200" spc="-1" strike="noStrike">
              <a:solidFill>
                <a:srgbClr val="000000"/>
              </a:solidFill>
              <a:latin typeface="Times New Roman"/>
            </a:endParaRPr>
          </a:p>
        </p:txBody>
      </p:sp>
      <p:sp>
        <p:nvSpPr>
          <p:cNvPr id="522"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28600" y="106668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 trasowania można sprowadzić do dwóch zasadniczych funkcji: </a:t>
            </a:r>
            <a:endParaRPr b="0" lang="en-US" sz="2400" spc="-1" strike="noStrike">
              <a:solidFill>
                <a:srgbClr val="000000"/>
              </a:solidFill>
              <a:latin typeface="Times New Roman"/>
            </a:endParaRPr>
          </a:p>
        </p:txBody>
      </p:sp>
      <p:sp>
        <p:nvSpPr>
          <p:cNvPr id="524" name=""/>
          <p:cNvSpPr/>
          <p:nvPr/>
        </p:nvSpPr>
        <p:spPr>
          <a:xfrm>
            <a:off x="152280" y="2057400"/>
            <a:ext cx="8610840" cy="4117320"/>
          </a:xfrm>
          <a:prstGeom prst="rect">
            <a:avLst/>
          </a:prstGeom>
          <a:noFill/>
          <a:ln w="0">
            <a:noFill/>
          </a:ln>
        </p:spPr>
        <p:style>
          <a:lnRef idx="0"/>
          <a:fillRef idx="0"/>
          <a:effectRef idx="0"/>
          <a:fontRef idx="minor"/>
        </p:style>
        <p:txBody>
          <a:bodyPr lIns="90000" rIns="90000" tIns="46800" bIns="46800" anchor="t">
            <a:spAutoFit/>
          </a:bodyPr>
          <a:p>
            <a:pPr marL="387360" indent="-387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oces trasowania można sprowadzić do dwóch zasadniczych funkcji: </a:t>
            </a:r>
            <a:endParaRPr b="0" lang="en-US" sz="2400" spc="-1" strike="noStrike">
              <a:solidFill>
                <a:srgbClr val="000000"/>
              </a:solidFill>
              <a:latin typeface="Times New Roman"/>
            </a:endParaRPr>
          </a:p>
          <a:p>
            <a:pPr marL="387360" indent="-387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yznaczenie optymalnych tras (ścieżek) między stacją nadawczą i stacją odbiorczą. </a:t>
            </a:r>
            <a:br>
              <a:rPr sz="2400"/>
            </a:b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marL="387360" indent="-387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ort grup informacji (pakietów) przez intersieć, często nazywany przełączaniem. </a:t>
            </a:r>
            <a:endParaRPr b="0" lang="en-US" sz="2400" spc="-1" strike="noStrike">
              <a:solidFill>
                <a:srgbClr val="000000"/>
              </a:solidFill>
              <a:latin typeface="Times New Roman"/>
            </a:endParaRPr>
          </a:p>
          <a:p>
            <a:pPr marL="387360" indent="-387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yznaczanie trasy należy do zadań trudnych, a przełączanie pakietów jest stosunkowo pros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truktura adresów protokołu IPv4 </a:t>
            </a:r>
            <a:endParaRPr b="0" lang="en-US" sz="3200" spc="-1" strike="noStrike">
              <a:solidFill>
                <a:srgbClr val="000000"/>
              </a:solidFill>
              <a:latin typeface="Times New Roman"/>
            </a:endParaRPr>
          </a:p>
        </p:txBody>
      </p:sp>
      <p:sp>
        <p:nvSpPr>
          <p:cNvPr id="53"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28600" y="762120"/>
            <a:ext cx="86104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ntique Olive"/>
              </a:rPr>
              <a:t>ID hos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ntique Olive"/>
                <a:ea typeface="Times New Roman"/>
              </a:rPr>
              <a:t>ID hosta służy do opisania każdego urządzenia w sieci i musi być unikatowy w obrębie sieci.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ntique Olive"/>
                <a:ea typeface="Times New Roman"/>
              </a:rPr>
              <a:t>Dwa hosty w jednej sieci nie mogą posiadać tego samego identyfikatora host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ntique Olive"/>
                <a:ea typeface="Times New Roman"/>
              </a:rPr>
              <a:t>W każdej sieci zarezerwowane są dwa specjalne adresy; jednym z nich jest </a:t>
            </a:r>
            <a:r>
              <a:rPr b="1" lang="pl-PL" sz="2400" spc="-1" strike="noStrike">
                <a:solidFill>
                  <a:srgbClr val="000000"/>
                </a:solidFill>
                <a:latin typeface="Antique Olive"/>
                <a:ea typeface="Times New Roman"/>
              </a:rPr>
              <a:t>adres rozgłoszeniowy podsieci</a:t>
            </a:r>
            <a:r>
              <a:rPr b="0" lang="pl-PL" sz="2400" spc="-1" strike="noStrike">
                <a:solidFill>
                  <a:srgbClr val="000000"/>
                </a:solidFill>
                <a:latin typeface="Antique Olive"/>
                <a:ea typeface="Times New Roman"/>
              </a:rPr>
              <a:t>, którego ID hosta w zapisie dwójkowym składa się z samych jedynek. Adres ten może służyć do równoczesnego wysłania informacji do wszystkich hostów w sieci. Drugim jest </a:t>
            </a:r>
            <a:r>
              <a:rPr b="1" lang="pl-PL" sz="2400" spc="-1" strike="noStrike">
                <a:solidFill>
                  <a:srgbClr val="000000"/>
                </a:solidFill>
                <a:latin typeface="Antique Olive"/>
                <a:ea typeface="Times New Roman"/>
              </a:rPr>
              <a:t>adres lokalny</a:t>
            </a:r>
            <a:r>
              <a:rPr b="0" lang="pl-PL" sz="2400" spc="-1" strike="noStrike">
                <a:solidFill>
                  <a:srgbClr val="000000"/>
                </a:solidFill>
                <a:latin typeface="Antique Olive"/>
                <a:ea typeface="Times New Roman"/>
              </a:rPr>
              <a:t>, który nie podlega trasowaniu, lecz identyfikuje go ID hosta składający się z samych zer, również w zapisie dwójkowym. Wobec tego ID hosta mogą stanowić dowolne kombinacje wartości dwójkowych, z wyjątkiem samych jedynek i samych zer. Długość standardowego ID hosta wynosi od 8 do 24 bitó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Podstawowe funkcje trasowania</a:t>
            </a:r>
            <a:endParaRPr b="0" lang="en-US" sz="3200" spc="-1" strike="noStrike">
              <a:solidFill>
                <a:srgbClr val="000000"/>
              </a:solidFill>
              <a:latin typeface="Times New Roman"/>
            </a:endParaRPr>
          </a:p>
        </p:txBody>
      </p:sp>
      <p:sp>
        <p:nvSpPr>
          <p:cNvPr id="526"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28600" y="762120"/>
            <a:ext cx="8610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Wyznaczanie optymalnej tras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y określaniu optymalnej trasy algorytmy trasowania używają standardowej miary trasowania, np. długości ścieżk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y określaniu optymalnej trasy między stacją nadawczą a stacją odbiorczą algorytmy trasowania tworzą tablice trasowania (Routing Tables), przechowujące informacje o trasach przesyłania pakietów. Informacje o trasach są różne, zależnie od stosowanego algorytmu routingu. </a:t>
            </a:r>
            <a:endParaRPr b="0" lang="en-US" sz="2400" spc="-1" strike="noStrike">
              <a:solidFill>
                <a:srgbClr val="000000"/>
              </a:solidFill>
              <a:latin typeface="Times New Roman"/>
            </a:endParaRPr>
          </a:p>
        </p:txBody>
      </p:sp>
      <p:pic>
        <p:nvPicPr>
          <p:cNvPr id="528" name="20" descr=""/>
          <p:cNvPicPr/>
          <p:nvPr/>
        </p:nvPicPr>
        <p:blipFill>
          <a:blip r:embed="rId2"/>
          <a:stretch/>
        </p:blipFill>
        <p:spPr>
          <a:xfrm>
            <a:off x="4191120" y="3456000"/>
            <a:ext cx="4343400" cy="3402000"/>
          </a:xfrm>
          <a:prstGeom prst="rect">
            <a:avLst/>
          </a:prstGeom>
          <a:ln w="0">
            <a:noFill/>
          </a:ln>
        </p:spPr>
      </p:pic>
      <p:sp>
        <p:nvSpPr>
          <p:cNvPr id="529" name=""/>
          <p:cNvSpPr/>
          <p:nvPr/>
        </p:nvSpPr>
        <p:spPr>
          <a:xfrm>
            <a:off x="1674360" y="403848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ica trasowan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Podstawowe funkcje trasowania</a:t>
            </a:r>
            <a:endParaRPr b="0" lang="en-US" sz="3200" spc="-1" strike="noStrike">
              <a:solidFill>
                <a:srgbClr val="000000"/>
              </a:solidFill>
              <a:latin typeface="Times New Roman"/>
            </a:endParaRPr>
          </a:p>
        </p:txBody>
      </p:sp>
      <p:sp>
        <p:nvSpPr>
          <p:cNvPr id="531"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28600" y="762120"/>
            <a:ext cx="8610480" cy="600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Istotny jest związek stacja odbiorcza/następny skok, informujący router o tym, że do określonej stacji odbiorczej można optymalnie dotrzeć wysyłając pakiet do routera reprezentującego następny skok. W sytuacji gdy router odbiera przychodzący pakiet, sprawdza adres stacji odbiorczej i usiłuje skojarzyć ten adres z następnym skokiem. Tablice trasowania mogą zawierać także inne informacje, takie jak zalety trasy. Routery porównują miary tras w celu wyboru trasy optymalnej.</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2200" spc="-1" strike="noStrike">
                <a:solidFill>
                  <a:srgbClr val="000000"/>
                </a:solidFill>
                <a:latin typeface="Times New Roman"/>
              </a:rPr>
              <a:t>Routery komunikują się między sobą i pamiętają zawartości swoich tablic trasowania w czasie transmisji różnych komunikatów. Jednym z nich jest komunikat aktualizacji trasowania (Routing Update), składający się w całości lub w części z zawartości tablicy trasowania. Dany router - na podstawie analizy komunikatów aktualizacji trasowania, pochodzących od wszystkich pozostałych routerów - może budować szczegółowy obraz topologii sieci. Innym komunikatem, przesyłanym między routerami, jest stan łącza (Link-State Advertisement). Również ten komunikat może być użyty do budowy kompletnej topologii sieci po to, by umożliwić routerom określenie optymalnych tras między stacjami nadawczymi a odbiorczymi.</a:t>
            </a:r>
            <a:r>
              <a:rPr b="1" lang="pl-P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Podstawowe funkcje trasowania</a:t>
            </a:r>
            <a:endParaRPr b="0" lang="en-US" sz="3200" spc="-1" strike="noStrike">
              <a:solidFill>
                <a:srgbClr val="000000"/>
              </a:solidFill>
              <a:latin typeface="Times New Roman"/>
            </a:endParaRPr>
          </a:p>
        </p:txBody>
      </p:sp>
      <p:sp>
        <p:nvSpPr>
          <p:cNvPr id="534"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28600" y="762120"/>
            <a:ext cx="86104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rzełączanie</a:t>
            </a:r>
            <a:r>
              <a:rPr b="0" lang="pl-PL" sz="2400" spc="-1" strike="noStrike">
                <a:solidFill>
                  <a:srgbClr val="000000"/>
                </a:solidFill>
                <a:latin typeface="Times New Roman"/>
              </a:rPr>
              <a:t> - algorytmy przełączania to mechanizmy stosunkowo proste i są w zasadzie takie same dla większości protokołów trasowania. W większości wypadków stacja nadawcza decyduje o wysłaniu pakietu do stacji odbiorczej. Stacja nadawcza, dysponując adresem routera, wysyła pakiet pod jego fizyczny adres MAC (Media Access Control) wraz z adresem logicznym (np. protokołu IP - warstwa Sieciowa) stacji odbiorcze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l-PL" sz="2400" spc="-1" strike="noStrike">
                <a:solidFill>
                  <a:srgbClr val="000000"/>
                </a:solidFill>
                <a:latin typeface="Times New Roman"/>
              </a:rPr>
              <a:t>Po otrzymaniu pakietu router stwierdza, czy potrafi transportować pakiet do następnego hop. Jeśli router nie może tego zrobić, to zwykle pakiet zostaje stracony. Jeśli router wie, jak transportować pakiet, to zmienia fizyczny adres, tak by osiągnąć następny </a:t>
            </a:r>
            <a:r>
              <a:rPr b="1" lang="pl-PL" sz="2400" spc="-1" strike="noStrike">
                <a:solidFill>
                  <a:srgbClr val="000000"/>
                </a:solidFill>
                <a:latin typeface="Times New Roman"/>
              </a:rPr>
              <a:t>hop</a:t>
            </a:r>
            <a:r>
              <a:rPr b="0" lang="pl-PL" sz="2400" spc="-1" strike="noStrike">
                <a:solidFill>
                  <a:srgbClr val="000000"/>
                </a:solidFill>
                <a:latin typeface="Times New Roman"/>
              </a:rPr>
              <a:t>, po czym transmituje paki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Podstawowe funkcje trasowania</a:t>
            </a:r>
            <a:endParaRPr b="0" lang="en-US" sz="3200" spc="-1" strike="noStrike">
              <a:solidFill>
                <a:srgbClr val="000000"/>
              </a:solidFill>
              <a:latin typeface="Times New Roman"/>
            </a:endParaRPr>
          </a:p>
        </p:txBody>
      </p:sp>
      <p:sp>
        <p:nvSpPr>
          <p:cNvPr id="537"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28600" y="762120"/>
            <a:ext cx="8610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Hop</a:t>
            </a:r>
            <a:r>
              <a:rPr b="0" lang="pl-PL" sz="2400" spc="-1" strike="noStrike">
                <a:solidFill>
                  <a:srgbClr val="000000"/>
                </a:solidFill>
                <a:latin typeface="Times New Roman"/>
              </a:rPr>
              <a:t> - termin opisujący przemieszczanie pakietu danych między dwoma routerami.</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Hop count</a:t>
            </a:r>
            <a:r>
              <a:rPr b="0" lang="pl-PL" sz="2400" spc="-1" strike="noStrike">
                <a:solidFill>
                  <a:srgbClr val="000000"/>
                </a:solidFill>
                <a:latin typeface="Times New Roman"/>
              </a:rPr>
              <a:t> - miara trasowania używana do pomiaru odległości między stacją nadawczą i odbiorczą. W szczególnym przypadku następny hop może być stacją odbiorczą. Jeśli tak nie jest, to znaczy, że następnym hop jest router, który realizuje proces decyzyjny. W miarę jak pakiet przesuwa się w sieci, jego adres fizyczny zmienia się, natomiast jego adres logiczny nie ulega zmian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Podstawowe funkcje trasowania</a:t>
            </a:r>
            <a:endParaRPr b="0" lang="en-US" sz="3200" spc="-1" strike="noStrike">
              <a:solidFill>
                <a:srgbClr val="000000"/>
              </a:solidFill>
              <a:latin typeface="Times New Roman"/>
            </a:endParaRPr>
          </a:p>
        </p:txBody>
      </p:sp>
      <p:sp>
        <p:nvSpPr>
          <p:cNvPr id="540"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28600" y="838080"/>
            <a:ext cx="3200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sa pakietu od stacji nadawczej do stacji odbiorczej</a:t>
            </a:r>
            <a:r>
              <a:rPr b="1" lang="en-US" sz="2400" spc="-1" strike="noStrike">
                <a:solidFill>
                  <a:srgbClr val="000000"/>
                </a:solidFill>
                <a:latin typeface="Arial"/>
              </a:rPr>
              <a:t>.</a:t>
            </a:r>
            <a:r>
              <a:rPr b="0" lang="en-US"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p:txBody>
      </p:sp>
      <p:pic>
        <p:nvPicPr>
          <p:cNvPr id="542" name="21" descr=""/>
          <p:cNvPicPr/>
          <p:nvPr/>
        </p:nvPicPr>
        <p:blipFill>
          <a:blip r:embed="rId2"/>
          <a:stretch/>
        </p:blipFill>
        <p:spPr>
          <a:xfrm>
            <a:off x="3578400" y="762120"/>
            <a:ext cx="5565600" cy="6095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44"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28600" y="762120"/>
            <a:ext cx="8610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Algorytmy trasowania</a:t>
            </a:r>
            <a:r>
              <a:rPr b="0" lang="pl-PL" sz="2400" spc="-1" strike="noStrike">
                <a:solidFill>
                  <a:srgbClr val="000000"/>
                </a:solidFill>
                <a:latin typeface="Times New Roman"/>
              </a:rPr>
              <a:t> są różne pod względem wielu parametrów. </a:t>
            </a:r>
            <a:br>
              <a:rPr sz="2400"/>
            </a:br>
            <a:r>
              <a:rPr b="0" lang="pl-PL" sz="2400" spc="-1" strike="noStrike">
                <a:solidFill>
                  <a:srgbClr val="000000"/>
                </a:solidFill>
                <a:latin typeface="Times New Roman"/>
              </a:rPr>
              <a:t>Po pierwsze - zróżnicowanie zależy od celów określonych przez konstrukcję algorytm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 drugie - istnieją różne typy algorytmów trasowania i każdy z nich ma inny wpływ na sieć i zasoby routeró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reszcie po trzecie - algorytmy trasowania używają różnych miar mających wpływ na obliczenie trasy optymalne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l-PL" sz="2400" spc="-1" strike="noStrike">
                <a:solidFill>
                  <a:srgbClr val="000000"/>
                </a:solidFill>
                <a:latin typeface="Times New Roman"/>
              </a:rPr>
              <a:t>Konstrukcje algorytmów trasowania spełniają jeden lub więcej celów spośród następującego zbioru możliwości: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optymalizacja,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prostota,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odporność i stabilność,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szybka konwergencja,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elastycznoś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47"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28600" y="762120"/>
            <a:ext cx="8610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ymalizacja</a:t>
            </a:r>
            <a:r>
              <a:rPr b="0" lang="en-US" sz="2400" spc="-1" strike="noStrike">
                <a:solidFill>
                  <a:srgbClr val="000000"/>
                </a:solidFill>
                <a:latin typeface="Times New Roman"/>
              </a:rPr>
              <a:t> odnosi się do możliwości algorytmu trasowania co do wyboru najlepszej trasy, a to zależy od przyjętej do obliczeń miary trasowania i wagi przypisanej poszczególnym miarom. Na przykład jeden algorytm może używać liczby hop i opóźnień, ale w kalkulacjach waga związana z opóźnieniami może być większa. Oczywiście protokoły trasowania muszą dokładnie definiować algorytmy kalkulacji mi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u="sng">
                <a:solidFill>
                  <a:srgbClr val="000000"/>
                </a:solidFill>
                <a:uFillTx/>
                <a:latin typeface="Times New Roman"/>
              </a:rPr>
              <a:t>Algorytmy trasowania powinny być zaprojektowane tak, by były możliwie najprostsze</a:t>
            </a:r>
            <a:r>
              <a:rPr b="0" lang="en-US" sz="2400" spc="-1" strike="noStrike">
                <a:solidFill>
                  <a:srgbClr val="000000"/>
                </a:solidFill>
                <a:latin typeface="Times New Roman"/>
              </a:rPr>
              <a:t>. Inaczej mówiąc, algorytm trasowania musi mieć bardzo efektywnie zaprojektowaną warstwę funkcjonalną przy minimalnych nakładach na oprogramowanie i eksploatację. </a:t>
            </a:r>
            <a:r>
              <a:rPr b="1" lang="en-US" sz="2400" spc="-1" strike="noStrike">
                <a:solidFill>
                  <a:srgbClr val="000000"/>
                </a:solidFill>
                <a:latin typeface="Times New Roman"/>
              </a:rPr>
              <a:t>Efektywność</a:t>
            </a:r>
            <a:r>
              <a:rPr b="0" lang="en-US" sz="2400" spc="-1" strike="noStrike">
                <a:solidFill>
                  <a:srgbClr val="000000"/>
                </a:solidFill>
                <a:latin typeface="Times New Roman"/>
              </a:rPr>
              <a:t> jest szczególnie ważna w sytuacji, gdy oprogramowanie algorytmu trasowania musi działać na komputerze z ograniczonymi zasobami sprzętowy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50"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28600" y="762120"/>
            <a:ext cx="861048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u="sng">
                <a:solidFill>
                  <a:srgbClr val="000000"/>
                </a:solidFill>
                <a:uFillTx/>
                <a:latin typeface="Times New Roman"/>
              </a:rPr>
              <a:t>Algorytmy trasowania muszą być odporne i stabilne</a:t>
            </a:r>
            <a:r>
              <a:rPr b="0" lang="pl-PL" sz="2200" spc="-1" strike="noStrike">
                <a:solidFill>
                  <a:srgbClr val="000000"/>
                </a:solidFill>
                <a:latin typeface="Times New Roman"/>
              </a:rPr>
              <a:t>, co oznacza ich poprawne działanie nawet w niezwykłych okolicznościach i trudnych do przewidzenia warunkach, np. przy uszkodzeniach sprzętu czy niewłaściwej eksploatacji. Routery pracujące w punktach stykowych sieci mogą powodować poważne kłopoty w razie uszkodzenia. </a:t>
            </a:r>
            <a:r>
              <a:rPr b="0" lang="pl-PL" sz="2200" spc="-1" strike="noStrike" u="sng">
                <a:solidFill>
                  <a:srgbClr val="000000"/>
                </a:solidFill>
                <a:uFillTx/>
                <a:latin typeface="Times New Roman"/>
              </a:rPr>
              <a:t>Dlatego najlepszymi algorytmami trasowania okazują się te, które wytrzymały próbę czasu </a:t>
            </a:r>
            <a:br>
              <a:rPr sz="2200"/>
            </a:br>
            <a:r>
              <a:rPr b="0" lang="pl-PL" sz="2200" spc="-1" strike="noStrike" u="sng">
                <a:solidFill>
                  <a:srgbClr val="000000"/>
                </a:solidFill>
                <a:uFillTx/>
                <a:latin typeface="Times New Roman"/>
              </a:rPr>
              <a:t>i okazały się stabilne w różnych warunkach pracy sieci</a:t>
            </a:r>
            <a:r>
              <a:rPr b="0" lang="pl-PL"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pl-PL" sz="2200" spc="-1" strike="noStrike" u="sng">
                <a:solidFill>
                  <a:srgbClr val="000000"/>
                </a:solidFill>
                <a:uFillTx/>
                <a:latin typeface="Times New Roman"/>
              </a:rPr>
              <a:t>Ponadto algorytmy trasowania muszą charakteryzować się krótkim czasem konwergencji</a:t>
            </a:r>
            <a:r>
              <a:rPr b="0" lang="pl-PL" sz="2200" spc="-1" strike="noStrike">
                <a:solidFill>
                  <a:srgbClr val="000000"/>
                </a:solidFill>
                <a:latin typeface="Times New Roman"/>
              </a:rPr>
              <a:t>. Konwergencja jest procesem uzgadniania optymalnych tras między wszystkimi routerami w sieci. Jeśli wydarzenia w sieci powodują naprzemian zanikanie lub dostępność tras, to routery obwieszczają ten fakt rozgłaszając komunikaty aktualizujące, przenikające całą sieć, stymulujące ponowną kalkulację optymalnych tras i uzgodnienie tych tras. Algorytmy </a:t>
            </a:r>
            <a:br>
              <a:rPr sz="2200"/>
            </a:br>
            <a:r>
              <a:rPr b="0" lang="pl-PL" sz="2200" spc="-1" strike="noStrike">
                <a:solidFill>
                  <a:srgbClr val="000000"/>
                </a:solidFill>
                <a:latin typeface="Times New Roman"/>
              </a:rPr>
              <a:t>o długim czasie konwergencji mogą powodować powstawanie pętli trasowania, a nawet zaniki pracy siec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53"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28600" y="762120"/>
            <a:ext cx="861048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u="sng">
                <a:solidFill>
                  <a:srgbClr val="000000"/>
                </a:solidFill>
                <a:uFillTx/>
                <a:latin typeface="Times New Roman"/>
              </a:rPr>
              <a:t>Algorytmy trasowania powinny być ponadto elastyczne</a:t>
            </a:r>
            <a:r>
              <a:rPr b="0" lang="pl-PL" sz="2200" spc="-1" strike="noStrike">
                <a:solidFill>
                  <a:srgbClr val="000000"/>
                </a:solidFill>
                <a:latin typeface="Times New Roman"/>
              </a:rPr>
              <a:t>, co oznacza, iż powinny szybko i dokładnie dostosowywać się do różnorodnych okoliczności występujących w sieci. Jeśli np. segment sieci ulega uszkodzeniu, to algorytmy trasowania powinny szybko określić następną optymalną trasę dla wszystkich routerów normalnie obsługujących omawiany segment. Algorytmy trasowania mogą być tak programowane, by adaptować m.in. zmiany w szerokości pasma, rozmiarze kolejki routerów i opóźnieniu wprowadzanemu przez sieć.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a:rPr>
              <a:t>Rozróżnia się następujące typy algorytmów trasowania: </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 </a:t>
            </a:r>
            <a:r>
              <a:rPr b="0" lang="pl-PL" sz="2200" spc="-1" strike="noStrike">
                <a:solidFill>
                  <a:srgbClr val="000000"/>
                </a:solidFill>
                <a:latin typeface="Times New Roman"/>
              </a:rPr>
              <a:t>statyczne i dynamiczne, </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  </a:t>
            </a:r>
            <a:r>
              <a:rPr b="0" lang="pl-PL" sz="2200" spc="-1" strike="noStrike">
                <a:solidFill>
                  <a:srgbClr val="000000"/>
                </a:solidFill>
                <a:latin typeface="Times New Roman"/>
              </a:rPr>
              <a:t>jednościeżkowe i wielościeżkowe, </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  </a:t>
            </a:r>
            <a:r>
              <a:rPr b="0" lang="pl-PL" sz="2200" spc="-1" strike="noStrike">
                <a:solidFill>
                  <a:srgbClr val="000000"/>
                </a:solidFill>
                <a:latin typeface="Times New Roman"/>
              </a:rPr>
              <a:t>płaskie i hierarchiczne, </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  </a:t>
            </a:r>
            <a:r>
              <a:rPr b="0" lang="pl-PL" sz="2200" spc="-1" strike="noStrike">
                <a:solidFill>
                  <a:srgbClr val="000000"/>
                </a:solidFill>
                <a:latin typeface="Times New Roman"/>
              </a:rPr>
              <a:t>z inteligencją stacji i z inteligencją routera, </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  </a:t>
            </a:r>
            <a:r>
              <a:rPr b="0" lang="pl-PL" sz="2200" spc="-1" strike="noStrike">
                <a:solidFill>
                  <a:srgbClr val="000000"/>
                </a:solidFill>
                <a:latin typeface="Times New Roman"/>
              </a:rPr>
              <a:t>intradomenowe i interdomenowe,</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  </a:t>
            </a:r>
            <a:r>
              <a:rPr b="0" lang="pl-PL" sz="2200" spc="-1" strike="noStrike">
                <a:solidFill>
                  <a:srgbClr val="000000"/>
                </a:solidFill>
                <a:latin typeface="Times New Roman"/>
              </a:rPr>
              <a:t>działające według stanu łącza i na podstawie wektora odległości.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56"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28600" y="762120"/>
            <a:ext cx="861048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a:rPr>
              <a:t>Statyczne i dynamiczne algorytmy trasowani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Przed rozpoczęciem trasowania statyczne algorytmy wymagają od administratora sieci wpisywania zawartości tabel routerów, będących odwzorowaniem topologii sieci. Odwzorowania te mogą być zmienione również tylko przez administratora sieci. Algorytmy używające statycznych routerów są stosukowo proste w swojej konstrukcji i pracują poprawnie w sieciach małych o prostej architekturze. Numery IP lub ich grupy przypisane są do określonych interfejsów sieciowych.</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pl-PL" sz="2200" spc="-1" strike="noStrike">
                <a:solidFill>
                  <a:srgbClr val="000000"/>
                </a:solidFill>
                <a:latin typeface="Times New Roman"/>
              </a:rPr>
              <a:t>Ponieważ statyczne systemy trasowania nie mogą reagować na zmiany w sieci, to generalnie nie są one przydatne do stosowania w sieciach dużych, gdzie zmiany następują praktycznie ciągle. Dlatego większość obecnie stosowanych algorytmów trasowania to algorytmy dynamiczne, dostosowujące się do zmiennych warunków występujących w sieci, na drodze analizy aktualizujących komunikatów trasowania. W wypadku, gdy aktualizujący komunikat trasowania wskazuje, że w sieci wystąpiły zmiany, oprogramowanie trasujące ponownie oblicza trasy i wysyła do routerów nowe komunikaty aktualizują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truktura adresów protokołu IPv4 </a:t>
            </a:r>
            <a:endParaRPr b="0" lang="en-US" sz="3200" spc="-1" strike="noStrike">
              <a:solidFill>
                <a:srgbClr val="000000"/>
              </a:solidFill>
              <a:latin typeface="Times New Roman"/>
            </a:endParaRPr>
          </a:p>
        </p:txBody>
      </p:sp>
      <p:sp>
        <p:nvSpPr>
          <p:cNvPr id="56"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685800" y="1219320"/>
            <a:ext cx="7772040" cy="4572000"/>
            <a:chOff x="685800" y="1219320"/>
            <a:chExt cx="7772040" cy="4572000"/>
          </a:xfrm>
        </p:grpSpPr>
        <p:grpSp>
          <p:nvGrpSpPr>
            <p:cNvPr id="58" name=""/>
            <p:cNvGrpSpPr/>
            <p:nvPr/>
          </p:nvGrpSpPr>
          <p:grpSpPr>
            <a:xfrm>
              <a:off x="691200" y="1222920"/>
              <a:ext cx="7760520" cy="4564440"/>
              <a:chOff x="691200" y="1222920"/>
              <a:chExt cx="7760520" cy="4564440"/>
            </a:xfrm>
          </p:grpSpPr>
          <p:grpSp>
            <p:nvGrpSpPr>
              <p:cNvPr id="59" name=""/>
              <p:cNvGrpSpPr/>
              <p:nvPr/>
            </p:nvGrpSpPr>
            <p:grpSpPr>
              <a:xfrm>
                <a:off x="691200" y="1222920"/>
                <a:ext cx="1059480" cy="710280"/>
                <a:chOff x="691200" y="1222920"/>
                <a:chExt cx="1059480" cy="710280"/>
              </a:xfrm>
            </p:grpSpPr>
            <p:sp>
              <p:nvSpPr>
                <p:cNvPr id="60" name=""/>
                <p:cNvSpPr/>
                <p:nvPr/>
              </p:nvSpPr>
              <p:spPr>
                <a:xfrm>
                  <a:off x="691200" y="1222920"/>
                  <a:ext cx="1059480" cy="710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691200" y="1222920"/>
                  <a:ext cx="1059120" cy="710280"/>
                  <a:chOff x="691200" y="1222920"/>
                  <a:chExt cx="1059120" cy="710280"/>
                </a:xfrm>
              </p:grpSpPr>
              <p:sp>
                <p:nvSpPr>
                  <p:cNvPr id="62" name=""/>
                  <p:cNvSpPr/>
                  <p:nvPr/>
                </p:nvSpPr>
                <p:spPr>
                  <a:xfrm>
                    <a:off x="743400" y="1222920"/>
                    <a:ext cx="954360" cy="710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las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 name=""/>
                  <p:cNvSpPr/>
                  <p:nvPr/>
                </p:nvSpPr>
                <p:spPr>
                  <a:xfrm>
                    <a:off x="691200" y="1222920"/>
                    <a:ext cx="1059120" cy="71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 name=""/>
              <p:cNvGrpSpPr/>
              <p:nvPr/>
            </p:nvGrpSpPr>
            <p:grpSpPr>
              <a:xfrm>
                <a:off x="1751040" y="1222920"/>
                <a:ext cx="2033280" cy="710280"/>
                <a:chOff x="1751040" y="1222920"/>
                <a:chExt cx="2033280" cy="710280"/>
              </a:xfrm>
            </p:grpSpPr>
            <p:sp>
              <p:nvSpPr>
                <p:cNvPr id="65" name=""/>
                <p:cNvSpPr/>
                <p:nvPr/>
              </p:nvSpPr>
              <p:spPr>
                <a:xfrm>
                  <a:off x="1751040" y="1222920"/>
                  <a:ext cx="2033280" cy="710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1751040" y="1222920"/>
                  <a:ext cx="2032920" cy="710280"/>
                  <a:chOff x="1751040" y="1222920"/>
                  <a:chExt cx="2032920" cy="710280"/>
                </a:xfrm>
              </p:grpSpPr>
              <p:sp>
                <p:nvSpPr>
                  <p:cNvPr id="67" name=""/>
                  <p:cNvSpPr/>
                  <p:nvPr/>
                </p:nvSpPr>
                <p:spPr>
                  <a:xfrm>
                    <a:off x="1803240" y="1222920"/>
                    <a:ext cx="1928160" cy="710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erwsze bit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 name=""/>
                  <p:cNvSpPr/>
                  <p:nvPr/>
                </p:nvSpPr>
                <p:spPr>
                  <a:xfrm>
                    <a:off x="1751040" y="1222920"/>
                    <a:ext cx="2032920" cy="71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 name=""/>
              <p:cNvGrpSpPr/>
              <p:nvPr/>
            </p:nvGrpSpPr>
            <p:grpSpPr>
              <a:xfrm>
                <a:off x="3785040" y="1222920"/>
                <a:ext cx="1166040" cy="710280"/>
                <a:chOff x="3785040" y="1222920"/>
                <a:chExt cx="1166040" cy="710280"/>
              </a:xfrm>
            </p:grpSpPr>
            <p:sp>
              <p:nvSpPr>
                <p:cNvPr id="70" name=""/>
                <p:cNvSpPr/>
                <p:nvPr/>
              </p:nvSpPr>
              <p:spPr>
                <a:xfrm>
                  <a:off x="3785040" y="1222920"/>
                  <a:ext cx="1166040" cy="710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3785040" y="1222920"/>
                  <a:ext cx="1165680" cy="710280"/>
                  <a:chOff x="3785040" y="1222920"/>
                  <a:chExt cx="1165680" cy="710280"/>
                </a:xfrm>
              </p:grpSpPr>
              <p:sp>
                <p:nvSpPr>
                  <p:cNvPr id="72" name=""/>
                  <p:cNvSpPr/>
                  <p:nvPr/>
                </p:nvSpPr>
                <p:spPr>
                  <a:xfrm>
                    <a:off x="3837240" y="1222920"/>
                    <a:ext cx="1061280" cy="710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aj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kt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 name=""/>
                  <p:cNvSpPr/>
                  <p:nvPr/>
                </p:nvSpPr>
                <p:spPr>
                  <a:xfrm>
                    <a:off x="3785040" y="1222920"/>
                    <a:ext cx="1165680" cy="71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4" name=""/>
              <p:cNvGrpSpPr/>
              <p:nvPr/>
            </p:nvGrpSpPr>
            <p:grpSpPr>
              <a:xfrm>
                <a:off x="4951800" y="1222920"/>
                <a:ext cx="1166040" cy="710280"/>
                <a:chOff x="4951800" y="1222920"/>
                <a:chExt cx="1166040" cy="710280"/>
              </a:xfrm>
            </p:grpSpPr>
            <p:sp>
              <p:nvSpPr>
                <p:cNvPr id="75" name=""/>
                <p:cNvSpPr/>
                <p:nvPr/>
              </p:nvSpPr>
              <p:spPr>
                <a:xfrm>
                  <a:off x="4951800" y="1222920"/>
                  <a:ext cx="1166040" cy="710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4951800" y="1222920"/>
                  <a:ext cx="1165680" cy="710280"/>
                  <a:chOff x="4951800" y="1222920"/>
                  <a:chExt cx="1165680" cy="710280"/>
                </a:xfrm>
              </p:grpSpPr>
              <p:sp>
                <p:nvSpPr>
                  <p:cNvPr id="77" name=""/>
                  <p:cNvSpPr/>
                  <p:nvPr/>
                </p:nvSpPr>
                <p:spPr>
                  <a:xfrm>
                    <a:off x="5004360" y="1222920"/>
                    <a:ext cx="1060920" cy="710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baj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4951800" y="1222920"/>
                    <a:ext cx="1165680" cy="71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 name=""/>
              <p:cNvGrpSpPr/>
              <p:nvPr/>
            </p:nvGrpSpPr>
            <p:grpSpPr>
              <a:xfrm>
                <a:off x="6118560" y="1222920"/>
                <a:ext cx="1166400" cy="710280"/>
                <a:chOff x="6118560" y="1222920"/>
                <a:chExt cx="1166400" cy="710280"/>
              </a:xfrm>
            </p:grpSpPr>
            <p:sp>
              <p:nvSpPr>
                <p:cNvPr id="80" name=""/>
                <p:cNvSpPr/>
                <p:nvPr/>
              </p:nvSpPr>
              <p:spPr>
                <a:xfrm>
                  <a:off x="6118560" y="1222920"/>
                  <a:ext cx="1166400" cy="710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6118560" y="1222920"/>
                  <a:ext cx="1166040" cy="710280"/>
                  <a:chOff x="6118560" y="1222920"/>
                  <a:chExt cx="1166040" cy="710280"/>
                </a:xfrm>
              </p:grpSpPr>
              <p:sp>
                <p:nvSpPr>
                  <p:cNvPr id="82" name=""/>
                  <p:cNvSpPr/>
                  <p:nvPr/>
                </p:nvSpPr>
                <p:spPr>
                  <a:xfrm>
                    <a:off x="6171120" y="1222920"/>
                    <a:ext cx="1060920" cy="710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baj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 name=""/>
                  <p:cNvSpPr/>
                  <p:nvPr/>
                </p:nvSpPr>
                <p:spPr>
                  <a:xfrm>
                    <a:off x="6118560" y="1222920"/>
                    <a:ext cx="1166040" cy="71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 name=""/>
              <p:cNvGrpSpPr/>
              <p:nvPr/>
            </p:nvGrpSpPr>
            <p:grpSpPr>
              <a:xfrm>
                <a:off x="7285680" y="1222920"/>
                <a:ext cx="1166040" cy="710280"/>
                <a:chOff x="7285680" y="1222920"/>
                <a:chExt cx="1166040" cy="710280"/>
              </a:xfrm>
            </p:grpSpPr>
            <p:sp>
              <p:nvSpPr>
                <p:cNvPr id="85" name=""/>
                <p:cNvSpPr/>
                <p:nvPr/>
              </p:nvSpPr>
              <p:spPr>
                <a:xfrm>
                  <a:off x="7285680" y="1222920"/>
                  <a:ext cx="1166040" cy="710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
                <p:cNvGrpSpPr/>
                <p:nvPr/>
              </p:nvGrpSpPr>
              <p:grpSpPr>
                <a:xfrm>
                  <a:off x="7285680" y="1222920"/>
                  <a:ext cx="1165680" cy="710280"/>
                  <a:chOff x="7285680" y="1222920"/>
                  <a:chExt cx="1165680" cy="710280"/>
                </a:xfrm>
              </p:grpSpPr>
              <p:sp>
                <p:nvSpPr>
                  <p:cNvPr id="87" name=""/>
                  <p:cNvSpPr/>
                  <p:nvPr/>
                </p:nvSpPr>
                <p:spPr>
                  <a:xfrm>
                    <a:off x="7337880" y="1222920"/>
                    <a:ext cx="1060920" cy="710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baj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 name=""/>
                  <p:cNvSpPr/>
                  <p:nvPr/>
                </p:nvSpPr>
                <p:spPr>
                  <a:xfrm>
                    <a:off x="7285680" y="1222920"/>
                    <a:ext cx="1165680" cy="71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 name=""/>
              <p:cNvGrpSpPr/>
              <p:nvPr/>
            </p:nvGrpSpPr>
            <p:grpSpPr>
              <a:xfrm>
                <a:off x="691200" y="1933200"/>
                <a:ext cx="1059480" cy="724320"/>
                <a:chOff x="691200" y="1933200"/>
                <a:chExt cx="1059480" cy="724320"/>
              </a:xfrm>
            </p:grpSpPr>
            <p:sp>
              <p:nvSpPr>
                <p:cNvPr id="90" name=""/>
                <p:cNvSpPr/>
                <p:nvPr/>
              </p:nvSpPr>
              <p:spPr>
                <a:xfrm>
                  <a:off x="691200" y="1933200"/>
                  <a:ext cx="1059480" cy="724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691200" y="1933200"/>
                  <a:ext cx="1059120" cy="724320"/>
                  <a:chOff x="691200" y="1933200"/>
                  <a:chExt cx="1059120" cy="724320"/>
                </a:xfrm>
              </p:grpSpPr>
              <p:sp>
                <p:nvSpPr>
                  <p:cNvPr id="92" name=""/>
                  <p:cNvSpPr/>
                  <p:nvPr/>
                </p:nvSpPr>
                <p:spPr>
                  <a:xfrm>
                    <a:off x="743400" y="1933200"/>
                    <a:ext cx="954360" cy="724320"/>
                  </a:xfrm>
                  <a:prstGeom prst="rect">
                    <a:avLst/>
                  </a:prstGeom>
                  <a:solidFill>
                    <a:srgbClr val="f2f2f2"/>
                  </a:solidFill>
                  <a:ln w="0">
                    <a:noFill/>
                  </a:ln>
                </p:spPr>
                <p:style>
                  <a:lnRef idx="0"/>
                  <a:fillRef idx="0"/>
                  <a:effectRef idx="0"/>
                  <a:fontRef idx="minor"/>
                </p:style>
                <p:txBody>
                  <a:bodyPr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lasa 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691200" y="1933200"/>
                    <a:ext cx="1059120" cy="72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 name=""/>
              <p:cNvGrpSpPr/>
              <p:nvPr/>
            </p:nvGrpSpPr>
            <p:grpSpPr>
              <a:xfrm>
                <a:off x="1751040" y="1933200"/>
                <a:ext cx="1243080" cy="724320"/>
                <a:chOff x="1751040" y="1933200"/>
                <a:chExt cx="1243080" cy="724320"/>
              </a:xfrm>
            </p:grpSpPr>
            <p:sp>
              <p:nvSpPr>
                <p:cNvPr id="95" name=""/>
                <p:cNvSpPr/>
                <p:nvPr/>
              </p:nvSpPr>
              <p:spPr>
                <a:xfrm>
                  <a:off x="1751040" y="1933200"/>
                  <a:ext cx="1243080" cy="724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751040" y="1933200"/>
                  <a:ext cx="1242720" cy="724320"/>
                  <a:chOff x="1751040" y="1933200"/>
                  <a:chExt cx="1242720" cy="724320"/>
                </a:xfrm>
              </p:grpSpPr>
              <p:sp>
                <p:nvSpPr>
                  <p:cNvPr id="97" name=""/>
                  <p:cNvSpPr/>
                  <p:nvPr/>
                </p:nvSpPr>
                <p:spPr>
                  <a:xfrm>
                    <a:off x="1803240" y="1933200"/>
                    <a:ext cx="1137960" cy="724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126)</a:t>
                    </a:r>
                    <a:endParaRPr b="0" lang="en-US" sz="1400" spc="-1" strike="noStrike">
                      <a:solidFill>
                        <a:srgbClr val="000000"/>
                      </a:solidFill>
                      <a:latin typeface="Times New Roman"/>
                    </a:endParaRPr>
                  </a:p>
                </p:txBody>
              </p:sp>
              <p:sp>
                <p:nvSpPr>
                  <p:cNvPr id="98" name=""/>
                  <p:cNvSpPr/>
                  <p:nvPr/>
                </p:nvSpPr>
                <p:spPr>
                  <a:xfrm>
                    <a:off x="1751040" y="1933200"/>
                    <a:ext cx="1242720" cy="72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 name=""/>
              <p:cNvGrpSpPr/>
              <p:nvPr/>
            </p:nvGrpSpPr>
            <p:grpSpPr>
              <a:xfrm>
                <a:off x="2994480" y="1933200"/>
                <a:ext cx="789840" cy="724320"/>
                <a:chOff x="2994480" y="1933200"/>
                <a:chExt cx="789840" cy="724320"/>
              </a:xfrm>
            </p:grpSpPr>
            <p:sp>
              <p:nvSpPr>
                <p:cNvPr id="100" name=""/>
                <p:cNvSpPr/>
                <p:nvPr/>
              </p:nvSpPr>
              <p:spPr>
                <a:xfrm>
                  <a:off x="2994480" y="1933200"/>
                  <a:ext cx="789840" cy="724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2994480" y="1933200"/>
                  <a:ext cx="789480" cy="724320"/>
                  <a:chOff x="2994480" y="1933200"/>
                  <a:chExt cx="789480" cy="724320"/>
                </a:xfrm>
              </p:grpSpPr>
              <p:sp>
                <p:nvSpPr>
                  <p:cNvPr id="102" name=""/>
                  <p:cNvSpPr/>
                  <p:nvPr/>
                </p:nvSpPr>
                <p:spPr>
                  <a:xfrm>
                    <a:off x="3046320" y="1933200"/>
                    <a:ext cx="684720" cy="724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 name=""/>
                  <p:cNvSpPr/>
                  <p:nvPr/>
                </p:nvSpPr>
                <p:spPr>
                  <a:xfrm>
                    <a:off x="2994480" y="1933200"/>
                    <a:ext cx="789480" cy="72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 name=""/>
              <p:cNvGrpSpPr/>
              <p:nvPr/>
            </p:nvGrpSpPr>
            <p:grpSpPr>
              <a:xfrm>
                <a:off x="3785040" y="1933200"/>
                <a:ext cx="1166040" cy="724320"/>
                <a:chOff x="3785040" y="1933200"/>
                <a:chExt cx="1166040" cy="724320"/>
              </a:xfrm>
            </p:grpSpPr>
            <p:sp>
              <p:nvSpPr>
                <p:cNvPr id="105" name=""/>
                <p:cNvSpPr/>
                <p:nvPr/>
              </p:nvSpPr>
              <p:spPr>
                <a:xfrm>
                  <a:off x="3785040" y="1933200"/>
                  <a:ext cx="1166040" cy="724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3785040" y="1933200"/>
                  <a:ext cx="1165680" cy="724320"/>
                  <a:chOff x="3785040" y="1933200"/>
                  <a:chExt cx="1165680" cy="724320"/>
                </a:xfrm>
              </p:grpSpPr>
              <p:sp>
                <p:nvSpPr>
                  <p:cNvPr id="107" name=""/>
                  <p:cNvSpPr/>
                  <p:nvPr/>
                </p:nvSpPr>
                <p:spPr>
                  <a:xfrm>
                    <a:off x="3837240" y="1933200"/>
                    <a:ext cx="1061280" cy="72432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EĆ</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
                  <p:cNvSpPr/>
                  <p:nvPr/>
                </p:nvSpPr>
                <p:spPr>
                  <a:xfrm>
                    <a:off x="3785040" y="1933200"/>
                    <a:ext cx="1165680" cy="72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 name=""/>
              <p:cNvGrpSpPr/>
              <p:nvPr/>
            </p:nvGrpSpPr>
            <p:grpSpPr>
              <a:xfrm>
                <a:off x="4951800" y="1933200"/>
                <a:ext cx="3499920" cy="724320"/>
                <a:chOff x="4951800" y="1933200"/>
                <a:chExt cx="3499920" cy="724320"/>
              </a:xfrm>
            </p:grpSpPr>
            <p:sp>
              <p:nvSpPr>
                <p:cNvPr id="110" name=""/>
                <p:cNvSpPr/>
                <p:nvPr/>
              </p:nvSpPr>
              <p:spPr>
                <a:xfrm>
                  <a:off x="4951800" y="1933200"/>
                  <a:ext cx="3499920" cy="72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4951800" y="1933200"/>
                  <a:ext cx="3499560" cy="724320"/>
                  <a:chOff x="4951800" y="1933200"/>
                  <a:chExt cx="3499560" cy="724320"/>
                </a:xfrm>
              </p:grpSpPr>
              <p:sp>
                <p:nvSpPr>
                  <p:cNvPr id="112" name=""/>
                  <p:cNvSpPr/>
                  <p:nvPr/>
                </p:nvSpPr>
                <p:spPr>
                  <a:xfrm>
                    <a:off x="5004360" y="1933200"/>
                    <a:ext cx="3394440" cy="724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HO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4951800" y="1933200"/>
                    <a:ext cx="3499560" cy="72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4" name=""/>
              <p:cNvGrpSpPr/>
              <p:nvPr/>
            </p:nvGrpSpPr>
            <p:grpSpPr>
              <a:xfrm>
                <a:off x="691200" y="2657520"/>
                <a:ext cx="1059480" cy="724320"/>
                <a:chOff x="691200" y="2657520"/>
                <a:chExt cx="1059480" cy="724320"/>
              </a:xfrm>
            </p:grpSpPr>
            <p:sp>
              <p:nvSpPr>
                <p:cNvPr id="115" name=""/>
                <p:cNvSpPr/>
                <p:nvPr/>
              </p:nvSpPr>
              <p:spPr>
                <a:xfrm>
                  <a:off x="691200" y="2657520"/>
                  <a:ext cx="1059480" cy="724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691200" y="2657520"/>
                  <a:ext cx="1059120" cy="724320"/>
                  <a:chOff x="691200" y="2657520"/>
                  <a:chExt cx="1059120" cy="724320"/>
                </a:xfrm>
              </p:grpSpPr>
              <p:sp>
                <p:nvSpPr>
                  <p:cNvPr id="117" name=""/>
                  <p:cNvSpPr/>
                  <p:nvPr/>
                </p:nvSpPr>
                <p:spPr>
                  <a:xfrm>
                    <a:off x="743400" y="2657520"/>
                    <a:ext cx="954360" cy="724320"/>
                  </a:xfrm>
                  <a:prstGeom prst="rect">
                    <a:avLst/>
                  </a:prstGeom>
                  <a:solidFill>
                    <a:srgbClr val="f2f2f2"/>
                  </a:solidFill>
                  <a:ln w="0">
                    <a:noFill/>
                  </a:ln>
                </p:spPr>
                <p:style>
                  <a:lnRef idx="0"/>
                  <a:fillRef idx="0"/>
                  <a:effectRef idx="0"/>
                  <a:fontRef idx="minor"/>
                </p:style>
                <p:txBody>
                  <a:bodyPr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Klasa 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
                  <p:cNvSpPr/>
                  <p:nvPr/>
                </p:nvSpPr>
                <p:spPr>
                  <a:xfrm>
                    <a:off x="691200" y="2657520"/>
                    <a:ext cx="1059120" cy="72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9" name=""/>
              <p:cNvGrpSpPr/>
              <p:nvPr/>
            </p:nvGrpSpPr>
            <p:grpSpPr>
              <a:xfrm>
                <a:off x="1751040" y="2657520"/>
                <a:ext cx="1243080" cy="724320"/>
                <a:chOff x="1751040" y="2657520"/>
                <a:chExt cx="1243080" cy="724320"/>
              </a:xfrm>
            </p:grpSpPr>
            <p:sp>
              <p:nvSpPr>
                <p:cNvPr id="120" name=""/>
                <p:cNvSpPr/>
                <p:nvPr/>
              </p:nvSpPr>
              <p:spPr>
                <a:xfrm>
                  <a:off x="1751040" y="2657520"/>
                  <a:ext cx="1243080" cy="724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751040" y="2657520"/>
                  <a:ext cx="1242720" cy="724320"/>
                  <a:chOff x="1751040" y="2657520"/>
                  <a:chExt cx="1242720" cy="724320"/>
                </a:xfrm>
              </p:grpSpPr>
              <p:sp>
                <p:nvSpPr>
                  <p:cNvPr id="122" name=""/>
                  <p:cNvSpPr/>
                  <p:nvPr/>
                </p:nvSpPr>
                <p:spPr>
                  <a:xfrm>
                    <a:off x="1803240" y="2657520"/>
                    <a:ext cx="1137960" cy="724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128-19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
                  <p:cNvSpPr/>
                  <p:nvPr/>
                </p:nvSpPr>
                <p:spPr>
                  <a:xfrm>
                    <a:off x="1751040" y="2657520"/>
                    <a:ext cx="1242720" cy="72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 name=""/>
              <p:cNvGrpSpPr/>
              <p:nvPr/>
            </p:nvGrpSpPr>
            <p:grpSpPr>
              <a:xfrm>
                <a:off x="2994480" y="2657520"/>
                <a:ext cx="789840" cy="724320"/>
                <a:chOff x="2994480" y="2657520"/>
                <a:chExt cx="789840" cy="724320"/>
              </a:xfrm>
            </p:grpSpPr>
            <p:sp>
              <p:nvSpPr>
                <p:cNvPr id="125" name=""/>
                <p:cNvSpPr/>
                <p:nvPr/>
              </p:nvSpPr>
              <p:spPr>
                <a:xfrm>
                  <a:off x="2994480" y="2657520"/>
                  <a:ext cx="789840" cy="724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2994480" y="2657520"/>
                  <a:ext cx="789480" cy="724320"/>
                  <a:chOff x="2994480" y="2657520"/>
                  <a:chExt cx="789480" cy="724320"/>
                </a:xfrm>
              </p:grpSpPr>
              <p:sp>
                <p:nvSpPr>
                  <p:cNvPr id="127" name=""/>
                  <p:cNvSpPr/>
                  <p:nvPr/>
                </p:nvSpPr>
                <p:spPr>
                  <a:xfrm>
                    <a:off x="3046320" y="2657520"/>
                    <a:ext cx="684720" cy="724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2994480" y="2657520"/>
                    <a:ext cx="789480" cy="72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 name=""/>
              <p:cNvGrpSpPr/>
              <p:nvPr/>
            </p:nvGrpSpPr>
            <p:grpSpPr>
              <a:xfrm>
                <a:off x="3785040" y="2657520"/>
                <a:ext cx="2332800" cy="724320"/>
                <a:chOff x="3785040" y="2657520"/>
                <a:chExt cx="2332800" cy="724320"/>
              </a:xfrm>
            </p:grpSpPr>
            <p:sp>
              <p:nvSpPr>
                <p:cNvPr id="130" name=""/>
                <p:cNvSpPr/>
                <p:nvPr/>
              </p:nvSpPr>
              <p:spPr>
                <a:xfrm>
                  <a:off x="3785040" y="2657520"/>
                  <a:ext cx="2332800" cy="724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3785040" y="2657520"/>
                  <a:ext cx="2332440" cy="724320"/>
                  <a:chOff x="3785040" y="2657520"/>
                  <a:chExt cx="2332440" cy="724320"/>
                </a:xfrm>
              </p:grpSpPr>
              <p:sp>
                <p:nvSpPr>
                  <p:cNvPr id="132" name=""/>
                  <p:cNvSpPr/>
                  <p:nvPr/>
                </p:nvSpPr>
                <p:spPr>
                  <a:xfrm>
                    <a:off x="3837240" y="2657520"/>
                    <a:ext cx="2228040" cy="72432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IEĆ</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 name=""/>
                  <p:cNvSpPr/>
                  <p:nvPr/>
                </p:nvSpPr>
                <p:spPr>
                  <a:xfrm>
                    <a:off x="3785040" y="2657520"/>
                    <a:ext cx="2332440" cy="72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4" name=""/>
              <p:cNvGrpSpPr/>
              <p:nvPr/>
            </p:nvGrpSpPr>
            <p:grpSpPr>
              <a:xfrm>
                <a:off x="6118560" y="2657520"/>
                <a:ext cx="2333160" cy="724320"/>
                <a:chOff x="6118560" y="2657520"/>
                <a:chExt cx="2333160" cy="724320"/>
              </a:xfrm>
            </p:grpSpPr>
            <p:sp>
              <p:nvSpPr>
                <p:cNvPr id="135" name=""/>
                <p:cNvSpPr/>
                <p:nvPr/>
              </p:nvSpPr>
              <p:spPr>
                <a:xfrm>
                  <a:off x="6118560" y="2657520"/>
                  <a:ext cx="2333160" cy="72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118560" y="2657520"/>
                  <a:ext cx="2332800" cy="724320"/>
                  <a:chOff x="6118560" y="2657520"/>
                  <a:chExt cx="2332800" cy="724320"/>
                </a:xfrm>
              </p:grpSpPr>
              <p:sp>
                <p:nvSpPr>
                  <p:cNvPr id="137" name=""/>
                  <p:cNvSpPr/>
                  <p:nvPr/>
                </p:nvSpPr>
                <p:spPr>
                  <a:xfrm>
                    <a:off x="6171120" y="2657520"/>
                    <a:ext cx="2227680" cy="724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HO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6118560" y="2657520"/>
                    <a:ext cx="2332800" cy="72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691200" y="3382200"/>
                <a:ext cx="1059480" cy="761760"/>
                <a:chOff x="691200" y="3382200"/>
                <a:chExt cx="1059480" cy="761760"/>
              </a:xfrm>
            </p:grpSpPr>
            <p:sp>
              <p:nvSpPr>
                <p:cNvPr id="140" name=""/>
                <p:cNvSpPr/>
                <p:nvPr/>
              </p:nvSpPr>
              <p:spPr>
                <a:xfrm>
                  <a:off x="691200" y="3382200"/>
                  <a:ext cx="1059480" cy="761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91200" y="3382200"/>
                  <a:ext cx="1059120" cy="761760"/>
                  <a:chOff x="691200" y="3382200"/>
                  <a:chExt cx="1059120" cy="761760"/>
                </a:xfrm>
              </p:grpSpPr>
              <p:sp>
                <p:nvSpPr>
                  <p:cNvPr id="142" name=""/>
                  <p:cNvSpPr/>
                  <p:nvPr/>
                </p:nvSpPr>
                <p:spPr>
                  <a:xfrm>
                    <a:off x="743400" y="3382200"/>
                    <a:ext cx="954360" cy="761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Klasa C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691200" y="3382200"/>
                    <a:ext cx="105912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1751040" y="3382200"/>
                <a:ext cx="1243080" cy="761760"/>
                <a:chOff x="1751040" y="3382200"/>
                <a:chExt cx="1243080" cy="761760"/>
              </a:xfrm>
            </p:grpSpPr>
            <p:sp>
              <p:nvSpPr>
                <p:cNvPr id="145" name=""/>
                <p:cNvSpPr/>
                <p:nvPr/>
              </p:nvSpPr>
              <p:spPr>
                <a:xfrm>
                  <a:off x="1751040" y="3382200"/>
                  <a:ext cx="1243080" cy="761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1751040" y="3382200"/>
                  <a:ext cx="1242720" cy="761760"/>
                  <a:chOff x="1751040" y="3382200"/>
                  <a:chExt cx="1242720" cy="761760"/>
                </a:xfrm>
              </p:grpSpPr>
              <p:sp>
                <p:nvSpPr>
                  <p:cNvPr id="147" name=""/>
                  <p:cNvSpPr/>
                  <p:nvPr/>
                </p:nvSpPr>
                <p:spPr>
                  <a:xfrm>
                    <a:off x="1803240" y="3382200"/>
                    <a:ext cx="1137960" cy="761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92-2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
                  <p:cNvSpPr/>
                  <p:nvPr/>
                </p:nvSpPr>
                <p:spPr>
                  <a:xfrm>
                    <a:off x="1751040" y="3382200"/>
                    <a:ext cx="124272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 name=""/>
              <p:cNvGrpSpPr/>
              <p:nvPr/>
            </p:nvGrpSpPr>
            <p:grpSpPr>
              <a:xfrm>
                <a:off x="2994480" y="3382200"/>
                <a:ext cx="789840" cy="761760"/>
                <a:chOff x="2994480" y="3382200"/>
                <a:chExt cx="789840" cy="761760"/>
              </a:xfrm>
            </p:grpSpPr>
            <p:sp>
              <p:nvSpPr>
                <p:cNvPr id="150" name=""/>
                <p:cNvSpPr/>
                <p:nvPr/>
              </p:nvSpPr>
              <p:spPr>
                <a:xfrm>
                  <a:off x="2994480" y="3382200"/>
                  <a:ext cx="789840" cy="761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2994480" y="3382200"/>
                  <a:ext cx="789480" cy="761760"/>
                  <a:chOff x="2994480" y="3382200"/>
                  <a:chExt cx="789480" cy="761760"/>
                </a:xfrm>
              </p:grpSpPr>
              <p:sp>
                <p:nvSpPr>
                  <p:cNvPr id="152" name=""/>
                  <p:cNvSpPr/>
                  <p:nvPr/>
                </p:nvSpPr>
                <p:spPr>
                  <a:xfrm>
                    <a:off x="3046320" y="3382200"/>
                    <a:ext cx="684720" cy="761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3" name=""/>
                  <p:cNvSpPr/>
                  <p:nvPr/>
                </p:nvSpPr>
                <p:spPr>
                  <a:xfrm>
                    <a:off x="2994480" y="3382200"/>
                    <a:ext cx="7894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4" name=""/>
              <p:cNvGrpSpPr/>
              <p:nvPr/>
            </p:nvGrpSpPr>
            <p:grpSpPr>
              <a:xfrm>
                <a:off x="3785040" y="3382200"/>
                <a:ext cx="3499920" cy="761760"/>
                <a:chOff x="3785040" y="3382200"/>
                <a:chExt cx="3499920" cy="761760"/>
              </a:xfrm>
            </p:grpSpPr>
            <p:sp>
              <p:nvSpPr>
                <p:cNvPr id="155" name=""/>
                <p:cNvSpPr/>
                <p:nvPr/>
              </p:nvSpPr>
              <p:spPr>
                <a:xfrm>
                  <a:off x="3785040" y="3382200"/>
                  <a:ext cx="3499920" cy="7617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 name=""/>
                <p:cNvGrpSpPr/>
                <p:nvPr/>
              </p:nvGrpSpPr>
              <p:grpSpPr>
                <a:xfrm>
                  <a:off x="3785040" y="3382200"/>
                  <a:ext cx="3499560" cy="761760"/>
                  <a:chOff x="3785040" y="3382200"/>
                  <a:chExt cx="3499560" cy="761760"/>
                </a:xfrm>
              </p:grpSpPr>
              <p:sp>
                <p:nvSpPr>
                  <p:cNvPr id="157" name=""/>
                  <p:cNvSpPr/>
                  <p:nvPr/>
                </p:nvSpPr>
                <p:spPr>
                  <a:xfrm>
                    <a:off x="3837240" y="3382200"/>
                    <a:ext cx="3394800" cy="76176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EĆ</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3785040" y="3382200"/>
                    <a:ext cx="34995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 name=""/>
              <p:cNvGrpSpPr/>
              <p:nvPr/>
            </p:nvGrpSpPr>
            <p:grpSpPr>
              <a:xfrm>
                <a:off x="7285680" y="3382200"/>
                <a:ext cx="1166040" cy="761760"/>
                <a:chOff x="7285680" y="3382200"/>
                <a:chExt cx="1166040" cy="761760"/>
              </a:xfrm>
            </p:grpSpPr>
            <p:sp>
              <p:nvSpPr>
                <p:cNvPr id="160" name=""/>
                <p:cNvSpPr/>
                <p:nvPr/>
              </p:nvSpPr>
              <p:spPr>
                <a:xfrm>
                  <a:off x="7285680" y="3382200"/>
                  <a:ext cx="1166040" cy="761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7285680" y="3382200"/>
                  <a:ext cx="1165680" cy="761760"/>
                  <a:chOff x="7285680" y="3382200"/>
                  <a:chExt cx="1165680" cy="761760"/>
                </a:xfrm>
              </p:grpSpPr>
              <p:sp>
                <p:nvSpPr>
                  <p:cNvPr id="162" name=""/>
                  <p:cNvSpPr/>
                  <p:nvPr/>
                </p:nvSpPr>
                <p:spPr>
                  <a:xfrm>
                    <a:off x="7337880" y="3382200"/>
                    <a:ext cx="106092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HO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 name=""/>
                  <p:cNvSpPr/>
                  <p:nvPr/>
                </p:nvSpPr>
                <p:spPr>
                  <a:xfrm>
                    <a:off x="7285680" y="3382200"/>
                    <a:ext cx="1165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691200" y="4143960"/>
                <a:ext cx="1059480" cy="881280"/>
                <a:chOff x="691200" y="4143960"/>
                <a:chExt cx="1059480" cy="881280"/>
              </a:xfrm>
            </p:grpSpPr>
            <p:sp>
              <p:nvSpPr>
                <p:cNvPr id="165" name=""/>
                <p:cNvSpPr/>
                <p:nvPr/>
              </p:nvSpPr>
              <p:spPr>
                <a:xfrm>
                  <a:off x="691200" y="4143960"/>
                  <a:ext cx="1059480" cy="881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691200" y="4143960"/>
                  <a:ext cx="1059120" cy="881280"/>
                  <a:chOff x="691200" y="4143960"/>
                  <a:chExt cx="1059120" cy="881280"/>
                </a:xfrm>
              </p:grpSpPr>
              <p:sp>
                <p:nvSpPr>
                  <p:cNvPr id="167" name=""/>
                  <p:cNvSpPr/>
                  <p:nvPr/>
                </p:nvSpPr>
                <p:spPr>
                  <a:xfrm>
                    <a:off x="743400" y="4143960"/>
                    <a:ext cx="954360" cy="881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Klasa 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8" name=""/>
                  <p:cNvSpPr/>
                  <p:nvPr/>
                </p:nvSpPr>
                <p:spPr>
                  <a:xfrm>
                    <a:off x="691200" y="4143960"/>
                    <a:ext cx="1059120" cy="88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1751040" y="4143960"/>
                <a:ext cx="1243080" cy="881280"/>
                <a:chOff x="1751040" y="4143960"/>
                <a:chExt cx="1243080" cy="881280"/>
              </a:xfrm>
            </p:grpSpPr>
            <p:sp>
              <p:nvSpPr>
                <p:cNvPr id="170" name=""/>
                <p:cNvSpPr/>
                <p:nvPr/>
              </p:nvSpPr>
              <p:spPr>
                <a:xfrm>
                  <a:off x="1751040" y="4143960"/>
                  <a:ext cx="1243080" cy="881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1751040" y="4143960"/>
                  <a:ext cx="1242720" cy="881280"/>
                  <a:chOff x="1751040" y="4143960"/>
                  <a:chExt cx="1242720" cy="881280"/>
                </a:xfrm>
              </p:grpSpPr>
              <p:sp>
                <p:nvSpPr>
                  <p:cNvPr id="172" name=""/>
                  <p:cNvSpPr/>
                  <p:nvPr/>
                </p:nvSpPr>
                <p:spPr>
                  <a:xfrm>
                    <a:off x="1803240" y="4143960"/>
                    <a:ext cx="1137960" cy="881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24-23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1751040" y="4143960"/>
                    <a:ext cx="1242720" cy="88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2994480" y="4143960"/>
                <a:ext cx="789840" cy="881280"/>
                <a:chOff x="2994480" y="4143960"/>
                <a:chExt cx="789840" cy="881280"/>
              </a:xfrm>
            </p:grpSpPr>
            <p:sp>
              <p:nvSpPr>
                <p:cNvPr id="175" name=""/>
                <p:cNvSpPr/>
                <p:nvPr/>
              </p:nvSpPr>
              <p:spPr>
                <a:xfrm>
                  <a:off x="2994480" y="4143960"/>
                  <a:ext cx="789840" cy="881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2994480" y="4143960"/>
                  <a:ext cx="789480" cy="881280"/>
                  <a:chOff x="2994480" y="4143960"/>
                  <a:chExt cx="789480" cy="881280"/>
                </a:xfrm>
              </p:grpSpPr>
              <p:sp>
                <p:nvSpPr>
                  <p:cNvPr id="177" name=""/>
                  <p:cNvSpPr/>
                  <p:nvPr/>
                </p:nvSpPr>
                <p:spPr>
                  <a:xfrm>
                    <a:off x="3046320" y="4143960"/>
                    <a:ext cx="684720" cy="881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11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 name=""/>
                  <p:cNvSpPr/>
                  <p:nvPr/>
                </p:nvSpPr>
                <p:spPr>
                  <a:xfrm>
                    <a:off x="2994480" y="4143960"/>
                    <a:ext cx="789480" cy="88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 name=""/>
              <p:cNvGrpSpPr/>
              <p:nvPr/>
            </p:nvGrpSpPr>
            <p:grpSpPr>
              <a:xfrm>
                <a:off x="3785040" y="4143960"/>
                <a:ext cx="4666680" cy="881280"/>
                <a:chOff x="3785040" y="4143960"/>
                <a:chExt cx="4666680" cy="881280"/>
              </a:xfrm>
            </p:grpSpPr>
            <p:sp>
              <p:nvSpPr>
                <p:cNvPr id="180" name=""/>
                <p:cNvSpPr/>
                <p:nvPr/>
              </p:nvSpPr>
              <p:spPr>
                <a:xfrm>
                  <a:off x="3785040" y="4143960"/>
                  <a:ext cx="4666680" cy="881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3785040" y="4143960"/>
                  <a:ext cx="4666320" cy="881280"/>
                  <a:chOff x="3785040" y="4143960"/>
                  <a:chExt cx="4666320" cy="881280"/>
                </a:xfrm>
              </p:grpSpPr>
              <p:sp>
                <p:nvSpPr>
                  <p:cNvPr id="182" name=""/>
                  <p:cNvSpPr/>
                  <p:nvPr/>
                </p:nvSpPr>
                <p:spPr>
                  <a:xfrm>
                    <a:off x="3837240" y="4143960"/>
                    <a:ext cx="4561560" cy="881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DRES MULTICA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
                  <p:cNvSpPr/>
                  <p:nvPr/>
                </p:nvSpPr>
                <p:spPr>
                  <a:xfrm>
                    <a:off x="3785040" y="4143960"/>
                    <a:ext cx="4666320" cy="88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4" name=""/>
              <p:cNvGrpSpPr/>
              <p:nvPr/>
            </p:nvGrpSpPr>
            <p:grpSpPr>
              <a:xfrm>
                <a:off x="691200" y="5025600"/>
                <a:ext cx="1059480" cy="761760"/>
                <a:chOff x="691200" y="5025600"/>
                <a:chExt cx="1059480" cy="761760"/>
              </a:xfrm>
            </p:grpSpPr>
            <p:sp>
              <p:nvSpPr>
                <p:cNvPr id="185" name=""/>
                <p:cNvSpPr/>
                <p:nvPr/>
              </p:nvSpPr>
              <p:spPr>
                <a:xfrm>
                  <a:off x="691200" y="5025600"/>
                  <a:ext cx="1059480" cy="761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691200" y="5025600"/>
                  <a:ext cx="1059120" cy="761760"/>
                  <a:chOff x="691200" y="5025600"/>
                  <a:chExt cx="1059120" cy="761760"/>
                </a:xfrm>
              </p:grpSpPr>
              <p:sp>
                <p:nvSpPr>
                  <p:cNvPr id="187" name=""/>
                  <p:cNvSpPr/>
                  <p:nvPr/>
                </p:nvSpPr>
                <p:spPr>
                  <a:xfrm>
                    <a:off x="743400" y="5025600"/>
                    <a:ext cx="954360" cy="761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Klasa 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691200" y="5025600"/>
                    <a:ext cx="105912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
              <p:cNvGrpSpPr/>
              <p:nvPr/>
            </p:nvGrpSpPr>
            <p:grpSpPr>
              <a:xfrm>
                <a:off x="1751040" y="5025600"/>
                <a:ext cx="1243080" cy="761760"/>
                <a:chOff x="1751040" y="5025600"/>
                <a:chExt cx="1243080" cy="761760"/>
              </a:xfrm>
            </p:grpSpPr>
            <p:sp>
              <p:nvSpPr>
                <p:cNvPr id="190" name=""/>
                <p:cNvSpPr/>
                <p:nvPr/>
              </p:nvSpPr>
              <p:spPr>
                <a:xfrm>
                  <a:off x="1751040" y="5025600"/>
                  <a:ext cx="1243080" cy="761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1751040" y="5025600"/>
                  <a:ext cx="1242720" cy="761760"/>
                  <a:chOff x="1751040" y="5025600"/>
                  <a:chExt cx="1242720" cy="761760"/>
                </a:xfrm>
              </p:grpSpPr>
              <p:sp>
                <p:nvSpPr>
                  <p:cNvPr id="192" name=""/>
                  <p:cNvSpPr/>
                  <p:nvPr/>
                </p:nvSpPr>
                <p:spPr>
                  <a:xfrm>
                    <a:off x="1803240" y="5025600"/>
                    <a:ext cx="1137960" cy="761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1751040" y="5025600"/>
                    <a:ext cx="124272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4" name=""/>
              <p:cNvGrpSpPr/>
              <p:nvPr/>
            </p:nvGrpSpPr>
            <p:grpSpPr>
              <a:xfrm>
                <a:off x="2994480" y="5025600"/>
                <a:ext cx="789840" cy="761760"/>
                <a:chOff x="2994480" y="5025600"/>
                <a:chExt cx="789840" cy="761760"/>
              </a:xfrm>
            </p:grpSpPr>
            <p:sp>
              <p:nvSpPr>
                <p:cNvPr id="195" name=""/>
                <p:cNvSpPr/>
                <p:nvPr/>
              </p:nvSpPr>
              <p:spPr>
                <a:xfrm>
                  <a:off x="2994480" y="5025600"/>
                  <a:ext cx="789840" cy="761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2994480" y="5025600"/>
                  <a:ext cx="789480" cy="761760"/>
                  <a:chOff x="2994480" y="5025600"/>
                  <a:chExt cx="789480" cy="761760"/>
                </a:xfrm>
              </p:grpSpPr>
              <p:sp>
                <p:nvSpPr>
                  <p:cNvPr id="197" name=""/>
                  <p:cNvSpPr/>
                  <p:nvPr/>
                </p:nvSpPr>
                <p:spPr>
                  <a:xfrm>
                    <a:off x="3046320" y="5025600"/>
                    <a:ext cx="684720" cy="761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111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 name=""/>
                  <p:cNvSpPr/>
                  <p:nvPr/>
                </p:nvSpPr>
                <p:spPr>
                  <a:xfrm>
                    <a:off x="2994480" y="5025600"/>
                    <a:ext cx="7894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 name=""/>
              <p:cNvGrpSpPr/>
              <p:nvPr/>
            </p:nvGrpSpPr>
            <p:grpSpPr>
              <a:xfrm>
                <a:off x="3785040" y="5025600"/>
                <a:ext cx="4666680" cy="761760"/>
                <a:chOff x="3785040" y="5025600"/>
                <a:chExt cx="4666680" cy="761760"/>
              </a:xfrm>
            </p:grpSpPr>
            <p:sp>
              <p:nvSpPr>
                <p:cNvPr id="200" name=""/>
                <p:cNvSpPr/>
                <p:nvPr/>
              </p:nvSpPr>
              <p:spPr>
                <a:xfrm>
                  <a:off x="3785040" y="5025600"/>
                  <a:ext cx="4666680" cy="761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 name=""/>
                <p:cNvGrpSpPr/>
                <p:nvPr/>
              </p:nvGrpSpPr>
              <p:grpSpPr>
                <a:xfrm>
                  <a:off x="3785040" y="5025600"/>
                  <a:ext cx="4666320" cy="761760"/>
                  <a:chOff x="3785040" y="5025600"/>
                  <a:chExt cx="4666320" cy="761760"/>
                </a:xfrm>
              </p:grpSpPr>
              <p:sp>
                <p:nvSpPr>
                  <p:cNvPr id="202" name=""/>
                  <p:cNvSpPr/>
                  <p:nvPr/>
                </p:nvSpPr>
                <p:spPr>
                  <a:xfrm>
                    <a:off x="3837240" y="5025600"/>
                    <a:ext cx="4561560" cy="761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REZERW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3785040" y="5025600"/>
                    <a:ext cx="466632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4" name=""/>
            <p:cNvSpPr/>
            <p:nvPr/>
          </p:nvSpPr>
          <p:spPr>
            <a:xfrm>
              <a:off x="685800" y="1219320"/>
              <a:ext cx="7772040" cy="4572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59"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28600" y="762120"/>
            <a:ext cx="861048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a:rPr>
              <a:t>Jednościeżkowe i wielościeżkowe algorytmy trasowani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Niektóre protokoły trasowania wspierają tworzenie wielościeżkowych tras między stacją nadawczą i odbiorczą. Algorytmy realizujące taki mechanizm zezwalają na przemieszczanie ruchu przez wiele linii. Zaleta algorytmów wielościeżkowych jest oczywista: zapewniają one większą przepustowość i niezawodność.</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a:rPr>
              <a:t>Płaskie i hierarchiczne algorytmy trasowani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Niektóre algorytmy trasowania operują w płaskiej przestrzeni, inne zaś używają hierarchii trasowania. W systemie płaskim wszystkie routery są równoprawne względem siebie. W systemie hierarchicznym niektóre routery tworzą kręgosłup trasowania. Pakiety z routerów nie tworzących kręgosłupa wędrują do routerów w kręgosłupie trasowania, przez który przepływają do obszaru, w którym znajdują się stacje odbiorcz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62"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28600" y="762120"/>
            <a:ext cx="861048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Systemy trasowania często wyznaczają </a:t>
            </a:r>
            <a:r>
              <a:rPr b="1" lang="pl-PL" sz="2200" spc="-1" strike="noStrike">
                <a:solidFill>
                  <a:srgbClr val="000000"/>
                </a:solidFill>
                <a:latin typeface="Times New Roman"/>
              </a:rPr>
              <a:t>logiczne grupy stacji sieciowych</a:t>
            </a:r>
            <a:r>
              <a:rPr b="0" lang="pl-PL" sz="2200" spc="-1" strike="noStrike">
                <a:solidFill>
                  <a:srgbClr val="000000"/>
                </a:solidFill>
                <a:latin typeface="Times New Roman"/>
              </a:rPr>
              <a:t>, zwane </a:t>
            </a:r>
            <a:r>
              <a:rPr b="1" lang="pl-PL" sz="2200" spc="-1" strike="noStrike">
                <a:solidFill>
                  <a:srgbClr val="000000"/>
                </a:solidFill>
                <a:latin typeface="Times New Roman"/>
              </a:rPr>
              <a:t>domenami</a:t>
            </a:r>
            <a:r>
              <a:rPr b="0" lang="pl-PL" sz="2200" spc="-1" strike="noStrike">
                <a:solidFill>
                  <a:srgbClr val="000000"/>
                </a:solidFill>
                <a:latin typeface="Times New Roman"/>
              </a:rPr>
              <a:t>, </a:t>
            </a:r>
            <a:r>
              <a:rPr b="1" lang="pl-PL" sz="2200" spc="-1" strike="noStrike">
                <a:solidFill>
                  <a:srgbClr val="000000"/>
                </a:solidFill>
                <a:latin typeface="Times New Roman"/>
              </a:rPr>
              <a:t>systemami autonomicznymi</a:t>
            </a:r>
            <a:r>
              <a:rPr b="0" lang="pl-PL" sz="2200" spc="-1" strike="noStrike">
                <a:solidFill>
                  <a:srgbClr val="000000"/>
                </a:solidFill>
                <a:latin typeface="Times New Roman"/>
              </a:rPr>
              <a:t> lub </a:t>
            </a:r>
            <a:r>
              <a:rPr b="1" lang="pl-PL" sz="2200" spc="-1" strike="noStrike">
                <a:solidFill>
                  <a:srgbClr val="000000"/>
                </a:solidFill>
                <a:latin typeface="Times New Roman"/>
              </a:rPr>
              <a:t>obszarami.</a:t>
            </a:r>
            <a:r>
              <a:rPr b="0" lang="pl-PL"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W systemach hierarchicznych pewne routery w domenie mogą komunikować się z routerami z innych domen, inne zaś mogą komunikować się z routerami w ramach ich własnej domeny.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W sieciach bardzo dużych mogą istnieć dodatkowe poziomy hierarchii, z routerami na najwyższym poziomie, tworzącymi wspomniany kręgosłup trasowani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pl-PL" sz="2200" spc="-1" strike="noStrike" u="sng">
                <a:solidFill>
                  <a:srgbClr val="000000"/>
                </a:solidFill>
                <a:uFillTx/>
                <a:latin typeface="Times New Roman"/>
              </a:rPr>
              <a:t>Podstawową zaletą trasowania hierarchicznego jest to, że odwzorowuje ono organizację firmy lub instytucji</a:t>
            </a:r>
            <a:r>
              <a:rPr b="0" lang="pl-PL" sz="2200" spc="-1" strike="noStrike">
                <a:solidFill>
                  <a:srgbClr val="000000"/>
                </a:solidFill>
                <a:latin typeface="Times New Roman"/>
              </a:rPr>
              <a:t>. Większość komunikacji przebiega w małych grupach firmowych (domenach). Ponieważ intradomenowe routery muszą mieć tylko informację o routerach w swojej domenie, to ich algorytmy trasowania mogą być uproszczone, a co za tym idzie - ruch aktualizujący może zostać również zredukowan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65"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28600" y="762120"/>
            <a:ext cx="861048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a:rPr>
              <a:t>Algorytmy trasowania z inteligencją stacji i router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W niektórych algorytmach trasowania zakłada się, że stacja nadawcza będzie określać całą trasę. Trasowanie takie jest nazywane </a:t>
            </a:r>
            <a:r>
              <a:rPr b="1" lang="pl-PL" sz="2200" spc="-1" strike="noStrike">
                <a:solidFill>
                  <a:srgbClr val="000000"/>
                </a:solidFill>
                <a:latin typeface="Times New Roman"/>
              </a:rPr>
              <a:t>trasowaniem źródłowym (Source Routing).</a:t>
            </a:r>
            <a:r>
              <a:rPr b="0" lang="pl-PL"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W systemach trasowania źródłowego routery pracują jak urządzenia z mechanizmem pamiętaj i transportuj, przesyłając pakiety do następnego router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a:rPr>
              <a:t>W innych algorytmach zakłada się, że stacje nic nie wiedzą o routerach.</a:t>
            </a:r>
            <a:br>
              <a:rPr sz="2200"/>
            </a:br>
            <a:r>
              <a:rPr b="0" lang="pl-PL" sz="2200" spc="-1" strike="noStrike">
                <a:solidFill>
                  <a:srgbClr val="000000"/>
                </a:solidFill>
                <a:latin typeface="Times New Roman"/>
              </a:rPr>
              <a:t> W tych wypadkach routery określają trasę w intersieci opierając się na własnych kalkulacjach. Mówimy, że w pierwszej metodzie stacje sieciowe mają inteligencję trasowania, a w metodzie drugiej inteligencję trasowania mają routery.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68"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28600" y="762120"/>
            <a:ext cx="86104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Algorytmy działające według stanu łącza</a:t>
            </a:r>
            <a:r>
              <a:rPr b="0" lang="pl-PL" sz="2400" spc="-1" strike="noStrike">
                <a:solidFill>
                  <a:srgbClr val="000000"/>
                </a:solidFill>
                <a:latin typeface="Times New Roman"/>
              </a:rPr>
              <a:t> (pierwszą trasą jest trasa najkrótsza - Shortest Path First) przesyłają informację trasowania do wszystkich węzłów w intersieci. Jednak każdy router przesyła tylko porcję tabeli trasowania opisującej stan swoich łącz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br>
              <a:rPr sz="2400"/>
            </a:br>
            <a:r>
              <a:rPr b="1" lang="pl-PL" sz="2400" spc="-1" strike="noStrike">
                <a:solidFill>
                  <a:srgbClr val="000000"/>
                </a:solidFill>
                <a:latin typeface="Times New Roman"/>
              </a:rPr>
              <a:t>Algorytmy działające na podstawie wektora odległości (znane także jako algorytmy Bellmana-Forda)</a:t>
            </a:r>
            <a:r>
              <a:rPr b="0" lang="pl-PL" sz="2400" spc="-1" strike="noStrike">
                <a:solidFill>
                  <a:srgbClr val="000000"/>
                </a:solidFill>
                <a:latin typeface="Times New Roman"/>
              </a:rPr>
              <a:t> zwracają się do każdego routera w celu przesłania całych lub częściowych swoich tablic trasowania, ale tylko do swoich sąsiadów. W istocie algorytmy działające według stanu łącza wysyłają aktualizacje w mniejszych porcjach wszędzie, a algorytmy działające na podstawie wektora odległości wysyłają większe porcje aktualizacji tylko do routerów sąsiednic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71"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28600" y="76212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Algorytmy działające na podstawie stanu łącza</a:t>
            </a:r>
            <a:r>
              <a:rPr b="0" lang="en-US" sz="2400" spc="-1" strike="noStrike">
                <a:solidFill>
                  <a:srgbClr val="000000"/>
                </a:solidFill>
                <a:latin typeface="Times New Roman"/>
              </a:rPr>
              <a:t> dokonują konwergencji szybciej z drugiej strony - algorytmy działające na podstawie stanu łącza potrzebują więcej mocy procesora i więcej pamięci niż algorytmy działające na podstawie wektora odległości. Dlatego algorytmy działające na podstawie stanu łącza mogą być droższe w implementacji i użytkowaniu. Mimo różnic oba typy algorytmów spełniają swoje zadania w wielu okolicznościa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74"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28600" y="762120"/>
            <a:ext cx="8610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ary trasowan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ele trasowania zawierają informacje używane przez programowanie w celu wybrania najlepszej tras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Algorytmy trasowani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używają wielu różnych miar do określania najlepszej trasy</a:t>
            </a:r>
            <a:r>
              <a:rPr b="0" lang="en-US" sz="2400" spc="-1" strike="noStrike">
                <a:solidFill>
                  <a:srgbClr val="000000"/>
                </a:solidFill>
                <a:latin typeface="Times New Roman"/>
              </a:rPr>
              <a:t>. Zaawansowane algorytmy trasowania mogą przy selekcji trasy opierać się na wielu miarach, tworząc z nich miarę wypadkową (hybrydową).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zróżnia się obecnie następujące miary trasowania: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ługość ścieżki,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iezawodność,</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óźnieni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zerokość pasma,</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ciążeni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oszt komunikacj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77"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28600" y="762120"/>
            <a:ext cx="86104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Długość ścieżki</a:t>
            </a:r>
            <a:r>
              <a:rPr b="0" lang="pl-PL" sz="2400" spc="-1" strike="noStrike">
                <a:solidFill>
                  <a:srgbClr val="000000"/>
                </a:solidFill>
                <a:latin typeface="Times New Roman"/>
              </a:rPr>
              <a:t> jest najczęściej używaną miarą trasowania. Niektóre protokoły trasowania zezwalają administratorowi sieci na arbitralne przypisywanie kosztów każdemu łączu sieciowemu. W takim wypadku koszt ścieżki jest sumą kosztów związanych z każdym łączem składającym się na ścieżkę. Inne protokoły trasowania natomiast używają miary </a:t>
            </a:r>
            <a:r>
              <a:rPr b="1" lang="pl-PL" sz="2400" spc="-1" strike="noStrike">
                <a:solidFill>
                  <a:srgbClr val="000000"/>
                </a:solidFill>
                <a:latin typeface="Times New Roman"/>
              </a:rPr>
              <a:t>hop count</a:t>
            </a:r>
            <a:r>
              <a:rPr b="0" lang="pl-PL" sz="2400" spc="-1" strike="noStrike">
                <a:solidFill>
                  <a:srgbClr val="000000"/>
                </a:solidFill>
                <a:latin typeface="Times New Roman"/>
              </a:rPr>
              <a:t>, rozumianej jako liczba przejść pakietu przez urządzenia intersieciowe - np. routery - od stacji nadawczej do stacji odbiorcze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l-PL" sz="2400" spc="-1" strike="noStrike">
                <a:solidFill>
                  <a:srgbClr val="000000"/>
                </a:solidFill>
                <a:latin typeface="Times New Roman"/>
              </a:rPr>
              <a:t>Opóźnienie trasowania</a:t>
            </a:r>
            <a:r>
              <a:rPr b="0" lang="pl-PL" sz="2400" spc="-1" strike="noStrike">
                <a:solidFill>
                  <a:srgbClr val="000000"/>
                </a:solidFill>
                <a:latin typeface="Times New Roman"/>
              </a:rPr>
              <a:t> oznacza czas potrzebny do przesłania pakietu od stacji nadawczej do stacji odbiorczej w intersieci. Opóźnienie zależy od wielu czynników, m.in. od szerokość pasma, jakim dysponują pośredniczące łącza sieciowe, przeciążenia wszystkich pośredniczących łączy oraz fizycznej drogi, którą musi przepłynąć informacja. Jak widać, na opóźnienie składa się wiele różnych zmiennych, dlatego miara ta jest ważna i popular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gorytmy trasowania</a:t>
            </a:r>
            <a:endParaRPr b="0" lang="en-US" sz="3200" spc="-1" strike="noStrike">
              <a:solidFill>
                <a:srgbClr val="000000"/>
              </a:solidFill>
              <a:latin typeface="Times New Roman"/>
            </a:endParaRPr>
          </a:p>
        </p:txBody>
      </p:sp>
      <p:sp>
        <p:nvSpPr>
          <p:cNvPr id="580"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28600" y="762120"/>
            <a:ext cx="8610480" cy="59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Niezawodność</a:t>
            </a:r>
            <a:r>
              <a:rPr b="0" lang="pl-PL" sz="2400" spc="-1" strike="noStrike">
                <a:solidFill>
                  <a:srgbClr val="000000"/>
                </a:solidFill>
                <a:latin typeface="Times New Roman"/>
              </a:rPr>
              <a:t>, w kontekście algorytmów trasowania, odnosi się do skuteczności każdego łącza (określanego liczbą przekłamanych bitów). Niektóre łącza mogą ulegać uszkodzeniom częściej od inny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zerokość pasma</a:t>
            </a:r>
            <a:r>
              <a:rPr b="0" lang="pl-PL" sz="2400" spc="-1" strike="noStrike">
                <a:solidFill>
                  <a:srgbClr val="000000"/>
                </a:solidFill>
                <a:latin typeface="Times New Roman"/>
              </a:rPr>
              <a:t> odnosi się do dostępnej pojemności ruchu w określonym łączu. </a:t>
            </a:r>
            <a:br>
              <a:rPr sz="2400"/>
            </a:br>
            <a:br>
              <a:rPr sz="900"/>
            </a:br>
            <a:r>
              <a:rPr b="1" lang="pl-PL" sz="2400" spc="-1" strike="noStrike">
                <a:solidFill>
                  <a:srgbClr val="000000"/>
                </a:solidFill>
                <a:latin typeface="Times New Roman"/>
              </a:rPr>
              <a:t>Obciążenie</a:t>
            </a:r>
            <a:r>
              <a:rPr b="0" lang="pl-PL" sz="2400" spc="-1" strike="noStrike">
                <a:solidFill>
                  <a:srgbClr val="000000"/>
                </a:solidFill>
                <a:latin typeface="Times New Roman"/>
              </a:rPr>
              <a:t> to stopień zajętości zasobu sieciowego, np. routera. Obciążenie zależy od wielu czynników, np. stopnia wykorzystania procesora czy liczby pakietów przetwarzanych w czasie jednej sekun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pl-PL" sz="2400" spc="-1" strike="noStrike">
                <a:solidFill>
                  <a:srgbClr val="000000"/>
                </a:solidFill>
                <a:latin typeface="Times New Roman"/>
              </a:rPr>
              <a:t>Koszt komunikacji</a:t>
            </a:r>
            <a:r>
              <a:rPr b="0" lang="pl-PL" sz="2400" spc="-1" strike="noStrike">
                <a:solidFill>
                  <a:srgbClr val="000000"/>
                </a:solidFill>
                <a:latin typeface="Times New Roman"/>
              </a:rPr>
              <a:t> jest ważną miarą trasowania, przede wszystkim dlatego, że niektóre firmy nie dbają o wydajność. Nawet wtedy, gdy opóźnienia są duże, przesyłają pakiety przez własne linie zamiast korzystać z sieci publicznych, za które się płaci tylko w czasie ich używan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ziękuję za uwagę!!!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truktura adresów protokołu IPv4 </a:t>
            </a:r>
            <a:endParaRPr b="0" lang="en-US" sz="3200" spc="-1" strike="noStrike">
              <a:solidFill>
                <a:srgbClr val="000000"/>
              </a:solidFill>
              <a:latin typeface="Times New Roman"/>
            </a:endParaRPr>
          </a:p>
        </p:txBody>
      </p:sp>
      <p:sp>
        <p:nvSpPr>
          <p:cNvPr id="206"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914400" y="914400"/>
            <a:ext cx="6933960" cy="2133720"/>
            <a:chOff x="914400" y="914400"/>
            <a:chExt cx="6933960" cy="2133720"/>
          </a:xfrm>
        </p:grpSpPr>
        <p:grpSp>
          <p:nvGrpSpPr>
            <p:cNvPr id="208" name=""/>
            <p:cNvGrpSpPr/>
            <p:nvPr/>
          </p:nvGrpSpPr>
          <p:grpSpPr>
            <a:xfrm>
              <a:off x="919440" y="916920"/>
              <a:ext cx="6922800" cy="2127960"/>
              <a:chOff x="919440" y="916920"/>
              <a:chExt cx="6922800" cy="2127960"/>
            </a:xfrm>
          </p:grpSpPr>
          <p:grpSp>
            <p:nvGrpSpPr>
              <p:cNvPr id="209" name=""/>
              <p:cNvGrpSpPr/>
              <p:nvPr/>
            </p:nvGrpSpPr>
            <p:grpSpPr>
              <a:xfrm>
                <a:off x="919440" y="916920"/>
                <a:ext cx="1119240" cy="592920"/>
                <a:chOff x="919440" y="916920"/>
                <a:chExt cx="1119240" cy="592920"/>
              </a:xfrm>
            </p:grpSpPr>
            <p:sp>
              <p:nvSpPr>
                <p:cNvPr id="210" name=""/>
                <p:cNvSpPr/>
                <p:nvPr/>
              </p:nvSpPr>
              <p:spPr>
                <a:xfrm>
                  <a:off x="919440" y="916920"/>
                  <a:ext cx="1119240" cy="59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919440" y="916920"/>
                  <a:ext cx="1118880" cy="592920"/>
                  <a:chOff x="919440" y="916920"/>
                  <a:chExt cx="1118880" cy="592920"/>
                </a:xfrm>
              </p:grpSpPr>
              <p:sp>
                <p:nvSpPr>
                  <p:cNvPr id="212" name=""/>
                  <p:cNvSpPr/>
                  <p:nvPr/>
                </p:nvSpPr>
                <p:spPr>
                  <a:xfrm>
                    <a:off x="969480" y="916920"/>
                    <a:ext cx="1018800" cy="59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las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919440" y="916920"/>
                    <a:ext cx="1118880" cy="59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2039040" y="916920"/>
                <a:ext cx="1424880" cy="592920"/>
                <a:chOff x="2039040" y="916920"/>
                <a:chExt cx="1424880" cy="592920"/>
              </a:xfrm>
            </p:grpSpPr>
            <p:sp>
              <p:nvSpPr>
                <p:cNvPr id="215" name=""/>
                <p:cNvSpPr/>
                <p:nvPr/>
              </p:nvSpPr>
              <p:spPr>
                <a:xfrm>
                  <a:off x="2039040" y="916920"/>
                  <a:ext cx="1424880" cy="59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2039040" y="916920"/>
                  <a:ext cx="1424520" cy="592920"/>
                  <a:chOff x="2039040" y="916920"/>
                  <a:chExt cx="1424520" cy="592920"/>
                </a:xfrm>
              </p:grpSpPr>
              <p:sp>
                <p:nvSpPr>
                  <p:cNvPr id="217" name=""/>
                  <p:cNvSpPr/>
                  <p:nvPr/>
                </p:nvSpPr>
                <p:spPr>
                  <a:xfrm>
                    <a:off x="2089440" y="916920"/>
                    <a:ext cx="1324080" cy="59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iczba sieci</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
                  <p:cNvSpPr/>
                  <p:nvPr/>
                </p:nvSpPr>
                <p:spPr>
                  <a:xfrm>
                    <a:off x="2039040" y="916920"/>
                    <a:ext cx="1424520" cy="59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 name=""/>
              <p:cNvGrpSpPr/>
              <p:nvPr/>
            </p:nvGrpSpPr>
            <p:grpSpPr>
              <a:xfrm>
                <a:off x="3464280" y="916920"/>
                <a:ext cx="1627920" cy="592920"/>
                <a:chOff x="3464280" y="916920"/>
                <a:chExt cx="1627920" cy="592920"/>
              </a:xfrm>
            </p:grpSpPr>
            <p:sp>
              <p:nvSpPr>
                <p:cNvPr id="220" name=""/>
                <p:cNvSpPr/>
                <p:nvPr/>
              </p:nvSpPr>
              <p:spPr>
                <a:xfrm>
                  <a:off x="3464280" y="916920"/>
                  <a:ext cx="1627920" cy="59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3464280" y="916920"/>
                  <a:ext cx="1627560" cy="592920"/>
                  <a:chOff x="3464280" y="916920"/>
                  <a:chExt cx="1627560" cy="592920"/>
                </a:xfrm>
              </p:grpSpPr>
              <p:sp>
                <p:nvSpPr>
                  <p:cNvPr id="222" name=""/>
                  <p:cNvSpPr/>
                  <p:nvPr/>
                </p:nvSpPr>
                <p:spPr>
                  <a:xfrm>
                    <a:off x="3514680" y="916920"/>
                    <a:ext cx="1527120" cy="59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Liczba hostów/sieć</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3" name=""/>
                  <p:cNvSpPr/>
                  <p:nvPr/>
                </p:nvSpPr>
                <p:spPr>
                  <a:xfrm>
                    <a:off x="3464280" y="916920"/>
                    <a:ext cx="1627560" cy="59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 name=""/>
              <p:cNvGrpSpPr/>
              <p:nvPr/>
            </p:nvGrpSpPr>
            <p:grpSpPr>
              <a:xfrm>
                <a:off x="5092560" y="916920"/>
                <a:ext cx="2749680" cy="592920"/>
                <a:chOff x="5092560" y="916920"/>
                <a:chExt cx="2749680" cy="592920"/>
              </a:xfrm>
            </p:grpSpPr>
            <p:sp>
              <p:nvSpPr>
                <p:cNvPr id="225" name=""/>
                <p:cNvSpPr/>
                <p:nvPr/>
              </p:nvSpPr>
              <p:spPr>
                <a:xfrm>
                  <a:off x="5092560" y="916920"/>
                  <a:ext cx="2749680" cy="59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5092560" y="916920"/>
                  <a:ext cx="2749320" cy="592920"/>
                  <a:chOff x="5092560" y="916920"/>
                  <a:chExt cx="2749320" cy="592920"/>
                </a:xfrm>
              </p:grpSpPr>
              <p:sp>
                <p:nvSpPr>
                  <p:cNvPr id="227" name=""/>
                  <p:cNvSpPr/>
                  <p:nvPr/>
                </p:nvSpPr>
                <p:spPr>
                  <a:xfrm>
                    <a:off x="5142960" y="916920"/>
                    <a:ext cx="2648880" cy="59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żliwość uzyskania adresu</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8" name=""/>
                  <p:cNvSpPr/>
                  <p:nvPr/>
                </p:nvSpPr>
                <p:spPr>
                  <a:xfrm>
                    <a:off x="5092560" y="916920"/>
                    <a:ext cx="2749320" cy="59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919440" y="1509840"/>
                <a:ext cx="1119240" cy="592920"/>
                <a:chOff x="919440" y="1509840"/>
                <a:chExt cx="1119240" cy="592920"/>
              </a:xfrm>
            </p:grpSpPr>
            <p:sp>
              <p:nvSpPr>
                <p:cNvPr id="230" name=""/>
                <p:cNvSpPr/>
                <p:nvPr/>
              </p:nvSpPr>
              <p:spPr>
                <a:xfrm>
                  <a:off x="919440" y="1509840"/>
                  <a:ext cx="1119240" cy="59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919440" y="1509840"/>
                  <a:ext cx="1118880" cy="592920"/>
                  <a:chOff x="919440" y="1509840"/>
                  <a:chExt cx="1118880" cy="592920"/>
                </a:xfrm>
              </p:grpSpPr>
              <p:sp>
                <p:nvSpPr>
                  <p:cNvPr id="232" name=""/>
                  <p:cNvSpPr/>
                  <p:nvPr/>
                </p:nvSpPr>
                <p:spPr>
                  <a:xfrm>
                    <a:off x="969480" y="1509840"/>
                    <a:ext cx="1018800" cy="592920"/>
                  </a:xfrm>
                  <a:prstGeom prst="rect">
                    <a:avLst/>
                  </a:prstGeom>
                  <a:noFill/>
                  <a:ln w="0">
                    <a:noFill/>
                  </a:ln>
                </p:spPr>
                <p:style>
                  <a:lnRef idx="0"/>
                  <a:fillRef idx="0"/>
                  <a:effectRef idx="0"/>
                  <a:fontRef idx="minor"/>
                </p:style>
                <p:txBody>
                  <a:bodyPr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919440" y="1509840"/>
                    <a:ext cx="1118880" cy="59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4" name=""/>
              <p:cNvGrpSpPr/>
              <p:nvPr/>
            </p:nvGrpSpPr>
            <p:grpSpPr>
              <a:xfrm>
                <a:off x="2039040" y="1509840"/>
                <a:ext cx="1424880" cy="592920"/>
                <a:chOff x="2039040" y="1509840"/>
                <a:chExt cx="1424880" cy="592920"/>
              </a:xfrm>
            </p:grpSpPr>
            <p:sp>
              <p:nvSpPr>
                <p:cNvPr id="235" name=""/>
                <p:cNvSpPr/>
                <p:nvPr/>
              </p:nvSpPr>
              <p:spPr>
                <a:xfrm>
                  <a:off x="2039040" y="1509840"/>
                  <a:ext cx="1424880" cy="59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2039040" y="1509840"/>
                  <a:ext cx="1424520" cy="592920"/>
                  <a:chOff x="2039040" y="1509840"/>
                  <a:chExt cx="1424520" cy="592920"/>
                </a:xfrm>
              </p:grpSpPr>
              <p:sp>
                <p:nvSpPr>
                  <p:cNvPr id="237" name=""/>
                  <p:cNvSpPr/>
                  <p:nvPr/>
                </p:nvSpPr>
                <p:spPr>
                  <a:xfrm>
                    <a:off x="2089440" y="1509840"/>
                    <a:ext cx="1324080" cy="59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r>
                      <a:rPr b="0" lang="en-US" sz="1400" spc="-1" strike="noStrike" baseline="30000">
                        <a:solidFill>
                          <a:srgbClr val="000000"/>
                        </a:solidFill>
                        <a:latin typeface="Times New Roman"/>
                        <a:ea typeface="Times New Roman"/>
                      </a:rPr>
                      <a:t>7</a:t>
                    </a:r>
                    <a:r>
                      <a:rPr b="0" lang="en-US" sz="1400" spc="-1" strike="noStrike">
                        <a:solidFill>
                          <a:srgbClr val="000000"/>
                        </a:solidFill>
                        <a:latin typeface="Times New Roman"/>
                        <a:ea typeface="Times New Roman"/>
                      </a:rPr>
                      <a:t>-3=1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2039040" y="1509840"/>
                    <a:ext cx="1424520" cy="59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9" name=""/>
              <p:cNvGrpSpPr/>
              <p:nvPr/>
            </p:nvGrpSpPr>
            <p:grpSpPr>
              <a:xfrm>
                <a:off x="3464280" y="1509840"/>
                <a:ext cx="1627920" cy="592920"/>
                <a:chOff x="3464280" y="1509840"/>
                <a:chExt cx="1627920" cy="592920"/>
              </a:xfrm>
            </p:grpSpPr>
            <p:sp>
              <p:nvSpPr>
                <p:cNvPr id="240" name=""/>
                <p:cNvSpPr/>
                <p:nvPr/>
              </p:nvSpPr>
              <p:spPr>
                <a:xfrm>
                  <a:off x="3464280" y="1509840"/>
                  <a:ext cx="1627920" cy="59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3464280" y="1509840"/>
                  <a:ext cx="1627560" cy="592920"/>
                  <a:chOff x="3464280" y="1509840"/>
                  <a:chExt cx="1627560" cy="592920"/>
                </a:xfrm>
              </p:grpSpPr>
              <p:sp>
                <p:nvSpPr>
                  <p:cNvPr id="242" name=""/>
                  <p:cNvSpPr/>
                  <p:nvPr/>
                </p:nvSpPr>
                <p:spPr>
                  <a:xfrm>
                    <a:off x="3514680" y="1509840"/>
                    <a:ext cx="1527120" cy="59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r>
                      <a:rPr b="0" lang="en-US" sz="1400" spc="-1" strike="noStrike" baseline="30000">
                        <a:solidFill>
                          <a:srgbClr val="000000"/>
                        </a:solidFill>
                        <a:latin typeface="Times New Roman"/>
                        <a:ea typeface="Times New Roman"/>
                      </a:rPr>
                      <a:t>24</a:t>
                    </a:r>
                    <a:r>
                      <a:rPr b="0" lang="en-US" sz="1400" spc="-1" strike="noStrike">
                        <a:solidFill>
                          <a:srgbClr val="000000"/>
                        </a:solidFill>
                        <a:latin typeface="Times New Roman"/>
                        <a:ea typeface="Times New Roman"/>
                      </a:rPr>
                      <a:t>-2=16'777'21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3464280" y="1509840"/>
                    <a:ext cx="1627560" cy="59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4" name=""/>
              <p:cNvGrpSpPr/>
              <p:nvPr/>
            </p:nvGrpSpPr>
            <p:grpSpPr>
              <a:xfrm>
                <a:off x="5092560" y="1509840"/>
                <a:ext cx="2749680" cy="592920"/>
                <a:chOff x="5092560" y="1509840"/>
                <a:chExt cx="2749680" cy="592920"/>
              </a:xfrm>
            </p:grpSpPr>
            <p:sp>
              <p:nvSpPr>
                <p:cNvPr id="245" name=""/>
                <p:cNvSpPr/>
                <p:nvPr/>
              </p:nvSpPr>
              <p:spPr>
                <a:xfrm>
                  <a:off x="5092560" y="1509840"/>
                  <a:ext cx="2749680" cy="59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5092560" y="1509840"/>
                  <a:ext cx="2749320" cy="592920"/>
                  <a:chOff x="5092560" y="1509840"/>
                  <a:chExt cx="2749320" cy="592920"/>
                </a:xfrm>
              </p:grpSpPr>
              <p:sp>
                <p:nvSpPr>
                  <p:cNvPr id="247" name=""/>
                  <p:cNvSpPr/>
                  <p:nvPr/>
                </p:nvSpPr>
                <p:spPr>
                  <a:xfrm>
                    <a:off x="5142960" y="1509840"/>
                    <a:ext cx="2648880" cy="59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5092560" y="1509840"/>
                    <a:ext cx="2749320" cy="59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9" name=""/>
              <p:cNvGrpSpPr/>
              <p:nvPr/>
            </p:nvGrpSpPr>
            <p:grpSpPr>
              <a:xfrm>
                <a:off x="919440" y="2102760"/>
                <a:ext cx="1119240" cy="471240"/>
                <a:chOff x="919440" y="2102760"/>
                <a:chExt cx="1119240" cy="471240"/>
              </a:xfrm>
            </p:grpSpPr>
            <p:sp>
              <p:nvSpPr>
                <p:cNvPr id="250" name=""/>
                <p:cNvSpPr/>
                <p:nvPr/>
              </p:nvSpPr>
              <p:spPr>
                <a:xfrm>
                  <a:off x="919440" y="2102760"/>
                  <a:ext cx="1119240" cy="47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919440" y="2102760"/>
                  <a:ext cx="1118880" cy="471240"/>
                  <a:chOff x="919440" y="2102760"/>
                  <a:chExt cx="1118880" cy="471240"/>
                </a:xfrm>
              </p:grpSpPr>
              <p:sp>
                <p:nvSpPr>
                  <p:cNvPr id="252" name=""/>
                  <p:cNvSpPr/>
                  <p:nvPr/>
                </p:nvSpPr>
                <p:spPr>
                  <a:xfrm>
                    <a:off x="969480" y="2102760"/>
                    <a:ext cx="1018800" cy="47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
                  <p:cNvSpPr/>
                  <p:nvPr/>
                </p:nvSpPr>
                <p:spPr>
                  <a:xfrm>
                    <a:off x="919440" y="2102760"/>
                    <a:ext cx="1118880" cy="47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4" name=""/>
              <p:cNvGrpSpPr/>
              <p:nvPr/>
            </p:nvGrpSpPr>
            <p:grpSpPr>
              <a:xfrm>
                <a:off x="2039040" y="2102760"/>
                <a:ext cx="1424880" cy="471240"/>
                <a:chOff x="2039040" y="2102760"/>
                <a:chExt cx="1424880" cy="471240"/>
              </a:xfrm>
            </p:grpSpPr>
            <p:sp>
              <p:nvSpPr>
                <p:cNvPr id="255" name=""/>
                <p:cNvSpPr/>
                <p:nvPr/>
              </p:nvSpPr>
              <p:spPr>
                <a:xfrm>
                  <a:off x="2039040" y="2102760"/>
                  <a:ext cx="1424880" cy="47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2039040" y="2102760"/>
                  <a:ext cx="1424520" cy="471240"/>
                  <a:chOff x="2039040" y="2102760"/>
                  <a:chExt cx="1424520" cy="471240"/>
                </a:xfrm>
              </p:grpSpPr>
              <p:sp>
                <p:nvSpPr>
                  <p:cNvPr id="257" name=""/>
                  <p:cNvSpPr/>
                  <p:nvPr/>
                </p:nvSpPr>
                <p:spPr>
                  <a:xfrm>
                    <a:off x="2089440" y="2102760"/>
                    <a:ext cx="1324080" cy="47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38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2039040" y="2102760"/>
                    <a:ext cx="1424520" cy="47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9" name=""/>
              <p:cNvGrpSpPr/>
              <p:nvPr/>
            </p:nvGrpSpPr>
            <p:grpSpPr>
              <a:xfrm>
                <a:off x="3464280" y="2102760"/>
                <a:ext cx="1627920" cy="471240"/>
                <a:chOff x="3464280" y="2102760"/>
                <a:chExt cx="1627920" cy="471240"/>
              </a:xfrm>
            </p:grpSpPr>
            <p:sp>
              <p:nvSpPr>
                <p:cNvPr id="260" name=""/>
                <p:cNvSpPr/>
                <p:nvPr/>
              </p:nvSpPr>
              <p:spPr>
                <a:xfrm>
                  <a:off x="3464280" y="2102760"/>
                  <a:ext cx="1627920" cy="47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3464280" y="2102760"/>
                  <a:ext cx="1627560" cy="471240"/>
                  <a:chOff x="3464280" y="2102760"/>
                  <a:chExt cx="1627560" cy="471240"/>
                </a:xfrm>
              </p:grpSpPr>
              <p:sp>
                <p:nvSpPr>
                  <p:cNvPr id="262" name=""/>
                  <p:cNvSpPr/>
                  <p:nvPr/>
                </p:nvSpPr>
                <p:spPr>
                  <a:xfrm>
                    <a:off x="3514680" y="2102760"/>
                    <a:ext cx="1527120" cy="47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53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3464280" y="2102760"/>
                    <a:ext cx="1627560" cy="47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4" name=""/>
              <p:cNvGrpSpPr/>
              <p:nvPr/>
            </p:nvGrpSpPr>
            <p:grpSpPr>
              <a:xfrm>
                <a:off x="5092560" y="2102760"/>
                <a:ext cx="2749680" cy="471240"/>
                <a:chOff x="5092560" y="2102760"/>
                <a:chExt cx="2749680" cy="471240"/>
              </a:xfrm>
            </p:grpSpPr>
            <p:sp>
              <p:nvSpPr>
                <p:cNvPr id="265" name=""/>
                <p:cNvSpPr/>
                <p:nvPr/>
              </p:nvSpPr>
              <p:spPr>
                <a:xfrm>
                  <a:off x="5092560" y="2102760"/>
                  <a:ext cx="2749680" cy="47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5092560" y="2102760"/>
                  <a:ext cx="2749320" cy="471240"/>
                  <a:chOff x="5092560" y="2102760"/>
                  <a:chExt cx="2749320" cy="471240"/>
                </a:xfrm>
              </p:grpSpPr>
              <p:sp>
                <p:nvSpPr>
                  <p:cNvPr id="267" name=""/>
                  <p:cNvSpPr/>
                  <p:nvPr/>
                </p:nvSpPr>
                <p:spPr>
                  <a:xfrm>
                    <a:off x="5142960" y="2102760"/>
                    <a:ext cx="2648880" cy="47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8" name=""/>
                  <p:cNvSpPr/>
                  <p:nvPr/>
                </p:nvSpPr>
                <p:spPr>
                  <a:xfrm>
                    <a:off x="5092560" y="2102760"/>
                    <a:ext cx="2749320" cy="47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9" name=""/>
              <p:cNvGrpSpPr/>
              <p:nvPr/>
            </p:nvGrpSpPr>
            <p:grpSpPr>
              <a:xfrm>
                <a:off x="919440" y="2574000"/>
                <a:ext cx="1119240" cy="470880"/>
                <a:chOff x="919440" y="2574000"/>
                <a:chExt cx="1119240" cy="470880"/>
              </a:xfrm>
            </p:grpSpPr>
            <p:sp>
              <p:nvSpPr>
                <p:cNvPr id="270" name=""/>
                <p:cNvSpPr/>
                <p:nvPr/>
              </p:nvSpPr>
              <p:spPr>
                <a:xfrm>
                  <a:off x="919440" y="2574000"/>
                  <a:ext cx="1119240" cy="47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 name=""/>
                <p:cNvGrpSpPr/>
                <p:nvPr/>
              </p:nvGrpSpPr>
              <p:grpSpPr>
                <a:xfrm>
                  <a:off x="919440" y="2574000"/>
                  <a:ext cx="1118880" cy="470880"/>
                  <a:chOff x="919440" y="2574000"/>
                  <a:chExt cx="1118880" cy="470880"/>
                </a:xfrm>
              </p:grpSpPr>
              <p:sp>
                <p:nvSpPr>
                  <p:cNvPr id="272" name=""/>
                  <p:cNvSpPr/>
                  <p:nvPr/>
                </p:nvSpPr>
                <p:spPr>
                  <a:xfrm>
                    <a:off x="969480" y="2574000"/>
                    <a:ext cx="101880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3" name=""/>
                  <p:cNvSpPr/>
                  <p:nvPr/>
                </p:nvSpPr>
                <p:spPr>
                  <a:xfrm>
                    <a:off x="919440" y="2574000"/>
                    <a:ext cx="1118880" cy="47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4" name=""/>
              <p:cNvGrpSpPr/>
              <p:nvPr/>
            </p:nvGrpSpPr>
            <p:grpSpPr>
              <a:xfrm>
                <a:off x="2039040" y="2574000"/>
                <a:ext cx="1424880" cy="470880"/>
                <a:chOff x="2039040" y="2574000"/>
                <a:chExt cx="1424880" cy="470880"/>
              </a:xfrm>
            </p:grpSpPr>
            <p:sp>
              <p:nvSpPr>
                <p:cNvPr id="275" name=""/>
                <p:cNvSpPr/>
                <p:nvPr/>
              </p:nvSpPr>
              <p:spPr>
                <a:xfrm>
                  <a:off x="2039040" y="2574000"/>
                  <a:ext cx="1424880" cy="47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2039040" y="2574000"/>
                  <a:ext cx="1424520" cy="470880"/>
                  <a:chOff x="2039040" y="2574000"/>
                  <a:chExt cx="1424520" cy="470880"/>
                </a:xfrm>
              </p:grpSpPr>
              <p:sp>
                <p:nvSpPr>
                  <p:cNvPr id="277" name=""/>
                  <p:cNvSpPr/>
                  <p:nvPr/>
                </p:nvSpPr>
                <p:spPr>
                  <a:xfrm>
                    <a:off x="2089440" y="2574000"/>
                    <a:ext cx="132408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97'15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8" name=""/>
                  <p:cNvSpPr/>
                  <p:nvPr/>
                </p:nvSpPr>
                <p:spPr>
                  <a:xfrm>
                    <a:off x="2039040" y="2574000"/>
                    <a:ext cx="1424520" cy="47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9" name=""/>
              <p:cNvGrpSpPr/>
              <p:nvPr/>
            </p:nvGrpSpPr>
            <p:grpSpPr>
              <a:xfrm>
                <a:off x="3464280" y="2574000"/>
                <a:ext cx="1627920" cy="470880"/>
                <a:chOff x="3464280" y="2574000"/>
                <a:chExt cx="1627920" cy="470880"/>
              </a:xfrm>
            </p:grpSpPr>
            <p:sp>
              <p:nvSpPr>
                <p:cNvPr id="280" name=""/>
                <p:cNvSpPr/>
                <p:nvPr/>
              </p:nvSpPr>
              <p:spPr>
                <a:xfrm>
                  <a:off x="3464280" y="2574000"/>
                  <a:ext cx="1627920" cy="47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 name=""/>
                <p:cNvGrpSpPr/>
                <p:nvPr/>
              </p:nvGrpSpPr>
              <p:grpSpPr>
                <a:xfrm>
                  <a:off x="3464280" y="2574000"/>
                  <a:ext cx="1627560" cy="470880"/>
                  <a:chOff x="3464280" y="2574000"/>
                  <a:chExt cx="1627560" cy="470880"/>
                </a:xfrm>
              </p:grpSpPr>
              <p:sp>
                <p:nvSpPr>
                  <p:cNvPr id="282" name=""/>
                  <p:cNvSpPr/>
                  <p:nvPr/>
                </p:nvSpPr>
                <p:spPr>
                  <a:xfrm>
                    <a:off x="3514680" y="2574000"/>
                    <a:ext cx="152712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r>
                      <a:rPr b="0" lang="en-US" sz="1400" spc="-1" strike="noStrike" baseline="30000">
                        <a:solidFill>
                          <a:srgbClr val="000000"/>
                        </a:solidFill>
                        <a:latin typeface="Times New Roman"/>
                        <a:ea typeface="Times New Roman"/>
                      </a:rPr>
                      <a:t>8</a:t>
                    </a:r>
                    <a:r>
                      <a:rPr b="0" lang="en-US" sz="1400" spc="-1" strike="noStrike">
                        <a:solidFill>
                          <a:srgbClr val="000000"/>
                        </a:solidFill>
                        <a:latin typeface="Times New Roman"/>
                        <a:ea typeface="Times New Roman"/>
                      </a:rPr>
                      <a:t>-2=25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3" name=""/>
                  <p:cNvSpPr/>
                  <p:nvPr/>
                </p:nvSpPr>
                <p:spPr>
                  <a:xfrm>
                    <a:off x="3464280" y="2574000"/>
                    <a:ext cx="1627560" cy="47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4" name=""/>
              <p:cNvGrpSpPr/>
              <p:nvPr/>
            </p:nvGrpSpPr>
            <p:grpSpPr>
              <a:xfrm>
                <a:off x="5092560" y="2574000"/>
                <a:ext cx="2749680" cy="470880"/>
                <a:chOff x="5092560" y="2574000"/>
                <a:chExt cx="2749680" cy="470880"/>
              </a:xfrm>
            </p:grpSpPr>
            <p:sp>
              <p:nvSpPr>
                <p:cNvPr id="285" name=""/>
                <p:cNvSpPr/>
                <p:nvPr/>
              </p:nvSpPr>
              <p:spPr>
                <a:xfrm>
                  <a:off x="5092560" y="2574000"/>
                  <a:ext cx="2749680" cy="47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
                <p:cNvGrpSpPr/>
                <p:nvPr/>
              </p:nvGrpSpPr>
              <p:grpSpPr>
                <a:xfrm>
                  <a:off x="5092560" y="2574000"/>
                  <a:ext cx="2749320" cy="470880"/>
                  <a:chOff x="5092560" y="2574000"/>
                  <a:chExt cx="2749320" cy="470880"/>
                </a:xfrm>
              </p:grpSpPr>
              <p:sp>
                <p:nvSpPr>
                  <p:cNvPr id="287" name=""/>
                  <p:cNvSpPr/>
                  <p:nvPr/>
                </p:nvSpPr>
                <p:spPr>
                  <a:xfrm>
                    <a:off x="5142960" y="2574000"/>
                    <a:ext cx="264888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a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8" name=""/>
                  <p:cNvSpPr/>
                  <p:nvPr/>
                </p:nvSpPr>
                <p:spPr>
                  <a:xfrm>
                    <a:off x="5092560" y="2574000"/>
                    <a:ext cx="2749320" cy="47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9" name=""/>
            <p:cNvSpPr/>
            <p:nvPr/>
          </p:nvSpPr>
          <p:spPr>
            <a:xfrm>
              <a:off x="914400" y="914400"/>
              <a:ext cx="6933960" cy="2133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228600" y="3200400"/>
            <a:ext cx="86868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 </a:t>
            </a:r>
            <a:r>
              <a:rPr b="1" lang="pl-PL" sz="1800" spc="-1" strike="noStrike">
                <a:solidFill>
                  <a:srgbClr val="000000"/>
                </a:solidFill>
                <a:latin typeface="Times New Roman"/>
              </a:rPr>
              <a:t>klasie A</a:t>
            </a:r>
            <a:r>
              <a:rPr b="0" lang="pl-PL" sz="1800" spc="-1" strike="noStrike">
                <a:solidFill>
                  <a:srgbClr val="000000"/>
                </a:solidFill>
                <a:latin typeface="Times New Roman"/>
              </a:rPr>
              <a:t> dysponujemy tylko </a:t>
            </a:r>
            <a:r>
              <a:rPr b="1" lang="pl-PL" sz="1800" spc="-1" strike="noStrike">
                <a:solidFill>
                  <a:srgbClr val="000000"/>
                </a:solidFill>
                <a:latin typeface="Times New Roman"/>
              </a:rPr>
              <a:t>126</a:t>
            </a:r>
            <a:r>
              <a:rPr b="0" lang="pl-PL" sz="1800" spc="-1" strike="noStrike">
                <a:solidFill>
                  <a:srgbClr val="000000"/>
                </a:solidFill>
                <a:latin typeface="Times New Roman"/>
              </a:rPr>
              <a:t> adresami sieci. Przydzielone pierwszym użytkownikom protokołu IP, takich jak MIT ( Massachusetts Institute of Technology ) i innym uniwersytetom oraz korporacją, takim jak Xero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 </a:t>
            </a:r>
            <a:r>
              <a:rPr b="1" lang="pl-PL" sz="1800" spc="-1" strike="noStrike">
                <a:solidFill>
                  <a:srgbClr val="000000"/>
                </a:solidFill>
                <a:latin typeface="Times New Roman"/>
              </a:rPr>
              <a:t>klasie B</a:t>
            </a:r>
            <a:r>
              <a:rPr b="0" lang="pl-PL" sz="1800" spc="-1" strike="noStrike">
                <a:solidFill>
                  <a:srgbClr val="000000"/>
                </a:solidFill>
                <a:latin typeface="Times New Roman"/>
              </a:rPr>
              <a:t> jest przeszło </a:t>
            </a:r>
            <a:r>
              <a:rPr b="1" lang="pl-PL" sz="1800" spc="-1" strike="noStrike">
                <a:solidFill>
                  <a:srgbClr val="000000"/>
                </a:solidFill>
                <a:latin typeface="Times New Roman"/>
              </a:rPr>
              <a:t>16000</a:t>
            </a:r>
            <a:r>
              <a:rPr b="0" lang="pl-PL" sz="1800" spc="-1" strike="noStrike">
                <a:solidFill>
                  <a:srgbClr val="000000"/>
                </a:solidFill>
                <a:latin typeface="Times New Roman"/>
              </a:rPr>
              <a:t> adresów sieci , z których każdy dysponuje </a:t>
            </a:r>
            <a:r>
              <a:rPr b="1" lang="pl-PL" sz="1800" spc="-1" strike="noStrike">
                <a:solidFill>
                  <a:srgbClr val="000000"/>
                </a:solidFill>
                <a:latin typeface="Times New Roman"/>
              </a:rPr>
              <a:t>65534</a:t>
            </a:r>
            <a:r>
              <a:rPr b="0" lang="pl-PL" sz="1800" spc="-1" strike="noStrike">
                <a:solidFill>
                  <a:srgbClr val="000000"/>
                </a:solidFill>
                <a:latin typeface="Times New Roman"/>
              </a:rPr>
              <a:t> unikatowymi 16-bitowymi adresami hostów. Są one zarezerwowane dla przedsiębiorstw i instytucji posiadających co najmniej 4000 hostów i które mogą uzasadnić konieczność posiadania 32 podsiec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 </a:t>
            </a:r>
            <a:r>
              <a:rPr b="1" lang="pl-PL" sz="1800" spc="-1" strike="noStrike">
                <a:solidFill>
                  <a:srgbClr val="000000"/>
                </a:solidFill>
                <a:latin typeface="Times New Roman"/>
              </a:rPr>
              <a:t>klasie C</a:t>
            </a:r>
            <a:r>
              <a:rPr b="0" lang="pl-PL" sz="1800" spc="-1" strike="noStrike">
                <a:solidFill>
                  <a:srgbClr val="000000"/>
                </a:solidFill>
                <a:latin typeface="Times New Roman"/>
              </a:rPr>
              <a:t> jest nieco </a:t>
            </a:r>
            <a:r>
              <a:rPr b="1" lang="pl-PL" sz="1800" spc="-1" strike="noStrike">
                <a:solidFill>
                  <a:srgbClr val="000000"/>
                </a:solidFill>
                <a:latin typeface="Times New Roman"/>
              </a:rPr>
              <a:t>ponad</a:t>
            </a:r>
            <a:r>
              <a:rPr b="0" lang="pl-PL" sz="1800" spc="-1" strike="noStrike">
                <a:solidFill>
                  <a:srgbClr val="000000"/>
                </a:solidFill>
                <a:latin typeface="Times New Roman"/>
              </a:rPr>
              <a:t> </a:t>
            </a:r>
            <a:r>
              <a:rPr b="1" lang="pl-PL" sz="1800" spc="-1" strike="noStrike">
                <a:solidFill>
                  <a:srgbClr val="000000"/>
                </a:solidFill>
                <a:latin typeface="Times New Roman"/>
              </a:rPr>
              <a:t>2 miliony</a:t>
            </a:r>
            <a:r>
              <a:rPr b="0" lang="pl-PL" sz="1800" spc="-1" strike="noStrike">
                <a:solidFill>
                  <a:srgbClr val="000000"/>
                </a:solidFill>
                <a:latin typeface="Times New Roman"/>
              </a:rPr>
              <a:t> adresów sieci, z których każdy może udostępnić 254 adresy węzłów.</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 klasie </a:t>
            </a:r>
            <a:r>
              <a:rPr b="1" lang="pl-PL" sz="1800" spc="-1" strike="noStrike">
                <a:solidFill>
                  <a:srgbClr val="000000"/>
                </a:solidFill>
                <a:latin typeface="Times New Roman"/>
              </a:rPr>
              <a:t>D</a:t>
            </a:r>
            <a:r>
              <a:rPr b="0" lang="pl-PL" sz="1800" spc="-1" strike="noStrike">
                <a:solidFill>
                  <a:srgbClr val="000000"/>
                </a:solidFill>
                <a:latin typeface="Times New Roman"/>
              </a:rPr>
              <a:t> protokół IP multicast ,zamiast wysyłać indywidualne pakiety do poszczególnych miejsc przeznaczenia, wysyła tylko jeden pakiet do wszystkich odbiorców w grupie multicast, która jest identyfikowana jednym adresem IP grupy (miejsca przeznaczeni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truktura adresów protokołu IPv4 </a:t>
            </a:r>
            <a:endParaRPr b="0" lang="en-US" sz="3200" spc="-1" strike="noStrike">
              <a:solidFill>
                <a:srgbClr val="000000"/>
              </a:solidFill>
              <a:latin typeface="Times New Roman"/>
            </a:endParaRPr>
          </a:p>
        </p:txBody>
      </p:sp>
      <p:sp>
        <p:nvSpPr>
          <p:cNvPr id="292"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04920" y="914400"/>
            <a:ext cx="84582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905120"/>
                <a:tab algn="l" pos="3809880"/>
                <a:tab algn="l" pos="5715000"/>
                <a:tab algn="l" pos="7620120"/>
                <a:tab algn="l" pos="9524880"/>
              </a:tabLst>
            </a:pPr>
            <a:r>
              <a:rPr b="1" lang="pl-PL" sz="2000" spc="-1" strike="noStrike">
                <a:solidFill>
                  <a:srgbClr val="000000"/>
                </a:solidFill>
                <a:latin typeface="Times New Roman"/>
              </a:rPr>
              <a:t>Przypadki szczególne:</a:t>
            </a:r>
            <a:endParaRPr b="0" lang="en-US" sz="2000" spc="-1" strike="noStrike">
              <a:solidFill>
                <a:srgbClr val="000000"/>
              </a:solidFill>
              <a:latin typeface="Times New Roman"/>
            </a:endParaRPr>
          </a:p>
          <a:p>
            <a:pPr>
              <a:tabLst>
                <a:tab algn="l" pos="0"/>
                <a:tab algn="l" pos="1905120"/>
                <a:tab algn="l" pos="3809880"/>
                <a:tab algn="l" pos="5715000"/>
                <a:tab algn="l" pos="7620120"/>
                <a:tab algn="l" pos="9524880"/>
              </a:tabLst>
            </a:pPr>
            <a:endParaRPr b="0" lang="en-US" sz="2000" spc="-1" strike="noStrike">
              <a:solidFill>
                <a:srgbClr val="000000"/>
              </a:solidFill>
              <a:latin typeface="Times New Roman"/>
            </a:endParaRPr>
          </a:p>
          <a:p>
            <a:pPr>
              <a:tabLst>
                <a:tab algn="l" pos="0"/>
                <a:tab algn="l" pos="1905120"/>
                <a:tab algn="l" pos="3809880"/>
                <a:tab algn="l" pos="5715000"/>
                <a:tab algn="l" pos="7620120"/>
                <a:tab algn="l" pos="9524880"/>
              </a:tabLst>
            </a:pPr>
            <a:r>
              <a:rPr b="1" lang="pl-PL" sz="2000" spc="-1" strike="noStrike">
                <a:solidFill>
                  <a:srgbClr val="000000"/>
                </a:solidFill>
                <a:latin typeface="Times New Roman"/>
              </a:rPr>
              <a:t>128.18.0.0</a:t>
            </a:r>
            <a:r>
              <a:rPr b="0" lang="pl-PL" sz="2000" spc="-1" strike="noStrike">
                <a:solidFill>
                  <a:srgbClr val="000000"/>
                </a:solidFill>
                <a:latin typeface="Times New Roman"/>
              </a:rPr>
              <a:t>	</a:t>
            </a:r>
            <a:r>
              <a:rPr b="0" lang="pl-PL" sz="2000" spc="-1" strike="noStrike">
                <a:solidFill>
                  <a:srgbClr val="000000"/>
                </a:solidFill>
                <a:latin typeface="Times New Roman"/>
              </a:rPr>
              <a:t>- adres z samymi zerami wskazuje na lokalną sieć (w tym</a:t>
            </a:r>
            <a:br>
              <a:rPr sz="2000"/>
            </a:br>
            <a:r>
              <a:rPr b="0" lang="pl-PL" sz="2000" spc="-1" strike="noStrike">
                <a:solidFill>
                  <a:srgbClr val="000000"/>
                </a:solidFill>
                <a:latin typeface="Times New Roman"/>
              </a:rPr>
              <a:t>	</a:t>
            </a:r>
            <a:r>
              <a:rPr b="0" lang="pl-PL" sz="2000" spc="-1" strike="noStrike">
                <a:solidFill>
                  <a:srgbClr val="000000"/>
                </a:solidFill>
                <a:latin typeface="Times New Roman"/>
              </a:rPr>
              <a:t>przypadku klasy B).</a:t>
            </a:r>
            <a:endParaRPr b="0" lang="en-US" sz="2000" spc="-1" strike="noStrike">
              <a:solidFill>
                <a:srgbClr val="000000"/>
              </a:solidFill>
              <a:latin typeface="Times New Roman"/>
            </a:endParaRPr>
          </a:p>
          <a:p>
            <a:pPr>
              <a:tabLst>
                <a:tab algn="l" pos="0"/>
                <a:tab algn="l" pos="1905120"/>
                <a:tab algn="l" pos="3809880"/>
                <a:tab algn="l" pos="5715000"/>
                <a:tab algn="l" pos="7620120"/>
                <a:tab algn="l" pos="9524880"/>
              </a:tabLst>
            </a:pPr>
            <a:endParaRPr b="0" lang="en-US" sz="2000" spc="-1" strike="noStrike">
              <a:solidFill>
                <a:srgbClr val="000000"/>
              </a:solidFill>
              <a:latin typeface="Times New Roman"/>
            </a:endParaRPr>
          </a:p>
          <a:p>
            <a:pPr>
              <a:tabLst>
                <a:tab algn="l" pos="0"/>
                <a:tab algn="l" pos="1905120"/>
                <a:tab algn="l" pos="3809880"/>
                <a:tab algn="l" pos="5715000"/>
                <a:tab algn="l" pos="7620120"/>
                <a:tab algn="l" pos="9524880"/>
              </a:tabLst>
            </a:pPr>
            <a:r>
              <a:rPr b="1" lang="pl-PL" sz="2000" spc="-1" strike="noStrike">
                <a:solidFill>
                  <a:srgbClr val="000000"/>
                </a:solidFill>
                <a:latin typeface="Times New Roman"/>
              </a:rPr>
              <a:t>0.0.0.150</a:t>
            </a:r>
            <a:r>
              <a:rPr b="0" lang="pl-PL" sz="2000" spc="-1" strike="noStrike">
                <a:solidFill>
                  <a:srgbClr val="000000"/>
                </a:solidFill>
                <a:latin typeface="Times New Roman"/>
              </a:rPr>
              <a:t>	</a:t>
            </a:r>
            <a:r>
              <a:rPr b="0" lang="pl-PL" sz="2000" spc="-1" strike="noStrike">
                <a:solidFill>
                  <a:srgbClr val="000000"/>
                </a:solidFill>
                <a:latin typeface="Times New Roman"/>
              </a:rPr>
              <a:t>- wskazuje na host z numerem 150 w tej sieci klasy C.</a:t>
            </a:r>
            <a:endParaRPr b="0" lang="en-US" sz="2000" spc="-1" strike="noStrike">
              <a:solidFill>
                <a:srgbClr val="000000"/>
              </a:solidFill>
              <a:latin typeface="Times New Roman"/>
            </a:endParaRPr>
          </a:p>
          <a:p>
            <a:pPr>
              <a:tabLst>
                <a:tab algn="l" pos="0"/>
                <a:tab algn="l" pos="1905120"/>
                <a:tab algn="l" pos="3809880"/>
                <a:tab algn="l" pos="5715000"/>
                <a:tab algn="l" pos="7620120"/>
                <a:tab algn="l" pos="9524880"/>
              </a:tabLst>
            </a:pPr>
            <a:endParaRPr b="0" lang="en-US" sz="2000" spc="-1" strike="noStrike">
              <a:solidFill>
                <a:srgbClr val="000000"/>
              </a:solidFill>
              <a:latin typeface="Times New Roman"/>
            </a:endParaRPr>
          </a:p>
          <a:p>
            <a:pPr>
              <a:tabLst>
                <a:tab algn="l" pos="0"/>
                <a:tab algn="l" pos="1905120"/>
                <a:tab algn="l" pos="3809880"/>
                <a:tab algn="l" pos="5715000"/>
                <a:tab algn="l" pos="7620120"/>
                <a:tab algn="l" pos="9524880"/>
              </a:tabLst>
            </a:pPr>
            <a:r>
              <a:rPr b="1" lang="pl-PL" sz="2000" spc="-1" strike="noStrike">
                <a:solidFill>
                  <a:srgbClr val="000000"/>
                </a:solidFill>
                <a:latin typeface="Times New Roman"/>
              </a:rPr>
              <a:t>127.xxx.xxx.xxx</a:t>
            </a:r>
            <a:r>
              <a:rPr b="0" lang="pl-PL" sz="2000" spc="-1" strike="noStrike">
                <a:solidFill>
                  <a:srgbClr val="000000"/>
                </a:solidFill>
                <a:latin typeface="Times New Roman"/>
              </a:rPr>
              <a:t>	</a:t>
            </a:r>
            <a:r>
              <a:rPr b="0" lang="pl-PL" sz="2000" spc="-1" strike="noStrike">
                <a:solidFill>
                  <a:srgbClr val="000000"/>
                </a:solidFill>
                <a:latin typeface="Times New Roman"/>
              </a:rPr>
              <a:t>- adres klasy A używany do testu zwrotnego (loopback) </a:t>
            </a:r>
            <a:r>
              <a:rPr b="0" lang="pl-PL" sz="2000" spc="-1" strike="noStrike">
                <a:solidFill>
                  <a:srgbClr val="000000"/>
                </a:solidFill>
                <a:latin typeface="Times New Roman"/>
              </a:rPr>
              <a:t>	</a:t>
            </a:r>
            <a:r>
              <a:rPr b="0" lang="pl-PL" sz="2000" spc="-1" strike="noStrike">
                <a:solidFill>
                  <a:srgbClr val="000000"/>
                </a:solidFill>
                <a:latin typeface="Times New Roman"/>
              </a:rPr>
              <a:t>komunikacji hosta z samym sobą (zwykle jest to adres</a:t>
            </a:r>
            <a:br>
              <a:rPr sz="2000"/>
            </a:br>
            <a:r>
              <a:rPr b="0" lang="pl-PL" sz="2000" spc="-1" strike="noStrike">
                <a:solidFill>
                  <a:srgbClr val="000000"/>
                </a:solidFill>
                <a:latin typeface="Times New Roman"/>
              </a:rPr>
              <a:t>	</a:t>
            </a:r>
            <a:r>
              <a:rPr b="0" lang="pl-PL" sz="2000" spc="-1" strike="noStrike">
                <a:solidFill>
                  <a:srgbClr val="000000"/>
                </a:solidFill>
                <a:latin typeface="Times New Roman"/>
              </a:rPr>
              <a:t>127.0.0.1). Proces próbujący połączyć się z innym procesem</a:t>
            </a:r>
            <a:br>
              <a:rPr sz="2000"/>
            </a:br>
            <a:r>
              <a:rPr b="0" lang="pl-PL" sz="2000" spc="-1" strike="noStrike">
                <a:solidFill>
                  <a:srgbClr val="000000"/>
                </a:solidFill>
                <a:latin typeface="Times New Roman"/>
              </a:rPr>
              <a:t>	</a:t>
            </a:r>
            <a:r>
              <a:rPr b="0" lang="pl-PL" sz="2000" spc="-1" strike="noStrike">
                <a:solidFill>
                  <a:srgbClr val="000000"/>
                </a:solidFill>
                <a:latin typeface="Times New Roman"/>
              </a:rPr>
              <a:t>na tym samym hoście, używa adresu zwrotnego aby uniknąć</a:t>
            </a:r>
            <a:br>
              <a:rPr sz="2000"/>
            </a:br>
            <a:r>
              <a:rPr b="0" lang="pl-PL" sz="2000" spc="-1" strike="noStrike">
                <a:solidFill>
                  <a:srgbClr val="000000"/>
                </a:solidFill>
                <a:latin typeface="Times New Roman"/>
              </a:rPr>
              <a:t>	</a:t>
            </a:r>
            <a:r>
              <a:rPr b="0" lang="pl-PL" sz="2000" spc="-1" strike="noStrike">
                <a:solidFill>
                  <a:srgbClr val="000000"/>
                </a:solidFill>
                <a:latin typeface="Times New Roman"/>
              </a:rPr>
              <a:t>wysyłania pakietów przez sieć. </a:t>
            </a:r>
            <a:endParaRPr b="0" lang="en-US" sz="2000" spc="-1" strike="noStrike">
              <a:solidFill>
                <a:srgbClr val="000000"/>
              </a:solidFill>
              <a:latin typeface="Times New Roman"/>
            </a:endParaRPr>
          </a:p>
          <a:p>
            <a:pPr>
              <a:tabLst>
                <a:tab algn="l" pos="0"/>
                <a:tab algn="l" pos="1905120"/>
                <a:tab algn="l" pos="3809880"/>
                <a:tab algn="l" pos="5715000"/>
                <a:tab algn="l" pos="7620120"/>
                <a:tab algn="l" pos="9524880"/>
              </a:tabLst>
            </a:pPr>
            <a:endParaRPr b="0" lang="en-US" sz="2000" spc="-1" strike="noStrike">
              <a:solidFill>
                <a:srgbClr val="000000"/>
              </a:solidFill>
              <a:latin typeface="Times New Roman"/>
            </a:endParaRPr>
          </a:p>
          <a:p>
            <a:pPr>
              <a:tabLst>
                <a:tab algn="l" pos="0"/>
                <a:tab algn="l" pos="1905120"/>
                <a:tab algn="l" pos="3809880"/>
                <a:tab algn="l" pos="5715000"/>
                <a:tab algn="l" pos="7620120"/>
                <a:tab algn="l" pos="9524880"/>
              </a:tabLst>
            </a:pPr>
            <a:r>
              <a:rPr b="1" lang="pl-PL" sz="2000" spc="-1" strike="noStrike">
                <a:solidFill>
                  <a:srgbClr val="000000"/>
                </a:solidFill>
                <a:latin typeface="Times New Roman"/>
              </a:rPr>
              <a:t>128.18.255.255</a:t>
            </a:r>
            <a:r>
              <a:rPr b="0" lang="pl-PL" sz="2000" spc="-1" strike="noStrike">
                <a:solidFill>
                  <a:srgbClr val="000000"/>
                </a:solidFill>
                <a:latin typeface="Times New Roman"/>
              </a:rPr>
              <a:t>	</a:t>
            </a:r>
            <a:r>
              <a:rPr b="0" lang="pl-PL" sz="2000" spc="-1" strike="noStrike">
                <a:solidFill>
                  <a:srgbClr val="000000"/>
                </a:solidFill>
                <a:latin typeface="Times New Roman"/>
              </a:rPr>
              <a:t>- oznacza wszystkie hosty w sieci 128.18 klasy B. Włączenie</a:t>
            </a:r>
            <a:br>
              <a:rPr sz="2000"/>
            </a:br>
            <a:r>
              <a:rPr b="0" lang="pl-PL" sz="2000" spc="-1" strike="noStrike">
                <a:solidFill>
                  <a:srgbClr val="000000"/>
                </a:solidFill>
                <a:latin typeface="Times New Roman"/>
              </a:rPr>
              <a:t>	</a:t>
            </a:r>
            <a:r>
              <a:rPr b="0" lang="pl-PL" sz="2000" spc="-1" strike="noStrike">
                <a:solidFill>
                  <a:srgbClr val="000000"/>
                </a:solidFill>
                <a:latin typeface="Times New Roman"/>
              </a:rPr>
              <a:t>wszystkich bitów w jakiejś części adresu oznacza komunikat</a:t>
            </a:r>
            <a:br>
              <a:rPr sz="2000"/>
            </a:br>
            <a:r>
              <a:rPr b="0" lang="pl-PL" sz="2000" spc="-1" strike="noStrike">
                <a:solidFill>
                  <a:srgbClr val="000000"/>
                </a:solidFill>
                <a:latin typeface="Times New Roman"/>
              </a:rPr>
              <a:t>	</a:t>
            </a:r>
            <a:r>
              <a:rPr b="0" lang="pl-PL" sz="2000" spc="-1" strike="noStrike">
                <a:solidFill>
                  <a:srgbClr val="000000"/>
                </a:solidFill>
                <a:latin typeface="Times New Roman"/>
              </a:rPr>
              <a:t>sieciowy (broadcast).</a:t>
            </a:r>
            <a:endParaRPr b="0" lang="en-US" sz="2000" spc="-1" strike="noStrike">
              <a:solidFill>
                <a:srgbClr val="000000"/>
              </a:solidFill>
              <a:latin typeface="Times New Roman"/>
            </a:endParaRPr>
          </a:p>
          <a:p>
            <a:pPr>
              <a:tabLst>
                <a:tab algn="l" pos="0"/>
                <a:tab algn="l" pos="1905120"/>
                <a:tab algn="l" pos="3809880"/>
                <a:tab algn="l" pos="5715000"/>
                <a:tab algn="l" pos="7620120"/>
                <a:tab algn="l" pos="9524880"/>
              </a:tabLst>
            </a:pPr>
            <a:endParaRPr b="0" lang="en-US" sz="2000" spc="-1" strike="noStrike">
              <a:solidFill>
                <a:srgbClr val="000000"/>
              </a:solidFill>
              <a:latin typeface="Times New Roman"/>
            </a:endParaRPr>
          </a:p>
          <a:p>
            <a:pPr>
              <a:tabLst>
                <a:tab algn="l" pos="0"/>
                <a:tab algn="l" pos="1905120"/>
                <a:tab algn="l" pos="3809880"/>
                <a:tab algn="l" pos="5715000"/>
                <a:tab algn="l" pos="7620120"/>
                <a:tab algn="l" pos="9524880"/>
              </a:tabLst>
            </a:pPr>
            <a:r>
              <a:rPr b="1" lang="pl-PL" sz="2000" spc="-1" strike="noStrike">
                <a:solidFill>
                  <a:srgbClr val="000000"/>
                </a:solidFill>
                <a:latin typeface="Times New Roman"/>
              </a:rPr>
              <a:t>255.255.255.255</a:t>
            </a:r>
            <a:r>
              <a:rPr b="0" lang="pl-PL" sz="2000" spc="-1" strike="noStrike">
                <a:solidFill>
                  <a:srgbClr val="000000"/>
                </a:solidFill>
                <a:latin typeface="Times New Roman"/>
              </a:rPr>
              <a:t>	</a:t>
            </a:r>
            <a:r>
              <a:rPr b="0" lang="pl-PL" sz="2000" spc="-1" strike="noStrike">
                <a:solidFill>
                  <a:srgbClr val="000000"/>
                </a:solidFill>
                <a:latin typeface="Times New Roman"/>
              </a:rPr>
              <a:t>- powoduje dostarczenie pakietu do wszystkich węzłów danej</a:t>
            </a:r>
            <a:br>
              <a:rPr sz="2000"/>
            </a:br>
            <a:r>
              <a:rPr b="0" lang="pl-PL" sz="2000" spc="-1" strike="noStrike">
                <a:solidFill>
                  <a:srgbClr val="000000"/>
                </a:solidFill>
                <a:latin typeface="Times New Roman"/>
              </a:rPr>
              <a:t>	</a:t>
            </a:r>
            <a:r>
              <a:rPr b="0" lang="pl-PL" sz="2000" spc="-1" strike="noStrike">
                <a:solidFill>
                  <a:srgbClr val="000000"/>
                </a:solidFill>
                <a:latin typeface="Times New Roman"/>
              </a:rPr>
              <a:t>sie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Zakresy i pojemności adresów IP</a:t>
            </a:r>
            <a:endParaRPr b="0" lang="en-US" sz="3200" spc="-1" strike="noStrike">
              <a:solidFill>
                <a:srgbClr val="000000"/>
              </a:solidFill>
              <a:latin typeface="Times New Roman"/>
            </a:endParaRPr>
          </a:p>
        </p:txBody>
      </p:sp>
      <p:sp>
        <p:nvSpPr>
          <p:cNvPr id="295" name=""/>
          <p:cNvSpPr/>
          <p:nvPr/>
        </p:nvSpPr>
        <p:spPr>
          <a:xfrm>
            <a:off x="0" y="7621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6" name=""/>
          <p:cNvGraphicFramePr/>
          <p:nvPr/>
        </p:nvGraphicFramePr>
        <p:xfrm>
          <a:off x="0" y="1828800"/>
          <a:ext cx="9144000" cy="2666880"/>
        </p:xfrm>
        <a:graphic>
          <a:graphicData uri="http://schemas.openxmlformats.org/presentationml/2006/ole">
            <p:oleObj r:id="rId2" spid="">
              <p:embed/>
              <p:pic>
                <p:nvPicPr>
                  <p:cNvPr id="297" name="" descr=""/>
                  <p:cNvPicPr/>
                  <p:nvPr/>
                </p:nvPicPr>
                <p:blipFill>
                  <a:blip r:embed="rId3"/>
                  <a:stretch/>
                </p:blipFill>
                <p:spPr>
                  <a:xfrm>
                    <a:off x="0" y="1828800"/>
                    <a:ext cx="914400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06:53:25Z</dcterms:created>
  <dc:creator>rs</dc:creator>
  <dc:description/>
  <dc:language>en-US</dc:language>
  <cp:lastModifiedBy>mm</cp:lastModifiedBy>
  <dcterms:modified xsi:type="dcterms:W3CDTF">2005-12-04T08:30:31Z</dcterms:modified>
  <cp:revision>179</cp:revision>
  <dc:subject/>
  <dc:title>Sieci Komputerowe</dc:title>
</cp:coreProperties>
</file>