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8F44A-97EB-43FD-B74D-B5EA3BD8FD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D68F-788D-4275-BA88-F9C94B62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F026E-2D32-4148-9533-4391045E7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7930B-2163-4B48-9647-D60D971A5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8736B-2227-4552-A87B-4993893447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B674-8452-4FA5-8844-DEB641525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B7A5-76FB-4DC9-B664-A40DF04D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D93A-8F46-4ECC-8AE7-D5371F8DF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FF454-08A9-441E-AC17-9941D842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C18A0-1438-4F0B-AD23-3AB6F59EA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50AA5-C5A0-4E35-A3A6-7A9772F35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1C20-8DB1-49FA-9608-79EC6D47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227D8B-3B5A-4E2E-8DA1-8114B08516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Sieci Komputerow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354120" y="3581280"/>
            <a:ext cx="207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00"/>
                </a:solidFill>
                <a:latin typeface="Times New Roman"/>
              </a:rPr>
              <a:t>Wykład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CP/IP – Warstwa transport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8600" y="1143000"/>
            <a:ext cx="853452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warstwie transportowej wykorzystywane są dwa protokoł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TCP (Transmission Control Protocol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UDP (User Datagram Protocol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CP jest protokołem zorientowanym na połączenie zaś UDP jest protokołem bezpołączeniowym (bez gwarancji dostawy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padku gdy, wykorzystywany jest protokół TCP/IP uruchamiany jest mechanizm potwierdzenia trójstronnego (three-way handshake). Zapewnia on dostarczenie pakietów bez błędów, we właściwej kolejności, bez utraty i powielania dany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przypadku wykorzystania UDP ten mechanizm nie występuj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ecyzję o wyborze protokołu podejmuje programis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CP/IP – Warstwa internetow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228600" y="1143000"/>
            <a:ext cx="853452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arstwa internetowa jest odpowiedzialna z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resowan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rasowanie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ragmentację pakiet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tej warstwie pakiety danych są składane i dzielone na potrzeby transmisji. W tej warstwie działa wiele protokołów min.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ternet Protocol (IP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ternet Control Message Protocol (ICMP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dress Resoution Protocol (ARP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nternet Group Management Protocol (IGMP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IP Internet Protoc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28600" y="1143000"/>
            <a:ext cx="8534520" cy="467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Internet Protocol (IP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— bezpołączeniowy protokół, który zapewnia adresowanie i wybór trasy. Informacje nagłówka dodanego do pakietu danych obejmują adresy źródłowy i docelowy; na podstawie tych adresów wybierana jest tras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IP dokonuje ponadto łączenia i podziału pakietów, czasem nazywanego fragmentacją, dla warstwy interfejsu sieciowego. IP pomaga także kontrolować ruch przechodzący przez rutery, korygując w pakietach wartość czasu życia (TTL — time to live) podczas ich przechodzenia przez ruter. TTL ustala, jak długo pakiet może przebywać w sieci. Przy każdym przejściu pakietu przez ruter TTL zmniejszany jest o 1, a gdy wartość TTL spadnie do zera, pakiet zostaje odrzucon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Internet Control Message Protocol (ICMP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8600" y="1143000"/>
            <a:ext cx="853452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Internet Control Message Protocol (ICMP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— najczęściej używany z narzędziem </a:t>
            </a:r>
            <a:r>
              <a:rPr b="0" lang="pl-PL" sz="2400" spc="-1" strike="noStrike">
                <a:solidFill>
                  <a:srgbClr val="800000"/>
                </a:solidFill>
                <a:latin typeface="Times New Roman"/>
              </a:rPr>
              <a:t>PIN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(ang. Packet Internet Groper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PING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najczęściej służy do rozwiązywania problemów z połączeniami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ICMP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jest wykorzystywany do wysyłania pakietów tłumienia źródła rutera, które powiadamiają klienty o zbyt szybkim nadchodzeniu dużego ruchu sieciowego i zagrożeniu wypadaniem pakiet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Bardziej zaawansowanym zastosowaniem ICMP jest zabieganie o rutery. Klienty mogą stosować ICMP Router Discovery Protocol do lokalizowania ruterów w sie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Address Resoution Protocol (ARP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1143000"/>
            <a:ext cx="8534520" cy="247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Address Resoution Protocol (ARP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— służy do rozwiązywania adresów IP na adresy MA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Gdy adres MAC jest już znany, pakiety mogą być przesyłane bezpośrednio od nadawcy do odbiorcy, o ile oba klienty znajdują się w tym samym segmencie. Jeśli klienty znajdują się w różnych segmentach, pakiet zostaje wysłany do rut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763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Internet Group Management Protocol (IGMP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28600" y="1143000"/>
            <a:ext cx="8534520" cy="41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Internet Group Management Protocol (IGMP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— czasem nazywany Internet Group Messaging/Membership Protocol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łuży do identyfikacji członków grupy, która przyjmuje pakiety grupowe (ang. multicast packet). Pakiet grupowy wysyłany jest do grupy klientów, zamiast do wszystkich (jak dzieje się w przypadku rozgłoszeń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nicast oznacza wysyłanie pakietu tylko do jednego klienta. IGMP ma wiele zastosowań w sieci, lecz do najczęstszych należą wideokonferencje, pogawędki internetowe i dynamiczne aktualizacje ruteró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Warstwa interfejsu siecioweg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1143000"/>
            <a:ext cx="85345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rstwa interfejsu sieciowego odpowiada warstwom łącza danych i fizycznej modelu OS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uje ona dostęp do sie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plikacje 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" y="1143000"/>
            <a:ext cx="853452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ajczęściej stosowane aplikacje t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omain Name System (DNS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File Transfer Protocol (FTP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Dynamic Host Configuration Protocol (DHCP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imple Mail Transport Protocol (SMTP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st Office Protocol (POP3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elne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Hyper Text Transfer Protocol (HTT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cure Sockets Layers (SSL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cure Shell (SSH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Network Basic Input Output system (NetBios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plikacje 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28600" y="1143000"/>
            <a:ext cx="8534520" cy="470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D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łuży do dynamicznego rozwiązywania nazw na adresy IP. DNS uruchomiony jest na porcie 5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DHC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łuży do dynamicznego przydzielania klientom adresów IP z centralnego serwera. DHCP korzysta z portu 67 dla serwera i 68 dla kli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NetB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łuży do rozwiązywania nazw przede wszystkim nazw komputerów w Microsoft Network. NetBIOS wykorzystuje porty 137,138 i 139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plikacje 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8600" y="1143000"/>
            <a:ext cx="8534520" cy="32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F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TP jest usługą i protokołem przesyłania  plików pomiędzy odległymi komputer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tokołem transportowym dla usługi FTP jest protokół TC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ndardowo wykorzystywane są dwa porty do zestawienia sesji FTP: port 20 (danych) do przesyłu plików oraz port 21 (sterowania) do przesyłania poleceń interfejsu użytkowni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Rodzaje sieci L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143000"/>
            <a:ext cx="853452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dstawowe stosowane technologie sieci LAN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· technologia Ethernet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· technologia Token-Ring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· technologia FDDI (Fiber Distributed Data Interfac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plikacje 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1143000"/>
            <a:ext cx="8534520" cy="28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Tel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elnet jest usługą emulacji terminali w Internecie służącą do uruchamiania poleceń na zdalnych komputera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Usługa Telnet korzysta z protokołu TCP z portu 2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elnet stał się usługą niebezpieczną z uwagi na brak szyfrowania przesyłanych danych. Nie szyfruje nawet haseł dostęp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Aplikacje 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" y="1143000"/>
            <a:ext cx="8534520" cy="58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SSL -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ecure Sockets Lay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łuży do dokonywania bezpiecznych transakcji pomiędzy klientami a serwerem. SSL używa portu 44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800000"/>
                </a:solidFill>
                <a:latin typeface="Times New Roman"/>
              </a:rPr>
              <a:t>SSH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Secure She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Jest standardem protokołu komunikacyjnego służącego do terminalowego łączenia się ze zdalnym komputerem za pośrednictwem sieci opartej na protokole TCP/IP. Jest on następcą Telne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SH zapewnia w pełni bezpieczne połączenie pomiędzy dwoma stacjami poprzez sieć, która nie jest bezpieczn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SH korzysta zazwyczaj z portu 22, choć w wielu przypadkach celowo wykorzystuje się inne porty aby zwiększyć poziom bezpieczeństw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990720"/>
            <a:ext cx="77724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 przechodzenia danych w dół stosu.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838080" y="1905120"/>
            <a:ext cx="4571640" cy="3809880"/>
            <a:chOff x="838080" y="1905120"/>
            <a:chExt cx="4571640" cy="3809880"/>
          </a:xfrm>
        </p:grpSpPr>
        <p:sp>
          <p:nvSpPr>
            <p:cNvPr id="123" name=""/>
            <p:cNvSpPr/>
            <p:nvPr/>
          </p:nvSpPr>
          <p:spPr>
            <a:xfrm>
              <a:off x="976320" y="3011400"/>
              <a:ext cx="0" cy="2153880"/>
            </a:xfrm>
            <a:prstGeom prst="line">
              <a:avLst/>
            </a:prstGeom>
            <a:ln w="9360">
              <a:solidFill>
                <a:srgbClr val="000000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838080" y="1905120"/>
              <a:ext cx="4571640" cy="3809880"/>
              <a:chOff x="838080" y="1905120"/>
              <a:chExt cx="4571640" cy="3809880"/>
            </a:xfrm>
          </p:grpSpPr>
          <p:sp>
            <p:nvSpPr>
              <p:cNvPr id="125" name=""/>
              <p:cNvSpPr/>
              <p:nvPr/>
            </p:nvSpPr>
            <p:spPr>
              <a:xfrm>
                <a:off x="2500560" y="4004640"/>
                <a:ext cx="0" cy="331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838080" y="1905120"/>
                <a:ext cx="4571640" cy="3809880"/>
                <a:chOff x="838080" y="1905120"/>
                <a:chExt cx="4571640" cy="38098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2777400" y="4667400"/>
                  <a:ext cx="0" cy="331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8" name=""/>
                <p:cNvGrpSpPr/>
                <p:nvPr/>
              </p:nvGrpSpPr>
              <p:grpSpPr>
                <a:xfrm>
                  <a:off x="838080" y="1905120"/>
                  <a:ext cx="4571640" cy="3809880"/>
                  <a:chOff x="838080" y="1905120"/>
                  <a:chExt cx="4571640" cy="3809880"/>
                </a:xfrm>
              </p:grpSpPr>
              <p:sp>
                <p:nvSpPr>
                  <p:cNvPr id="129" name=""/>
                  <p:cNvSpPr/>
                  <p:nvPr/>
                </p:nvSpPr>
                <p:spPr>
                  <a:xfrm>
                    <a:off x="2084760" y="3159720"/>
                    <a:ext cx="0" cy="49680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prstDash val="lgDash"/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" name=""/>
                  <p:cNvSpPr/>
                  <p:nvPr/>
                </p:nvSpPr>
                <p:spPr>
                  <a:xfrm>
                    <a:off x="2084760" y="3656880"/>
                    <a:ext cx="276840" cy="16560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31" name=""/>
                  <p:cNvGrpSpPr/>
                  <p:nvPr/>
                </p:nvGrpSpPr>
                <p:grpSpPr>
                  <a:xfrm>
                    <a:off x="838080" y="1905120"/>
                    <a:ext cx="4571640" cy="3809880"/>
                    <a:chOff x="838080" y="1905120"/>
                    <a:chExt cx="4571640" cy="3809880"/>
                  </a:xfrm>
                </p:grpSpPr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2084760" y="5383800"/>
                      <a:ext cx="1385280" cy="33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10111100010…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3609000" y="2899080"/>
                      <a:ext cx="830880" cy="33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agłówki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838080" y="1905120"/>
                      <a:ext cx="830880" cy="331200"/>
                    </a:xfrm>
                    <a:prstGeom prst="rect">
                      <a:avLst/>
                    </a:prstGeom>
                    <a:noFill/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253520" y="5549400"/>
                      <a:ext cx="831240" cy="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  <a:tailEnd len="med" type="triangle" w="med"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136" name=""/>
                    <p:cNvGrpSpPr/>
                    <p:nvPr/>
                  </p:nvGrpSpPr>
                  <p:grpSpPr>
                    <a:xfrm>
                      <a:off x="976320" y="2236320"/>
                      <a:ext cx="4433400" cy="3313800"/>
                      <a:chOff x="976320" y="2236320"/>
                      <a:chExt cx="4433400" cy="3313800"/>
                    </a:xfrm>
                  </p:grpSpPr>
                  <p:sp>
                    <p:nvSpPr>
                      <p:cNvPr id="137" name=""/>
                      <p:cNvSpPr/>
                      <p:nvPr/>
                    </p:nvSpPr>
                    <p:spPr>
                      <a:xfrm flipH="1">
                        <a:off x="2777040" y="4651560"/>
                        <a:ext cx="26323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8" name=""/>
                      <p:cNvSpPr/>
                      <p:nvPr/>
                    </p:nvSpPr>
                    <p:spPr>
                      <a:xfrm flipH="1">
                        <a:off x="2500200" y="3988800"/>
                        <a:ext cx="29095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39" name=""/>
                      <p:cNvSpPr/>
                      <p:nvPr/>
                    </p:nvSpPr>
                    <p:spPr>
                      <a:xfrm flipH="1">
                        <a:off x="2223000" y="3326040"/>
                        <a:ext cx="318672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0" name=""/>
                      <p:cNvSpPr/>
                      <p:nvPr/>
                    </p:nvSpPr>
                    <p:spPr>
                      <a:xfrm flipH="1">
                        <a:off x="1945440" y="2663280"/>
                        <a:ext cx="346356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1" name=""/>
                      <p:cNvSpPr/>
                      <p:nvPr/>
                    </p:nvSpPr>
                    <p:spPr>
                      <a:xfrm>
                        <a:off x="1945800" y="2663280"/>
                        <a:ext cx="0" cy="33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2" name=""/>
                      <p:cNvSpPr/>
                      <p:nvPr/>
                    </p:nvSpPr>
                    <p:spPr>
                      <a:xfrm>
                        <a:off x="2223000" y="3326040"/>
                        <a:ext cx="0" cy="33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3" name=""/>
                      <p:cNvSpPr/>
                      <p:nvPr/>
                    </p:nvSpPr>
                    <p:spPr>
                      <a:xfrm>
                        <a:off x="2361600" y="3823200"/>
                        <a:ext cx="0" cy="49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4" name=""/>
                      <p:cNvSpPr/>
                      <p:nvPr/>
                    </p:nvSpPr>
                    <p:spPr>
                      <a:xfrm>
                        <a:off x="2638800" y="4485960"/>
                        <a:ext cx="0" cy="4968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prstDash val="lgDash"/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5" name=""/>
                      <p:cNvSpPr/>
                      <p:nvPr/>
                    </p:nvSpPr>
                    <p:spPr>
                      <a:xfrm>
                        <a:off x="976320" y="2994840"/>
                        <a:ext cx="830880" cy="165600"/>
                      </a:xfrm>
                      <a:prstGeom prst="rect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6" name=""/>
                      <p:cNvSpPr/>
                      <p:nvPr/>
                    </p:nvSpPr>
                    <p:spPr>
                      <a:xfrm>
                        <a:off x="976320" y="3657600"/>
                        <a:ext cx="1108080" cy="165600"/>
                      </a:xfrm>
                      <a:prstGeom prst="rect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7" name=""/>
                      <p:cNvSpPr/>
                      <p:nvPr/>
                    </p:nvSpPr>
                    <p:spPr>
                      <a:xfrm>
                        <a:off x="976320" y="4320360"/>
                        <a:ext cx="1523880" cy="165600"/>
                      </a:xfrm>
                      <a:prstGeom prst="rect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8" name=""/>
                      <p:cNvSpPr/>
                      <p:nvPr/>
                    </p:nvSpPr>
                    <p:spPr>
                      <a:xfrm>
                        <a:off x="976320" y="4983120"/>
                        <a:ext cx="1939320" cy="165600"/>
                      </a:xfrm>
                      <a:prstGeom prst="rect">
                        <a:avLst/>
                      </a:prstGeom>
                      <a:solidFill>
                        <a:srgbClr val="ffff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49" name=""/>
                      <p:cNvSpPr/>
                      <p:nvPr/>
                    </p:nvSpPr>
                    <p:spPr>
                      <a:xfrm>
                        <a:off x="1807200" y="2994840"/>
                        <a:ext cx="276840" cy="16560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0" name=""/>
                      <p:cNvSpPr/>
                      <p:nvPr/>
                    </p:nvSpPr>
                    <p:spPr>
                      <a:xfrm>
                        <a:off x="2638800" y="4983120"/>
                        <a:ext cx="276840" cy="165600"/>
                      </a:xfrm>
                      <a:prstGeom prst="rect">
                        <a:avLst/>
                      </a:prstGeom>
                      <a:solidFill>
                        <a:srgbClr val="ff0000"/>
                      </a:solidFill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1" name=""/>
                      <p:cNvSpPr/>
                      <p:nvPr/>
                    </p:nvSpPr>
                    <p:spPr>
                      <a:xfrm>
                        <a:off x="1253160" y="2236320"/>
                        <a:ext cx="0" cy="59184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2" name=""/>
                      <p:cNvSpPr/>
                      <p:nvPr/>
                    </p:nvSpPr>
                    <p:spPr>
                      <a:xfrm>
                        <a:off x="1253160" y="3893400"/>
                        <a:ext cx="0" cy="33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3" name=""/>
                      <p:cNvSpPr/>
                      <p:nvPr/>
                    </p:nvSpPr>
                    <p:spPr>
                      <a:xfrm>
                        <a:off x="1253160" y="3230280"/>
                        <a:ext cx="0" cy="33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4" name=""/>
                      <p:cNvSpPr/>
                      <p:nvPr/>
                    </p:nvSpPr>
                    <p:spPr>
                      <a:xfrm flipV="1">
                        <a:off x="1253160" y="5218920"/>
                        <a:ext cx="0" cy="33120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155" name=""/>
                      <p:cNvSpPr/>
                      <p:nvPr/>
                    </p:nvSpPr>
                    <p:spPr>
                      <a:xfrm flipH="1">
                        <a:off x="2223000" y="3064680"/>
                        <a:ext cx="1385280" cy="0"/>
                      </a:xfrm>
                      <a:prstGeom prst="line">
                        <a:avLst/>
                      </a:prstGeom>
                      <a:ln w="9360">
                        <a:solidFill>
                          <a:srgbClr val="000000"/>
                        </a:solidFill>
                        <a:miter/>
                        <a:tailEnd len="med" type="triangle" w="med"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6800" bIns="-468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156" name=""/>
                      <p:cNvGrpSpPr/>
                      <p:nvPr/>
                    </p:nvGrpSpPr>
                    <p:grpSpPr>
                      <a:xfrm>
                        <a:off x="2499840" y="3230280"/>
                        <a:ext cx="1247040" cy="496800"/>
                        <a:chOff x="2499840" y="3230280"/>
                        <a:chExt cx="1247040" cy="496800"/>
                      </a:xfrm>
                    </p:grpSpPr>
                    <p:sp>
                      <p:nvSpPr>
                        <p:cNvPr id="157" name=""/>
                        <p:cNvSpPr/>
                        <p:nvPr/>
                      </p:nvSpPr>
                      <p:spPr>
                        <a:xfrm>
                          <a:off x="3746880" y="3230280"/>
                          <a:ext cx="0" cy="49680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58" name=""/>
                        <p:cNvSpPr/>
                        <p:nvPr/>
                      </p:nvSpPr>
                      <p:spPr>
                        <a:xfrm flipH="1">
                          <a:off x="2499840" y="3727080"/>
                          <a:ext cx="12466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59" name=""/>
                      <p:cNvGrpSpPr/>
                      <p:nvPr/>
                    </p:nvGrpSpPr>
                    <p:grpSpPr>
                      <a:xfrm>
                        <a:off x="2777040" y="3230280"/>
                        <a:ext cx="1108080" cy="1159560"/>
                        <a:chOff x="2777040" y="3230280"/>
                        <a:chExt cx="1108080" cy="1159560"/>
                      </a:xfrm>
                    </p:grpSpPr>
                    <p:sp>
                      <p:nvSpPr>
                        <p:cNvPr id="160" name=""/>
                        <p:cNvSpPr/>
                        <p:nvPr/>
                      </p:nvSpPr>
                      <p:spPr>
                        <a:xfrm>
                          <a:off x="3885120" y="3230280"/>
                          <a:ext cx="0" cy="115956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1" name=""/>
                        <p:cNvSpPr/>
                        <p:nvPr/>
                      </p:nvSpPr>
                      <p:spPr>
                        <a:xfrm flipH="1">
                          <a:off x="2777040" y="4389840"/>
                          <a:ext cx="11080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162" name=""/>
                      <p:cNvGrpSpPr/>
                      <p:nvPr/>
                    </p:nvGrpSpPr>
                    <p:grpSpPr>
                      <a:xfrm>
                        <a:off x="3053880" y="3230280"/>
                        <a:ext cx="969840" cy="1822320"/>
                        <a:chOff x="3053880" y="3230280"/>
                        <a:chExt cx="969840" cy="1822320"/>
                      </a:xfrm>
                    </p:grpSpPr>
                    <p:sp>
                      <p:nvSpPr>
                        <p:cNvPr id="163" name=""/>
                        <p:cNvSpPr/>
                        <p:nvPr/>
                      </p:nvSpPr>
                      <p:spPr>
                        <a:xfrm>
                          <a:off x="4023720" y="3230280"/>
                          <a:ext cx="0" cy="182232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164" name=""/>
                        <p:cNvSpPr/>
                        <p:nvPr/>
                      </p:nvSpPr>
                      <p:spPr>
                        <a:xfrm flipH="1">
                          <a:off x="3053880" y="5052600"/>
                          <a:ext cx="969480" cy="0"/>
                        </a:xfrm>
                        <a:prstGeom prst="line">
                          <a:avLst/>
                        </a:prstGeom>
                        <a:ln w="9360">
                          <a:solidFill>
                            <a:srgbClr val="000000"/>
                          </a:solidFill>
                          <a:miter/>
                          <a:tailEnd len="med" type="triangle" w="med"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46800" bIns="-4680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sp>
                <p:nvSpPr>
                  <p:cNvPr id="165" name=""/>
                  <p:cNvSpPr/>
                  <p:nvPr/>
                </p:nvSpPr>
                <p:spPr>
                  <a:xfrm>
                    <a:off x="2361960" y="4320360"/>
                    <a:ext cx="276840" cy="164880"/>
                  </a:xfrm>
                  <a:prstGeom prst="rect">
                    <a:avLst/>
                  </a:prstGeom>
                  <a:solidFill>
                    <a:srgbClr val="ff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66" name=""/>
          <p:cNvGrpSpPr/>
          <p:nvPr/>
        </p:nvGrpSpPr>
        <p:grpSpPr>
          <a:xfrm>
            <a:off x="5410080" y="2286000"/>
            <a:ext cx="3197160" cy="2936880"/>
            <a:chOff x="5410080" y="2286000"/>
            <a:chExt cx="3197160" cy="2936880"/>
          </a:xfrm>
        </p:grpSpPr>
        <p:grpSp>
          <p:nvGrpSpPr>
            <p:cNvPr id="167" name=""/>
            <p:cNvGrpSpPr/>
            <p:nvPr/>
          </p:nvGrpSpPr>
          <p:grpSpPr>
            <a:xfrm>
              <a:off x="5414760" y="2290680"/>
              <a:ext cx="3187800" cy="2927520"/>
              <a:chOff x="5414760" y="2290680"/>
              <a:chExt cx="3187800" cy="2927520"/>
            </a:xfrm>
          </p:grpSpPr>
          <p:grpSp>
            <p:nvGrpSpPr>
              <p:cNvPr id="168" name=""/>
              <p:cNvGrpSpPr/>
              <p:nvPr/>
            </p:nvGrpSpPr>
            <p:grpSpPr>
              <a:xfrm>
                <a:off x="5414760" y="2290680"/>
                <a:ext cx="3187800" cy="731880"/>
                <a:chOff x="5414760" y="2290680"/>
                <a:chExt cx="3187800" cy="7318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5459040" y="2290680"/>
                  <a:ext cx="309888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ff"/>
                      </a:solidFill>
                      <a:latin typeface="Times New Roman"/>
                      <a:ea typeface="Times New Roman"/>
                    </a:rPr>
                    <a:t>Warstwa aplikacj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5414760" y="2290680"/>
                  <a:ext cx="31878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5414760" y="3022560"/>
                <a:ext cx="3187800" cy="731880"/>
                <a:chOff x="5414760" y="3022560"/>
                <a:chExt cx="3187800" cy="7318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459040" y="3022560"/>
                  <a:ext cx="309888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00"/>
                      </a:solidFill>
                      <a:latin typeface="Times New Roman"/>
                      <a:ea typeface="Times New Roman"/>
                    </a:rPr>
                    <a:t>Warstwa transportow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5414760" y="3022560"/>
                  <a:ext cx="31878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5414760" y="3754440"/>
                <a:ext cx="3187800" cy="731880"/>
                <a:chOff x="5414760" y="3754440"/>
                <a:chExt cx="3187800" cy="7318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5459040" y="3754440"/>
                  <a:ext cx="309888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339966"/>
                      </a:solidFill>
                      <a:latin typeface="Times New Roman"/>
                      <a:ea typeface="Times New Roman"/>
                    </a:rPr>
                    <a:t>Warstwa internetowa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5414760" y="3754440"/>
                  <a:ext cx="31878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5414760" y="4486320"/>
                <a:ext cx="3187800" cy="731880"/>
                <a:chOff x="5414760" y="4486320"/>
                <a:chExt cx="3187800" cy="7318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5459040" y="4486320"/>
                  <a:ext cx="3098880" cy="731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ff00ff"/>
                      </a:solidFill>
                      <a:latin typeface="Times New Roman"/>
                      <a:ea typeface="Times New Roman"/>
                    </a:rPr>
                    <a:t>Warstwa dostępu do sieci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5414760" y="4486320"/>
                  <a:ext cx="3187800" cy="731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0" name=""/>
            <p:cNvSpPr/>
            <p:nvPr/>
          </p:nvSpPr>
          <p:spPr>
            <a:xfrm>
              <a:off x="5410080" y="2286000"/>
              <a:ext cx="3197160" cy="293688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143000" y="8380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roces opakowywania i rozpakowywa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0216_niepełne tłumaczenie" descr=""/>
          <p:cNvPicPr/>
          <p:nvPr/>
        </p:nvPicPr>
        <p:blipFill>
          <a:blip r:embed="rId2"/>
          <a:stretch/>
        </p:blipFill>
        <p:spPr>
          <a:xfrm>
            <a:off x="228600" y="1676520"/>
            <a:ext cx="8610480" cy="48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43000" y="8380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zwy pakietów na danym poziomie modelu stos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04920" y="1676520"/>
            <a:ext cx="8458200" cy="468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kiet danych utworzonych w warstwie aplikacji nazywa się komunikatem (ang. message)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kiet danych tworzonych w warstwie transportowej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óry zawiera w sobie komunikat z warstwy aplikacji jest nazywan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 prostu pakietem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kiet danych na poziomie warstwy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sieciowej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óry zawiera w sobie segment warstwy transportowej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zywany datagramem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pakiet danych na poziomie warstwy dostępu do sieci,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tóry zawiera w sobie datagram i może go dzielić na porcje, nazywa się ramką (ang. frame). Ramka zostaje przekształcona w strumień bitów na najniższym poziomie warstwy dostępu do sieci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CP/I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143000" y="838080"/>
            <a:ext cx="7086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Nazwy pakietów na danym poziomie modelu stos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tcp_osi" descr=""/>
          <p:cNvPicPr/>
          <p:nvPr/>
        </p:nvPicPr>
        <p:blipFill>
          <a:blip r:embed="rId2"/>
          <a:stretch/>
        </p:blipFill>
        <p:spPr>
          <a:xfrm>
            <a:off x="1295280" y="1600200"/>
            <a:ext cx="6467760" cy="41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mat nagłówka warstwy transportow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" y="1143000"/>
            <a:ext cx="8534520" cy="23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 zależności od typu łączności — gwarantowanej lub nie — nagłówek warstwy transportowej może należeć do jednego z dwóch typów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TCP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8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UD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mat nagłówka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1147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021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2556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28600" y="3505320"/>
            <a:ext cx="8534520" cy="30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res portu źródłoweg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zawiera adres portu TCP aplikacji po stronie nadawcy, która zainicjowała żądanie. Pole to ma długość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dres portu doceloweg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zawiera adres portu TCP aplikacji po stronie odbiorcy, która musi odpowiedzieć na żądanie. Pole o długości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 kolejn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zawiera numer porządkowy segmentu przydzielony podczas podziału komunikatu na segmenty. Pole o długości cztere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mer potwierdzeni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zawiera numer następnego segmentu, który powinien dotrzeć do odbiorcy. Pole o długości cztere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mat nagłówka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1147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021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2556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28600" y="3505320"/>
            <a:ext cx="853452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LE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zawiera długość nagłówka segmentu. Pole o długości czterech bi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Zarezerwowa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jego wartość musi być równa zeru, ponieważ to pole jest zarezerwowane do wykorzystania w przyszłości. Pole o długości sześciu bi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mat nagłówka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147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021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255600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228600" y="3505320"/>
            <a:ext cx="8534520" cy="296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ty sterując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sześć poniższych jednobitowych pól, które wskazują, jak należy interpretować pozostałe pola nagłówka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URG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— jeśli wartość jest równa 0, pole Wskaźnik pilności powinno zostać zignorowane. Jeśli wartość jest równa 1, pole to jest obowiązują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ACK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— jeśli równe 0, pole Numer potwierdzenia powinno zostać zignorowane. Jeśli 1, pole jest obowiązując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PSH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— jeśli równe 0, to pole powinno zostać zignorowane. Jeśli 1, segment inicjuje funkcję push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RST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— jeśli równe 0, to pole powinno zostać zignorowane. Jeśli równe 1, połączenie jest zerowan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SYN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— jeśli równe 0, segment żąda nawiązania nowego połączen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600" spc="-1" strike="noStrike">
                <a:solidFill>
                  <a:srgbClr val="000000"/>
                </a:solidFill>
                <a:latin typeface="Times New Roman"/>
              </a:rPr>
              <a:t>FIN</a:t>
            </a:r>
            <a:r>
              <a:rPr b="0" lang="pl-PL" sz="1600" spc="-1" strike="noStrike">
                <a:solidFill>
                  <a:srgbClr val="000000"/>
                </a:solidFill>
                <a:latin typeface="Times New Roman"/>
              </a:rPr>
              <a:t> — jeśli równe 1, oznacza, iż nadawca nie ma więcej danych do wysłania i połączenie musi zostać zamknięte po bieżącym segmenci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ETHER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8600" y="1143000"/>
            <a:ext cx="853452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ETHERNET.  Topologia sieci LAN stworzona w pierwotnej wersji przez firmę Xerox. Jej druga wersja tzn. Ethernet V2 została stworzona przy współudziale dwóch innych firm tj. Digital Equipment Corporation oraz Intel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Pojęcie Ethernet odnosi się nie do jednej, lecz do wielu technologii sieci lokalnych LAN, z których wyróżnić należy trzy podstawowe kategori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1. Ethernet i IEEE 802.3 – jest to kilka specyfikacji określających LAN, z których każda pracuje z przepływnością 10 Mb/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2. Ethernet 100 Mb/s – jest to pojedyncza specyfikacja, znana również jako Fast Ethernet, określająca sieć pracującą z przepływnością 100 Mb/s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3. Ethernet 1000 Mb/s – jest to pojedyncza specyfikacja, znana również jako Gigabit Ethernet, określająca sieć pracującą z przepływnością 1000 Mb/s (1Gb/s)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mat nagłówka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1147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8" name="021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255600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228600" y="3505320"/>
            <a:ext cx="8534520" cy="226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kn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rozmiar bufora nadawcy i ustala liczbę bajtów, jaką nadawca segmentu jest obecnie w stanie przyjąć. Pole o długości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uma kontroln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sumę kontrolną, służącą do weryfikacji poprawności odebranych danych. Pole to zawiera również pseudonagłówek, który pomaga odbiorcy stwierdzić, czy segment dotarł do właściwego celu. Pole o długości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mat nagłówka TC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1147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0217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8686800" cy="255600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228600" y="3505320"/>
            <a:ext cx="853452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skaźnik pilnośc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informacje określające pozycję w segmencie, na której kończą się pilne dane. Pole to przetwarzane jest tylko wtedy, gdy pole URG w bitach sterujących ma wartość 1. Pole o długości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Opcj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informacje o kilku funkcjach, na przykład maksymalnym rozmiarze segmentu (MSS — Maximum Segment Size), jaki punkty końcowe połączeń mogą odebrać, pole końca opcji i tak dalej. Pole o zmiennej dług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ypełnienie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ciąg zer dodanych do nagłówka, aby jego długość wynosiła 32 bajty. Pole o zmiennej dług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mat nagłówka U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1147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2590920"/>
            <a:ext cx="853416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dres portu źródłoweg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adres portu UDP aplikacji po stronie nadawcy, która zainicjowała żądanie. Pole to ma długość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Adres portu docelowego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adres portu UDP aplikacji po stronie odbiorcy, która musi odpowiedzieć na żądanie. Pole o długości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ługo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podaje długość segmentu. Pole o długości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Suma kontroln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pseudonagłówek, który pomaga odbiorcy stwierdzić, czy segment dotarł do właściwego celu. Pole opcjonalne, o długości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1860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0218" descr=""/>
          <p:cNvPicPr/>
          <p:nvPr/>
        </p:nvPicPr>
        <p:blipFill>
          <a:blip r:embed="rId2"/>
          <a:stretch/>
        </p:blipFill>
        <p:spPr>
          <a:xfrm>
            <a:off x="228600" y="914400"/>
            <a:ext cx="8610480" cy="130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mat nagłówka warstwy internetow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147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04920" y="3581280"/>
            <a:ext cx="8534160" cy="28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Wersj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określa wersję protokołu IP. Obecnie stosowana jest wersja 4 (IPv4). Pole o długości czterech bi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ługość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długość nagłówka warstwy internetowej. Pole o długości czterech bi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yp usług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informacje, jak należy przetwarzać datagram oraz o pożądanej jakości usług (QoS — Quality of Service). Pole o długości jednego bajtu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Długość całkowita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całkowitą długość datagramu, łącznie z nagłówkiem i zawartymi danymi. Pole o długości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1860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1480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0219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5341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mat nagłówka warstwy internetow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1147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4920" y="3581280"/>
            <a:ext cx="8534160" cy="290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Identyfikacja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— zawiera informacje służące do ponownego złożenia datagramu z fragmentów. Pole o długości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Flagi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trzy poniższe flagi sterując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t 0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rezerwowany; jego wartość musi zawsze wynosić 0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t 1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jeśli jego wartość wynosi 0, datagram można pofragmentować.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         Jeśli jest równa 1, datagramu fragmentować nie woln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Bit 2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jeśli jego wartość wynosi 0, fragment jest ostatni w strumieniu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danych i nie następują po nim żadne dalsze. Jeśli wynosi 1, po 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fragmencie następują kolej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1860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1480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0219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5341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mat nagłówka warstwy internetow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1147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04920" y="3581280"/>
            <a:ext cx="853416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zesunięcie fragmentu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pozycję fragmentu w datagramie, jeśli jest on podzielony na fragmenty. Pole o długości trzynastu bi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Czas życia (TTL — Time to Live)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maksymalny czas życia przez jaki datagram może istnieć. Każdy ruter, przez który datagram przechodzi po drodze do celu, zmniejsza tę wartość o 1. Gdy wartość w polu spadnie do zera, datagram zostaje odrzucony. Pole o długości jednego baj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Protokół</a:t>
            </a: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 — zawiera informacje o protokole warstwy aplikacji, który zapoczątkował żądanie. Pole o długości jednego baj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1860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21480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0219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5341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Format nagłówka warstwy internetowej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6859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11472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04920" y="3581280"/>
            <a:ext cx="8534160" cy="320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uma kontrolna nagłówk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zawiera sumę kontrolną jedynie z samego nagłówka IP. Po każdej modyfikacji nagłówka tę wartość trzeba obliczyć na nowo. Pole o długości dwó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Źródłowy adres 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zawiera adres IP urządzenia nadawczego. Pole o długości cztere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Docelowy adres 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zawiera adres IP urządzenia odbiorczego. Pole o długości czterech bajtó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Opcje IP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— zawiera informacje o kilku funkcjach IP. Pole ma zmienną długość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ypełnienie — zawiera ciąg zer, dodanych do nagłówka, aby jego długość wynosiła 32 bajty. Pole o zmiennej długośc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18600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214800" y="3000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0219" descr=""/>
          <p:cNvPicPr/>
          <p:nvPr/>
        </p:nvPicPr>
        <p:blipFill>
          <a:blip r:embed="rId2"/>
          <a:stretch/>
        </p:blipFill>
        <p:spPr>
          <a:xfrm>
            <a:off x="304920" y="838080"/>
            <a:ext cx="8534160" cy="26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ziękuję za uwagę!!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3200" spc="-1" strike="noStrike">
                <a:solidFill>
                  <a:srgbClr val="800000"/>
                </a:solidFill>
                <a:latin typeface="Times New Roman"/>
              </a:rPr>
              <a:t>Token-Ring, FDD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" y="1143000"/>
            <a:ext cx="8534520" cy="56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800000"/>
                </a:solidFill>
                <a:latin typeface="Times New Roman"/>
              </a:rPr>
              <a:t>Token-Ring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echnologia opracowana przez firmę IBM w latach siedemdziesiątych. W tej technologii stacje sieciowe podłącza się bezpośrednio do urządzeń MAU (Multistation Access Unit), które łączy się ze sobą w jeden pierścień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800000"/>
                </a:solidFill>
                <a:latin typeface="Times New Roman"/>
              </a:rPr>
              <a:t>FDDI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Technologia FDDI (Fiber Distributed Data Interface) jest obecnie stosowana głównie w sieciach szkieletowych. Cechą FDDI jest duża przepływność (100 Mb/s) i wysoka niezawodność. Medium transmisyjnym jest kabel światłowodowy. W tej technologii stosuje się topologię podwójnego pierścienia Pierwszy pierścień (Primary Ring) używany jest do transmisji danych, a drugi dodatkowy pierścień (Secondary Ring) jest nieczynny podczas normalnej pracy. W sieciach lokalnych jest to nadal rozwiązanie dosyć drogie w porównaniu z innymi technologiam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Dostęp do med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" y="838080"/>
            <a:ext cx="8534520" cy="58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800000"/>
                </a:solidFill>
                <a:latin typeface="Times New Roman"/>
              </a:rPr>
              <a:t>CSMA/CD. (Carrier Sense Multiple Access with Collision Detection)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- Urządzenia transmitują jedynie wtedy gdy mają wyłączny dostęp do medium transmisyjnego. W przypadku, rozpoczęcia jednoczesnego transmisji przez dwa urządzenia następuje kolizja. Po jej wykryciu urządzenia zaprzestają transmisji. Po pewnym losowo określonym czasie ponawiana jest próba transmisj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800000"/>
                </a:solidFill>
                <a:latin typeface="Times New Roman"/>
              </a:rPr>
              <a:t>Token Ring.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Do przesyłu informacji służy specjalny pakiet Token. Urządzenie, aby wysłać informację musi wejść w posiadanie tego pakietu. Token jest przekazywany od stacji do stacji zgodnie z topologią. Pierścień logiczny odpowiada pierścieniowi fizycznemu. Możliwe jest ustawienie priorytetu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200" spc="-1" strike="noStrike">
                <a:solidFill>
                  <a:srgbClr val="800000"/>
                </a:solidFill>
                <a:latin typeface="Times New Roman"/>
              </a:rPr>
              <a:t>Token Bus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Mechanizm zbliżony do poprzedniego z tym, że Token jest przekazywany w innej kolejności. O sekwencji decyduje adres urządzenia, a nie jego fizyczna lokalizacja. Pierścień logiczny nie odpowiada fizycznemu. W chwili obecnej metoda ta jest wykorzystywana sporadyczni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" y="1143000"/>
            <a:ext cx="8534520" cy="43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CP/IP (Transmission Control Protocol / Internet Protocol) jest wspólną nazwą rodziny protokołów i aplikacji używanych do komunikacji między komputerami oraz między różnymi sieciam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czątkiem TCP/IP była eksperymentalna sieć ARPAnet (Advanced Reasearch Projects Agency; Agencja Zaawansowanych Projektów Badawczych), która powstała w departamencie obrony USA. Chodziło o zapewnienie zdecentralizowanego zarządzania sieci w zróżnicowanym środowisku. Kilka lat później, gdy Akademia Nauk chciała zbudować sieć łączącą instytucje badawcze, system protokołów ARPAnet został zaadoptowany i zaczął tworzyć to, co dziś określamy jako Interne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CP/IP - Zadan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28600" y="1143000"/>
            <a:ext cx="8534520" cy="53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Dzielenie komunikatów na porcje danych, które możn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   efektywnie przesyłać przez nośnik transmisj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Zapewnienie interfejsu dla adapterów sieciowych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Adresowanie – komputer wysyłający dane musi mieć możliwość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   skierowania ich do komputera docelowego, a komputer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   odbierający musi mieć możliwość rozpoznania komunikatu,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   który ma otrzymać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Realizowanie routingu, system musi mieć możliwość kierowania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   danych do podsieci, w której jest komputer docelowy, nawet jeśli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   podsieć źródłowa i docelowa mają różne cechy fizyczne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Dokonywanie kontroli poprawności, kontroli przepływu</a:t>
            </a:r>
            <a:br>
              <a:rPr sz="2200"/>
            </a:b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   i realizowanie potwierdzania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pl-PL" sz="2200" spc="-1" strike="noStrike">
                <a:solidFill>
                  <a:srgbClr val="000000"/>
                </a:solidFill>
                <a:latin typeface="Times New Roman"/>
              </a:rPr>
              <a:t>Przyjmowanie danych z aplikacji i przekazywanie ich do siec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Model odniesienia TCP/I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28600" y="838080"/>
            <a:ext cx="853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CP/IP jest pakietem protokołów i nie korzysta bezpośrednio z modelu OSI, stosując zamiast tego czterowarstwowy model łącznośc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0111" descr=""/>
          <p:cNvPicPr/>
          <p:nvPr/>
        </p:nvPicPr>
        <p:blipFill>
          <a:blip r:embed="rId2"/>
          <a:stretch/>
        </p:blipFill>
        <p:spPr>
          <a:xfrm>
            <a:off x="762120" y="2057400"/>
            <a:ext cx="761976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00"/>
                </a:solidFill>
                <a:latin typeface="Times New Roman"/>
              </a:rPr>
              <a:t>TCP/IP – Warstwa aplikacj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0" y="762120"/>
            <a:ext cx="914400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28600" y="1143000"/>
            <a:ext cx="8534520" cy="545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W warstwie aplikacji funkcjonują dwa typy aplikacj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oparte na gniazdach (socket)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plikacje NetBIOS (Network Basic Input Output System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plikacje oparte na gniazdach istnieją we wszystkich klientach używających TCP/IP. Dla takich aplikacji wymagane są trzy element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dres IP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port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typ obsług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Times New Roman"/>
              </a:rPr>
              <a:t>Aplikacje NetBIOS spotykane są w systemach operacyjnych Microsoft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557520" y="2809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26T06:53:25Z</dcterms:created>
  <dc:creator>rs</dc:creator>
  <dc:description/>
  <dc:language>en-US</dc:language>
  <cp:lastModifiedBy>mm</cp:lastModifiedBy>
  <dcterms:modified xsi:type="dcterms:W3CDTF">2005-11-27T10:12:42Z</dcterms:modified>
  <cp:revision>113</cp:revision>
  <dc:subject/>
  <dc:title>Sieci Komputerowe</dc:title>
</cp:coreProperties>
</file>