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2.wmf" ContentType="image/x-wmf"/>
  <Override PartName="/ppt/media/image5.wmf" ContentType="image/x-wmf"/>
  <Override PartName="/ppt/media/image20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8A2-5954-4B3C-AFF8-72924A4C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3853-D16D-4D7A-B7A0-6043BB31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BAC-D82D-46FA-8D25-E5573FC3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926-9760-468E-854B-552DCDAF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1686-7908-43A3-BA25-07C6E86E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6018-7CB4-4AA9-AE6D-DF1BEA7D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77B9-3A76-44C9-8D8C-B96F31DD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D54E-3803-4E8A-9AEB-41EDAB30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5518-008B-473E-B1ED-5EEC240B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42D9-F31C-4135-B91D-89ABCF64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98DC-8664-4A04-AD94-371D70E0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955-4C53-4430-B17A-1A7C2BDF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8E38-D409-4B67-827C-213B6C1D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4EBC-1355-43CA-963B-303C56AC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4362-9104-423F-94C6-E5D8CB84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F3F1-F69E-4D15-8D88-4173A2D0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7694-C119-4394-A7F9-ED6330D3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FBA-A55F-465A-9008-D7B17DF6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D9C-2439-4ED6-98C0-D6AF7F1C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56B-6C9B-4651-A99F-04D8B896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6E7-C1BA-4E03-B87E-BA9FBEAD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D00-A398-4ECB-BB48-C1A0A169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B31-0971-4CE7-8C38-396E120F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14B-C1C2-4110-BC92-71A06F4F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769D-C01F-4934-A21B-1992E4AB8747}" type="slidenum">
              <a:rPr b="0" lang="pl-P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F712-52B9-4657-9C6E-307014B55F3E}" type="slidenum">
              <a:rPr b="0" lang="pl-P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acjonalne użytkowanie energii elektrycznej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pracowała: Izabella Mróz-Radłows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stytut Elektroenergetyk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itechniki Łódzki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łówne dokumenty Unii Europejskiej dotyczące polityki energetycznej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7600" y="22860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rta Energetyczna i Protokół Karty Energetycznej o efektywności energetycznej i odnośnych aspektach ochrony środowis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ska ratyfikowała Traktat i Protokół w 2000 roku. Zapisy TKE zobowiązują do sformułowania polityki efektywności energetycznej wraz z odpowiednimi unormowaniami prawnymi i regulacyjnymi, obejmującymi m.in. efektywne funkcjonowanie mechanizmów rynkowych, mechanizmy finansowania inwestycji energetycznych, działania wspierające transfer technologii oraz rozwój wiedzy i świadomości społecznej w tej dziedzini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łówne dokumenty Unii Europejskiej dotyczące polityki energetycznej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lan działania w celu poprawy efektywności energetycznej we Wspólnocie Europejskiej (przyjęty po modyfikacji w 2000r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liczony potencjał ekonomiczny poprawy efektywności energetycznej w UE wynosi 18% obecnej konsumpcji energii co stanowi 1900 TWh (finalne zapotrzebowanie energii Austrii, Belgii, Danii, Finlandii, Grecji i Holandii razem wziętych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lan prezentuje zasady i środki, które pomogę usunąć bariery wykorzystania potencjału efektywności energetycznej takie jak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eny energii – nie odzwierciedlają rzeczywistych kosztów produkcj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rak lub niekompletne informacje – co wstrzymuje zastosowanie mało kosztownych i energooszczędnych technolog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ariery instytucjonalne i praw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ariery techniczne – brak odpowiedniej infrastruktury przemysłowe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ariery finansowe – krótkie okresy spłaty dla inwestycji z zakresu zarządzania popytem w porównaniu z inwestycjami po stronie wytwarza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łówne dokumenty Unii Europejskiej dotyczące polityki energetycznej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uropejski Program Zapobiegający Zmianie Klima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gram zainicjowany w czerwcu 2000 roku dla zrealizowania protokołu z Kioto proponuje trzy grupy przedsięwzięć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dukcja emisji C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– przez poprawę efektywności energetycznej budynków, wprowadzanie biopali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łe zmniejszanie  emisji C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– minimalne standardy wydajności energetycznej sprzętu elektrycznego, wspieranie inicjatyw z zakresu nowych technologii, poprawa infrastruktury bada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dsięwzięcia przyszłościowe – promocja ciepła wytwarzanego z odnawialnych źródeł energii, zachęty podatkowe dla użytkowników samochodów, poprawa technologii paliw i pojazdó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łówne dokumenty Unii Europejskiej dotyczące polityki energetycznej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ielona Księga - 2002r.– Ku europejskiej strategii bezpieczeństwa energetyczn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aje Unii zużywają coraz więcej surowców energetycznych importując około 50% swego zapotrzebowania, głównie ropy i gazu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tualne zapotrzebowanie na energię pokrywane jest przez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pę naftową – 41%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z – 22%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ęgiel (kamienny, brunatny i torf) – 16%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ię jądrową – 15%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źródła odnawialne – 6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prawa bezpieczeństwa energetycznego przewiduje dwie grupy działań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 stronie popytu – wzrost efektywności energetycznej gospodark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 stronie podaży – wzrost udziału energii z odnawialnych źróde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łówne dokumenty Unii Europejskiej dotyczące polityki energetycznej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jnowsze dokumenty dotyczące bezpieczeństwa energetycznego  i rynku energii elektrycznej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rektywa 2003/54/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 DG TREN –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kumenty zalecają monitorowanie i prognozowanie równowagi pomiędzy popytem i podażą na energię elektryczną i obligują do składania co dwa lata do Komisji Europejskiej raportów z wnioskam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łówne dokumenty Unii Europejskiej dotyczące polityki energetycznej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jnowsze dokumenty dotyczące ochrony środowis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rektywa 2003/87/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zobowiązanie Wspólnoty do obniżenia poziomu emisji gazów cieplarnianych w latach 2008 –2012 o 8% w stosunku do poziomu z roku 1990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onieczność obniżenia tego poziomu w perspektywie długoterminowej o około 70% w stosunku do poziomu z roku 199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rektywa adresowana jest do piętnastki krajów unijny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olityka efektywności energetycznej w Polsce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kroekonomiczne scenariusze rozwoju kraj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podobieństwo scenariuszy opracowanych przez ekspertów Komisji Europejskiej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iantowe scenariusze makroekonomicznego rozwoju gospodarki Polski do 2020 roku” – Instytut Rozwoju i Studiów Strategicznych, Warszawa 19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iantowe scenariusze makroekonomicznego rozwoju gospodarki narodowej” FEWE, Warszawa 19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nozy makroekonomiczne do roku 2025” – Instytut Badań nad Gospodarką Rynkową, Warszawa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akroekonomiczne scenariusze rozwoju kraju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3160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usz przetrwania (pesymistyczn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usz odniesienia (bazow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usz postępu-plus (optymistyczn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cenariusz przetrwania (pesymistyczny)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widuje słaby rozwój światowy, hamowany wstrząsami politycznymi. Założenia scenariusz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ły antyreformatorskie u władz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łaba koniunktura międzynarodow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olne efekty konwergencji – niewielka absorpcja funduszy unijny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eskuteczna polityka gospodarc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ans handlowy w tendencji ujemn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niżanie stopy bezrobocia powol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cenariusz przetrwania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pesymistyczny)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Polsce utrwala się surowcowa struktura gospodarki. Średnioroczna stopa wzrostu PKB – ok. 2,3% co nie pozwala na odrobienie luki rozwojowej w stosunku do państw wyżej rozwiniętych. Stopa bezrobocia wzrasta do wartości 14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acjonalne użytkowanie energii elektrycznej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ategiczne aspekty racjonalnej gospodarki energią i środowiski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e4a8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tyka energetyczna Unii Europejskie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e4a8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tyka efektywności energetycznej w Pols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ia elektryczn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e4a8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ktualny stan gospodarki energetyczne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e4a8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twarzanie energii elektryczne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e4a8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użycie energii elektryczne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cjonalizacja użytkowania energii w gospodarstwach domowy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e4a8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ktura zużycia energi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e4a8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żliwości działań racjonalizacyjny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cjonalne użytkowanie energii w sektorze przemysłowy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twarzanie energii elektrycznej – źródła odnawial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oczesne systemy sterowania w instalacjach elektrycznych – oszczędzanie energ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cenariusz odniesienia (bazowy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łożenia scenariusz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cja sceny polityczn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cja sceny międzynarodow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zytywne efekty konwergencji, wysoka absorpcja funduszy unijny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szczanie systemu regulacji gospodark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ównowaga budżetowa do roku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ans handlowy w tendencji ujemn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olna redukcja bezrobo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cenariusz odniesienia (bazowy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widuje polityczną stabilność i rozwój międzynarodowy. W gospodarce Polski powolne kontynuowanie procesu przemian. Łagodne zmiany struktury wytwarzania PKB dają w efekcie trwały spadek wzrostu PKB. Średnioroczna stopa wzrostu PKB – ok.. 4,0%. Rośnie stopa bezrobo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cenariusz postępu-plus (optymistyczny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łożenia scenariusz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reformatorska większość w parlamenc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zystna koniunktura gospodarcza u partneró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zytywne efekty konwergencji, wysoka absorpcja funduszy unijny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szczanie systemu regulacji gospodark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ównowaga budżetowa do roku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ans handlowy w tendencji ujemn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kcja bezrobocia dzięki zmianom strukturalny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cenariusz postępu-plus (optymistyczny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zyjające warunki otoczenia międzynarodowego plus aktywna, skuteczna polityka pro-efektywnościowa rządu, kreująca pożądane zachowania wszystkich odbiorców. Głęboka i trwała restrukturyzacja gospodarki. Zmiana struktury tworzenia PKB na rzecz sektorów generujących wysokie wartości dodane. Zwiększa się wydajność pracy i wzrasta produktywność energii pierwotnej. Wysokie tempo wzrostu PKB (ok. 5,5%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skaźniki makroekonomicz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1981080"/>
          <a:ext cx="8686800" cy="464832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066680"/>
                <a:gridCol w="304920"/>
                <a:gridCol w="838080"/>
                <a:gridCol w="457200"/>
                <a:gridCol w="609840"/>
                <a:gridCol w="609480"/>
                <a:gridCol w="304920"/>
                <a:gridCol w="1066680"/>
              </a:tblGrid>
              <a:tr h="456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dność [ml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456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dność [mln] (postęp-pl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456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daż pracy [ml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398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a bezrobocia 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zetr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niesi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ępu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892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ednioroczne tempa wzrostu PKB 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-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-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zetr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niesi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ępu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skaźniki makroekonomicz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8600" y="2666880"/>
          <a:ext cx="8686800" cy="2946600"/>
        </p:xfrm>
        <a:graphic>
          <a:graphicData uri="http://schemas.openxmlformats.org/drawingml/2006/table">
            <a:tbl>
              <a:tblPr/>
              <a:tblGrid>
                <a:gridCol w="1828800"/>
                <a:gridCol w="1600200"/>
                <a:gridCol w="1066680"/>
                <a:gridCol w="1143000"/>
                <a:gridCol w="1067040"/>
                <a:gridCol w="914400"/>
                <a:gridCol w="1066680"/>
              </a:tblGrid>
              <a:tr h="435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ochłonność (en. pierwotna/PK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kgoe/zł’95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zetr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niesi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45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ępu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398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ochłonność (en. elektryczna/PK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kgoe/zł’95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zetr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niesi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ępu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ruktura tworzenia PKB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2057400"/>
          <a:ext cx="8610480" cy="4495680"/>
        </p:xfrm>
        <a:graphic>
          <a:graphicData uri="http://schemas.openxmlformats.org/drawingml/2006/table">
            <a:tbl>
              <a:tblPr/>
              <a:tblGrid>
                <a:gridCol w="1722240"/>
                <a:gridCol w="1720800"/>
                <a:gridCol w="1724040"/>
                <a:gridCol w="1720800"/>
                <a:gridCol w="1722600"/>
              </a:tblGrid>
              <a:tr h="48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ktura tworzenia PK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zetr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niesi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ępu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KB [mld zł’95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KB [%]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 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zemysł przetwórcz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ktor energ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nic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łu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2960" y="45684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ruktura zapotrzebowania na energię finalną wg nośników [%] – wariant odniesieni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1981080"/>
          <a:ext cx="7772400" cy="472464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ęg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kty nafto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zostałe nośni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Energia elektrycz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epło siecio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zem 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zem [Mtoe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617040"/>
            <a:ext cx="818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orównanie wskaźników zapotrzebowania energii finalnej na mieszkańc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42920" y="1981080"/>
          <a:ext cx="8695800" cy="4253040"/>
        </p:xfrm>
        <a:graphic>
          <a:graphicData uri="http://schemas.openxmlformats.org/drawingml/2006/table">
            <a:tbl>
              <a:tblPr/>
              <a:tblGrid>
                <a:gridCol w="3051360"/>
                <a:gridCol w="915120"/>
                <a:gridCol w="1220760"/>
                <a:gridCol w="1220400"/>
                <a:gridCol w="1297080"/>
                <a:gridCol w="99108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a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enariu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zetrw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niesi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ępu-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użycie energii ogółem [toe/M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użycie energii elektrycznej [MWh/M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użycie energii elektrycznej w gospodarstwach domowych [MWh/M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ane historyczne i prognozy zużycia energii pierwotnej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95360" y="1981080"/>
          <a:ext cx="864864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981080"/>
                    <a:ext cx="864864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olityka energetyczna Unii Europejskiej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łówne cele polityki energetycznej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apewnienie bezpieczeństwa energetycz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pewnienie niezawodności działania systemu elektroenergetycz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pewnienie odpowiedniej jakości i niezawodności dostaw energii elektryczn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ymalizacja kosztu produkcji energii elektryczn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chrona środowis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617040"/>
            <a:ext cx="818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ognoza zapotrzebowania na nośniki energii pierwotnej – scenariusz odniesieni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2286000"/>
          <a:ext cx="8153640" cy="4114800"/>
        </p:xfrm>
        <a:graphic>
          <a:graphicData uri="http://schemas.openxmlformats.org/drawingml/2006/table">
            <a:tbl>
              <a:tblPr/>
              <a:tblGrid>
                <a:gridCol w="2210040"/>
                <a:gridCol w="1143000"/>
                <a:gridCol w="990360"/>
                <a:gridCol w="990720"/>
                <a:gridCol w="990720"/>
                <a:gridCol w="914400"/>
                <a:gridCol w="91440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ś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dnost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ęgiel kami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n 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ęgiel brunat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n 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pa nafto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n 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z ziem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d m</a:t>
                      </a:r>
                      <a:r>
                        <a:rPr b="0" lang="pl-PL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ia jądro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t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ia odnawial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t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gół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t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ruktura zużycia energii pierwotnej - 1997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66560" y="1981080"/>
          <a:ext cx="8329680" cy="46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981080"/>
                    <a:ext cx="832968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6170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ruktura zużycia energii pierwotnej – 2020; scenariusz przetrwani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2174760"/>
          <a:ext cx="8329680" cy="46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74760"/>
                    <a:ext cx="832968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ruktura zużycia energii pierwotnej – 2020; scenariusz odniesieni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2174760"/>
          <a:ext cx="8329680" cy="46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74760"/>
                    <a:ext cx="832968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6170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ruktura zużycia energii pierwotnej – 2020; scenariusz postępu-plu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2174760"/>
          <a:ext cx="8329680" cy="46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74760"/>
                    <a:ext cx="832968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Times New Roman"/>
              </a:rPr>
              <a:t>Prognoza zapotrzebowania na energię elektryczną [TWh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80880" y="2362320"/>
          <a:ext cx="8077320" cy="3276360"/>
        </p:xfrm>
        <a:graphic>
          <a:graphicData uri="http://schemas.openxmlformats.org/drawingml/2006/table">
            <a:tbl>
              <a:tblPr/>
              <a:tblGrid>
                <a:gridCol w="1600200"/>
                <a:gridCol w="1295640"/>
                <a:gridCol w="1295280"/>
                <a:gridCol w="1295280"/>
                <a:gridCol w="1295640"/>
                <a:gridCol w="1295280"/>
              </a:tblGrid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enarius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zetrw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7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niesi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ępu-pl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ane historyczne i prognozy krajowego zapotrzebowania na energię elektryczn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62080" y="1981080"/>
          <a:ext cx="8646840" cy="466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1981080"/>
                    <a:ext cx="8646840" cy="46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ruktura produkcji energii elektrycznej według rodzajów źródeł -1997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20760" y="1979640"/>
          <a:ext cx="839772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1979640"/>
                    <a:ext cx="839772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ruktura produkcji energii elektrycznej według rodzajów źródeł –2020 – scenariusz przetrwani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39772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39772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ruktura produkcji energii elektrycznej według rodzajów źródeł –2020 – scenariusz odniesieni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04920" y="1981080"/>
          <a:ext cx="839772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39772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olityka energetyczna Unii Europejskiej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pewnienie bezpieczeństwa energetycz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posiadanie dostatecznych mocy wytwórczych energii elektrycznej pozwalających zbilansować produkcję z zapotrzebowani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ruktura produkcji energii elektrycznej według rodzajów źródeł –2020 – scenariusz postępu-plu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04920" y="1981080"/>
          <a:ext cx="839772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39772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ategia poprawy efektywności energetyczne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6e6e6e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zrost produktywności energii w sferze wytwórczej gospodarki narodowej wymaga podjęcia spójnych, skoordynowanych działań zmierzających do istotnego obniżenia energochłonności we wszystkich sektorach gospodarki, także w sektorze gospodarstw domowych i w sektorze użyteczności publicznej. W ich wyniku możliwe jest osiągnięcie efektów, w postaci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y bezpieczeństwa energetycznego i ekologicznego, głównie wskutek przyśpieszonego eliminowania marnotrawstwa energii w najbardziej nieefektywnych, a także uciążliwych dla środowiska, procesach wytwarzania i użytkowania paliw i energii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y konkurencyjności krajowych podmiotów gospodarczych, wskutek obniżenia składnika kosztu energetycznego w cenie wytworzonych towarów i usług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rostu ogólnej efektywności gospodarowania i poprawy warunków życia społeczeństw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ategia poprawy efektywności energetycznej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e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szczególnie istotne dla polityki efektywności energetycznej uznaje się technologi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sokosprawne napędy elektryczne (silniki, falowniki, osprzęt, itp.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sokosprawne systemy oświetlenia (źródła światła, oprawy, systemy zarządzanie oświetleniem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ktroniki użytkowej, stosowanej w artykułach gospodarstwa domowego (AGD) i sprzęcie radiowo- telewizyjnym (RTV) oraz telekomunikacyjno- biurowym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nawialne źródła energii dla budownictwa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zysku energii w budownictwie i przemyśle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ojarzonego wytwarzania ciepła i energii elektrycznej w obiektach różnej skali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ategia poprawy efektywności energetycznej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- zadani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pewnienie bezpieczeństwa energetycznego Polski, co oznacza m.in. dywersyfikację dostępu do gazu i ropy naftowej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rawa konkurencyjności krajowych producentów i dystrybutorów paliw i energii na rynku wewnętrznym i zagraniczny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rawa stanu sieci elektroenergetycznej na obszarach wiejskich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hrona środowiska przed negatywnymi skutkami oddziaływania energetyk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ategia poprawy efektywności energetycznej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- zadani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mniejszenie energochłonności gospodarki do poziomu zapewniającego uzyskanie ogólnokrajowego zużycia energii w 2025 r. nie przekraczającego l20% zużycia obecnego (przy założeniu utrzymania przez Polskę w tym okresie średniego rocznego tempa wzrostu PKB wynoszącego ok. 5%) oraz zachowania obecnej, stosunkowo niewielkiej dynamiki wzrostu liczby ludności, co będzie wymagać sterowania procesami rozwojowymi w kierunku zgodnym ze scenariuszem wysokich cen energii oraz szerokiego wprowadzenia najlepszych dostępnych metod podnoszenia efektywności energetycznej, z wykorzystaniem osiągnięć dokonującego się w tym zakresie krajowego i międzynarodowego postępu technicznego; wskaźniki energochłonności produktu krajowego brutto nie powinny w perspektywie roku 2025 znacząco odbiegać na minus od wskaźników uzyskiwanych w tym czasie przez inne kraje Unii Europejskiej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ategia poprawy efektywności energetycznej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- zadani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łkowite zastąpienie węgla kamiennego - stosowanego jako paliwo w urządzeniach grzewczych małej mocy (w tym w urządzeniach w gospodarstwach domowych), przy eksploatacji których nie ma możliwości skutecznego redukowania emisji powstających zanieczyszczeń powietrza oraz właściwego zagospodarowania odpadów paleniskowych - gazem ziemnym, nisko zasiarczonym olejem opałowym, energią elektryczną, paliwami z biomasy, ciepłem finalnym ze źródeł scentralizowanych oraz ciepłem odpadowy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ategia poprawy efektywności energetycznej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- zadani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niejszenie udziału węgla kamiennego i brunatnego w pokrywaniu krajowego zapotrzebowania na energię pierwotną do poziomu 60%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ększenie do co najmniej 14% do 2020 r. udziału energii odnawialnej w krajowym bilansie energii pierwotnej, a także włączenie do tego bilansu, z udziałem na poziomie co najmniej 1 %, energii odzyskiwanej z odpadów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eliminowanie z procesów wytwarzania energii urządzeń o sprawności niższej niż 80% (z wyjątkiem urządzeń wykorzystujących nośniki energii odnawialnej) oraz całkowitą likwidację w energetyce zawodowej kotłów wodnych i przejście w tym sektorze na produkcję ciepła wyłącznie w skojarzeniu z wytwarzaniem energii elektrycznej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ategia poprawy efektywności energetycznej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- zadani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e wielkości strat energii w systemach przesyłowych do poziomu co najwyżej 20% energii wprowadzanej do systemu w przypadku energii elektrycznej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pełnienie przez zakłady sektora energetycznego wszystkich warunków korzystania ze środowiska oraz standardów w zakresie organizacji i jakości produkcji określanych prawem krajowym i międzynarodowym, regulacjami Unii Europejskiej i obowiązującymi decyzjami administracyjnymi, a także możliwie szerokie wdrożenie przez te zakłady funkcjonujących w tym zakresie mechanizmów dobrowolnych (np. znormalizowanych systemów zarządzania środowiskiem i zarządzania jakością oraz oznakowań ekologicznych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ategia poprawy efektywności energetycznej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- zadani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drożenie systemu powszechnego udostępniania użytkownikom informacji o energochłonności maszyn, urządzeń i wyrobów, z uwzględnieniem ich całego cyklu życioweg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drożenie mechanizmu optymalizacji działań sektora energetycznego na rzecz środowiska z wykorzystaniem zbywalnych pozwoleń na emisję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ategia poprawy efektywności energetycznej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- barier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iery ekonomiczn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iska opłacalność przedsięwzięć energooszczędnych, wysokie koszty kapitałowe takich przedsięwzięć, stosunkowo niskie koszty energii, brak polityki podatkowej zachęcającej do prowadzenia polityki efektywności energetycznej, brak kapitału, trudności w dostępie do funduszy sektora prywatnego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k świadomości i informacj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rak informacji o zużyciu energii, brak informacji o korzyściach płynących z inwestycji energooszczędnych, brak informacji o możliwościach finansowania takich inwestycji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olityka energetyczna Unii Europejskiej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pewnienie niezawodności działania systemu elektroenergetycz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system elektroenergetyczny powinien być niezawodny w przypadku awarii sieci przesyłowych a jednostki wytwórcze powinny mieć odpowiednie zdolności regulacyjne dostosowujące produkcję energii elektrycznej do aktualnego zapotrzebowan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ategia poprawy efektywności energetycznej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- barier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iery techniczn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iezgodność technologii i urządzeń z obowiązującymi przepisami, brak przemysłu produkującego urządzenia energooszczędn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iera legislacyjn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rak strategii efektywnego wykorzystywania energii, brak aktów wykonawczych do Prawa energetycznego, skomplikowane procedury finansowania inwestycji ze środków budżetowych, niemożność wykorzystania przez podmioty budżetowe z oszczędności wynikających z inwestycji energooszczędnych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iera instytucjonaln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rak instytucji o charakterze biur doradczych dla ludnośc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ktualny stan gospodarki energetycznej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pozyskania i zużycia energii pierwotnej ulega stopniowym zmian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a pozyskania energii pierwotnej w[%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28600" y="3657600"/>
          <a:ext cx="8534160" cy="2575080"/>
        </p:xfrm>
        <a:graphic>
          <a:graphicData uri="http://schemas.openxmlformats.org/drawingml/2006/table">
            <a:tbl>
              <a:tblPr/>
              <a:tblGrid>
                <a:gridCol w="3124080"/>
                <a:gridCol w="1066680"/>
                <a:gridCol w="1219320"/>
                <a:gridCol w="1143000"/>
                <a:gridCol w="990720"/>
                <a:gridCol w="99036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ęgiel kami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ęgiel brunat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pa naft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z ziem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ia wod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Źródła odnawial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Źródło danych: Bank Danych Gospodarki Paliwowo-Energetycznej APE S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ktualny stan gospodarki energetycznej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a zużycia energii pierwotnej w[%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4920" y="3200400"/>
          <a:ext cx="8534160" cy="2362320"/>
        </p:xfrm>
        <a:graphic>
          <a:graphicData uri="http://schemas.openxmlformats.org/drawingml/2006/table">
            <a:tbl>
              <a:tblPr/>
              <a:tblGrid>
                <a:gridCol w="3124080"/>
                <a:gridCol w="1066680"/>
                <a:gridCol w="1219320"/>
                <a:gridCol w="1143000"/>
                <a:gridCol w="990720"/>
                <a:gridCol w="9903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ęgiel kami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ęgiel brunat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pa naft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z ziem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Źródła odnawial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304920" y="6019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Źródło danych: Bank Danych Gospodarki Paliwowo-Energetycznej APE S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ktualny stan gospodarki energetycznej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90480" y="3025800"/>
          <a:ext cx="7769160" cy="32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3025800"/>
                    <a:ext cx="7769160" cy="32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838080" y="20574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kaźnik samowystarczalności energetycznej Polsk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tosunek energii pozysk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zuż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32448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Źródło danych: Bank Danych Gospodarki Paliwowo-Energetycznej APE S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ktualny stan gospodarki energetycznej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kaźnik samowystarczalności energetycznej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 1996r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1981080"/>
          <a:ext cx="838224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82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53352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Źródło: Energy Balances of OECD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ktualny stan gospodarki energetycznej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kaźniki energochłonności wartości dodanej w sektorach gospodarki narodowej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90480" y="2019240"/>
          <a:ext cx="825516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2019240"/>
                    <a:ext cx="825516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ktualny stan gospodarki energetycznej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dział wydatków na czynsz, paliwa i energię w budżetach domowych w Polsce i krajach UE w 1996 roku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762120" y="1752480"/>
          <a:ext cx="7391160" cy="4916520"/>
        </p:xfrm>
        <a:graphic>
          <a:graphicData uri="http://schemas.openxmlformats.org/drawingml/2006/table">
            <a:tbl>
              <a:tblPr/>
              <a:tblGrid>
                <a:gridCol w="1828800"/>
                <a:gridCol w="1066680"/>
                <a:gridCol w="1600200"/>
                <a:gridCol w="1676520"/>
                <a:gridCol w="1218960"/>
              </a:tblGrid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A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ał wydatków w budże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iwo i ener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yn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z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OL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la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zp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la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ksembu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em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ug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we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łoc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elka Bryt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ilans energetyczny – rok 2000 – energia w [TJ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905120"/>
          <a:ext cx="8458200" cy="3992400"/>
        </p:xfrm>
        <a:graphic>
          <a:graphicData uri="http://schemas.openxmlformats.org/drawingml/2006/table">
            <a:tbl>
              <a:tblPr/>
              <a:tblGrid>
                <a:gridCol w="1752480"/>
                <a:gridCol w="2209680"/>
                <a:gridCol w="1600200"/>
                <a:gridCol w="2895840"/>
              </a:tblGrid>
              <a:tr h="106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ia wprowadz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ia zuży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ia uzyskana w procesie przem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ia pierwot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721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ia pocho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7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ia ogół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24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6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7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-304920" y="6095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niosek: sprawność przemian energii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715000" y="6019920"/>
            <a:ext cx="30481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ilans energetyczn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ę uzyskaną otrzymuje się w procesach produkcj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i elektrycznej w elektrowniach i elektrociepłowniach zawodowych ciepln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epła w elektrowniach i elektrociepłowniach zawodow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epła w kotłach ciepłowniczych energetyki zawodow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i elektrycznej w elektrowniach wodnych z dopływu natural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i elektrycznej w elektrowniach szczytowo-pompow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epła w ciepłowniach zawodow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nergia pierwotna – zużycie w 2000 roku [TJ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04920" y="1981080"/>
          <a:ext cx="8610480" cy="4569120"/>
        </p:xfrm>
        <a:graphic>
          <a:graphicData uri="http://schemas.openxmlformats.org/drawingml/2006/table">
            <a:tbl>
              <a:tblPr/>
              <a:tblGrid>
                <a:gridCol w="4114800"/>
                <a:gridCol w="2438280"/>
                <a:gridCol w="2057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uży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przemian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pośred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Energia pierwot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372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6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ęgiel kamie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38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ęgiel brunat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18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z ziemny wysokometanow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z ziemny zaazotow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f i drew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da i wiat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ga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iwa odpado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olityka energetyczna Unii Europejskiej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pewnienie odpowiedniej jakości i niezawodności dostaw energii elektryczn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dostarczanie energii o określonych parametrach technicznych z pewnością jakiej wymaga odbiorca lub odbiorni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nergia pierwotna – zużycie w 2000 roku [TJ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4920" y="1981080"/>
          <a:ext cx="8497800" cy="46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49780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Times New Roman"/>
              </a:rPr>
              <a:t>Energia pochodna – zużycie w 2000 roku [TJ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28600" y="2057400"/>
          <a:ext cx="8610480" cy="4557600"/>
        </p:xfrm>
        <a:graphic>
          <a:graphicData uri="http://schemas.openxmlformats.org/drawingml/2006/table">
            <a:tbl>
              <a:tblPr/>
              <a:tblGrid>
                <a:gridCol w="2819520"/>
                <a:gridCol w="2057400"/>
                <a:gridCol w="2057400"/>
                <a:gridCol w="1676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uży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przemian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pośred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zy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Energia pochod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2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37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z ciekł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zy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je napędo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je opało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z koksownicz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Energia elektrycz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782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epł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9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Jednostkowe zużycie energii na produkcję energii elektrycznej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90480" y="1979640"/>
          <a:ext cx="77677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979640"/>
                    <a:ext cx="77677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olityka energetyczna Unii Europejskiej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ymalizacja kosztu produkcji energii elektryczn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wybór odpowiedniej technologii produkcji i sprzedaż energii w warunkach konkurencyjnego rynku energii elektryczn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olityka energetyczna Unii Europejskiej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Ochrona środowiska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- spełnienie norm ekologicznych, w tym w szczególności ograniczeń emisji gazów CO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, SO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oraz NO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w zakresie zobowiązań państwa w ramach Unii Europejski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olityka energetyczna Unii Europejskiej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7600" y="22860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kumenty unijne określają oprócz celów również zagadnienia związane z polityką energetyczną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racowanie skutecznej narodowej polityki energetyczne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rzenie wewnętrznych rynków energii (gazu i energii elektrycznej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spieszanie procesu liberalizacji rynku i prywatyzacji sektora energ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rzenie zapasów rezerw paliw płynny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rzebę unowocześniania lub zamknięcia istniejących elektrowni na paliwa stał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mocję efektywności energetycznej oraz większe wykorzystanie odnawialnych źródeł energ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zwój narzędzi sterowania popy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pewnienie bezpieczeństwa nuklearn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6T16:17:14Z</dcterms:created>
  <dc:creator>NN</dc:creator>
  <dc:description/>
  <dc:language>en-US</dc:language>
  <cp:lastModifiedBy>NN</cp:lastModifiedBy>
  <dcterms:modified xsi:type="dcterms:W3CDTF">2005-01-07T15:46:24Z</dcterms:modified>
  <cp:revision>15</cp:revision>
  <dc:subject/>
  <dc:title>Racjonalne użytkowanie energii elektrycznej</dc:title>
</cp:coreProperties>
</file>