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8A0B-1244-446C-AF97-9B0835D8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83566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7773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07760"/>
            <a:ext cx="7773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9468-93D7-4B04-9F27-A4056CD4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83566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37933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200" y="2158920"/>
            <a:ext cx="37933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07760"/>
            <a:ext cx="37933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9200" y="4307760"/>
            <a:ext cx="37933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DDF0-D4B9-421E-AE22-0AE96746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83566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2503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4520" y="2158920"/>
            <a:ext cx="2503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2880" y="2158920"/>
            <a:ext cx="2503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07760"/>
            <a:ext cx="2503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4520" y="4307760"/>
            <a:ext cx="2503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2880" y="4307760"/>
            <a:ext cx="2503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3443-8C29-47AC-BE79-0D685242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83566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158920"/>
            <a:ext cx="7773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BBF8-B375-439F-8CB3-7AA204EF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83566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77738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1B1E-A7F5-4C40-82A7-85C2EE3C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83566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37933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9200" y="2158920"/>
            <a:ext cx="37933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B467-AC47-494C-98A0-B6FDF83D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83566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BB73-2675-47D7-B3ED-6E2E18D6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179280"/>
            <a:ext cx="83566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067B-3D18-47D0-B37A-F74FB747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83566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37933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9200" y="2158920"/>
            <a:ext cx="37933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07760"/>
            <a:ext cx="37933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0CE2-5F98-4524-8599-AF940CA9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83566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37933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200" y="2158920"/>
            <a:ext cx="37933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9200" y="4307760"/>
            <a:ext cx="37933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C0A1-8E2A-4506-8921-651E3075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83566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37933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9200" y="2158920"/>
            <a:ext cx="37933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07760"/>
            <a:ext cx="7773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DD72-FC70-4F02-92C9-FBDAF1A0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83566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58920"/>
            <a:ext cx="77738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37360" y="6462720"/>
            <a:ext cx="19051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DD1E-75E4-4F5F-A606-9872826E608E}" type="slidenum">
              <a:rPr b="0" lang="pl-PL" sz="12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0760" y="316080"/>
            <a:ext cx="9024840" cy="6480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2808360"/>
            <a:ext cx="86868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FILTRY AKTYWNE (APF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ACTIVE POWER FILTER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6DAB-EB5F-4BD0-B9FB-9695B54B1D7B}" type="slidenum">
              <a:t>1</a:t>
            </a:fld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83566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Układ 3-fazowy, 4-przewodowy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325440" y="1463760"/>
            <a:ext cx="8640720" cy="4187880"/>
            <a:chOff x="325440" y="1463760"/>
            <a:chExt cx="8640720" cy="4187880"/>
          </a:xfrm>
        </p:grpSpPr>
        <p:sp>
          <p:nvSpPr>
            <p:cNvPr id="711" name=""/>
            <p:cNvSpPr/>
            <p:nvPr/>
          </p:nvSpPr>
          <p:spPr>
            <a:xfrm>
              <a:off x="1782720" y="1482840"/>
              <a:ext cx="411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Sa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92800" y="1463760"/>
              <a:ext cx="411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La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078440" y="3730680"/>
              <a:ext cx="41112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Ca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1716120" y="1854360"/>
              <a:ext cx="576000" cy="204120"/>
              <a:chOff x="1716120" y="1854360"/>
              <a:chExt cx="576000" cy="204120"/>
            </a:xfrm>
          </p:grpSpPr>
          <p:grpSp>
            <p:nvGrpSpPr>
              <p:cNvPr id="715" name=""/>
              <p:cNvGrpSpPr/>
              <p:nvPr/>
            </p:nvGrpSpPr>
            <p:grpSpPr>
              <a:xfrm>
                <a:off x="1734840" y="1854360"/>
                <a:ext cx="538200" cy="179280"/>
                <a:chOff x="1734840" y="1854360"/>
                <a:chExt cx="538200" cy="17928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1734840" y="1854360"/>
                  <a:ext cx="179640" cy="179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914480" y="1854360"/>
                  <a:ext cx="179280" cy="179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093760" y="1854360"/>
                  <a:ext cx="179280" cy="179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9" name=""/>
              <p:cNvSpPr/>
              <p:nvPr/>
            </p:nvSpPr>
            <p:spPr>
              <a:xfrm>
                <a:off x="1716120" y="1950840"/>
                <a:ext cx="576000" cy="10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720" name=""/>
            <p:cNvSpPr/>
            <p:nvPr/>
          </p:nvSpPr>
          <p:spPr>
            <a:xfrm>
              <a:off x="1811160" y="1778040"/>
              <a:ext cx="351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1697040" y="2306520"/>
              <a:ext cx="576000" cy="204840"/>
              <a:chOff x="1697040" y="2306520"/>
              <a:chExt cx="576000" cy="204840"/>
            </a:xfrm>
          </p:grpSpPr>
          <p:grpSp>
            <p:nvGrpSpPr>
              <p:cNvPr id="722" name=""/>
              <p:cNvGrpSpPr/>
              <p:nvPr/>
            </p:nvGrpSpPr>
            <p:grpSpPr>
              <a:xfrm>
                <a:off x="1715760" y="2306520"/>
                <a:ext cx="538200" cy="179640"/>
                <a:chOff x="1715760" y="2306520"/>
                <a:chExt cx="538200" cy="17964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1715760" y="2306520"/>
                  <a:ext cx="17964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1895400" y="230652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074680" y="230652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6" name=""/>
              <p:cNvSpPr/>
              <p:nvPr/>
            </p:nvSpPr>
            <p:spPr>
              <a:xfrm>
                <a:off x="1697040" y="2403360"/>
                <a:ext cx="576000" cy="10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1792440" y="2233440"/>
              <a:ext cx="350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728" name=""/>
            <p:cNvGrpSpPr/>
            <p:nvPr/>
          </p:nvGrpSpPr>
          <p:grpSpPr>
            <a:xfrm>
              <a:off x="1697040" y="2828880"/>
              <a:ext cx="576000" cy="204840"/>
              <a:chOff x="1697040" y="2828880"/>
              <a:chExt cx="576000" cy="204840"/>
            </a:xfrm>
          </p:grpSpPr>
          <p:grpSp>
            <p:nvGrpSpPr>
              <p:cNvPr id="729" name=""/>
              <p:cNvGrpSpPr/>
              <p:nvPr/>
            </p:nvGrpSpPr>
            <p:grpSpPr>
              <a:xfrm>
                <a:off x="1715760" y="2828880"/>
                <a:ext cx="538200" cy="179640"/>
                <a:chOff x="1715760" y="2828880"/>
                <a:chExt cx="538200" cy="1796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1715760" y="2828880"/>
                  <a:ext cx="17964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895400" y="282888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2074680" y="282888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3" name=""/>
              <p:cNvSpPr/>
              <p:nvPr/>
            </p:nvSpPr>
            <p:spPr>
              <a:xfrm>
                <a:off x="1697040" y="2925720"/>
                <a:ext cx="576000" cy="10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1792440" y="2752560"/>
              <a:ext cx="350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18" idx="6"/>
              <a:endCxn id="736" idx="2"/>
            </p:cNvCxnSpPr>
            <p:nvPr/>
          </p:nvCxnSpPr>
          <p:spPr>
            <a:xfrm>
              <a:off x="2285640" y="1944360"/>
              <a:ext cx="210564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737" name=""/>
            <p:cNvCxnSpPr>
              <a:stCxn id="725" idx="6"/>
              <a:endCxn id="738" idx="2"/>
            </p:cNvCxnSpPr>
            <p:nvPr/>
          </p:nvCxnSpPr>
          <p:spPr>
            <a:xfrm>
              <a:off x="2266920" y="2396880"/>
              <a:ext cx="212472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739" name=""/>
            <p:cNvCxnSpPr>
              <a:stCxn id="732" idx="6"/>
              <a:endCxn id="740" idx="2"/>
            </p:cNvCxnSpPr>
            <p:nvPr/>
          </p:nvCxnSpPr>
          <p:spPr>
            <a:xfrm>
              <a:off x="2266920" y="2918880"/>
              <a:ext cx="212472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741" name=""/>
            <p:cNvCxnSpPr>
              <a:stCxn id="742" idx="2"/>
              <a:endCxn id="743" idx="2"/>
            </p:cNvCxnSpPr>
            <p:nvPr/>
          </p:nvCxnSpPr>
          <p:spPr>
            <a:xfrm flipH="1" rot="16200000">
              <a:off x="3209040" y="641520"/>
              <a:ext cx="146520" cy="4834800"/>
            </a:xfrm>
            <a:prstGeom prst="bentConnector3">
              <a:avLst>
                <a:gd name="adj1" fmla="val 246551"/>
              </a:avLst>
            </a:prstGeom>
            <a:ln w="25560">
              <a:solidFill>
                <a:srgbClr val="0000ff"/>
              </a:solidFill>
              <a:miter/>
            </a:ln>
          </p:spPr>
        </p:cxnSp>
        <p:grpSp>
          <p:nvGrpSpPr>
            <p:cNvPr id="744" name=""/>
            <p:cNvGrpSpPr/>
            <p:nvPr/>
          </p:nvGrpSpPr>
          <p:grpSpPr>
            <a:xfrm>
              <a:off x="4384800" y="1854360"/>
              <a:ext cx="576000" cy="204120"/>
              <a:chOff x="4384800" y="1854360"/>
              <a:chExt cx="576000" cy="204120"/>
            </a:xfrm>
          </p:grpSpPr>
          <p:grpSp>
            <p:nvGrpSpPr>
              <p:cNvPr id="745" name=""/>
              <p:cNvGrpSpPr/>
              <p:nvPr/>
            </p:nvGrpSpPr>
            <p:grpSpPr>
              <a:xfrm>
                <a:off x="4403520" y="1854360"/>
                <a:ext cx="538200" cy="179280"/>
                <a:chOff x="4403520" y="1854360"/>
                <a:chExt cx="538200" cy="1792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4403520" y="1854360"/>
                  <a:ext cx="179640" cy="179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4583160" y="1854360"/>
                  <a:ext cx="179280" cy="179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762440" y="1854360"/>
                  <a:ext cx="179280" cy="179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8" name=""/>
              <p:cNvSpPr/>
              <p:nvPr/>
            </p:nvSpPr>
            <p:spPr>
              <a:xfrm>
                <a:off x="4384800" y="1950840"/>
                <a:ext cx="576000" cy="10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749" name=""/>
            <p:cNvSpPr/>
            <p:nvPr/>
          </p:nvSpPr>
          <p:spPr>
            <a:xfrm>
              <a:off x="4492800" y="1778040"/>
              <a:ext cx="350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4384800" y="2306520"/>
              <a:ext cx="576000" cy="204840"/>
              <a:chOff x="4384800" y="2306520"/>
              <a:chExt cx="576000" cy="204840"/>
            </a:xfrm>
          </p:grpSpPr>
          <p:grpSp>
            <p:nvGrpSpPr>
              <p:cNvPr id="751" name=""/>
              <p:cNvGrpSpPr/>
              <p:nvPr/>
            </p:nvGrpSpPr>
            <p:grpSpPr>
              <a:xfrm>
                <a:off x="4403520" y="2306520"/>
                <a:ext cx="538200" cy="179640"/>
                <a:chOff x="4403520" y="2306520"/>
                <a:chExt cx="538200" cy="179640"/>
              </a:xfrm>
            </p:grpSpPr>
            <p:sp>
              <p:nvSpPr>
                <p:cNvPr id="738" name=""/>
                <p:cNvSpPr/>
                <p:nvPr/>
              </p:nvSpPr>
              <p:spPr>
                <a:xfrm>
                  <a:off x="4403520" y="2306520"/>
                  <a:ext cx="17964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4583160" y="230652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762440" y="230652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4" name=""/>
              <p:cNvSpPr/>
              <p:nvPr/>
            </p:nvSpPr>
            <p:spPr>
              <a:xfrm>
                <a:off x="4384800" y="2403360"/>
                <a:ext cx="576000" cy="10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755" name=""/>
            <p:cNvSpPr/>
            <p:nvPr/>
          </p:nvSpPr>
          <p:spPr>
            <a:xfrm>
              <a:off x="4492800" y="2230560"/>
              <a:ext cx="350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492800" y="1916280"/>
              <a:ext cx="4111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Lb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4384800" y="2828880"/>
              <a:ext cx="576000" cy="204840"/>
              <a:chOff x="4384800" y="2828880"/>
              <a:chExt cx="576000" cy="204840"/>
            </a:xfrm>
          </p:grpSpPr>
          <p:grpSp>
            <p:nvGrpSpPr>
              <p:cNvPr id="758" name=""/>
              <p:cNvGrpSpPr/>
              <p:nvPr/>
            </p:nvGrpSpPr>
            <p:grpSpPr>
              <a:xfrm>
                <a:off x="4403520" y="2828880"/>
                <a:ext cx="538200" cy="179640"/>
                <a:chOff x="4403520" y="2828880"/>
                <a:chExt cx="538200" cy="17964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4403520" y="2828880"/>
                  <a:ext cx="17964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583160" y="282888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762440" y="282888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1" name=""/>
              <p:cNvSpPr/>
              <p:nvPr/>
            </p:nvSpPr>
            <p:spPr>
              <a:xfrm>
                <a:off x="4384800" y="2925720"/>
                <a:ext cx="576000" cy="10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4492800" y="2752560"/>
              <a:ext cx="350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492800" y="2438280"/>
              <a:ext cx="411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Lc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159520" y="1677960"/>
              <a:ext cx="1079280" cy="144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Nonl.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764" name=""/>
            <p:cNvCxnSpPr>
              <a:stCxn id="753" idx="6"/>
              <a:endCxn id="743" idx="1"/>
            </p:cNvCxnSpPr>
            <p:nvPr/>
          </p:nvCxnSpPr>
          <p:spPr>
            <a:xfrm>
              <a:off x="4954320" y="2397240"/>
              <a:ext cx="191160" cy="21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765" name=""/>
            <p:cNvSpPr/>
            <p:nvPr/>
          </p:nvSpPr>
          <p:spPr>
            <a:xfrm>
              <a:off x="4941720" y="1944720"/>
              <a:ext cx="2178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44960" y="2919240"/>
              <a:ext cx="2174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767" name=""/>
            <p:cNvCxnSpPr>
              <a:stCxn id="768" idx="4"/>
              <a:endCxn id="769" idx="2"/>
            </p:cNvCxnSpPr>
            <p:nvPr/>
          </p:nvCxnSpPr>
          <p:spPr>
            <a:xfrm flipH="1">
              <a:off x="3956760" y="1977840"/>
              <a:ext cx="2520" cy="17406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770" name=""/>
            <p:cNvCxnSpPr>
              <a:stCxn id="771" idx="4"/>
              <a:endCxn id="772" idx="2"/>
            </p:cNvCxnSpPr>
            <p:nvPr/>
          </p:nvCxnSpPr>
          <p:spPr>
            <a:xfrm>
              <a:off x="3419640" y="2437920"/>
              <a:ext cx="2160" cy="128052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773" name=""/>
            <p:cNvCxnSpPr>
              <a:stCxn id="774" idx="4"/>
              <a:endCxn id="775" idx="2"/>
            </p:cNvCxnSpPr>
            <p:nvPr/>
          </p:nvCxnSpPr>
          <p:spPr>
            <a:xfrm>
              <a:off x="2878200" y="2952720"/>
              <a:ext cx="2160" cy="766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768" name=""/>
            <p:cNvSpPr/>
            <p:nvPr/>
          </p:nvSpPr>
          <p:spPr>
            <a:xfrm>
              <a:off x="3922560" y="1906560"/>
              <a:ext cx="7164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449440" y="3352680"/>
              <a:ext cx="0" cy="1470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449440" y="4822920"/>
              <a:ext cx="53294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3951000" y="4352760"/>
              <a:ext cx="16714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3414240" y="4510080"/>
              <a:ext cx="29307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2879280" y="4665600"/>
              <a:ext cx="42195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382920" y="2367000"/>
              <a:ext cx="7164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41480" y="2881440"/>
              <a:ext cx="7164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411280" y="3309840"/>
              <a:ext cx="7164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422520" y="4132440"/>
              <a:ext cx="0" cy="377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960720" y="4132440"/>
              <a:ext cx="0" cy="220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119480" y="3746520"/>
              <a:ext cx="0" cy="350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785" name=""/>
            <p:cNvGrpSpPr/>
            <p:nvPr/>
          </p:nvGrpSpPr>
          <p:grpSpPr>
            <a:xfrm>
              <a:off x="3843000" y="3718080"/>
              <a:ext cx="204840" cy="431640"/>
              <a:chOff x="3843000" y="3718080"/>
              <a:chExt cx="204840" cy="431640"/>
            </a:xfrm>
          </p:grpSpPr>
          <p:grpSp>
            <p:nvGrpSpPr>
              <p:cNvPr id="786" name=""/>
              <p:cNvGrpSpPr/>
              <p:nvPr/>
            </p:nvGrpSpPr>
            <p:grpSpPr>
              <a:xfrm>
                <a:off x="3868200" y="3731760"/>
                <a:ext cx="179640" cy="403200"/>
                <a:chOff x="3868200" y="3731760"/>
                <a:chExt cx="179640" cy="403200"/>
              </a:xfrm>
            </p:grpSpPr>
            <p:sp>
              <p:nvSpPr>
                <p:cNvPr id="769" name=""/>
                <p:cNvSpPr/>
                <p:nvPr/>
              </p:nvSpPr>
              <p:spPr>
                <a:xfrm rot="5400000">
                  <a:off x="3890880" y="3709080"/>
                  <a:ext cx="134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rot="5400000">
                  <a:off x="3890880" y="3843360"/>
                  <a:ext cx="134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rot="5400000">
                  <a:off x="3890880" y="3978000"/>
                  <a:ext cx="134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9" name=""/>
              <p:cNvSpPr/>
              <p:nvPr/>
            </p:nvSpPr>
            <p:spPr>
              <a:xfrm rot="5400000">
                <a:off x="3681000" y="3879720"/>
                <a:ext cx="431640" cy="10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3306240" y="3718080"/>
              <a:ext cx="204840" cy="431640"/>
              <a:chOff x="3306240" y="3718080"/>
              <a:chExt cx="204840" cy="431640"/>
            </a:xfrm>
          </p:grpSpPr>
          <p:grpSp>
            <p:nvGrpSpPr>
              <p:cNvPr id="791" name=""/>
              <p:cNvGrpSpPr/>
              <p:nvPr/>
            </p:nvGrpSpPr>
            <p:grpSpPr>
              <a:xfrm>
                <a:off x="3331440" y="3731760"/>
                <a:ext cx="179640" cy="403200"/>
                <a:chOff x="3331440" y="3731760"/>
                <a:chExt cx="179640" cy="403200"/>
              </a:xfrm>
            </p:grpSpPr>
            <p:sp>
              <p:nvSpPr>
                <p:cNvPr id="772" name=""/>
                <p:cNvSpPr/>
                <p:nvPr/>
              </p:nvSpPr>
              <p:spPr>
                <a:xfrm rot="5400000">
                  <a:off x="3354120" y="3709080"/>
                  <a:ext cx="134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rot="5400000">
                  <a:off x="3354120" y="3843360"/>
                  <a:ext cx="134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rot="5400000">
                  <a:off x="3354120" y="3978000"/>
                  <a:ext cx="134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4" name=""/>
              <p:cNvSpPr/>
              <p:nvPr/>
            </p:nvSpPr>
            <p:spPr>
              <a:xfrm rot="5400000">
                <a:off x="3144240" y="3879720"/>
                <a:ext cx="431640" cy="10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>
              <a:off x="3003480" y="3730680"/>
              <a:ext cx="41112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Cc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041640" y="3746520"/>
              <a:ext cx="0" cy="350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583080" y="3746520"/>
              <a:ext cx="0" cy="350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544920" y="3730680"/>
              <a:ext cx="41112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Cb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757520" y="1935000"/>
              <a:ext cx="41112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Sb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751040" y="2457360"/>
              <a:ext cx="4428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Sc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492800" y="3268800"/>
              <a:ext cx="350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527720" y="2970360"/>
              <a:ext cx="4428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Ln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776240" y="3270240"/>
              <a:ext cx="351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811160" y="2971800"/>
              <a:ext cx="4431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Sn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530440" y="3746520"/>
              <a:ext cx="0" cy="350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86160" y="3716280"/>
              <a:ext cx="4809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Cn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807" name=""/>
            <p:cNvGrpSpPr/>
            <p:nvPr/>
          </p:nvGrpSpPr>
          <p:grpSpPr>
            <a:xfrm>
              <a:off x="2765520" y="3716280"/>
              <a:ext cx="203040" cy="431640"/>
              <a:chOff x="2765520" y="3716280"/>
              <a:chExt cx="203040" cy="431640"/>
            </a:xfrm>
          </p:grpSpPr>
          <p:grpSp>
            <p:nvGrpSpPr>
              <p:cNvPr id="808" name=""/>
              <p:cNvGrpSpPr/>
              <p:nvPr/>
            </p:nvGrpSpPr>
            <p:grpSpPr>
              <a:xfrm>
                <a:off x="2789280" y="3730680"/>
                <a:ext cx="179280" cy="403200"/>
                <a:chOff x="2789280" y="3730680"/>
                <a:chExt cx="179280" cy="403200"/>
              </a:xfrm>
            </p:grpSpPr>
            <p:sp>
              <p:nvSpPr>
                <p:cNvPr id="775" name=""/>
                <p:cNvSpPr/>
                <p:nvPr/>
              </p:nvSpPr>
              <p:spPr>
                <a:xfrm rot="5400000">
                  <a:off x="2811600" y="3708000"/>
                  <a:ext cx="134280" cy="179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 rot="5400000">
                  <a:off x="2811600" y="3842280"/>
                  <a:ext cx="134280" cy="179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 rot="5400000">
                  <a:off x="2811600" y="3976920"/>
                  <a:ext cx="134280" cy="179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1" name=""/>
              <p:cNvSpPr/>
              <p:nvPr/>
            </p:nvSpPr>
            <p:spPr>
              <a:xfrm rot="5400000">
                <a:off x="2603520" y="3877920"/>
                <a:ext cx="431640" cy="10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>
              <a:off x="2882880" y="4129200"/>
              <a:ext cx="0" cy="536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5273640" y="3675240"/>
              <a:ext cx="636480" cy="1814040"/>
              <a:chOff x="5273640" y="3675240"/>
              <a:chExt cx="636480" cy="1814040"/>
            </a:xfrm>
          </p:grpSpPr>
          <p:sp>
            <p:nvSpPr>
              <p:cNvPr id="814" name=""/>
              <p:cNvSpPr/>
              <p:nvPr/>
            </p:nvSpPr>
            <p:spPr>
              <a:xfrm>
                <a:off x="5441760" y="504180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815" name=""/>
              <p:cNvGrpSpPr/>
              <p:nvPr/>
            </p:nvGrpSpPr>
            <p:grpSpPr>
              <a:xfrm>
                <a:off x="5734080" y="5100480"/>
                <a:ext cx="176040" cy="169200"/>
                <a:chOff x="5734080" y="5100480"/>
                <a:chExt cx="176040" cy="169200"/>
              </a:xfrm>
            </p:grpSpPr>
            <p:sp>
              <p:nvSpPr>
                <p:cNvPr id="816" name=""/>
                <p:cNvSpPr/>
                <p:nvPr/>
              </p:nvSpPr>
              <p:spPr>
                <a:xfrm>
                  <a:off x="5734080" y="5115600"/>
                  <a:ext cx="176040" cy="154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734080" y="5100480"/>
                  <a:ext cx="17604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8" name=""/>
              <p:cNvSpPr/>
              <p:nvPr/>
            </p:nvSpPr>
            <p:spPr>
              <a:xfrm>
                <a:off x="5619600" y="5311800"/>
                <a:ext cx="0" cy="177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5441760" y="5046120"/>
                <a:ext cx="187560" cy="155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454720" y="5185440"/>
                <a:ext cx="168120" cy="131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379840" y="504180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273640" y="5186160"/>
                <a:ext cx="1062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622840" y="4118040"/>
                <a:ext cx="0" cy="928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819760" y="496224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815080" y="527040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5613120" y="497520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5613120" y="539892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441760" y="384156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829" name=""/>
              <p:cNvGrpSpPr/>
              <p:nvPr/>
            </p:nvGrpSpPr>
            <p:grpSpPr>
              <a:xfrm>
                <a:off x="5734080" y="3900240"/>
                <a:ext cx="176040" cy="169200"/>
                <a:chOff x="5734080" y="3900240"/>
                <a:chExt cx="176040" cy="16920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5734080" y="3915360"/>
                  <a:ext cx="176040" cy="154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5734080" y="3900240"/>
                  <a:ext cx="17604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2" name=""/>
              <p:cNvSpPr/>
              <p:nvPr/>
            </p:nvSpPr>
            <p:spPr>
              <a:xfrm flipV="1">
                <a:off x="5441760" y="3846240"/>
                <a:ext cx="187560" cy="155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454720" y="3985560"/>
                <a:ext cx="168120" cy="131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379840" y="384156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273640" y="3986280"/>
                <a:ext cx="1062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619600" y="3675240"/>
                <a:ext cx="0" cy="177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819760" y="3762360"/>
                <a:ext cx="0" cy="137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815080" y="407016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5613120" y="377496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5613120" y="419868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5996160" y="3675240"/>
              <a:ext cx="636480" cy="1814040"/>
              <a:chOff x="5996160" y="3675240"/>
              <a:chExt cx="636480" cy="1814040"/>
            </a:xfrm>
          </p:grpSpPr>
          <p:sp>
            <p:nvSpPr>
              <p:cNvPr id="842" name=""/>
              <p:cNvSpPr/>
              <p:nvPr/>
            </p:nvSpPr>
            <p:spPr>
              <a:xfrm>
                <a:off x="6164280" y="504180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843" name=""/>
              <p:cNvGrpSpPr/>
              <p:nvPr/>
            </p:nvGrpSpPr>
            <p:grpSpPr>
              <a:xfrm>
                <a:off x="6456600" y="5100480"/>
                <a:ext cx="176040" cy="169200"/>
                <a:chOff x="6456600" y="5100480"/>
                <a:chExt cx="176040" cy="16920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6456600" y="5115600"/>
                  <a:ext cx="176040" cy="154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6456600" y="5100480"/>
                  <a:ext cx="17604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6" name=""/>
              <p:cNvSpPr/>
              <p:nvPr/>
            </p:nvSpPr>
            <p:spPr>
              <a:xfrm>
                <a:off x="6342120" y="5311800"/>
                <a:ext cx="0" cy="177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V="1">
                <a:off x="6164280" y="5046120"/>
                <a:ext cx="187560" cy="155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177240" y="5185440"/>
                <a:ext cx="168120" cy="131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102360" y="504180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996160" y="5186160"/>
                <a:ext cx="1062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345360" y="4118040"/>
                <a:ext cx="0" cy="928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542280" y="496224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537600" y="527040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6335640" y="497520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6335640" y="539892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164280" y="384156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857" name=""/>
              <p:cNvGrpSpPr/>
              <p:nvPr/>
            </p:nvGrpSpPr>
            <p:grpSpPr>
              <a:xfrm>
                <a:off x="6456600" y="3900240"/>
                <a:ext cx="176040" cy="169200"/>
                <a:chOff x="6456600" y="3900240"/>
                <a:chExt cx="176040" cy="169200"/>
              </a:xfrm>
            </p:grpSpPr>
            <p:sp>
              <p:nvSpPr>
                <p:cNvPr id="858" name=""/>
                <p:cNvSpPr/>
                <p:nvPr/>
              </p:nvSpPr>
              <p:spPr>
                <a:xfrm>
                  <a:off x="6456600" y="3915360"/>
                  <a:ext cx="176040" cy="154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6456600" y="3900240"/>
                  <a:ext cx="17604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0" name=""/>
              <p:cNvSpPr/>
              <p:nvPr/>
            </p:nvSpPr>
            <p:spPr>
              <a:xfrm flipV="1">
                <a:off x="6164280" y="3846240"/>
                <a:ext cx="187560" cy="155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177240" y="3985560"/>
                <a:ext cx="168120" cy="131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102360" y="384156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996160" y="3986280"/>
                <a:ext cx="1062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342120" y="3675240"/>
                <a:ext cx="0" cy="177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542280" y="3762360"/>
                <a:ext cx="0" cy="137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537600" y="407016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6335640" y="377496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6335640" y="419868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"/>
            <p:cNvGrpSpPr/>
            <p:nvPr/>
          </p:nvGrpSpPr>
          <p:grpSpPr>
            <a:xfrm>
              <a:off x="6713640" y="3673440"/>
              <a:ext cx="636480" cy="1814040"/>
              <a:chOff x="6713640" y="3673440"/>
              <a:chExt cx="636480" cy="1814040"/>
            </a:xfrm>
          </p:grpSpPr>
          <p:sp>
            <p:nvSpPr>
              <p:cNvPr id="870" name=""/>
              <p:cNvSpPr/>
              <p:nvPr/>
            </p:nvSpPr>
            <p:spPr>
              <a:xfrm>
                <a:off x="6881760" y="504000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871" name=""/>
              <p:cNvGrpSpPr/>
              <p:nvPr/>
            </p:nvGrpSpPr>
            <p:grpSpPr>
              <a:xfrm>
                <a:off x="7174080" y="5098680"/>
                <a:ext cx="176040" cy="169200"/>
                <a:chOff x="7174080" y="5098680"/>
                <a:chExt cx="176040" cy="16920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7174080" y="5113800"/>
                  <a:ext cx="176040" cy="154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7174080" y="5098680"/>
                  <a:ext cx="17604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4" name=""/>
              <p:cNvSpPr/>
              <p:nvPr/>
            </p:nvSpPr>
            <p:spPr>
              <a:xfrm>
                <a:off x="7059600" y="5310000"/>
                <a:ext cx="0" cy="177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V="1">
                <a:off x="6881760" y="5044320"/>
                <a:ext cx="187560" cy="155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894720" y="5183640"/>
                <a:ext cx="168120" cy="131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819840" y="504000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713640" y="5184360"/>
                <a:ext cx="1062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062840" y="4116240"/>
                <a:ext cx="0" cy="928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259760" y="496044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255080" y="526860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7053120" y="497340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7053120" y="539712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881760" y="383976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885" name=""/>
              <p:cNvGrpSpPr/>
              <p:nvPr/>
            </p:nvGrpSpPr>
            <p:grpSpPr>
              <a:xfrm>
                <a:off x="7174080" y="3898440"/>
                <a:ext cx="176040" cy="169200"/>
                <a:chOff x="7174080" y="3898440"/>
                <a:chExt cx="176040" cy="169200"/>
              </a:xfrm>
            </p:grpSpPr>
            <p:sp>
              <p:nvSpPr>
                <p:cNvPr id="886" name=""/>
                <p:cNvSpPr/>
                <p:nvPr/>
              </p:nvSpPr>
              <p:spPr>
                <a:xfrm>
                  <a:off x="7174080" y="3913560"/>
                  <a:ext cx="176040" cy="154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7174080" y="3898440"/>
                  <a:ext cx="17604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8" name=""/>
              <p:cNvSpPr/>
              <p:nvPr/>
            </p:nvSpPr>
            <p:spPr>
              <a:xfrm flipV="1">
                <a:off x="6881760" y="3844440"/>
                <a:ext cx="187560" cy="155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894720" y="3983760"/>
                <a:ext cx="168120" cy="131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819840" y="383976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713640" y="3984480"/>
                <a:ext cx="1062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059600" y="3673440"/>
                <a:ext cx="0" cy="177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259760" y="3760560"/>
                <a:ext cx="0" cy="137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255080" y="406836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7053120" y="377316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7053120" y="419688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897" name=""/>
            <p:cNvSpPr/>
            <p:nvPr/>
          </p:nvSpPr>
          <p:spPr>
            <a:xfrm flipV="1">
              <a:off x="5613480" y="3675240"/>
              <a:ext cx="2962080" cy="2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616720" y="5484960"/>
              <a:ext cx="295884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589720" y="4314960"/>
              <a:ext cx="71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311880" y="447192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027920" y="4629240"/>
              <a:ext cx="71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91600" y="4549680"/>
              <a:ext cx="3603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391600" y="4622760"/>
              <a:ext cx="3603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8570880" y="3668760"/>
              <a:ext cx="0" cy="892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185320" y="4229280"/>
              <a:ext cx="4759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dc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106960" y="3505320"/>
              <a:ext cx="3859200" cy="2146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599080" y="4245120"/>
              <a:ext cx="258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326280" y="4411800"/>
              <a:ext cx="258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043760" y="4564080"/>
              <a:ext cx="258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910" name=""/>
            <p:cNvGrpSpPr/>
            <p:nvPr/>
          </p:nvGrpSpPr>
          <p:grpSpPr>
            <a:xfrm>
              <a:off x="7432560" y="3668760"/>
              <a:ext cx="636480" cy="1814040"/>
              <a:chOff x="7432560" y="3668760"/>
              <a:chExt cx="636480" cy="1814040"/>
            </a:xfrm>
          </p:grpSpPr>
          <p:sp>
            <p:nvSpPr>
              <p:cNvPr id="911" name=""/>
              <p:cNvSpPr/>
              <p:nvPr/>
            </p:nvSpPr>
            <p:spPr>
              <a:xfrm>
                <a:off x="7600680" y="503532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912" name=""/>
              <p:cNvGrpSpPr/>
              <p:nvPr/>
            </p:nvGrpSpPr>
            <p:grpSpPr>
              <a:xfrm>
                <a:off x="7893000" y="5094000"/>
                <a:ext cx="176040" cy="169200"/>
                <a:chOff x="7893000" y="5094000"/>
                <a:chExt cx="176040" cy="16920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7893000" y="5109120"/>
                  <a:ext cx="176040" cy="154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7893000" y="5094000"/>
                  <a:ext cx="17604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5" name=""/>
              <p:cNvSpPr/>
              <p:nvPr/>
            </p:nvSpPr>
            <p:spPr>
              <a:xfrm>
                <a:off x="7778520" y="5305320"/>
                <a:ext cx="0" cy="177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V="1">
                <a:off x="7600680" y="5039640"/>
                <a:ext cx="187560" cy="155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613640" y="5178960"/>
                <a:ext cx="168120" cy="131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538760" y="503532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432560" y="5179680"/>
                <a:ext cx="1062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781760" y="4111560"/>
                <a:ext cx="0" cy="928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978680" y="495576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974000" y="526392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>
                <a:off x="7772040" y="496872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>
                <a:off x="7772040" y="539244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00680" y="383508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926" name=""/>
              <p:cNvGrpSpPr/>
              <p:nvPr/>
            </p:nvGrpSpPr>
            <p:grpSpPr>
              <a:xfrm>
                <a:off x="7893000" y="3893760"/>
                <a:ext cx="176040" cy="169200"/>
                <a:chOff x="7893000" y="3893760"/>
                <a:chExt cx="176040" cy="16920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7893000" y="3908880"/>
                  <a:ext cx="176040" cy="154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893000" y="3893760"/>
                  <a:ext cx="17604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9" name=""/>
              <p:cNvSpPr/>
              <p:nvPr/>
            </p:nvSpPr>
            <p:spPr>
              <a:xfrm flipV="1">
                <a:off x="7600680" y="3839760"/>
                <a:ext cx="187560" cy="155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13640" y="3979080"/>
                <a:ext cx="168120" cy="131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538760" y="383508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432560" y="3979800"/>
                <a:ext cx="1062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778520" y="3668760"/>
                <a:ext cx="0" cy="177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978680" y="3755880"/>
                <a:ext cx="0" cy="137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974000" y="406368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>
                <a:off x="7772040" y="376848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H="1">
                <a:off x="7772040" y="419220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938" name=""/>
            <p:cNvSpPr/>
            <p:nvPr/>
          </p:nvSpPr>
          <p:spPr>
            <a:xfrm flipV="1">
              <a:off x="8575560" y="4622760"/>
              <a:ext cx="0" cy="866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746840" y="4786200"/>
              <a:ext cx="7164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759800" y="4716360"/>
              <a:ext cx="258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25440" y="1822320"/>
              <a:ext cx="1079640" cy="1149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Sourc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941" name=""/>
            <p:cNvCxnSpPr>
              <a:stCxn id="742" idx="3"/>
              <a:endCxn id="723" idx="2"/>
            </p:cNvCxnSpPr>
            <p:nvPr/>
          </p:nvCxnSpPr>
          <p:spPr>
            <a:xfrm>
              <a:off x="1419120" y="2396880"/>
              <a:ext cx="28512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942" name=""/>
            <p:cNvSpPr/>
            <p:nvPr/>
          </p:nvSpPr>
          <p:spPr>
            <a:xfrm>
              <a:off x="1405080" y="1936800"/>
              <a:ext cx="3189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405080" y="2906640"/>
              <a:ext cx="299880" cy="6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EA3B-41F8-4C8E-8532-12D8F9A02EE2}" type="slidenum">
              <a:t>10</a:t>
            </a:fld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83566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Układ 3-fazowy, 4-przewodowy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336600" y="1184400"/>
            <a:ext cx="8404200" cy="4746600"/>
            <a:chOff x="336600" y="1184400"/>
            <a:chExt cx="8404200" cy="4746600"/>
          </a:xfrm>
        </p:grpSpPr>
        <p:grpSp>
          <p:nvGrpSpPr>
            <p:cNvPr id="946" name=""/>
            <p:cNvGrpSpPr/>
            <p:nvPr/>
          </p:nvGrpSpPr>
          <p:grpSpPr>
            <a:xfrm>
              <a:off x="1735200" y="1574640"/>
              <a:ext cx="538200" cy="179640"/>
              <a:chOff x="1735200" y="1574640"/>
              <a:chExt cx="538200" cy="179640"/>
            </a:xfrm>
          </p:grpSpPr>
          <p:sp>
            <p:nvSpPr>
              <p:cNvPr id="947" name=""/>
              <p:cNvSpPr/>
              <p:nvPr/>
            </p:nvSpPr>
            <p:spPr>
              <a:xfrm>
                <a:off x="1735200" y="1574640"/>
                <a:ext cx="179640" cy="179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914840" y="1574640"/>
                <a:ext cx="179280" cy="179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094120" y="1574640"/>
                <a:ext cx="179280" cy="179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950" name=""/>
            <p:cNvSpPr/>
            <p:nvPr/>
          </p:nvSpPr>
          <p:spPr>
            <a:xfrm>
              <a:off x="1716120" y="1671480"/>
              <a:ext cx="5763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11160" y="1498680"/>
              <a:ext cx="351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782720" y="1203480"/>
              <a:ext cx="411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Sa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953" name=""/>
            <p:cNvGrpSpPr/>
            <p:nvPr/>
          </p:nvGrpSpPr>
          <p:grpSpPr>
            <a:xfrm>
              <a:off x="1716120" y="2027160"/>
              <a:ext cx="538200" cy="179640"/>
              <a:chOff x="1716120" y="2027160"/>
              <a:chExt cx="538200" cy="179640"/>
            </a:xfrm>
          </p:grpSpPr>
          <p:sp>
            <p:nvSpPr>
              <p:cNvPr id="954" name=""/>
              <p:cNvSpPr/>
              <p:nvPr/>
            </p:nvSpPr>
            <p:spPr>
              <a:xfrm>
                <a:off x="1716120" y="2027160"/>
                <a:ext cx="179640" cy="179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895760" y="2027160"/>
                <a:ext cx="179280" cy="179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075040" y="2027160"/>
                <a:ext cx="179280" cy="179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957" name=""/>
            <p:cNvSpPr/>
            <p:nvPr/>
          </p:nvSpPr>
          <p:spPr>
            <a:xfrm>
              <a:off x="1697040" y="2124000"/>
              <a:ext cx="5763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792440" y="1954080"/>
              <a:ext cx="350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959" name=""/>
            <p:cNvGrpSpPr/>
            <p:nvPr/>
          </p:nvGrpSpPr>
          <p:grpSpPr>
            <a:xfrm>
              <a:off x="1716120" y="2549520"/>
              <a:ext cx="538200" cy="179280"/>
              <a:chOff x="1716120" y="2549520"/>
              <a:chExt cx="538200" cy="179280"/>
            </a:xfrm>
          </p:grpSpPr>
          <p:sp>
            <p:nvSpPr>
              <p:cNvPr id="960" name=""/>
              <p:cNvSpPr/>
              <p:nvPr/>
            </p:nvSpPr>
            <p:spPr>
              <a:xfrm>
                <a:off x="1716120" y="2549520"/>
                <a:ext cx="17964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895760" y="2549520"/>
                <a:ext cx="17928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075040" y="2549520"/>
                <a:ext cx="17928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963" name=""/>
            <p:cNvSpPr/>
            <p:nvPr/>
          </p:nvSpPr>
          <p:spPr>
            <a:xfrm>
              <a:off x="1697040" y="2646360"/>
              <a:ext cx="5763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792440" y="2473200"/>
              <a:ext cx="350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94440" y="1184400"/>
              <a:ext cx="411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La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966" name=""/>
            <p:cNvCxnSpPr>
              <a:stCxn id="949" idx="6"/>
              <a:endCxn id="967" idx="2"/>
            </p:cNvCxnSpPr>
            <p:nvPr/>
          </p:nvCxnSpPr>
          <p:spPr>
            <a:xfrm>
              <a:off x="2285640" y="1665000"/>
              <a:ext cx="460764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968" name=""/>
            <p:cNvCxnSpPr>
              <a:stCxn id="956" idx="6"/>
              <a:endCxn id="969" idx="2"/>
            </p:cNvCxnSpPr>
            <p:nvPr/>
          </p:nvCxnSpPr>
          <p:spPr>
            <a:xfrm>
              <a:off x="2266920" y="2117520"/>
              <a:ext cx="462672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970" name=""/>
            <p:cNvCxnSpPr>
              <a:stCxn id="962" idx="6"/>
              <a:endCxn id="971" idx="2"/>
            </p:cNvCxnSpPr>
            <p:nvPr/>
          </p:nvCxnSpPr>
          <p:spPr>
            <a:xfrm>
              <a:off x="2266920" y="2639520"/>
              <a:ext cx="462672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972" name=""/>
            <p:cNvCxnSpPr/>
            <p:nvPr/>
          </p:nvCxnSpPr>
          <p:spPr>
            <a:xfrm flipH="1" rot="16200000">
              <a:off x="4457520" y="-900360"/>
              <a:ext cx="153360" cy="7325280"/>
            </a:xfrm>
            <a:prstGeom prst="bentConnector3">
              <a:avLst>
                <a:gd name="adj1" fmla="val 249882"/>
              </a:avLst>
            </a:prstGeom>
            <a:ln w="25560">
              <a:solidFill>
                <a:srgbClr val="0000ff"/>
              </a:solidFill>
              <a:miter/>
            </a:ln>
          </p:spPr>
        </p:cxnSp>
        <p:grpSp>
          <p:nvGrpSpPr>
            <p:cNvPr id="973" name=""/>
            <p:cNvGrpSpPr/>
            <p:nvPr/>
          </p:nvGrpSpPr>
          <p:grpSpPr>
            <a:xfrm>
              <a:off x="6886440" y="1574640"/>
              <a:ext cx="576000" cy="204840"/>
              <a:chOff x="6886440" y="1574640"/>
              <a:chExt cx="576000" cy="20484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6905160" y="1574640"/>
                <a:ext cx="538200" cy="179640"/>
                <a:chOff x="6905160" y="1574640"/>
                <a:chExt cx="538200" cy="17964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6905160" y="1574640"/>
                  <a:ext cx="17964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7084800" y="157464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7264080" y="157464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7" name=""/>
              <p:cNvSpPr/>
              <p:nvPr/>
            </p:nvSpPr>
            <p:spPr>
              <a:xfrm>
                <a:off x="6886440" y="1671480"/>
                <a:ext cx="576000" cy="10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>
              <a:off x="6994440" y="1498680"/>
              <a:ext cx="351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6886440" y="2027160"/>
              <a:ext cx="576000" cy="204840"/>
              <a:chOff x="6886440" y="2027160"/>
              <a:chExt cx="576000" cy="204840"/>
            </a:xfrm>
          </p:grpSpPr>
          <p:grpSp>
            <p:nvGrpSpPr>
              <p:cNvPr id="980" name=""/>
              <p:cNvGrpSpPr/>
              <p:nvPr/>
            </p:nvGrpSpPr>
            <p:grpSpPr>
              <a:xfrm>
                <a:off x="6905160" y="2027160"/>
                <a:ext cx="538200" cy="179640"/>
                <a:chOff x="6905160" y="2027160"/>
                <a:chExt cx="538200" cy="17964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6905160" y="2027160"/>
                  <a:ext cx="17964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7084800" y="202716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7264080" y="202716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3" name=""/>
              <p:cNvSpPr/>
              <p:nvPr/>
            </p:nvSpPr>
            <p:spPr>
              <a:xfrm>
                <a:off x="6886440" y="2124000"/>
                <a:ext cx="576000" cy="10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984" name=""/>
            <p:cNvSpPr/>
            <p:nvPr/>
          </p:nvSpPr>
          <p:spPr>
            <a:xfrm>
              <a:off x="6994440" y="1951200"/>
              <a:ext cx="351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994440" y="1636560"/>
              <a:ext cx="4111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Lb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986" name=""/>
            <p:cNvGrpSpPr/>
            <p:nvPr/>
          </p:nvGrpSpPr>
          <p:grpSpPr>
            <a:xfrm>
              <a:off x="6886440" y="2549520"/>
              <a:ext cx="576000" cy="204840"/>
              <a:chOff x="6886440" y="2549520"/>
              <a:chExt cx="576000" cy="204840"/>
            </a:xfrm>
          </p:grpSpPr>
          <p:grpSp>
            <p:nvGrpSpPr>
              <p:cNvPr id="987" name=""/>
              <p:cNvGrpSpPr/>
              <p:nvPr/>
            </p:nvGrpSpPr>
            <p:grpSpPr>
              <a:xfrm>
                <a:off x="6905160" y="2549520"/>
                <a:ext cx="538200" cy="179640"/>
                <a:chOff x="6905160" y="2549520"/>
                <a:chExt cx="538200" cy="179640"/>
              </a:xfrm>
            </p:grpSpPr>
            <p:sp>
              <p:nvSpPr>
                <p:cNvPr id="971" name=""/>
                <p:cNvSpPr/>
                <p:nvPr/>
              </p:nvSpPr>
              <p:spPr>
                <a:xfrm>
                  <a:off x="6905160" y="2549520"/>
                  <a:ext cx="17964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7084800" y="254952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264080" y="254952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0" name=""/>
              <p:cNvSpPr/>
              <p:nvPr/>
            </p:nvSpPr>
            <p:spPr>
              <a:xfrm>
                <a:off x="6886440" y="2646360"/>
                <a:ext cx="576000" cy="10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991" name=""/>
            <p:cNvSpPr/>
            <p:nvPr/>
          </p:nvSpPr>
          <p:spPr>
            <a:xfrm>
              <a:off x="6994440" y="2473200"/>
              <a:ext cx="351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994440" y="2158920"/>
              <a:ext cx="411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Lc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661160" y="1398600"/>
              <a:ext cx="1079640" cy="144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Nonl. load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994" name=""/>
            <p:cNvCxnSpPr>
              <a:stCxn id="982" idx="6"/>
              <a:endCxn id="993" idx="1"/>
            </p:cNvCxnSpPr>
            <p:nvPr/>
          </p:nvCxnSpPr>
          <p:spPr>
            <a:xfrm>
              <a:off x="7456320" y="2117880"/>
              <a:ext cx="191520" cy="21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995" name=""/>
            <p:cNvSpPr/>
            <p:nvPr/>
          </p:nvSpPr>
          <p:spPr>
            <a:xfrm>
              <a:off x="7443720" y="1665360"/>
              <a:ext cx="2174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446960" y="2639880"/>
              <a:ext cx="2174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757520" y="1655640"/>
              <a:ext cx="411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Sb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751040" y="2178000"/>
              <a:ext cx="4428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Sc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994440" y="2989440"/>
              <a:ext cx="351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029360" y="2690640"/>
              <a:ext cx="44316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Ln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077840" y="2990880"/>
              <a:ext cx="351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112760" y="2692440"/>
              <a:ext cx="4431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Sn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146320" y="5477040"/>
              <a:ext cx="0" cy="28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2438280" y="5535720"/>
              <a:ext cx="176400" cy="169560"/>
              <a:chOff x="2438280" y="5535720"/>
              <a:chExt cx="176400" cy="169560"/>
            </a:xfrm>
          </p:grpSpPr>
          <p:sp>
            <p:nvSpPr>
              <p:cNvPr id="1005" name=""/>
              <p:cNvSpPr/>
              <p:nvPr/>
            </p:nvSpPr>
            <p:spPr>
              <a:xfrm>
                <a:off x="2438280" y="5550840"/>
                <a:ext cx="176400" cy="154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438280" y="5535720"/>
                <a:ext cx="1764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2324160" y="5746680"/>
              <a:ext cx="0" cy="177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2146320" y="5481720"/>
              <a:ext cx="187200" cy="155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158920" y="5621400"/>
              <a:ext cx="168480" cy="131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084400" y="5477040"/>
              <a:ext cx="0" cy="28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978200" y="5621400"/>
              <a:ext cx="1062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327400" y="4552920"/>
              <a:ext cx="0" cy="928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523960" y="5397480"/>
              <a:ext cx="0" cy="138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519280" y="5705640"/>
              <a:ext cx="0" cy="137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2317320" y="5410080"/>
              <a:ext cx="206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2317320" y="5834160"/>
              <a:ext cx="206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146320" y="4276800"/>
              <a:ext cx="0" cy="28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018" name=""/>
            <p:cNvGrpSpPr/>
            <p:nvPr/>
          </p:nvGrpSpPr>
          <p:grpSpPr>
            <a:xfrm>
              <a:off x="2438280" y="4335480"/>
              <a:ext cx="176400" cy="169560"/>
              <a:chOff x="2438280" y="4335480"/>
              <a:chExt cx="176400" cy="169560"/>
            </a:xfrm>
          </p:grpSpPr>
          <p:sp>
            <p:nvSpPr>
              <p:cNvPr id="1019" name=""/>
              <p:cNvSpPr/>
              <p:nvPr/>
            </p:nvSpPr>
            <p:spPr>
              <a:xfrm>
                <a:off x="2438280" y="4350600"/>
                <a:ext cx="176400" cy="154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438280" y="4335480"/>
                <a:ext cx="1764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21" name=""/>
            <p:cNvSpPr/>
            <p:nvPr/>
          </p:nvSpPr>
          <p:spPr>
            <a:xfrm flipV="1">
              <a:off x="2146320" y="4281480"/>
              <a:ext cx="187200" cy="155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158920" y="4421160"/>
              <a:ext cx="168480" cy="131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084400" y="4276800"/>
              <a:ext cx="0" cy="28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978200" y="4421160"/>
              <a:ext cx="1062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324160" y="4110120"/>
              <a:ext cx="0" cy="177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523960" y="4197240"/>
              <a:ext cx="0" cy="138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519280" y="4505400"/>
              <a:ext cx="0" cy="137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2317320" y="4210200"/>
              <a:ext cx="206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2317320" y="4633920"/>
              <a:ext cx="206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030" name=""/>
            <p:cNvGrpSpPr/>
            <p:nvPr/>
          </p:nvGrpSpPr>
          <p:grpSpPr>
            <a:xfrm>
              <a:off x="2700360" y="4110120"/>
              <a:ext cx="636480" cy="1814040"/>
              <a:chOff x="2700360" y="4110120"/>
              <a:chExt cx="636480" cy="1814040"/>
            </a:xfrm>
          </p:grpSpPr>
          <p:sp>
            <p:nvSpPr>
              <p:cNvPr id="1031" name=""/>
              <p:cNvSpPr/>
              <p:nvPr/>
            </p:nvSpPr>
            <p:spPr>
              <a:xfrm>
                <a:off x="2868480" y="547668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1032" name=""/>
              <p:cNvGrpSpPr/>
              <p:nvPr/>
            </p:nvGrpSpPr>
            <p:grpSpPr>
              <a:xfrm>
                <a:off x="3160800" y="5535360"/>
                <a:ext cx="176040" cy="169200"/>
                <a:chOff x="3160800" y="5535360"/>
                <a:chExt cx="176040" cy="1692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3160800" y="5550480"/>
                  <a:ext cx="176040" cy="154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3160800" y="5535360"/>
                  <a:ext cx="17604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"/>
              <p:cNvSpPr/>
              <p:nvPr/>
            </p:nvSpPr>
            <p:spPr>
              <a:xfrm>
                <a:off x="3046320" y="5746680"/>
                <a:ext cx="0" cy="177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V="1">
                <a:off x="2868480" y="5481000"/>
                <a:ext cx="187560" cy="155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881440" y="5620320"/>
                <a:ext cx="168120" cy="131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806560" y="547668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700360" y="5621040"/>
                <a:ext cx="1062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049560" y="4552920"/>
                <a:ext cx="0" cy="928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246480" y="539712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241800" y="570528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H="1">
                <a:off x="3039840" y="541008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3039840" y="583380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868480" y="427644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1046" name=""/>
              <p:cNvGrpSpPr/>
              <p:nvPr/>
            </p:nvGrpSpPr>
            <p:grpSpPr>
              <a:xfrm>
                <a:off x="3160800" y="4335120"/>
                <a:ext cx="176040" cy="169200"/>
                <a:chOff x="3160800" y="4335120"/>
                <a:chExt cx="176040" cy="16920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3160800" y="4350240"/>
                  <a:ext cx="176040" cy="154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3160800" y="4335120"/>
                  <a:ext cx="17604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9" name=""/>
              <p:cNvSpPr/>
              <p:nvPr/>
            </p:nvSpPr>
            <p:spPr>
              <a:xfrm flipV="1">
                <a:off x="2868480" y="4281120"/>
                <a:ext cx="187560" cy="155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881440" y="4420440"/>
                <a:ext cx="168120" cy="131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806560" y="427644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700360" y="4421160"/>
                <a:ext cx="1062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046320" y="4110120"/>
                <a:ext cx="0" cy="177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46480" y="4197240"/>
                <a:ext cx="0" cy="137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1800" y="450504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>
                <a:off x="3039840" y="420984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3039840" y="463356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 flipV="1">
              <a:off x="2317680" y="4092120"/>
              <a:ext cx="6257880" cy="3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317680" y="5931000"/>
              <a:ext cx="62578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375760" y="4983120"/>
              <a:ext cx="3603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375760" y="5056200"/>
              <a:ext cx="3603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8555040" y="4102200"/>
              <a:ext cx="0" cy="892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177040" y="4662360"/>
              <a:ext cx="4762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dc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8559720" y="5056200"/>
              <a:ext cx="0" cy="866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307040" y="5477040"/>
              <a:ext cx="0" cy="28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066" name=""/>
            <p:cNvGrpSpPr/>
            <p:nvPr/>
          </p:nvGrpSpPr>
          <p:grpSpPr>
            <a:xfrm>
              <a:off x="4599000" y="5535720"/>
              <a:ext cx="176040" cy="169560"/>
              <a:chOff x="4599000" y="5535720"/>
              <a:chExt cx="176040" cy="169560"/>
            </a:xfrm>
          </p:grpSpPr>
          <p:sp>
            <p:nvSpPr>
              <p:cNvPr id="1067" name=""/>
              <p:cNvSpPr/>
              <p:nvPr/>
            </p:nvSpPr>
            <p:spPr>
              <a:xfrm>
                <a:off x="4599000" y="5550840"/>
                <a:ext cx="176040" cy="154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4599000" y="5535720"/>
                <a:ext cx="17604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69" name=""/>
            <p:cNvSpPr/>
            <p:nvPr/>
          </p:nvSpPr>
          <p:spPr>
            <a:xfrm>
              <a:off x="4484520" y="5746680"/>
              <a:ext cx="0" cy="177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4307040" y="5481720"/>
              <a:ext cx="187200" cy="155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319640" y="5621400"/>
              <a:ext cx="168120" cy="131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245120" y="5477040"/>
              <a:ext cx="0" cy="28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138560" y="5621400"/>
              <a:ext cx="1065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487760" y="4552920"/>
              <a:ext cx="0" cy="928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684680" y="5397480"/>
              <a:ext cx="0" cy="138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680000" y="5705640"/>
              <a:ext cx="0" cy="137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4478040" y="5410080"/>
              <a:ext cx="206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4478040" y="5834160"/>
              <a:ext cx="206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307040" y="4276800"/>
              <a:ext cx="0" cy="28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080" name=""/>
            <p:cNvGrpSpPr/>
            <p:nvPr/>
          </p:nvGrpSpPr>
          <p:grpSpPr>
            <a:xfrm>
              <a:off x="4599000" y="4335480"/>
              <a:ext cx="176040" cy="169560"/>
              <a:chOff x="4599000" y="4335480"/>
              <a:chExt cx="176040" cy="169560"/>
            </a:xfrm>
          </p:grpSpPr>
          <p:sp>
            <p:nvSpPr>
              <p:cNvPr id="1081" name=""/>
              <p:cNvSpPr/>
              <p:nvPr/>
            </p:nvSpPr>
            <p:spPr>
              <a:xfrm>
                <a:off x="4599000" y="4350600"/>
                <a:ext cx="176040" cy="154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599000" y="4335480"/>
                <a:ext cx="17604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83" name=""/>
            <p:cNvSpPr/>
            <p:nvPr/>
          </p:nvSpPr>
          <p:spPr>
            <a:xfrm flipV="1">
              <a:off x="4307040" y="4281480"/>
              <a:ext cx="187200" cy="155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319640" y="4421160"/>
              <a:ext cx="168120" cy="131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245120" y="4276800"/>
              <a:ext cx="0" cy="28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138560" y="4421160"/>
              <a:ext cx="1065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484520" y="4110120"/>
              <a:ext cx="0" cy="177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84680" y="4197240"/>
              <a:ext cx="0" cy="138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80000" y="4505400"/>
              <a:ext cx="0" cy="137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4478040" y="4210200"/>
              <a:ext cx="206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4478040" y="4633920"/>
              <a:ext cx="206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4861080" y="4110120"/>
              <a:ext cx="636480" cy="1814040"/>
              <a:chOff x="4861080" y="4110120"/>
              <a:chExt cx="636480" cy="1814040"/>
            </a:xfrm>
          </p:grpSpPr>
          <p:sp>
            <p:nvSpPr>
              <p:cNvPr id="1093" name=""/>
              <p:cNvSpPr/>
              <p:nvPr/>
            </p:nvSpPr>
            <p:spPr>
              <a:xfrm>
                <a:off x="5029200" y="547668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1094" name=""/>
              <p:cNvGrpSpPr/>
              <p:nvPr/>
            </p:nvGrpSpPr>
            <p:grpSpPr>
              <a:xfrm>
                <a:off x="5321520" y="5535360"/>
                <a:ext cx="176040" cy="169200"/>
                <a:chOff x="5321520" y="5535360"/>
                <a:chExt cx="176040" cy="16920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5321520" y="5550480"/>
                  <a:ext cx="176040" cy="154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5321520" y="5535360"/>
                  <a:ext cx="17604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7" name=""/>
              <p:cNvSpPr/>
              <p:nvPr/>
            </p:nvSpPr>
            <p:spPr>
              <a:xfrm>
                <a:off x="5207040" y="5746680"/>
                <a:ext cx="0" cy="177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5029200" y="5481000"/>
                <a:ext cx="187560" cy="155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042160" y="5620320"/>
                <a:ext cx="168120" cy="131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967280" y="547668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861080" y="5621040"/>
                <a:ext cx="1062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210280" y="4552920"/>
                <a:ext cx="0" cy="928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407200" y="539712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402520" y="570528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H="1">
                <a:off x="5200560" y="541008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>
                <a:off x="5200560" y="583380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029200" y="427644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1108" name=""/>
              <p:cNvGrpSpPr/>
              <p:nvPr/>
            </p:nvGrpSpPr>
            <p:grpSpPr>
              <a:xfrm>
                <a:off x="5321520" y="4335120"/>
                <a:ext cx="176040" cy="169200"/>
                <a:chOff x="5321520" y="4335120"/>
                <a:chExt cx="176040" cy="169200"/>
              </a:xfrm>
            </p:grpSpPr>
            <p:sp>
              <p:nvSpPr>
                <p:cNvPr id="1109" name=""/>
                <p:cNvSpPr/>
                <p:nvPr/>
              </p:nvSpPr>
              <p:spPr>
                <a:xfrm>
                  <a:off x="5321520" y="4350240"/>
                  <a:ext cx="176040" cy="154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5321520" y="4335120"/>
                  <a:ext cx="17604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1" name=""/>
              <p:cNvSpPr/>
              <p:nvPr/>
            </p:nvSpPr>
            <p:spPr>
              <a:xfrm flipV="1">
                <a:off x="5029200" y="4281120"/>
                <a:ext cx="187560" cy="155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042160" y="4420440"/>
                <a:ext cx="168120" cy="131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967280" y="427644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861080" y="4421160"/>
                <a:ext cx="1062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207040" y="4110120"/>
                <a:ext cx="0" cy="177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407200" y="4197240"/>
                <a:ext cx="0" cy="137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402520" y="450504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H="1">
                <a:off x="5200560" y="420984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H="1">
                <a:off x="5200560" y="463356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120" name=""/>
            <p:cNvSpPr/>
            <p:nvPr/>
          </p:nvSpPr>
          <p:spPr>
            <a:xfrm>
              <a:off x="6465960" y="5477040"/>
              <a:ext cx="0" cy="28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6757920" y="5535720"/>
              <a:ext cx="176400" cy="169560"/>
              <a:chOff x="6757920" y="5535720"/>
              <a:chExt cx="176400" cy="169560"/>
            </a:xfrm>
          </p:grpSpPr>
          <p:sp>
            <p:nvSpPr>
              <p:cNvPr id="1122" name=""/>
              <p:cNvSpPr/>
              <p:nvPr/>
            </p:nvSpPr>
            <p:spPr>
              <a:xfrm>
                <a:off x="6757920" y="5550840"/>
                <a:ext cx="176400" cy="154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757920" y="5535720"/>
                <a:ext cx="1764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124" name=""/>
            <p:cNvSpPr/>
            <p:nvPr/>
          </p:nvSpPr>
          <p:spPr>
            <a:xfrm>
              <a:off x="6643800" y="5746680"/>
              <a:ext cx="0" cy="177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6465960" y="5481720"/>
              <a:ext cx="187200" cy="155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478560" y="5621400"/>
              <a:ext cx="168480" cy="131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404040" y="5477040"/>
              <a:ext cx="0" cy="28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297480" y="5621400"/>
              <a:ext cx="1065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647040" y="4552920"/>
              <a:ext cx="0" cy="928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843600" y="5397480"/>
              <a:ext cx="0" cy="138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838920" y="5705640"/>
              <a:ext cx="0" cy="137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6636960" y="5410080"/>
              <a:ext cx="206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6636960" y="5834160"/>
              <a:ext cx="206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465960" y="4276800"/>
              <a:ext cx="0" cy="28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135" name=""/>
            <p:cNvGrpSpPr/>
            <p:nvPr/>
          </p:nvGrpSpPr>
          <p:grpSpPr>
            <a:xfrm>
              <a:off x="6757920" y="4335480"/>
              <a:ext cx="176400" cy="169560"/>
              <a:chOff x="6757920" y="4335480"/>
              <a:chExt cx="176400" cy="169560"/>
            </a:xfrm>
          </p:grpSpPr>
          <p:sp>
            <p:nvSpPr>
              <p:cNvPr id="1136" name=""/>
              <p:cNvSpPr/>
              <p:nvPr/>
            </p:nvSpPr>
            <p:spPr>
              <a:xfrm>
                <a:off x="6757920" y="4350600"/>
                <a:ext cx="176400" cy="154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757920" y="4335480"/>
                <a:ext cx="1764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138" name=""/>
            <p:cNvSpPr/>
            <p:nvPr/>
          </p:nvSpPr>
          <p:spPr>
            <a:xfrm flipV="1">
              <a:off x="6465960" y="4281480"/>
              <a:ext cx="187200" cy="155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478560" y="4421160"/>
              <a:ext cx="168480" cy="131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404040" y="4276800"/>
              <a:ext cx="0" cy="28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297480" y="4421160"/>
              <a:ext cx="1065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643800" y="4110120"/>
              <a:ext cx="0" cy="177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843600" y="4197240"/>
              <a:ext cx="0" cy="138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838920" y="4505400"/>
              <a:ext cx="0" cy="137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6636960" y="4210200"/>
              <a:ext cx="206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6636960" y="4633920"/>
              <a:ext cx="206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147" name=""/>
            <p:cNvGrpSpPr/>
            <p:nvPr/>
          </p:nvGrpSpPr>
          <p:grpSpPr>
            <a:xfrm>
              <a:off x="7020000" y="4110120"/>
              <a:ext cx="636480" cy="1814040"/>
              <a:chOff x="7020000" y="4110120"/>
              <a:chExt cx="636480" cy="1814040"/>
            </a:xfrm>
          </p:grpSpPr>
          <p:sp>
            <p:nvSpPr>
              <p:cNvPr id="1148" name=""/>
              <p:cNvSpPr/>
              <p:nvPr/>
            </p:nvSpPr>
            <p:spPr>
              <a:xfrm>
                <a:off x="7188120" y="547668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1149" name=""/>
              <p:cNvGrpSpPr/>
              <p:nvPr/>
            </p:nvGrpSpPr>
            <p:grpSpPr>
              <a:xfrm>
                <a:off x="7480440" y="5535360"/>
                <a:ext cx="176040" cy="169200"/>
                <a:chOff x="7480440" y="5535360"/>
                <a:chExt cx="176040" cy="1692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7480440" y="5550480"/>
                  <a:ext cx="176040" cy="154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7480440" y="5535360"/>
                  <a:ext cx="17604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2" name=""/>
              <p:cNvSpPr/>
              <p:nvPr/>
            </p:nvSpPr>
            <p:spPr>
              <a:xfrm>
                <a:off x="7365960" y="5746680"/>
                <a:ext cx="0" cy="177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V="1">
                <a:off x="7188120" y="5481000"/>
                <a:ext cx="187560" cy="155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201080" y="5620320"/>
                <a:ext cx="168120" cy="131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126200" y="547668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020000" y="5621040"/>
                <a:ext cx="1062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369200" y="4552920"/>
                <a:ext cx="0" cy="928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566120" y="539712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561440" y="570528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H="1">
                <a:off x="7359480" y="541008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H="1">
                <a:off x="7359480" y="583380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188120" y="427644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1163" name=""/>
              <p:cNvGrpSpPr/>
              <p:nvPr/>
            </p:nvGrpSpPr>
            <p:grpSpPr>
              <a:xfrm>
                <a:off x="7480440" y="4335120"/>
                <a:ext cx="176040" cy="169200"/>
                <a:chOff x="7480440" y="4335120"/>
                <a:chExt cx="176040" cy="16920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7480440" y="4350240"/>
                  <a:ext cx="176040" cy="154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7480440" y="4335120"/>
                  <a:ext cx="17604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6" name=""/>
              <p:cNvSpPr/>
              <p:nvPr/>
            </p:nvSpPr>
            <p:spPr>
              <a:xfrm flipV="1">
                <a:off x="7188120" y="4281120"/>
                <a:ext cx="187560" cy="155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201080" y="4420440"/>
                <a:ext cx="168120" cy="131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126200" y="4276440"/>
                <a:ext cx="0" cy="286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020000" y="4421160"/>
                <a:ext cx="1062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365960" y="4110120"/>
                <a:ext cx="0" cy="177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566120" y="4197240"/>
                <a:ext cx="0" cy="137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561440" y="4505040"/>
                <a:ext cx="0" cy="137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>
                <a:off x="7359480" y="420984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flipH="1">
                <a:off x="7359480" y="4633560"/>
                <a:ext cx="206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1798560" y="3238920"/>
              <a:ext cx="579240" cy="511560"/>
              <a:chOff x="1798560" y="3238920"/>
              <a:chExt cx="579240" cy="511560"/>
            </a:xfrm>
          </p:grpSpPr>
          <p:grpSp>
            <p:nvGrpSpPr>
              <p:cNvPr id="1176" name=""/>
              <p:cNvGrpSpPr/>
              <p:nvPr/>
            </p:nvGrpSpPr>
            <p:grpSpPr>
              <a:xfrm>
                <a:off x="1801800" y="3238920"/>
                <a:ext cx="576000" cy="206280"/>
                <a:chOff x="1801800" y="3238920"/>
                <a:chExt cx="576000" cy="206280"/>
              </a:xfrm>
            </p:grpSpPr>
            <p:grpSp>
              <p:nvGrpSpPr>
                <p:cNvPr id="1177" name=""/>
                <p:cNvGrpSpPr/>
                <p:nvPr/>
              </p:nvGrpSpPr>
              <p:grpSpPr>
                <a:xfrm>
                  <a:off x="1820880" y="3264480"/>
                  <a:ext cx="538200" cy="180720"/>
                  <a:chOff x="1820880" y="3264480"/>
                  <a:chExt cx="538200" cy="18072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 rot="10800000">
                    <a:off x="2179440" y="3264480"/>
                    <a:ext cx="17964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 rot="10800000">
                    <a:off x="2000160" y="3264480"/>
                    <a:ext cx="17928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 rot="10800000">
                    <a:off x="1820880" y="3264480"/>
                    <a:ext cx="17928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1" name=""/>
                <p:cNvSpPr/>
                <p:nvPr/>
              </p:nvSpPr>
              <p:spPr>
                <a:xfrm rot="10800000">
                  <a:off x="1801800" y="3238920"/>
                  <a:ext cx="576000" cy="108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1798560" y="3544200"/>
                <a:ext cx="576000" cy="206280"/>
                <a:chOff x="1798560" y="3544200"/>
                <a:chExt cx="576000" cy="206280"/>
              </a:xfrm>
            </p:grpSpPr>
            <p:grpSp>
              <p:nvGrpSpPr>
                <p:cNvPr id="1183" name=""/>
                <p:cNvGrpSpPr/>
                <p:nvPr/>
              </p:nvGrpSpPr>
              <p:grpSpPr>
                <a:xfrm>
                  <a:off x="1817280" y="3544200"/>
                  <a:ext cx="538200" cy="180720"/>
                  <a:chOff x="1817280" y="3544200"/>
                  <a:chExt cx="538200" cy="180720"/>
                </a:xfrm>
              </p:grpSpPr>
              <p:sp>
                <p:nvSpPr>
                  <p:cNvPr id="1184" name=""/>
                  <p:cNvSpPr/>
                  <p:nvPr/>
                </p:nvSpPr>
                <p:spPr>
                  <a:xfrm>
                    <a:off x="1817280" y="3544200"/>
                    <a:ext cx="17964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1996920" y="3544200"/>
                    <a:ext cx="17928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2176200" y="3544200"/>
                    <a:ext cx="17928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7" name=""/>
                <p:cNvSpPr/>
                <p:nvPr/>
              </p:nvSpPr>
              <p:spPr>
                <a:xfrm>
                  <a:off x="1798560" y="3641760"/>
                  <a:ext cx="576000" cy="108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8" name=""/>
              <p:cNvSpPr/>
              <p:nvPr/>
            </p:nvSpPr>
            <p:spPr>
              <a:xfrm>
                <a:off x="1825560" y="3494520"/>
                <a:ext cx="53964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189" name=""/>
            <p:cNvSpPr/>
            <p:nvPr/>
          </p:nvSpPr>
          <p:spPr>
            <a:xfrm>
              <a:off x="1817640" y="3641760"/>
              <a:ext cx="0" cy="1396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811160" y="5038560"/>
              <a:ext cx="5223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355840" y="3630600"/>
              <a:ext cx="0" cy="246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901880" y="3865680"/>
              <a:ext cx="4665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901880" y="3857760"/>
              <a:ext cx="0" cy="1052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895400" y="4910040"/>
              <a:ext cx="1154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195" name=""/>
            <p:cNvGrpSpPr/>
            <p:nvPr/>
          </p:nvGrpSpPr>
          <p:grpSpPr>
            <a:xfrm>
              <a:off x="3957480" y="3238920"/>
              <a:ext cx="579240" cy="511560"/>
              <a:chOff x="3957480" y="3238920"/>
              <a:chExt cx="579240" cy="511560"/>
            </a:xfrm>
          </p:grpSpPr>
          <p:grpSp>
            <p:nvGrpSpPr>
              <p:cNvPr id="1196" name=""/>
              <p:cNvGrpSpPr/>
              <p:nvPr/>
            </p:nvGrpSpPr>
            <p:grpSpPr>
              <a:xfrm>
                <a:off x="3960720" y="3238920"/>
                <a:ext cx="576000" cy="206280"/>
                <a:chOff x="3960720" y="3238920"/>
                <a:chExt cx="576000" cy="206280"/>
              </a:xfrm>
            </p:grpSpPr>
            <p:grpSp>
              <p:nvGrpSpPr>
                <p:cNvPr id="1197" name=""/>
                <p:cNvGrpSpPr/>
                <p:nvPr/>
              </p:nvGrpSpPr>
              <p:grpSpPr>
                <a:xfrm>
                  <a:off x="3979800" y="3264480"/>
                  <a:ext cx="538200" cy="180720"/>
                  <a:chOff x="3979800" y="3264480"/>
                  <a:chExt cx="538200" cy="180720"/>
                </a:xfrm>
              </p:grpSpPr>
              <p:sp>
                <p:nvSpPr>
                  <p:cNvPr id="1198" name=""/>
                  <p:cNvSpPr/>
                  <p:nvPr/>
                </p:nvSpPr>
                <p:spPr>
                  <a:xfrm rot="10800000">
                    <a:off x="4338360" y="3264480"/>
                    <a:ext cx="17964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 rot="10800000">
                    <a:off x="4159080" y="3264480"/>
                    <a:ext cx="17928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 rot="10800000">
                    <a:off x="3979800" y="3264480"/>
                    <a:ext cx="17928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1" name=""/>
                <p:cNvSpPr/>
                <p:nvPr/>
              </p:nvSpPr>
              <p:spPr>
                <a:xfrm rot="10800000">
                  <a:off x="3960720" y="3238920"/>
                  <a:ext cx="576000" cy="108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2" name=""/>
              <p:cNvGrpSpPr/>
              <p:nvPr/>
            </p:nvGrpSpPr>
            <p:grpSpPr>
              <a:xfrm>
                <a:off x="3957480" y="3544200"/>
                <a:ext cx="576000" cy="206280"/>
                <a:chOff x="3957480" y="3544200"/>
                <a:chExt cx="576000" cy="206280"/>
              </a:xfrm>
            </p:grpSpPr>
            <p:grpSp>
              <p:nvGrpSpPr>
                <p:cNvPr id="1203" name=""/>
                <p:cNvGrpSpPr/>
                <p:nvPr/>
              </p:nvGrpSpPr>
              <p:grpSpPr>
                <a:xfrm>
                  <a:off x="3976200" y="3544200"/>
                  <a:ext cx="538200" cy="180720"/>
                  <a:chOff x="3976200" y="3544200"/>
                  <a:chExt cx="538200" cy="180720"/>
                </a:xfrm>
              </p:grpSpPr>
              <p:sp>
                <p:nvSpPr>
                  <p:cNvPr id="1204" name=""/>
                  <p:cNvSpPr/>
                  <p:nvPr/>
                </p:nvSpPr>
                <p:spPr>
                  <a:xfrm>
                    <a:off x="3976200" y="3544200"/>
                    <a:ext cx="17964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4155840" y="3544200"/>
                    <a:ext cx="17928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4335120" y="3544200"/>
                    <a:ext cx="17928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7" name=""/>
                <p:cNvSpPr/>
                <p:nvPr/>
              </p:nvSpPr>
              <p:spPr>
                <a:xfrm>
                  <a:off x="3957480" y="3641760"/>
                  <a:ext cx="576000" cy="108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8" name=""/>
              <p:cNvSpPr/>
              <p:nvPr/>
            </p:nvSpPr>
            <p:spPr>
              <a:xfrm>
                <a:off x="3984480" y="3494520"/>
                <a:ext cx="53964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209" name=""/>
            <p:cNvSpPr/>
            <p:nvPr/>
          </p:nvSpPr>
          <p:spPr>
            <a:xfrm>
              <a:off x="3976560" y="3641760"/>
              <a:ext cx="0" cy="1396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970440" y="5038560"/>
              <a:ext cx="5223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514760" y="3630600"/>
              <a:ext cx="0" cy="246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060800" y="3865680"/>
              <a:ext cx="4669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060800" y="3857760"/>
              <a:ext cx="0" cy="1052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054320" y="4910040"/>
              <a:ext cx="1154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6116760" y="3238920"/>
              <a:ext cx="579240" cy="511560"/>
              <a:chOff x="6116760" y="3238920"/>
              <a:chExt cx="579240" cy="511560"/>
            </a:xfrm>
          </p:grpSpPr>
          <p:grpSp>
            <p:nvGrpSpPr>
              <p:cNvPr id="1216" name=""/>
              <p:cNvGrpSpPr/>
              <p:nvPr/>
            </p:nvGrpSpPr>
            <p:grpSpPr>
              <a:xfrm>
                <a:off x="6120000" y="3238920"/>
                <a:ext cx="576000" cy="206280"/>
                <a:chOff x="6120000" y="3238920"/>
                <a:chExt cx="576000" cy="206280"/>
              </a:xfrm>
            </p:grpSpPr>
            <p:grpSp>
              <p:nvGrpSpPr>
                <p:cNvPr id="1217" name=""/>
                <p:cNvGrpSpPr/>
                <p:nvPr/>
              </p:nvGrpSpPr>
              <p:grpSpPr>
                <a:xfrm>
                  <a:off x="6139080" y="3264480"/>
                  <a:ext cx="538200" cy="180720"/>
                  <a:chOff x="6139080" y="3264480"/>
                  <a:chExt cx="538200" cy="180720"/>
                </a:xfrm>
              </p:grpSpPr>
              <p:sp>
                <p:nvSpPr>
                  <p:cNvPr id="1218" name=""/>
                  <p:cNvSpPr/>
                  <p:nvPr/>
                </p:nvSpPr>
                <p:spPr>
                  <a:xfrm rot="10800000">
                    <a:off x="6497640" y="3264480"/>
                    <a:ext cx="17964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 rot="10800000">
                    <a:off x="6318360" y="3264480"/>
                    <a:ext cx="17928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 rot="10800000">
                    <a:off x="6139080" y="3264480"/>
                    <a:ext cx="17928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1" name=""/>
                <p:cNvSpPr/>
                <p:nvPr/>
              </p:nvSpPr>
              <p:spPr>
                <a:xfrm rot="10800000">
                  <a:off x="6120000" y="3238920"/>
                  <a:ext cx="576000" cy="108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6116760" y="3544200"/>
                <a:ext cx="576000" cy="206280"/>
                <a:chOff x="6116760" y="3544200"/>
                <a:chExt cx="576000" cy="206280"/>
              </a:xfrm>
            </p:grpSpPr>
            <p:grpSp>
              <p:nvGrpSpPr>
                <p:cNvPr id="1223" name=""/>
                <p:cNvGrpSpPr/>
                <p:nvPr/>
              </p:nvGrpSpPr>
              <p:grpSpPr>
                <a:xfrm>
                  <a:off x="6135480" y="3544200"/>
                  <a:ext cx="538200" cy="180720"/>
                  <a:chOff x="6135480" y="3544200"/>
                  <a:chExt cx="538200" cy="180720"/>
                </a:xfrm>
              </p:grpSpPr>
              <p:sp>
                <p:nvSpPr>
                  <p:cNvPr id="1224" name=""/>
                  <p:cNvSpPr/>
                  <p:nvPr/>
                </p:nvSpPr>
                <p:spPr>
                  <a:xfrm>
                    <a:off x="6135480" y="3544200"/>
                    <a:ext cx="17964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6315120" y="3544200"/>
                    <a:ext cx="17928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6494400" y="3544200"/>
                    <a:ext cx="179280" cy="18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7" name=""/>
                <p:cNvSpPr/>
                <p:nvPr/>
              </p:nvSpPr>
              <p:spPr>
                <a:xfrm>
                  <a:off x="6116760" y="3641760"/>
                  <a:ext cx="576000" cy="108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8" name=""/>
              <p:cNvSpPr/>
              <p:nvPr/>
            </p:nvSpPr>
            <p:spPr>
              <a:xfrm>
                <a:off x="6143760" y="3494520"/>
                <a:ext cx="53964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229" name=""/>
            <p:cNvSpPr/>
            <p:nvPr/>
          </p:nvSpPr>
          <p:spPr>
            <a:xfrm>
              <a:off x="6135840" y="3641760"/>
              <a:ext cx="0" cy="1396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129360" y="5038560"/>
              <a:ext cx="5223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673680" y="3630600"/>
              <a:ext cx="0" cy="246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219720" y="3865680"/>
              <a:ext cx="4669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219720" y="3857760"/>
              <a:ext cx="0" cy="1052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213600" y="4910040"/>
              <a:ext cx="1154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V="1">
              <a:off x="1817640" y="3065400"/>
              <a:ext cx="0" cy="279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2355840" y="1665000"/>
              <a:ext cx="0" cy="1679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3976560" y="3065400"/>
              <a:ext cx="0" cy="279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V="1">
              <a:off x="6135840" y="3067200"/>
              <a:ext cx="0" cy="279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4514760" y="2117880"/>
              <a:ext cx="0" cy="1233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6673680" y="2639880"/>
              <a:ext cx="0" cy="717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100920" y="303048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640560" y="260028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81640" y="208116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944880" y="3030480"/>
              <a:ext cx="7164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319480" y="162864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782720" y="3030480"/>
              <a:ext cx="7164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293920" y="500688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014640" y="4876920"/>
              <a:ext cx="7164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452840" y="5006880"/>
              <a:ext cx="7164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173560" y="4876920"/>
              <a:ext cx="7164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615000" y="5006880"/>
              <a:ext cx="7164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335720" y="4873680"/>
              <a:ext cx="7164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382840" y="1700280"/>
              <a:ext cx="258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522680" y="2198520"/>
              <a:ext cx="35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405480" y="2701800"/>
              <a:ext cx="35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702480" y="3389400"/>
              <a:ext cx="4903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cc0000"/>
                  </a:solidFill>
                  <a:latin typeface="Arial"/>
                </a:rPr>
                <a:t>Tr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708520" y="3556080"/>
              <a:ext cx="41112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Cc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031080" y="3638520"/>
              <a:ext cx="0" cy="351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533760" y="3556080"/>
              <a:ext cx="41112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Cb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855960" y="3638520"/>
              <a:ext cx="0" cy="351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387440" y="3556080"/>
              <a:ext cx="41112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Ca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709640" y="3638520"/>
              <a:ext cx="0" cy="351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36600" y="1536840"/>
              <a:ext cx="1079280" cy="1149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Sourc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1264" name=""/>
            <p:cNvCxnSpPr>
              <a:stCxn id="1263" idx="3"/>
              <a:endCxn id="954" idx="2"/>
            </p:cNvCxnSpPr>
            <p:nvPr/>
          </p:nvCxnSpPr>
          <p:spPr>
            <a:xfrm>
              <a:off x="1429920" y="2111400"/>
              <a:ext cx="273960" cy="72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1265" name=""/>
            <p:cNvSpPr/>
            <p:nvPr/>
          </p:nvSpPr>
          <p:spPr>
            <a:xfrm>
              <a:off x="1415880" y="1657440"/>
              <a:ext cx="3193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415880" y="2631960"/>
              <a:ext cx="300240" cy="6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6C22-CCC2-4A35-820F-78F274E00E15}" type="slidenum">
              <a:t>11</a:t>
            </a:fld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zeregowy APF – redukcja harmonicznych prądu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1268" name="" descr=""/>
          <p:cNvPicPr/>
          <p:nvPr/>
        </p:nvPicPr>
        <p:blipFill>
          <a:blip r:embed="rId1"/>
          <a:srcRect l="57955" t="17820" r="1222" b="50708"/>
          <a:stretch/>
        </p:blipFill>
        <p:spPr>
          <a:xfrm>
            <a:off x="228600" y="3630600"/>
            <a:ext cx="4370400" cy="303228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1269" name="" descr=""/>
          <p:cNvPicPr/>
          <p:nvPr/>
        </p:nvPicPr>
        <p:blipFill>
          <a:blip r:embed="rId2"/>
          <a:srcRect l="58613" t="57914" r="470" b="8844"/>
          <a:stretch/>
        </p:blipFill>
        <p:spPr>
          <a:xfrm>
            <a:off x="4775040" y="3630600"/>
            <a:ext cx="4140360" cy="303228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grpSp>
        <p:nvGrpSpPr>
          <p:cNvPr id="1270" name=""/>
          <p:cNvGrpSpPr/>
          <p:nvPr/>
        </p:nvGrpSpPr>
        <p:grpSpPr>
          <a:xfrm>
            <a:off x="2413080" y="1143000"/>
            <a:ext cx="4317840" cy="2488320"/>
            <a:chOff x="2413080" y="1143000"/>
            <a:chExt cx="4317840" cy="2488320"/>
          </a:xfrm>
        </p:grpSpPr>
        <p:pic>
          <p:nvPicPr>
            <p:cNvPr id="1271" name="" descr=""/>
            <p:cNvPicPr/>
            <p:nvPr/>
          </p:nvPicPr>
          <p:blipFill>
            <a:blip r:embed="rId3"/>
            <a:srcRect l="0" t="28498" r="43384" b="19720"/>
            <a:stretch/>
          </p:blipFill>
          <p:spPr>
            <a:xfrm>
              <a:off x="2413080" y="1143000"/>
              <a:ext cx="4317840" cy="2362320"/>
            </a:xfrm>
            <a:prstGeom prst="rect">
              <a:avLst/>
            </a:prstGeom>
            <a:ln w="12600">
              <a:solidFill>
                <a:srgbClr val="0000ff"/>
              </a:solidFill>
              <a:miter/>
            </a:ln>
          </p:spPr>
        </p:pic>
        <p:sp>
          <p:nvSpPr>
            <p:cNvPr id="1272" name=""/>
            <p:cNvSpPr/>
            <p:nvPr/>
          </p:nvSpPr>
          <p:spPr>
            <a:xfrm>
              <a:off x="4599000" y="3294000"/>
              <a:ext cx="1763640" cy="337320"/>
            </a:xfrm>
            <a:prstGeom prst="rect">
              <a:avLst/>
            </a:prstGeom>
            <a:solidFill>
              <a:srgbClr val="ffff66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APF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212360" y="1143000"/>
              <a:ext cx="1802160" cy="337320"/>
            </a:xfrm>
            <a:prstGeom prst="rect">
              <a:avLst/>
            </a:prstGeom>
            <a:solidFill>
              <a:srgbClr val="ffff66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cc0000"/>
                  </a:solidFill>
                  <a:latin typeface="Arial"/>
                </a:rPr>
                <a:t>6-pulses rectifier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274" name=""/>
          <p:cNvSpPr/>
          <p:nvPr/>
        </p:nvSpPr>
        <p:spPr>
          <a:xfrm flipH="1" flipV="1">
            <a:off x="3238560" y="4057200"/>
            <a:ext cx="1828800" cy="5526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H="1" flipV="1">
            <a:off x="3562200" y="4971960"/>
            <a:ext cx="2076480" cy="8762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H="1">
            <a:off x="4195800" y="5619600"/>
            <a:ext cx="3938400" cy="6670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CBCF-92C7-4DD8-B63B-1E7C854E8600}" type="slidenum">
              <a:t>12</a:t>
            </a:fld>
          </a:p>
        </p:txBody>
      </p:sp>
    </p:spTree>
  </p:cSld>
  <p:transition>
    <p:cover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7" name="" descr=""/>
          <p:cNvPicPr/>
          <p:nvPr/>
        </p:nvPicPr>
        <p:blipFill>
          <a:blip r:embed="rId1"/>
          <a:stretch/>
        </p:blipFill>
        <p:spPr>
          <a:xfrm>
            <a:off x="5173560" y="406872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1278" name="" descr=""/>
          <p:cNvPicPr/>
          <p:nvPr/>
        </p:nvPicPr>
        <p:blipFill>
          <a:blip r:embed="rId2"/>
          <a:stretch/>
        </p:blipFill>
        <p:spPr>
          <a:xfrm>
            <a:off x="393840" y="406872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1279" name="" descr=""/>
          <p:cNvPicPr/>
          <p:nvPr/>
        </p:nvPicPr>
        <p:blipFill>
          <a:blip r:embed="rId3"/>
          <a:stretch/>
        </p:blipFill>
        <p:spPr>
          <a:xfrm>
            <a:off x="393840" y="10191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1280" name="" descr=""/>
          <p:cNvPicPr/>
          <p:nvPr/>
        </p:nvPicPr>
        <p:blipFill>
          <a:blip r:embed="rId4"/>
          <a:stretch/>
        </p:blipFill>
        <p:spPr>
          <a:xfrm>
            <a:off x="5173560" y="1019160"/>
            <a:ext cx="3584520" cy="2687760"/>
          </a:xfrm>
          <a:prstGeom prst="rect">
            <a:avLst/>
          </a:prstGeom>
          <a:ln w="0">
            <a:noFill/>
          </a:ln>
        </p:spPr>
      </p:pic>
      <p:sp>
        <p:nvSpPr>
          <p:cNvPr id="1281" name=""/>
          <p:cNvSpPr/>
          <p:nvPr/>
        </p:nvSpPr>
        <p:spPr>
          <a:xfrm>
            <a:off x="1498680" y="1501560"/>
            <a:ext cx="5713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515280" y="1302840"/>
            <a:ext cx="7743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EF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066680" y="1945800"/>
            <a:ext cx="7747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743200" y="1302840"/>
            <a:ext cx="7747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/5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854360" y="5692320"/>
            <a:ext cx="1663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HD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=28,48%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680160" y="5692320"/>
            <a:ext cx="16639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HD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=0,19%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549440" y="4282560"/>
            <a:ext cx="5713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350040" y="4282560"/>
            <a:ext cx="7747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2E09-8C12-473E-A3D1-3DDE577D39C2}" type="slidenum">
              <a:t>13</a:t>
            </a:fld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9" name="" descr=""/>
          <p:cNvPicPr/>
          <p:nvPr/>
        </p:nvPicPr>
        <p:blipFill>
          <a:blip r:embed="rId1"/>
          <a:stretch/>
        </p:blipFill>
        <p:spPr>
          <a:xfrm>
            <a:off x="304920" y="104292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1290" name="" descr=""/>
          <p:cNvPicPr/>
          <p:nvPr/>
        </p:nvPicPr>
        <p:blipFill>
          <a:blip r:embed="rId2"/>
          <a:stretch/>
        </p:blipFill>
        <p:spPr>
          <a:xfrm>
            <a:off x="304920" y="40989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1291" name="" descr=""/>
          <p:cNvPicPr/>
          <p:nvPr/>
        </p:nvPicPr>
        <p:blipFill>
          <a:blip r:embed="rId3"/>
          <a:stretch/>
        </p:blipFill>
        <p:spPr>
          <a:xfrm>
            <a:off x="5175360" y="40910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1292" name="" descr=""/>
          <p:cNvPicPr/>
          <p:nvPr/>
        </p:nvPicPr>
        <p:blipFill>
          <a:blip r:embed="rId4"/>
          <a:stretch/>
        </p:blipFill>
        <p:spPr>
          <a:xfrm>
            <a:off x="5175360" y="1009800"/>
            <a:ext cx="3584520" cy="2687400"/>
          </a:xfrm>
          <a:prstGeom prst="rect">
            <a:avLst/>
          </a:prstGeom>
          <a:ln w="0">
            <a:noFill/>
          </a:ln>
        </p:spPr>
      </p:pic>
      <p:sp>
        <p:nvSpPr>
          <p:cNvPr id="1293" name=""/>
          <p:cNvSpPr/>
          <p:nvPr/>
        </p:nvSpPr>
        <p:spPr>
          <a:xfrm>
            <a:off x="1587600" y="4252680"/>
            <a:ext cx="5713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058080" y="1302840"/>
            <a:ext cx="7743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EF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6286680" y="4252680"/>
            <a:ext cx="7743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755800" y="1341000"/>
            <a:ext cx="7747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/5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866960" y="5594040"/>
            <a:ext cx="1663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HD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=29,11%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473120" y="1645920"/>
            <a:ext cx="5716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680160" y="5594040"/>
            <a:ext cx="16639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HD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=0,73%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206360" y="2134800"/>
            <a:ext cx="7747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502B-9497-4897-98A5-4804588589FF}" type="slidenum">
              <a:t>14</a:t>
            </a:fld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9280"/>
            <a:ext cx="777384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Times New Roman"/>
              </a:rPr>
              <a:t>Klasyfikacja APF</a:t>
            </a:r>
            <a:endParaRPr b="0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38240"/>
            <a:ext cx="777384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Rodzaj inwerter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Arial"/>
              </a:rPr>
              <a:t>Źródło prądowe - Current source inverter (CSI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Arial"/>
              </a:rPr>
              <a:t>Źródło napięciowe - Voltage source inverter (VSI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Układ połączenia z siecią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Arial"/>
              </a:rPr>
              <a:t>szeregow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Arial"/>
              </a:rPr>
              <a:t>równoległ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Arial"/>
              </a:rPr>
              <a:t>hybrydow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Rodzaj siec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Arial"/>
              </a:rPr>
              <a:t>1-fazowa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Arial"/>
              </a:rPr>
              <a:t>3-fazowa – 3- lub 4-przewodow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6672" t="23934" r="17627" b="16059"/>
          <a:stretch/>
        </p:blipFill>
        <p:spPr>
          <a:xfrm>
            <a:off x="5819760" y="2817720"/>
            <a:ext cx="3036960" cy="245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06D0-7DDA-48C7-80CC-4E4DED069D73}" type="slidenum">
              <a:t>2</a:t>
            </a:fld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059360" y="504720"/>
            <a:ext cx="5938560" cy="3128760"/>
            <a:chOff x="4059360" y="504720"/>
            <a:chExt cx="5938560" cy="3128760"/>
          </a:xfrm>
        </p:grpSpPr>
        <p:sp>
          <p:nvSpPr>
            <p:cNvPr id="47" name=""/>
            <p:cNvSpPr/>
            <p:nvPr/>
          </p:nvSpPr>
          <p:spPr>
            <a:xfrm>
              <a:off x="7079400" y="1938240"/>
              <a:ext cx="291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3680" indent="-193680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3300"/>
                  </a:solidFill>
                  <a:uFillTx/>
                  <a:latin typeface="Arial"/>
                </a:rPr>
                <a:t>CSI</a:t>
              </a:r>
              <a:endParaRPr b="0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4059360" y="504720"/>
              <a:ext cx="4722480" cy="3128760"/>
              <a:chOff x="4059360" y="504720"/>
              <a:chExt cx="4722480" cy="312876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5429880" y="925920"/>
                <a:ext cx="533160" cy="220680"/>
                <a:chOff x="5429880" y="925920"/>
                <a:chExt cx="533160" cy="220680"/>
              </a:xfrm>
            </p:grpSpPr>
            <p:grpSp>
              <p:nvGrpSpPr>
                <p:cNvPr id="50" name=""/>
                <p:cNvGrpSpPr/>
                <p:nvPr/>
              </p:nvGrpSpPr>
              <p:grpSpPr>
                <a:xfrm>
                  <a:off x="5447160" y="925920"/>
                  <a:ext cx="497520" cy="193320"/>
                  <a:chOff x="5447160" y="925920"/>
                  <a:chExt cx="497520" cy="193320"/>
                </a:xfrm>
              </p:grpSpPr>
              <p:sp>
                <p:nvSpPr>
                  <p:cNvPr id="51" name=""/>
                  <p:cNvSpPr/>
                  <p:nvPr/>
                </p:nvSpPr>
                <p:spPr>
                  <a:xfrm>
                    <a:off x="5447160" y="925920"/>
                    <a:ext cx="165960" cy="19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5613120" y="925920"/>
                    <a:ext cx="165600" cy="19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5779080" y="925920"/>
                    <a:ext cx="165600" cy="19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" name=""/>
                <p:cNvSpPr/>
                <p:nvPr/>
              </p:nvSpPr>
              <p:spPr>
                <a:xfrm>
                  <a:off x="5429880" y="1030320"/>
                  <a:ext cx="533160" cy="116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" name=""/>
              <p:cNvSpPr/>
              <p:nvPr/>
            </p:nvSpPr>
            <p:spPr>
              <a:xfrm>
                <a:off x="4059360" y="641160"/>
                <a:ext cx="998640" cy="776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00ff"/>
                    </a:solidFill>
                    <a:latin typeface="Arial"/>
                  </a:rPr>
                  <a:t>Supply network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cxnSp>
            <p:nvCxnSpPr>
              <p:cNvPr id="56" name=""/>
              <p:cNvCxnSpPr>
                <a:stCxn id="51" idx="2"/>
                <a:endCxn id="55" idx="3"/>
              </p:cNvCxnSpPr>
              <p:nvPr/>
            </p:nvCxnSpPr>
            <p:spPr>
              <a:xfrm flipH="1">
                <a:off x="5070960" y="1023840"/>
                <a:ext cx="365040" cy="7200"/>
              </a:xfrm>
              <a:prstGeom prst="straightConnector1">
                <a:avLst/>
              </a:prstGeom>
              <a:ln w="25560">
                <a:solidFill>
                  <a:srgbClr val="0000ff"/>
                </a:solidFill>
                <a:miter/>
              </a:ln>
            </p:spPr>
          </p:cxnSp>
          <p:grpSp>
            <p:nvGrpSpPr>
              <p:cNvPr id="57" name=""/>
              <p:cNvGrpSpPr/>
              <p:nvPr/>
            </p:nvGrpSpPr>
            <p:grpSpPr>
              <a:xfrm>
                <a:off x="6827040" y="925920"/>
                <a:ext cx="532800" cy="220680"/>
                <a:chOff x="6827040" y="925920"/>
                <a:chExt cx="532800" cy="220680"/>
              </a:xfrm>
            </p:grpSpPr>
            <p:grpSp>
              <p:nvGrpSpPr>
                <p:cNvPr id="58" name=""/>
                <p:cNvGrpSpPr/>
                <p:nvPr/>
              </p:nvGrpSpPr>
              <p:grpSpPr>
                <a:xfrm>
                  <a:off x="6844320" y="925920"/>
                  <a:ext cx="497160" cy="193320"/>
                  <a:chOff x="6844320" y="925920"/>
                  <a:chExt cx="497160" cy="19332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6844320" y="925920"/>
                    <a:ext cx="165960" cy="19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7010280" y="925920"/>
                    <a:ext cx="165600" cy="19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7175880" y="925920"/>
                    <a:ext cx="165600" cy="19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" name=""/>
                <p:cNvSpPr/>
                <p:nvPr/>
              </p:nvSpPr>
              <p:spPr>
                <a:xfrm>
                  <a:off x="6827040" y="1030320"/>
                  <a:ext cx="532800" cy="116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3" name=""/>
              <p:cNvCxnSpPr>
                <a:stCxn id="59" idx="2"/>
                <a:endCxn id="53" idx="6"/>
              </p:cNvCxnSpPr>
              <p:nvPr/>
            </p:nvCxnSpPr>
            <p:spPr>
              <a:xfrm flipH="1">
                <a:off x="5956200" y="1023480"/>
                <a:ext cx="875880" cy="1080"/>
              </a:xfrm>
              <a:prstGeom prst="straightConnector1">
                <a:avLst/>
              </a:prstGeom>
              <a:ln w="25560">
                <a:solidFill>
                  <a:srgbClr val="0000ff"/>
                </a:solidFill>
                <a:miter/>
              </a:ln>
            </p:spPr>
          </p:cxnSp>
          <p:sp>
            <p:nvSpPr>
              <p:cNvPr id="64" name=""/>
              <p:cNvSpPr/>
              <p:nvPr/>
            </p:nvSpPr>
            <p:spPr>
              <a:xfrm>
                <a:off x="7782840" y="641160"/>
                <a:ext cx="999000" cy="776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00ff"/>
                    </a:solidFill>
                    <a:latin typeface="Arial"/>
                  </a:rPr>
                  <a:t>Nonlinear load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cxnSp>
            <p:nvCxnSpPr>
              <p:cNvPr id="65" name=""/>
              <p:cNvCxnSpPr>
                <a:stCxn id="61" idx="6"/>
                <a:endCxn id="64" idx="1"/>
              </p:cNvCxnSpPr>
              <p:nvPr/>
            </p:nvCxnSpPr>
            <p:spPr>
              <a:xfrm>
                <a:off x="7354080" y="1023840"/>
                <a:ext cx="416160" cy="7200"/>
              </a:xfrm>
              <a:prstGeom prst="straightConnector1">
                <a:avLst/>
              </a:prstGeom>
              <a:ln w="25560">
                <a:solidFill>
                  <a:srgbClr val="0000ff"/>
                </a:solidFill>
                <a:miter/>
              </a:ln>
            </p:spPr>
          </p:cxnSp>
          <p:sp>
            <p:nvSpPr>
              <p:cNvPr id="66" name=""/>
              <p:cNvSpPr/>
              <p:nvPr/>
            </p:nvSpPr>
            <p:spPr>
              <a:xfrm>
                <a:off x="5898600" y="2226600"/>
                <a:ext cx="998640" cy="865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cxnSp>
            <p:nvCxnSpPr>
              <p:cNvPr id="67" name=""/>
              <p:cNvCxnSpPr>
                <a:stCxn id="66" idx="0"/>
              </p:cNvCxnSpPr>
              <p:nvPr/>
            </p:nvCxnSpPr>
            <p:spPr>
              <a:xfrm flipV="1">
                <a:off x="6397920" y="1023840"/>
                <a:ext cx="2160" cy="1187640"/>
              </a:xfrm>
              <a:prstGeom prst="straightConnector1">
                <a:avLst/>
              </a:prstGeom>
              <a:ln w="25560">
                <a:solidFill>
                  <a:srgbClr val="0000ff"/>
                </a:solidFill>
                <a:miter/>
              </a:ln>
            </p:spPr>
          </p:cxnSp>
          <p:sp>
            <p:nvSpPr>
              <p:cNvPr id="68" name=""/>
              <p:cNvSpPr/>
              <p:nvPr/>
            </p:nvSpPr>
            <p:spPr>
              <a:xfrm>
                <a:off x="6309720" y="2387880"/>
                <a:ext cx="0" cy="3099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6383160" y="2735640"/>
                <a:ext cx="176040" cy="169200"/>
                <a:chOff x="6383160" y="2735640"/>
                <a:chExt cx="176040" cy="1692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6383160" y="2750760"/>
                  <a:ext cx="176040" cy="154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6383160" y="2735640"/>
                  <a:ext cx="17604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" name=""/>
              <p:cNvSpPr/>
              <p:nvPr/>
            </p:nvSpPr>
            <p:spPr>
              <a:xfrm flipH="1">
                <a:off x="6471000" y="2905200"/>
                <a:ext cx="1080" cy="1162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471360" y="2685960"/>
                <a:ext cx="0" cy="56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6309720" y="2392920"/>
                <a:ext cx="173160" cy="1677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321600" y="2542680"/>
                <a:ext cx="155520" cy="142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252480" y="2387880"/>
                <a:ext cx="0" cy="3099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153840" y="2543400"/>
                <a:ext cx="98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471360" y="2281680"/>
                <a:ext cx="0" cy="114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6127560" y="3402000"/>
                <a:ext cx="532800" cy="220680"/>
                <a:chOff x="6127560" y="3402000"/>
                <a:chExt cx="532800" cy="220680"/>
              </a:xfrm>
            </p:grpSpPr>
            <p:grpSp>
              <p:nvGrpSpPr>
                <p:cNvPr id="80" name=""/>
                <p:cNvGrpSpPr/>
                <p:nvPr/>
              </p:nvGrpSpPr>
              <p:grpSpPr>
                <a:xfrm>
                  <a:off x="6144840" y="3402000"/>
                  <a:ext cx="497160" cy="193320"/>
                  <a:chOff x="6144840" y="3402000"/>
                  <a:chExt cx="497160" cy="1933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>
                    <a:off x="6144840" y="3402000"/>
                    <a:ext cx="165960" cy="19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6310800" y="3402000"/>
                    <a:ext cx="165600" cy="19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6476400" y="3402000"/>
                    <a:ext cx="165600" cy="19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" name=""/>
                <p:cNvSpPr/>
                <p:nvPr/>
              </p:nvSpPr>
              <p:spPr>
                <a:xfrm>
                  <a:off x="6127560" y="3506400"/>
                  <a:ext cx="532800" cy="116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5954040" y="3092040"/>
                <a:ext cx="0" cy="3992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945400" y="3491280"/>
                <a:ext cx="20844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635520" y="3491280"/>
                <a:ext cx="2088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831360" y="3092040"/>
                <a:ext cx="0" cy="3992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518080" y="843840"/>
                <a:ext cx="32436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897240" y="843840"/>
                <a:ext cx="3247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512400" y="1343880"/>
                <a:ext cx="0" cy="3787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518080" y="504720"/>
                <a:ext cx="3801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400" spc="-1" strike="noStrike">
                    <a:solidFill>
                      <a:srgbClr val="cc0000"/>
                    </a:solidFill>
                    <a:latin typeface="Times New Roman"/>
                  </a:rPr>
                  <a:t>i</a:t>
                </a:r>
                <a:r>
                  <a:rPr b="1" lang="pl-PL" sz="1400" spc="-1" strike="noStrike" baseline="-25000">
                    <a:solidFill>
                      <a:srgbClr val="cc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897240" y="514800"/>
                <a:ext cx="445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400" spc="-1" strike="noStrike">
                    <a:solidFill>
                      <a:srgbClr val="cc0000"/>
                    </a:solidFill>
                    <a:latin typeface="Times New Roman"/>
                  </a:rPr>
                  <a:t>i</a:t>
                </a:r>
                <a:r>
                  <a:rPr b="1" lang="pl-PL" sz="1400" spc="-1" strike="noStrike" baseline="-25000">
                    <a:solidFill>
                      <a:srgbClr val="cc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512400" y="1343880"/>
                <a:ext cx="380160" cy="48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400" spc="-1" strike="noStrike">
                    <a:solidFill>
                      <a:srgbClr val="cc0000"/>
                    </a:solidFill>
                    <a:latin typeface="Times New Roman"/>
                  </a:rPr>
                  <a:t>i</a:t>
                </a:r>
                <a:r>
                  <a:rPr b="1" lang="pl-PL" sz="1400" spc="-1" strike="noStrike" baseline="-25000">
                    <a:solidFill>
                      <a:srgbClr val="cc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205320" y="3328560"/>
                <a:ext cx="3247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94760" y="3092040"/>
                <a:ext cx="444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00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 baseline="-25000">
                    <a:solidFill>
                      <a:srgbClr val="cc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369840" y="984240"/>
                <a:ext cx="6624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5106600" y="936360"/>
                <a:ext cx="96120" cy="212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5139000" y="936360"/>
                <a:ext cx="96120" cy="212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5171760" y="936360"/>
                <a:ext cx="96120" cy="212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5447520" y="1441800"/>
                <a:ext cx="982080" cy="388080"/>
                <a:chOff x="5447520" y="1441800"/>
                <a:chExt cx="982080" cy="38808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5613120" y="1633320"/>
                  <a:ext cx="76932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"/>
                <p:cNvGrpSpPr/>
                <p:nvPr/>
              </p:nvGrpSpPr>
              <p:grpSpPr>
                <a:xfrm>
                  <a:off x="5545440" y="1441800"/>
                  <a:ext cx="58680" cy="388080"/>
                  <a:chOff x="5545440" y="1441800"/>
                  <a:chExt cx="58680" cy="38808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5545440" y="1441800"/>
                    <a:ext cx="0" cy="388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5604120" y="1441800"/>
                    <a:ext cx="0" cy="388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" name=""/>
                <p:cNvSpPr/>
                <p:nvPr/>
              </p:nvSpPr>
              <p:spPr>
                <a:xfrm>
                  <a:off x="6363720" y="1590480"/>
                  <a:ext cx="65880" cy="77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447520" y="1633320"/>
                  <a:ext cx="9792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5691240" y="1976760"/>
                <a:ext cx="1408680" cy="16567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633240" y="3909960"/>
            <a:ext cx="5757480" cy="2789280"/>
            <a:chOff x="633240" y="3909960"/>
            <a:chExt cx="5757480" cy="2789280"/>
          </a:xfrm>
        </p:grpSpPr>
        <p:sp>
          <p:nvSpPr>
            <p:cNvPr id="110" name=""/>
            <p:cNvSpPr/>
            <p:nvPr/>
          </p:nvSpPr>
          <p:spPr>
            <a:xfrm>
              <a:off x="633240" y="5165640"/>
              <a:ext cx="1908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3680" indent="-193680"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3300"/>
                  </a:solidFill>
                  <a:uFillTx/>
                  <a:latin typeface="Arial"/>
                </a:rPr>
                <a:t>VSI</a:t>
              </a:r>
              <a:br>
                <a:rPr sz="3200"/>
              </a:br>
              <a:endParaRPr b="0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914040" y="3909960"/>
              <a:ext cx="5476680" cy="2789280"/>
              <a:chOff x="914040" y="3909960"/>
              <a:chExt cx="5476680" cy="278928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2503080" y="4300560"/>
                <a:ext cx="618120" cy="204840"/>
                <a:chOff x="2503080" y="4300560"/>
                <a:chExt cx="618120" cy="20484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2522880" y="4300560"/>
                  <a:ext cx="577440" cy="179640"/>
                  <a:chOff x="2522880" y="4300560"/>
                  <a:chExt cx="577440" cy="17964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2522880" y="4300560"/>
                    <a:ext cx="192600" cy="179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2715480" y="4300560"/>
                    <a:ext cx="192240" cy="179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2908080" y="4300560"/>
                    <a:ext cx="192240" cy="179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2503080" y="4397400"/>
                  <a:ext cx="618120" cy="108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914040" y="4037040"/>
                <a:ext cx="1158120" cy="719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00ff"/>
                    </a:solidFill>
                    <a:latin typeface="Arial"/>
                  </a:rPr>
                  <a:t>Supply network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cxnSp>
            <p:nvCxnSpPr>
              <p:cNvPr id="119" name=""/>
              <p:cNvCxnSpPr>
                <a:stCxn id="114" idx="2"/>
                <a:endCxn id="118" idx="3"/>
              </p:cNvCxnSpPr>
              <p:nvPr/>
            </p:nvCxnSpPr>
            <p:spPr>
              <a:xfrm flipH="1">
                <a:off x="2087280" y="4390920"/>
                <a:ext cx="422640" cy="7200"/>
              </a:xfrm>
              <a:prstGeom prst="straightConnector1">
                <a:avLst/>
              </a:prstGeom>
              <a:ln w="25560">
                <a:solidFill>
                  <a:srgbClr val="0000ff"/>
                </a:solidFill>
                <a:miter/>
              </a:ln>
            </p:spPr>
          </p:cxnSp>
          <p:grpSp>
            <p:nvGrpSpPr>
              <p:cNvPr id="120" name=""/>
              <p:cNvGrpSpPr/>
              <p:nvPr/>
            </p:nvGrpSpPr>
            <p:grpSpPr>
              <a:xfrm>
                <a:off x="4123080" y="4300560"/>
                <a:ext cx="618120" cy="204840"/>
                <a:chOff x="4123080" y="4300560"/>
                <a:chExt cx="618120" cy="20484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4142880" y="4300560"/>
                  <a:ext cx="577440" cy="179640"/>
                  <a:chOff x="4142880" y="4300560"/>
                  <a:chExt cx="577440" cy="17964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4142880" y="4300560"/>
                    <a:ext cx="192600" cy="179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4335480" y="4300560"/>
                    <a:ext cx="192240" cy="179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4528080" y="4300560"/>
                    <a:ext cx="192240" cy="179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" name=""/>
                <p:cNvSpPr/>
                <p:nvPr/>
              </p:nvSpPr>
              <p:spPr>
                <a:xfrm>
                  <a:off x="4123080" y="4397400"/>
                  <a:ext cx="618120" cy="108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26" name=""/>
              <p:cNvCxnSpPr>
                <a:stCxn id="122" idx="2"/>
                <a:endCxn id="116" idx="6"/>
              </p:cNvCxnSpPr>
              <p:nvPr/>
            </p:nvCxnSpPr>
            <p:spPr>
              <a:xfrm flipH="1">
                <a:off x="3114360" y="4390560"/>
                <a:ext cx="1015920" cy="1080"/>
              </a:xfrm>
              <a:prstGeom prst="straightConnector1">
                <a:avLst/>
              </a:prstGeom>
              <a:ln w="25560">
                <a:solidFill>
                  <a:srgbClr val="0000ff"/>
                </a:solidFill>
                <a:miter/>
              </a:ln>
            </p:spPr>
          </p:cxnSp>
          <p:sp>
            <p:nvSpPr>
              <p:cNvPr id="127" name=""/>
              <p:cNvSpPr/>
              <p:nvPr/>
            </p:nvSpPr>
            <p:spPr>
              <a:xfrm>
                <a:off x="5232240" y="4037040"/>
                <a:ext cx="1158480" cy="719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00ff"/>
                    </a:solidFill>
                    <a:latin typeface="Arial"/>
                  </a:rPr>
                  <a:t>Nonlinear load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cxnSp>
            <p:nvCxnSpPr>
              <p:cNvPr id="128" name=""/>
              <p:cNvCxnSpPr>
                <a:stCxn id="124" idx="6"/>
                <a:endCxn id="127" idx="1"/>
              </p:cNvCxnSpPr>
              <p:nvPr/>
            </p:nvCxnSpPr>
            <p:spPr>
              <a:xfrm>
                <a:off x="4734720" y="4390920"/>
                <a:ext cx="482760" cy="7200"/>
              </a:xfrm>
              <a:prstGeom prst="straightConnector1">
                <a:avLst/>
              </a:prstGeom>
              <a:ln w="25560">
                <a:solidFill>
                  <a:srgbClr val="0000ff"/>
                </a:solidFill>
                <a:miter/>
              </a:ln>
            </p:spPr>
          </p:cxnSp>
          <p:sp>
            <p:nvSpPr>
              <p:cNvPr id="129" name=""/>
              <p:cNvSpPr/>
              <p:nvPr/>
            </p:nvSpPr>
            <p:spPr>
              <a:xfrm>
                <a:off x="3046680" y="5356080"/>
                <a:ext cx="1158120" cy="719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3503520" y="4584600"/>
                <a:ext cx="219240" cy="576000"/>
                <a:chOff x="3503520" y="4584600"/>
                <a:chExt cx="219240" cy="57600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3530880" y="4603320"/>
                  <a:ext cx="191880" cy="538200"/>
                  <a:chOff x="3530880" y="4603320"/>
                  <a:chExt cx="191880" cy="53820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 rot="5400000">
                    <a:off x="3537000" y="4597200"/>
                    <a:ext cx="179640" cy="191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rot="5400000">
                    <a:off x="3537000" y="4776480"/>
                    <a:ext cx="179280" cy="191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rot="5400000">
                    <a:off x="3537000" y="4955760"/>
                    <a:ext cx="179280" cy="191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5" name=""/>
                <p:cNvSpPr/>
                <p:nvPr/>
              </p:nvSpPr>
              <p:spPr>
                <a:xfrm rot="5400000">
                  <a:off x="3273120" y="4814640"/>
                  <a:ext cx="576000" cy="115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36" name=""/>
              <p:cNvCxnSpPr>
                <a:stCxn id="132" idx="2"/>
              </p:cNvCxnSpPr>
              <p:nvPr/>
            </p:nvCxnSpPr>
            <p:spPr>
              <a:xfrm flipV="1">
                <a:off x="3625560" y="4388760"/>
                <a:ext cx="1080" cy="199080"/>
              </a:xfrm>
              <a:prstGeom prst="straightConnector1">
                <a:avLst/>
              </a:prstGeom>
              <a:ln w="25560">
                <a:solidFill>
                  <a:srgbClr val="0000ff"/>
                </a:solidFill>
                <a:miter/>
              </a:ln>
            </p:spPr>
          </p:cxnSp>
          <p:cxnSp>
            <p:nvCxnSpPr>
              <p:cNvPr id="137" name=""/>
              <p:cNvCxnSpPr>
                <a:stCxn id="129" idx="0"/>
                <a:endCxn id="134" idx="6"/>
              </p:cNvCxnSpPr>
              <p:nvPr/>
            </p:nvCxnSpPr>
            <p:spPr>
              <a:xfrm flipV="1">
                <a:off x="3625560" y="5150880"/>
                <a:ext cx="1080" cy="191160"/>
              </a:xfrm>
              <a:prstGeom prst="straightConnector1">
                <a:avLst/>
              </a:prstGeom>
              <a:ln w="25560">
                <a:solidFill>
                  <a:srgbClr val="0000ff"/>
                </a:solidFill>
                <a:miter/>
              </a:ln>
            </p:spPr>
          </p:cxnSp>
          <p:sp>
            <p:nvSpPr>
              <p:cNvPr id="138" name=""/>
              <p:cNvSpPr/>
              <p:nvPr/>
            </p:nvSpPr>
            <p:spPr>
              <a:xfrm>
                <a:off x="3523680" y="5565600"/>
                <a:ext cx="0" cy="2876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3837240" y="5624640"/>
                <a:ext cx="188280" cy="169200"/>
                <a:chOff x="3837240" y="5624640"/>
                <a:chExt cx="188280" cy="1692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837240" y="5639760"/>
                  <a:ext cx="188280" cy="154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837240" y="5624640"/>
                  <a:ext cx="188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3714480" y="5835600"/>
                <a:ext cx="0" cy="1778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3523680" y="5570640"/>
                <a:ext cx="201240" cy="155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537360" y="5710320"/>
                <a:ext cx="180360" cy="1317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57080" y="5565600"/>
                <a:ext cx="0" cy="2876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342960" y="5710320"/>
                <a:ext cx="11376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111480" y="6075360"/>
                <a:ext cx="0" cy="3697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101400" y="6445080"/>
                <a:ext cx="5176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690360" y="6445080"/>
                <a:ext cx="4528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134960" y="6075360"/>
                <a:ext cx="0" cy="3697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605320" y="4224240"/>
                <a:ext cx="37656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205160" y="4224240"/>
                <a:ext cx="37656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813120" y="4687920"/>
                <a:ext cx="0" cy="3506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605320" y="3909960"/>
                <a:ext cx="44136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400" spc="-1" strike="noStrike">
                    <a:solidFill>
                      <a:srgbClr val="cc0000"/>
                    </a:solidFill>
                    <a:latin typeface="Times New Roman"/>
                  </a:rPr>
                  <a:t>i</a:t>
                </a:r>
                <a:r>
                  <a:rPr b="1" lang="pl-PL" sz="1400" spc="-1" strike="noStrike" baseline="-25000">
                    <a:solidFill>
                      <a:srgbClr val="cc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205160" y="3919680"/>
                <a:ext cx="515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400" spc="-1" strike="noStrike">
                    <a:solidFill>
                      <a:srgbClr val="cc0000"/>
                    </a:solidFill>
                    <a:latin typeface="Times New Roman"/>
                  </a:rPr>
                  <a:t>i</a:t>
                </a:r>
                <a:r>
                  <a:rPr b="1" lang="pl-PL" sz="1400" spc="-1" strike="noStrike" baseline="-25000">
                    <a:solidFill>
                      <a:srgbClr val="cc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813120" y="4687920"/>
                <a:ext cx="44100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400" spc="-1" strike="noStrike">
                    <a:solidFill>
                      <a:srgbClr val="cc0000"/>
                    </a:solidFill>
                    <a:latin typeface="Times New Roman"/>
                  </a:rPr>
                  <a:t>i</a:t>
                </a:r>
                <a:r>
                  <a:rPr b="1" lang="pl-PL" sz="1400" spc="-1" strike="noStrike" baseline="-25000">
                    <a:solidFill>
                      <a:srgbClr val="cc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3622320" y="6267600"/>
                <a:ext cx="67320" cy="360360"/>
                <a:chOff x="3622320" y="6267600"/>
                <a:chExt cx="67320" cy="3603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3622320" y="6267600"/>
                  <a:ext cx="0" cy="3603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689640" y="6267600"/>
                  <a:ext cx="0" cy="3603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" name=""/>
              <p:cNvSpPr/>
              <p:nvPr/>
            </p:nvSpPr>
            <p:spPr>
              <a:xfrm>
                <a:off x="3714480" y="5398920"/>
                <a:ext cx="0" cy="1778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929040" y="5486400"/>
                <a:ext cx="0" cy="1382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924000" y="5794200"/>
                <a:ext cx="0" cy="1382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3707640" y="5499000"/>
                <a:ext cx="22104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3707640" y="5923080"/>
                <a:ext cx="22104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14480" y="6124680"/>
                <a:ext cx="515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400" spc="-1" strike="noStrike">
                    <a:solidFill>
                      <a:srgbClr val="cc0000"/>
                    </a:solidFill>
                    <a:latin typeface="Times New Roman"/>
                  </a:rPr>
                  <a:t>v</a:t>
                </a:r>
                <a:r>
                  <a:rPr b="1" lang="pl-PL" sz="1400" spc="-1" strike="noStrike" baseline="-25000">
                    <a:solidFill>
                      <a:srgbClr val="cc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2122920" y="4310280"/>
                <a:ext cx="163800" cy="196560"/>
                <a:chOff x="2122920" y="4310280"/>
                <a:chExt cx="163800" cy="196560"/>
              </a:xfrm>
            </p:grpSpPr>
            <p:sp>
              <p:nvSpPr>
                <p:cNvPr id="167" name=""/>
                <p:cNvSpPr/>
                <p:nvPr/>
              </p:nvSpPr>
              <p:spPr>
                <a:xfrm flipH="1">
                  <a:off x="2122920" y="4310280"/>
                  <a:ext cx="89280" cy="1965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>
                  <a:off x="2160000" y="4310280"/>
                  <a:ext cx="89280" cy="1965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>
                  <a:off x="2197440" y="4310280"/>
                  <a:ext cx="89280" cy="1965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3589920" y="4354560"/>
                <a:ext cx="766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09800" y="5211720"/>
                <a:ext cx="1633680" cy="14875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383400" y="244440"/>
            <a:ext cx="343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00"/>
                </a:solidFill>
                <a:latin typeface="Arial"/>
              </a:rPr>
              <a:t>Rodzaj inwerter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B3B-EF6E-4333-A7B1-04354EF5E08B}" type="slidenum">
              <a:t>3</a:t>
            </a:fld>
          </a:p>
        </p:txBody>
      </p:sp>
    </p:spTree>
  </p:cSld>
  <p:transition>
    <p:cover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" dur="1" fill="hold"/>
                                  <p:tgtEl>
                                    <p:spTgt spid="1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1920" y="-11160"/>
            <a:ext cx="83566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Układ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536840" y="814320"/>
            <a:ext cx="6228720" cy="3361320"/>
            <a:chOff x="1536840" y="814320"/>
            <a:chExt cx="6228720" cy="3361320"/>
          </a:xfrm>
        </p:grpSpPr>
        <p:grpSp>
          <p:nvGrpSpPr>
            <p:cNvPr id="175" name=""/>
            <p:cNvGrpSpPr/>
            <p:nvPr/>
          </p:nvGrpSpPr>
          <p:grpSpPr>
            <a:xfrm>
              <a:off x="5194440" y="1367640"/>
              <a:ext cx="702720" cy="289440"/>
              <a:chOff x="5194440" y="1367640"/>
              <a:chExt cx="702720" cy="28944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5217120" y="1367640"/>
                <a:ext cx="656280" cy="253800"/>
                <a:chOff x="5217120" y="1367640"/>
                <a:chExt cx="656280" cy="2538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217120" y="1367640"/>
                  <a:ext cx="218880" cy="2538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436000" y="1367640"/>
                  <a:ext cx="218520" cy="2538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654880" y="1367640"/>
                  <a:ext cx="218520" cy="2538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>
                <a:off x="5194440" y="1504440"/>
                <a:ext cx="70272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270320" y="1343880"/>
              <a:ext cx="702720" cy="289440"/>
              <a:chOff x="4270320" y="1343880"/>
              <a:chExt cx="702720" cy="28944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4294080" y="1379520"/>
                <a:ext cx="656280" cy="253800"/>
                <a:chOff x="4294080" y="1379520"/>
                <a:chExt cx="656280" cy="253800"/>
              </a:xfrm>
            </p:grpSpPr>
            <p:sp>
              <p:nvSpPr>
                <p:cNvPr id="183" name=""/>
                <p:cNvSpPr/>
                <p:nvPr/>
              </p:nvSpPr>
              <p:spPr>
                <a:xfrm rot="10800000">
                  <a:off x="4731480" y="1379520"/>
                  <a:ext cx="218880" cy="2538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10800000">
                  <a:off x="4512960" y="1379520"/>
                  <a:ext cx="218520" cy="2538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rot="10800000">
                  <a:off x="4294080" y="1379520"/>
                  <a:ext cx="218520" cy="2538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 rot="10800000">
                <a:off x="4270320" y="1343880"/>
                <a:ext cx="70272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344400" y="1367640"/>
              <a:ext cx="702720" cy="289440"/>
              <a:chOff x="3344400" y="1367640"/>
              <a:chExt cx="702720" cy="28944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3367080" y="1367640"/>
                <a:ext cx="656280" cy="253800"/>
                <a:chOff x="3367080" y="1367640"/>
                <a:chExt cx="656280" cy="2538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3367080" y="1367640"/>
                  <a:ext cx="218880" cy="2538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585960" y="1367640"/>
                  <a:ext cx="218520" cy="2538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804840" y="1367640"/>
                  <a:ext cx="218520" cy="2538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3344400" y="1504440"/>
                <a:ext cx="70272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536840" y="994320"/>
              <a:ext cx="1317240" cy="1019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Sourc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194" name=""/>
            <p:cNvCxnSpPr>
              <a:stCxn id="189" idx="2"/>
              <a:endCxn id="193" idx="3"/>
            </p:cNvCxnSpPr>
            <p:nvPr/>
          </p:nvCxnSpPr>
          <p:spPr>
            <a:xfrm flipH="1">
              <a:off x="2870640" y="1496520"/>
              <a:ext cx="481320" cy="93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195" name=""/>
            <p:cNvSpPr/>
            <p:nvPr/>
          </p:nvSpPr>
          <p:spPr>
            <a:xfrm>
              <a:off x="6447960" y="994320"/>
              <a:ext cx="1317600" cy="1019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ff"/>
                  </a:solidFill>
                  <a:latin typeface="Arial"/>
                </a:rPr>
                <a:t>Nonlinear load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196" name=""/>
            <p:cNvCxnSpPr>
              <a:stCxn id="179" idx="6"/>
              <a:endCxn id="195" idx="1"/>
            </p:cNvCxnSpPr>
            <p:nvPr/>
          </p:nvCxnSpPr>
          <p:spPr>
            <a:xfrm>
              <a:off x="5889960" y="1496520"/>
              <a:ext cx="541440" cy="93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197" name=""/>
            <p:cNvSpPr/>
            <p:nvPr/>
          </p:nvSpPr>
          <p:spPr>
            <a:xfrm>
              <a:off x="3962520" y="2373480"/>
              <a:ext cx="1317240" cy="1019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4266360" y="1773000"/>
              <a:ext cx="702720" cy="289440"/>
              <a:chOff x="4266360" y="1773000"/>
              <a:chExt cx="702720" cy="28944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4289040" y="1773000"/>
                <a:ext cx="656280" cy="253800"/>
                <a:chOff x="4289040" y="1773000"/>
                <a:chExt cx="656280" cy="25380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4289040" y="1773000"/>
                  <a:ext cx="218880" cy="2538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507920" y="1773000"/>
                  <a:ext cx="218520" cy="2538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726800" y="1773000"/>
                  <a:ext cx="218520" cy="2538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4266360" y="1909800"/>
                <a:ext cx="70272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4504680" y="2670480"/>
              <a:ext cx="0" cy="407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4861440" y="2754360"/>
              <a:ext cx="214200" cy="239760"/>
              <a:chOff x="4861440" y="2754360"/>
              <a:chExt cx="214200" cy="239760"/>
            </a:xfrm>
          </p:grpSpPr>
          <p:sp>
            <p:nvSpPr>
              <p:cNvPr id="206" name=""/>
              <p:cNvSpPr/>
              <p:nvPr/>
            </p:nvSpPr>
            <p:spPr>
              <a:xfrm>
                <a:off x="4861440" y="2775600"/>
                <a:ext cx="214200" cy="218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861440" y="2754360"/>
                <a:ext cx="2142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4721760" y="3053160"/>
              <a:ext cx="0" cy="252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504680" y="2677680"/>
              <a:ext cx="228600" cy="220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20520" y="2875680"/>
              <a:ext cx="204840" cy="186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29080" y="2670480"/>
              <a:ext cx="0" cy="407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99480" y="2875680"/>
              <a:ext cx="1296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35960" y="3393000"/>
              <a:ext cx="0" cy="523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24440" y="3917160"/>
              <a:ext cx="558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659840" y="3917160"/>
              <a:ext cx="5504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00560" y="3393000"/>
              <a:ext cx="0" cy="523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60680" y="1260000"/>
              <a:ext cx="427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79760" y="1260000"/>
              <a:ext cx="428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60680" y="814320"/>
              <a:ext cx="50148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pl-PL" sz="1400" spc="-1" strike="noStrike" baseline="-25000">
                  <a:solidFill>
                    <a:srgbClr val="cc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79760" y="828000"/>
              <a:ext cx="586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pl-PL" sz="1400" spc="-1" strike="noStrike" baseline="-25000">
                  <a:solidFill>
                    <a:srgbClr val="cc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4582440" y="3665520"/>
              <a:ext cx="76680" cy="510120"/>
              <a:chOff x="4582440" y="3665520"/>
              <a:chExt cx="76680" cy="510120"/>
            </a:xfrm>
          </p:grpSpPr>
          <p:sp>
            <p:nvSpPr>
              <p:cNvPr id="222" name=""/>
              <p:cNvSpPr/>
              <p:nvPr/>
            </p:nvSpPr>
            <p:spPr>
              <a:xfrm>
                <a:off x="4582440" y="3665520"/>
                <a:ext cx="0" cy="5101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59120" y="3665520"/>
                <a:ext cx="0" cy="5101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721760" y="2434320"/>
              <a:ext cx="0" cy="252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65840" y="2558160"/>
              <a:ext cx="0" cy="195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60080" y="2994480"/>
              <a:ext cx="0" cy="195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713840" y="2576160"/>
              <a:ext cx="251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713840" y="3177360"/>
              <a:ext cx="251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21760" y="3462840"/>
              <a:ext cx="586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cc0000"/>
                  </a:solidFill>
                  <a:latin typeface="Times New Roman"/>
                </a:rPr>
                <a:t>v</a:t>
              </a:r>
              <a:r>
                <a:rPr b="1" lang="pl-PL" sz="1400" spc="-1" strike="noStrike" baseline="-25000">
                  <a:solidFill>
                    <a:srgbClr val="cc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230" name=""/>
            <p:cNvCxnSpPr>
              <a:stCxn id="191" idx="6"/>
              <a:endCxn id="185" idx="6"/>
            </p:cNvCxnSpPr>
            <p:nvPr/>
          </p:nvCxnSpPr>
          <p:spPr>
            <a:xfrm>
              <a:off x="4039920" y="1496520"/>
              <a:ext cx="236880" cy="72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231" name=""/>
            <p:cNvCxnSpPr>
              <a:stCxn id="183" idx="2"/>
              <a:endCxn id="177" idx="2"/>
            </p:cNvCxnSpPr>
            <p:nvPr/>
          </p:nvCxnSpPr>
          <p:spPr>
            <a:xfrm flipV="1">
              <a:off x="4961520" y="1496160"/>
              <a:ext cx="240840" cy="72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232" name=""/>
            <p:cNvSpPr/>
            <p:nvPr/>
          </p:nvSpPr>
          <p:spPr>
            <a:xfrm>
              <a:off x="4299480" y="1703160"/>
              <a:ext cx="6584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233" name=""/>
            <p:cNvCxnSpPr>
              <a:stCxn id="197" idx="0"/>
              <a:endCxn id="203" idx="0"/>
            </p:cNvCxnSpPr>
            <p:nvPr/>
          </p:nvCxnSpPr>
          <p:spPr>
            <a:xfrm flipH="1" flipV="1">
              <a:off x="4618800" y="1909440"/>
              <a:ext cx="2160" cy="4438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234" name=""/>
            <p:cNvSpPr/>
            <p:nvPr/>
          </p:nvSpPr>
          <p:spPr>
            <a:xfrm flipH="1">
              <a:off x="2891520" y="1356840"/>
              <a:ext cx="126360" cy="278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2934360" y="1356840"/>
              <a:ext cx="126360" cy="278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2976840" y="1356840"/>
              <a:ext cx="126360" cy="278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84800" y="895320"/>
              <a:ext cx="586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cc0000"/>
                  </a:solidFill>
                  <a:latin typeface="Times New Roman"/>
                </a:rPr>
                <a:t>v</a:t>
              </a:r>
              <a:r>
                <a:rPr b="1" lang="pl-PL" sz="1400" spc="-1" strike="noStrike" baseline="-25000">
                  <a:solidFill>
                    <a:srgbClr val="cc0000"/>
                  </a:solidFill>
                  <a:latin typeface="Times New Roman"/>
                </a:rPr>
                <a:t>AF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92720" y="1361160"/>
              <a:ext cx="427680" cy="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87280" y="4237200"/>
            <a:ext cx="87184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Redukcja harmonicznych napięci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tabilizacja napięci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ymetryzacja napięci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Ograniczenie wahań napięci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Kompensacja mocy biernej (harmonicznej podstawowej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88720" y="294624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zeregowy APF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B254-2B62-4E0E-A435-FE86A26A28BD}" type="slidenum">
              <a:t>4</a:t>
            </a:fld>
          </a:p>
        </p:txBody>
      </p:sp>
    </p:spTree>
  </p:cSld>
  <p:transition>
    <p:cover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fill="hold"/>
                                  <p:tgtEl>
                                    <p:spTgt spid="23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1080" y="179280"/>
            <a:ext cx="835632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Układ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29559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ównoległy APF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219320" y="1066680"/>
            <a:ext cx="5358960" cy="2851560"/>
            <a:chOff x="1219320" y="1066680"/>
            <a:chExt cx="5358960" cy="2851560"/>
          </a:xfrm>
        </p:grpSpPr>
        <p:grpSp>
          <p:nvGrpSpPr>
            <p:cNvPr id="244" name=""/>
            <p:cNvGrpSpPr/>
            <p:nvPr/>
          </p:nvGrpSpPr>
          <p:grpSpPr>
            <a:xfrm>
              <a:off x="2774520" y="1476360"/>
              <a:ext cx="604800" cy="214560"/>
              <a:chOff x="2774520" y="1476360"/>
              <a:chExt cx="604800" cy="21456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2793960" y="1476360"/>
                <a:ext cx="564480" cy="187920"/>
                <a:chOff x="2793960" y="1476360"/>
                <a:chExt cx="564480" cy="1879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793960" y="1476360"/>
                  <a:ext cx="188640" cy="187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982600" y="1476360"/>
                  <a:ext cx="187920" cy="187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170520" y="1476360"/>
                  <a:ext cx="187920" cy="187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2774520" y="1577880"/>
                <a:ext cx="604800" cy="113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1219320" y="1199880"/>
              <a:ext cx="1133280" cy="75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Sourc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46" idx="2"/>
              <a:endCxn id="250" idx="3"/>
            </p:cNvCxnSpPr>
            <p:nvPr/>
          </p:nvCxnSpPr>
          <p:spPr>
            <a:xfrm flipH="1">
              <a:off x="2367360" y="1571400"/>
              <a:ext cx="414000" cy="72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grpSp>
          <p:nvGrpSpPr>
            <p:cNvPr id="252" name=""/>
            <p:cNvGrpSpPr/>
            <p:nvPr/>
          </p:nvGrpSpPr>
          <p:grpSpPr>
            <a:xfrm>
              <a:off x="4359960" y="1476360"/>
              <a:ext cx="604440" cy="214560"/>
              <a:chOff x="4359960" y="1476360"/>
              <a:chExt cx="604440" cy="21456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379400" y="1476360"/>
                <a:ext cx="564480" cy="187920"/>
                <a:chOff x="4379400" y="1476360"/>
                <a:chExt cx="564480" cy="18792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4379400" y="1476360"/>
                  <a:ext cx="188280" cy="187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567680" y="1476360"/>
                  <a:ext cx="187920" cy="187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755960" y="1476360"/>
                  <a:ext cx="187920" cy="187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4359960" y="1577880"/>
                <a:ext cx="604440" cy="113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5444640" y="1199880"/>
              <a:ext cx="1133640" cy="75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Nonlinear load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6" idx="6"/>
              <a:endCxn id="258" idx="1"/>
            </p:cNvCxnSpPr>
            <p:nvPr/>
          </p:nvCxnSpPr>
          <p:spPr>
            <a:xfrm>
              <a:off x="4958280" y="1571400"/>
              <a:ext cx="472320" cy="72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260" name=""/>
            <p:cNvSpPr/>
            <p:nvPr/>
          </p:nvSpPr>
          <p:spPr>
            <a:xfrm>
              <a:off x="2874600" y="1396440"/>
              <a:ext cx="3679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39520" y="1396440"/>
              <a:ext cx="368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74600" y="1066680"/>
              <a:ext cx="43164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pl-PL" sz="1400" spc="-1" strike="noStrike" baseline="-25000">
                  <a:solidFill>
                    <a:srgbClr val="cc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39520" y="1076760"/>
              <a:ext cx="505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pl-PL" sz="1400" spc="-1" strike="noStrike" baseline="-25000">
                  <a:solidFill>
                    <a:srgbClr val="cc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306240" y="1537920"/>
              <a:ext cx="1180800" cy="2380320"/>
              <a:chOff x="3306240" y="1537920"/>
              <a:chExt cx="1180800" cy="2380320"/>
            </a:xfrm>
          </p:grpSpPr>
          <p:grpSp>
            <p:nvGrpSpPr>
              <p:cNvPr id="265" name=""/>
              <p:cNvGrpSpPr/>
              <p:nvPr/>
            </p:nvGrpSpPr>
            <p:grpSpPr>
              <a:xfrm>
                <a:off x="3869280" y="3540600"/>
                <a:ext cx="66240" cy="377640"/>
                <a:chOff x="3869280" y="3540600"/>
                <a:chExt cx="66240" cy="37764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3869280" y="3540600"/>
                  <a:ext cx="0" cy="3776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935520" y="3540600"/>
                  <a:ext cx="0" cy="3776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3306240" y="1537920"/>
                <a:ext cx="1180800" cy="2188800"/>
                <a:chOff x="3306240" y="1537920"/>
                <a:chExt cx="1180800" cy="2188800"/>
              </a:xfrm>
            </p:grpSpPr>
            <p:cxnSp>
              <p:nvCxnSpPr>
                <p:cNvPr id="269" name=""/>
                <p:cNvCxnSpPr>
                  <a:stCxn id="254" idx="2"/>
                  <a:endCxn id="248" idx="6"/>
                </p:cNvCxnSpPr>
                <p:nvPr/>
              </p:nvCxnSpPr>
              <p:spPr>
                <a:xfrm flipH="1">
                  <a:off x="3372120" y="1570680"/>
                  <a:ext cx="993600" cy="1080"/>
                </a:xfrm>
                <a:prstGeom prst="straightConnector1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</p:cxnSp>
            <p:sp>
              <p:nvSpPr>
                <p:cNvPr id="270" name=""/>
                <p:cNvSpPr/>
                <p:nvPr/>
              </p:nvSpPr>
              <p:spPr>
                <a:xfrm>
                  <a:off x="3306240" y="2583720"/>
                  <a:ext cx="1132560" cy="7545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ff"/>
                  </a:solidFill>
                  <a:miter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" name=""/>
                <p:cNvGrpSpPr/>
                <p:nvPr/>
              </p:nvGrpSpPr>
              <p:grpSpPr>
                <a:xfrm>
                  <a:off x="3753000" y="1774080"/>
                  <a:ext cx="214200" cy="604440"/>
                  <a:chOff x="3753000" y="1774080"/>
                  <a:chExt cx="214200" cy="60444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779640" y="1793520"/>
                    <a:ext cx="187560" cy="564480"/>
                    <a:chOff x="3779640" y="1793520"/>
                    <a:chExt cx="187560" cy="5644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5400000">
                      <a:off x="3779280" y="1793880"/>
                      <a:ext cx="188280" cy="187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5400000">
                      <a:off x="3779280" y="1981800"/>
                      <a:ext cx="187920" cy="187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 rot="5400000">
                      <a:off x="3779280" y="2170080"/>
                      <a:ext cx="187920" cy="187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6" name=""/>
                  <p:cNvSpPr/>
                  <p:nvPr/>
                </p:nvSpPr>
                <p:spPr>
                  <a:xfrm rot="5400000">
                    <a:off x="3507120" y="2019600"/>
                    <a:ext cx="604440" cy="11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277" name=""/>
                <p:cNvCxnSpPr>
                  <a:stCxn id="273" idx="2"/>
                </p:cNvCxnSpPr>
                <p:nvPr/>
              </p:nvCxnSpPr>
              <p:spPr>
                <a:xfrm flipV="1">
                  <a:off x="3872160" y="1570320"/>
                  <a:ext cx="1080" cy="209160"/>
                </a:xfrm>
                <a:prstGeom prst="straightConnector1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</p:cxnSp>
            <p:cxnSp>
              <p:nvCxnSpPr>
                <p:cNvPr id="278" name=""/>
                <p:cNvCxnSpPr>
                  <a:stCxn id="270" idx="0"/>
                  <a:endCxn id="275" idx="6"/>
                </p:cNvCxnSpPr>
                <p:nvPr/>
              </p:nvCxnSpPr>
              <p:spPr>
                <a:xfrm flipV="1">
                  <a:off x="3872160" y="2368440"/>
                  <a:ext cx="1080" cy="200520"/>
                </a:xfrm>
                <a:prstGeom prst="straightConnector1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</p:cxnSp>
            <p:sp>
              <p:nvSpPr>
                <p:cNvPr id="279" name=""/>
                <p:cNvSpPr/>
                <p:nvPr/>
              </p:nvSpPr>
              <p:spPr>
                <a:xfrm>
                  <a:off x="3772440" y="2804040"/>
                  <a:ext cx="0" cy="3013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0" name=""/>
                <p:cNvGrpSpPr/>
                <p:nvPr/>
              </p:nvGrpSpPr>
              <p:grpSpPr>
                <a:xfrm>
                  <a:off x="4079160" y="2865600"/>
                  <a:ext cx="184320" cy="177840"/>
                  <a:chOff x="4079160" y="2865600"/>
                  <a:chExt cx="184320" cy="17784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4079160" y="2881440"/>
                    <a:ext cx="184320" cy="1620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4079160" y="2865600"/>
                    <a:ext cx="184320" cy="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3" name=""/>
                <p:cNvSpPr/>
                <p:nvPr/>
              </p:nvSpPr>
              <p:spPr>
                <a:xfrm>
                  <a:off x="3958920" y="3087000"/>
                  <a:ext cx="0" cy="1864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3772440" y="2808720"/>
                  <a:ext cx="196560" cy="163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785760" y="2955600"/>
                  <a:ext cx="176400" cy="1382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707640" y="2804040"/>
                  <a:ext cx="0" cy="3013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596040" y="2955600"/>
                  <a:ext cx="11160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369240" y="3338640"/>
                  <a:ext cx="0" cy="388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359160" y="3726720"/>
                  <a:ext cx="50616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935880" y="3726720"/>
                  <a:ext cx="44316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370760" y="3338640"/>
                  <a:ext cx="0" cy="388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055760" y="1882800"/>
                  <a:ext cx="0" cy="368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055760" y="1882800"/>
                  <a:ext cx="431280" cy="4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1400" spc="-1" strike="noStrike">
                      <a:solidFill>
                        <a:srgbClr val="cc0000"/>
                      </a:solidFill>
                      <a:latin typeface="Times New Roman"/>
                    </a:rPr>
                    <a:t>i</a:t>
                  </a:r>
                  <a:r>
                    <a:rPr b="1" lang="pl-PL" sz="1400" spc="-1" strike="noStrike" baseline="-25000">
                      <a:solidFill>
                        <a:srgbClr val="cc0000"/>
                      </a:solidFill>
                      <a:latin typeface="Times New Roman"/>
                    </a:rPr>
                    <a:t>C</a:t>
                  </a:r>
                  <a:endParaRPr b="0" lang="en-US" sz="1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958920" y="2629080"/>
                  <a:ext cx="0" cy="1861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169160" y="2720520"/>
                  <a:ext cx="0" cy="1447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64120" y="3043800"/>
                  <a:ext cx="0" cy="1443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>
                  <a:off x="3952080" y="2733840"/>
                  <a:ext cx="21636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>
                  <a:off x="3952080" y="3178800"/>
                  <a:ext cx="21636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958920" y="3390120"/>
                  <a:ext cx="5050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1400" spc="-1" strike="noStrike">
                      <a:solidFill>
                        <a:srgbClr val="cc0000"/>
                      </a:solidFill>
                      <a:latin typeface="Times New Roman"/>
                    </a:rPr>
                    <a:t>v</a:t>
                  </a:r>
                  <a:r>
                    <a:rPr b="1" lang="pl-PL" sz="1400" spc="-1" strike="noStrike" baseline="-25000">
                      <a:solidFill>
                        <a:srgbClr val="cc0000"/>
                      </a:solidFill>
                      <a:latin typeface="Times New Roman"/>
                    </a:rPr>
                    <a:t>d</a:t>
                  </a:r>
                  <a:endParaRPr b="0" lang="en-US" sz="1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837240" y="1537920"/>
                  <a:ext cx="74880" cy="74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1" name=""/>
            <p:cNvSpPr/>
            <p:nvPr/>
          </p:nvSpPr>
          <p:spPr>
            <a:xfrm flipH="1">
              <a:off x="2412720" y="1474920"/>
              <a:ext cx="93600" cy="2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449440" y="1474920"/>
              <a:ext cx="93600" cy="2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486160" y="1474920"/>
              <a:ext cx="93600" cy="2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96920" y="3933720"/>
            <a:ext cx="87184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Redu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  <a:ea typeface="Arial"/>
              </a:rPr>
              <a:t>k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  <a:ea typeface="Arial"/>
              </a:rPr>
              <a:t>j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harmonic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  <a:ea typeface="Arial"/>
              </a:rPr>
              <a:t>znych prądu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ymetryzacja prądu (obciążenia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Ograniczenie wahań napięci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Kompensacja mocy biernej (harmonicznej podstawowej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068D-01B0-49CF-968E-BEBF64231AD9}" type="slidenum">
              <a:t>5</a:t>
            </a:fld>
          </a:p>
        </p:txBody>
      </p:sp>
    </p:spTree>
  </p:cSld>
  <p:transition>
    <p:cover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3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3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495360" y="2514600"/>
            <a:ext cx="8004240" cy="1744560"/>
            <a:chOff x="495360" y="2514600"/>
            <a:chExt cx="8004240" cy="1744560"/>
          </a:xfrm>
        </p:grpSpPr>
        <p:sp>
          <p:nvSpPr>
            <p:cNvPr id="306" name=""/>
            <p:cNvSpPr/>
            <p:nvPr/>
          </p:nvSpPr>
          <p:spPr>
            <a:xfrm>
              <a:off x="5556240" y="2514600"/>
              <a:ext cx="60804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77960" y="2514600"/>
              <a:ext cx="60804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5360" y="2560680"/>
              <a:ext cx="1623960" cy="1698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Supply network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608880" y="2560680"/>
              <a:ext cx="1890720" cy="1698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Nielinear load 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46280" y="3205080"/>
              <a:ext cx="609840" cy="424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311" name=""/>
            <p:cNvCxnSpPr>
              <a:stCxn id="308" idx="3"/>
              <a:endCxn id="310" idx="1"/>
            </p:cNvCxnSpPr>
            <p:nvPr/>
          </p:nvCxnSpPr>
          <p:spPr>
            <a:xfrm>
              <a:off x="2133360" y="3409920"/>
              <a:ext cx="400680" cy="864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312" name=""/>
            <p:cNvSpPr/>
            <p:nvPr/>
          </p:nvSpPr>
          <p:spPr>
            <a:xfrm>
              <a:off x="5556240" y="3205080"/>
              <a:ext cx="608040" cy="424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>
              <a:stCxn id="312" idx="3"/>
              <a:endCxn id="309" idx="1"/>
            </p:cNvCxnSpPr>
            <p:nvPr/>
          </p:nvCxnSpPr>
          <p:spPr>
            <a:xfrm flipV="1">
              <a:off x="6176880" y="3409560"/>
              <a:ext cx="418320" cy="864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314" name=""/>
            <p:cNvCxnSpPr/>
            <p:nvPr/>
          </p:nvCxnSpPr>
          <p:spPr>
            <a:xfrm>
              <a:off x="3155760" y="3403080"/>
              <a:ext cx="240084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</p:grpSp>
      <p:sp>
        <p:nvSpPr>
          <p:cNvPr id="315" name=""/>
          <p:cNvSpPr/>
          <p:nvPr/>
        </p:nvSpPr>
        <p:spPr>
          <a:xfrm>
            <a:off x="241200" y="50652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ównoległy APF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614680" y="2971800"/>
            <a:ext cx="1890720" cy="3650760"/>
            <a:chOff x="2614680" y="2971800"/>
            <a:chExt cx="1890720" cy="3650760"/>
          </a:xfrm>
        </p:grpSpPr>
        <p:sp>
          <p:nvSpPr>
            <p:cNvPr id="317" name=""/>
            <p:cNvSpPr/>
            <p:nvPr/>
          </p:nvSpPr>
          <p:spPr>
            <a:xfrm>
              <a:off x="3203640" y="2971800"/>
              <a:ext cx="797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39680" indent="-1396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PCC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14680" y="4924080"/>
              <a:ext cx="1890720" cy="1698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Times New Roman"/>
                </a:rPr>
                <a:t>APF</a:t>
              </a:r>
              <a:endParaRPr b="0" lang="en-US" sz="4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319" name=""/>
            <p:cNvCxnSpPr>
              <a:stCxn id="318" idx="0"/>
              <a:endCxn id="320" idx="4"/>
            </p:cNvCxnSpPr>
            <p:nvPr/>
          </p:nvCxnSpPr>
          <p:spPr>
            <a:xfrm flipH="1" flipV="1">
              <a:off x="3557520" y="3434760"/>
              <a:ext cx="3600" cy="14752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320" name=""/>
            <p:cNvSpPr/>
            <p:nvPr/>
          </p:nvSpPr>
          <p:spPr>
            <a:xfrm>
              <a:off x="3516480" y="3350880"/>
              <a:ext cx="81000" cy="8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759120" y="3846600"/>
            <a:ext cx="2417760" cy="825480"/>
            <a:chOff x="3759120" y="3846600"/>
            <a:chExt cx="2417760" cy="825480"/>
          </a:xfrm>
        </p:grpSpPr>
        <p:pic>
          <p:nvPicPr>
            <p:cNvPr id="322" name="" descr=""/>
            <p:cNvPicPr/>
            <p:nvPr/>
          </p:nvPicPr>
          <p:blipFill>
            <a:blip r:embed="rId1"/>
            <a:srcRect l="12654" t="7219" r="8436" b="10501"/>
            <a:stretch/>
          </p:blipFill>
          <p:spPr>
            <a:xfrm>
              <a:off x="3759120" y="3846600"/>
              <a:ext cx="2417760" cy="825480"/>
            </a:xfrm>
            <a:prstGeom prst="rect">
              <a:avLst/>
            </a:prstGeom>
            <a:ln w="19080">
              <a:solidFill>
                <a:srgbClr val="ff0000"/>
              </a:solidFill>
              <a:miter/>
            </a:ln>
          </p:spPr>
        </p:pic>
        <p:sp>
          <p:nvSpPr>
            <p:cNvPr id="323" name=""/>
            <p:cNvSpPr/>
            <p:nvPr/>
          </p:nvSpPr>
          <p:spPr>
            <a:xfrm>
              <a:off x="4098960" y="3854160"/>
              <a:ext cx="7747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APF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556240" y="1449000"/>
            <a:ext cx="2414520" cy="1870560"/>
            <a:chOff x="5556240" y="1449000"/>
            <a:chExt cx="2414520" cy="1870560"/>
          </a:xfrm>
        </p:grpSpPr>
        <p:grpSp>
          <p:nvGrpSpPr>
            <p:cNvPr id="325" name=""/>
            <p:cNvGrpSpPr/>
            <p:nvPr/>
          </p:nvGrpSpPr>
          <p:grpSpPr>
            <a:xfrm>
              <a:off x="5556240" y="1449000"/>
              <a:ext cx="2414520" cy="951120"/>
              <a:chOff x="5556240" y="1449000"/>
              <a:chExt cx="2414520" cy="951120"/>
            </a:xfrm>
          </p:grpSpPr>
          <p:pic>
            <p:nvPicPr>
              <p:cNvPr id="326" name="" descr=""/>
              <p:cNvPicPr/>
              <p:nvPr/>
            </p:nvPicPr>
            <p:blipFill>
              <a:blip r:embed="rId2"/>
              <a:srcRect l="12302" t="7125" r="9139" b="57191"/>
              <a:stretch/>
            </p:blipFill>
            <p:spPr>
              <a:xfrm>
                <a:off x="5556240" y="1577880"/>
                <a:ext cx="2414520" cy="822240"/>
              </a:xfrm>
              <a:prstGeom prst="rect">
                <a:avLst/>
              </a:prstGeom>
              <a:ln w="19080">
                <a:solidFill>
                  <a:srgbClr val="ff0000"/>
                </a:solidFill>
                <a:miter/>
              </a:ln>
            </p:spPr>
          </p:pic>
          <p:sp>
            <p:nvSpPr>
              <p:cNvPr id="327" name=""/>
              <p:cNvSpPr/>
              <p:nvPr/>
            </p:nvSpPr>
            <p:spPr>
              <a:xfrm>
                <a:off x="6337440" y="1449000"/>
                <a:ext cx="5713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6337440" y="2514600"/>
              <a:ext cx="0" cy="8049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609560" y="1085760"/>
            <a:ext cx="2489040" cy="2233800"/>
            <a:chOff x="1609560" y="1085760"/>
            <a:chExt cx="2489040" cy="2233800"/>
          </a:xfrm>
        </p:grpSpPr>
        <p:grpSp>
          <p:nvGrpSpPr>
            <p:cNvPr id="330" name=""/>
            <p:cNvGrpSpPr/>
            <p:nvPr/>
          </p:nvGrpSpPr>
          <p:grpSpPr>
            <a:xfrm>
              <a:off x="1609560" y="1085760"/>
              <a:ext cx="2489040" cy="1336680"/>
              <a:chOff x="1609560" y="1085760"/>
              <a:chExt cx="2489040" cy="1336680"/>
            </a:xfrm>
          </p:grpSpPr>
          <p:pic>
            <p:nvPicPr>
              <p:cNvPr id="331" name="" descr=""/>
              <p:cNvPicPr/>
              <p:nvPr/>
            </p:nvPicPr>
            <p:blipFill>
              <a:blip r:embed="rId3"/>
              <a:srcRect l="12091" t="8907" r="9420" b="13501"/>
              <a:stretch/>
            </p:blipFill>
            <p:spPr>
              <a:xfrm>
                <a:off x="1609560" y="1085760"/>
                <a:ext cx="2414520" cy="1336680"/>
              </a:xfrm>
              <a:prstGeom prst="rect">
                <a:avLst/>
              </a:prstGeom>
              <a:ln w="19080">
                <a:solidFill>
                  <a:srgbClr val="ff0000"/>
                </a:solidFill>
                <a:miter/>
              </a:ln>
            </p:spPr>
          </p:pic>
          <p:sp>
            <p:nvSpPr>
              <p:cNvPr id="332" name=""/>
              <p:cNvSpPr/>
              <p:nvPr/>
            </p:nvSpPr>
            <p:spPr>
              <a:xfrm>
                <a:off x="3323880" y="1096560"/>
                <a:ext cx="7747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U</a:t>
                </a:r>
                <a:r>
                  <a:rPr b="1" lang="en-US" sz="2000" spc="-1" strike="noStrike" baseline="-25000">
                    <a:solidFill>
                      <a:srgbClr val="0000ff"/>
                    </a:solidFill>
                    <a:latin typeface="Times New Roman"/>
                  </a:rPr>
                  <a:t>S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/5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252520" y="1125000"/>
                <a:ext cx="5713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979280" y="1710720"/>
                <a:ext cx="7747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2252520" y="2514600"/>
              <a:ext cx="0" cy="8049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252B-E819-4758-BE6C-C457A4D08435}" type="slidenum">
              <a:t>6</a:t>
            </a:fld>
          </a:p>
        </p:txBody>
      </p:sp>
    </p:spTree>
  </p:cSld>
  <p:transition>
    <p:cover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04760" y="1863720"/>
            <a:ext cx="3638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UNIFIED POWER QUALITY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CONDITIONER - UPQC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85800" y="343080"/>
            <a:ext cx="8229240" cy="3172680"/>
            <a:chOff x="685800" y="343080"/>
            <a:chExt cx="8229240" cy="3172680"/>
          </a:xfrm>
        </p:grpSpPr>
        <p:grpSp>
          <p:nvGrpSpPr>
            <p:cNvPr id="338" name=""/>
            <p:cNvGrpSpPr/>
            <p:nvPr/>
          </p:nvGrpSpPr>
          <p:grpSpPr>
            <a:xfrm>
              <a:off x="6568560" y="1017360"/>
              <a:ext cx="674280" cy="265680"/>
              <a:chOff x="6568560" y="1017360"/>
              <a:chExt cx="674280" cy="265680"/>
            </a:xfrm>
          </p:grpSpPr>
          <p:sp>
            <p:nvSpPr>
              <p:cNvPr id="339" name=""/>
              <p:cNvSpPr/>
              <p:nvPr/>
            </p:nvSpPr>
            <p:spPr>
              <a:xfrm>
                <a:off x="6568560" y="1017360"/>
                <a:ext cx="225000" cy="265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793560" y="1017360"/>
                <a:ext cx="224640" cy="265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18200" y="1017360"/>
                <a:ext cx="224640" cy="265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6544800" y="1161360"/>
              <a:ext cx="722520" cy="15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3404880" y="1027080"/>
              <a:ext cx="674280" cy="266040"/>
              <a:chOff x="3404880" y="1027080"/>
              <a:chExt cx="674280" cy="266040"/>
            </a:xfrm>
          </p:grpSpPr>
          <p:sp>
            <p:nvSpPr>
              <p:cNvPr id="344" name=""/>
              <p:cNvSpPr/>
              <p:nvPr/>
            </p:nvSpPr>
            <p:spPr>
              <a:xfrm rot="10800000">
                <a:off x="3854160" y="1027080"/>
                <a:ext cx="225000" cy="266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0800000">
                <a:off x="3629520" y="1027080"/>
                <a:ext cx="224640" cy="266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0800000">
                <a:off x="3404880" y="1027080"/>
                <a:ext cx="224640" cy="266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 rot="10800000">
              <a:off x="3380040" y="991080"/>
              <a:ext cx="721800" cy="16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2423160" y="1017360"/>
              <a:ext cx="674280" cy="265680"/>
              <a:chOff x="2423160" y="1017360"/>
              <a:chExt cx="674280" cy="265680"/>
            </a:xfrm>
          </p:grpSpPr>
          <p:sp>
            <p:nvSpPr>
              <p:cNvPr id="349" name=""/>
              <p:cNvSpPr/>
              <p:nvPr/>
            </p:nvSpPr>
            <p:spPr>
              <a:xfrm>
                <a:off x="2423160" y="1017360"/>
                <a:ext cx="225000" cy="265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648160" y="1017360"/>
                <a:ext cx="224640" cy="265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872800" y="1017360"/>
                <a:ext cx="224640" cy="265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2399400" y="1161360"/>
              <a:ext cx="721800" cy="15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5800" y="626400"/>
              <a:ext cx="1353240" cy="106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Sourc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354" name=""/>
            <p:cNvCxnSpPr>
              <a:stCxn id="349" idx="2"/>
              <a:endCxn id="353" idx="3"/>
            </p:cNvCxnSpPr>
            <p:nvPr/>
          </p:nvCxnSpPr>
          <p:spPr>
            <a:xfrm flipH="1">
              <a:off x="2056320" y="1151640"/>
              <a:ext cx="350640" cy="10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355" name=""/>
            <p:cNvSpPr/>
            <p:nvPr/>
          </p:nvSpPr>
          <p:spPr>
            <a:xfrm>
              <a:off x="7562160" y="343080"/>
              <a:ext cx="1352880" cy="1600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ff"/>
                  </a:solidFill>
                  <a:latin typeface="Arial"/>
                </a:rPr>
                <a:t>Nonlinear lod (-s)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356" name=""/>
            <p:cNvCxnSpPr>
              <a:stCxn id="341" idx="6"/>
              <a:endCxn id="355" idx="1"/>
            </p:cNvCxnSpPr>
            <p:nvPr/>
          </p:nvCxnSpPr>
          <p:spPr>
            <a:xfrm flipV="1">
              <a:off x="7258680" y="1144080"/>
              <a:ext cx="285480" cy="75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grpSp>
          <p:nvGrpSpPr>
            <p:cNvPr id="357" name=""/>
            <p:cNvGrpSpPr/>
            <p:nvPr/>
          </p:nvGrpSpPr>
          <p:grpSpPr>
            <a:xfrm>
              <a:off x="3402000" y="1441440"/>
              <a:ext cx="674280" cy="266040"/>
              <a:chOff x="3402000" y="1441440"/>
              <a:chExt cx="674280" cy="266040"/>
            </a:xfrm>
          </p:grpSpPr>
          <p:sp>
            <p:nvSpPr>
              <p:cNvPr id="358" name=""/>
              <p:cNvSpPr/>
              <p:nvPr/>
            </p:nvSpPr>
            <p:spPr>
              <a:xfrm>
                <a:off x="3402000" y="1441440"/>
                <a:ext cx="225000" cy="266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627000" y="1441440"/>
                <a:ext cx="224640" cy="266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851640" y="1441440"/>
                <a:ext cx="224640" cy="266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3378240" y="1585080"/>
              <a:ext cx="722520" cy="16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50600" y="904320"/>
              <a:ext cx="4395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32280" y="904320"/>
              <a:ext cx="4399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455520" y="1474560"/>
              <a:ext cx="0" cy="520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50600" y="437400"/>
              <a:ext cx="5151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pl-PL" sz="1400" spc="-1" strike="noStrike" baseline="-25000">
                  <a:solidFill>
                    <a:srgbClr val="cc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32280" y="451440"/>
              <a:ext cx="602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pl-PL" sz="1400" spc="-1" strike="noStrike" baseline="-25000">
                  <a:solidFill>
                    <a:srgbClr val="cc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71360" y="1451160"/>
              <a:ext cx="515160" cy="6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pl-PL" sz="1400" spc="-1" strike="noStrike" baseline="-25000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65760" y="2448000"/>
              <a:ext cx="1353240" cy="1067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623400" y="2759040"/>
              <a:ext cx="0" cy="426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3989160" y="2846880"/>
              <a:ext cx="220680" cy="251280"/>
              <a:chOff x="3989160" y="2846880"/>
              <a:chExt cx="220680" cy="251280"/>
            </a:xfrm>
          </p:grpSpPr>
          <p:sp>
            <p:nvSpPr>
              <p:cNvPr id="371" name=""/>
              <p:cNvSpPr/>
              <p:nvPr/>
            </p:nvSpPr>
            <p:spPr>
              <a:xfrm>
                <a:off x="3989160" y="2869200"/>
                <a:ext cx="220680" cy="228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989160" y="2846880"/>
                <a:ext cx="2206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3846240" y="3160080"/>
              <a:ext cx="0" cy="263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3623400" y="2766240"/>
              <a:ext cx="234360" cy="230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39240" y="2973240"/>
              <a:ext cx="210600" cy="195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545640" y="2759040"/>
              <a:ext cx="0" cy="426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12080" y="2973960"/>
              <a:ext cx="1335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846240" y="2511720"/>
              <a:ext cx="0" cy="263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96800" y="2641680"/>
              <a:ext cx="0" cy="205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91040" y="3098520"/>
              <a:ext cx="0" cy="205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3838320" y="2660400"/>
              <a:ext cx="2584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3838320" y="3290040"/>
              <a:ext cx="2584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77320" y="562680"/>
              <a:ext cx="602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cc0000"/>
                  </a:solidFill>
                  <a:latin typeface="Times New Roman"/>
                </a:rPr>
                <a:t>v</a:t>
              </a:r>
              <a:r>
                <a:rPr b="1" lang="pl-PL" sz="1400" spc="-1" strike="noStrike" baseline="-25000">
                  <a:solidFill>
                    <a:srgbClr val="cc0000"/>
                  </a:solidFill>
                  <a:latin typeface="Times New Roman"/>
                </a:rPr>
                <a:t>AF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384" name=""/>
            <p:cNvCxnSpPr>
              <a:stCxn id="351" idx="6"/>
              <a:endCxn id="346" idx="6"/>
            </p:cNvCxnSpPr>
            <p:nvPr/>
          </p:nvCxnSpPr>
          <p:spPr>
            <a:xfrm>
              <a:off x="3113640" y="1151280"/>
              <a:ext cx="275040" cy="75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385" name=""/>
            <p:cNvCxnSpPr>
              <a:stCxn id="344" idx="2"/>
              <a:endCxn id="339" idx="2"/>
            </p:cNvCxnSpPr>
            <p:nvPr/>
          </p:nvCxnSpPr>
          <p:spPr>
            <a:xfrm flipV="1">
              <a:off x="4092480" y="1150920"/>
              <a:ext cx="2460600" cy="75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386" name=""/>
            <p:cNvSpPr/>
            <p:nvPr/>
          </p:nvSpPr>
          <p:spPr>
            <a:xfrm>
              <a:off x="3412080" y="1368720"/>
              <a:ext cx="67680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10800000">
              <a:off x="5573160" y="2448000"/>
              <a:ext cx="1353240" cy="1067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367680" y="2775600"/>
              <a:ext cx="0" cy="426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5778360" y="2862720"/>
              <a:ext cx="220680" cy="251640"/>
              <a:chOff x="5778360" y="2862720"/>
              <a:chExt cx="220680" cy="251640"/>
            </a:xfrm>
          </p:grpSpPr>
          <p:sp>
            <p:nvSpPr>
              <p:cNvPr id="390" name=""/>
              <p:cNvSpPr/>
              <p:nvPr/>
            </p:nvSpPr>
            <p:spPr>
              <a:xfrm>
                <a:off x="5778360" y="2885040"/>
                <a:ext cx="220680" cy="229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778360" y="2862720"/>
                <a:ext cx="2206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 flipV="1">
              <a:off x="6144840" y="2539800"/>
              <a:ext cx="0" cy="263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6132240" y="2966760"/>
              <a:ext cx="235080" cy="231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6140520" y="2791800"/>
              <a:ext cx="210600" cy="195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445440" y="2775600"/>
              <a:ext cx="0" cy="426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442920" y="2990520"/>
              <a:ext cx="1335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6144840" y="3188160"/>
              <a:ext cx="0" cy="263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5893920" y="3115080"/>
              <a:ext cx="0" cy="205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899680" y="2658240"/>
              <a:ext cx="0" cy="204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93920" y="3303720"/>
              <a:ext cx="2584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893920" y="2674800"/>
              <a:ext cx="2584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19360" y="2526120"/>
              <a:ext cx="11538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19360" y="3445560"/>
              <a:ext cx="11538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703760" y="2936160"/>
              <a:ext cx="4514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703760" y="3018600"/>
              <a:ext cx="4514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4924800" y="2526120"/>
              <a:ext cx="0" cy="409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4924800" y="3027960"/>
              <a:ext cx="0" cy="409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45640" y="1026720"/>
              <a:ext cx="4395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6139440" y="1451160"/>
              <a:ext cx="224280" cy="597960"/>
              <a:chOff x="6139440" y="1451160"/>
              <a:chExt cx="224280" cy="597960"/>
            </a:xfrm>
          </p:grpSpPr>
          <p:sp>
            <p:nvSpPr>
              <p:cNvPr id="410" name=""/>
              <p:cNvSpPr/>
              <p:nvPr/>
            </p:nvSpPr>
            <p:spPr>
              <a:xfrm rot="5400000">
                <a:off x="6151680" y="1438920"/>
                <a:ext cx="199800" cy="224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5400000">
                <a:off x="6152040" y="1638360"/>
                <a:ext cx="199080" cy="224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5400000">
                <a:off x="6152040" y="1837440"/>
                <a:ext cx="199080" cy="224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 rot="5400000">
              <a:off x="5855760" y="1682280"/>
              <a:ext cx="641160" cy="13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414" name=""/>
            <p:cNvCxnSpPr>
              <a:stCxn id="387" idx="2"/>
              <a:endCxn id="412" idx="6"/>
            </p:cNvCxnSpPr>
            <p:nvPr/>
          </p:nvCxnSpPr>
          <p:spPr>
            <a:xfrm flipV="1">
              <a:off x="6247800" y="2066040"/>
              <a:ext cx="4680" cy="36144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415" name=""/>
            <p:cNvCxnSpPr>
              <a:stCxn id="413" idx="1"/>
            </p:cNvCxnSpPr>
            <p:nvPr/>
          </p:nvCxnSpPr>
          <p:spPr>
            <a:xfrm flipH="1">
              <a:off x="5155200" y="1427040"/>
              <a:ext cx="1019520" cy="2196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416" name=""/>
            <p:cNvCxnSpPr>
              <a:stCxn id="410" idx="2"/>
            </p:cNvCxnSpPr>
            <p:nvPr/>
          </p:nvCxnSpPr>
          <p:spPr>
            <a:xfrm flipH="1" flipV="1">
              <a:off x="6249600" y="1158120"/>
              <a:ext cx="2520" cy="27144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417" name=""/>
            <p:cNvCxnSpPr>
              <a:stCxn id="368" idx="0"/>
              <a:endCxn id="361" idx="0"/>
            </p:cNvCxnSpPr>
            <p:nvPr/>
          </p:nvCxnSpPr>
          <p:spPr>
            <a:xfrm flipH="1" flipV="1">
              <a:off x="3740040" y="1584720"/>
              <a:ext cx="2520" cy="8424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418" name=""/>
            <p:cNvSpPr/>
            <p:nvPr/>
          </p:nvSpPr>
          <p:spPr>
            <a:xfrm>
              <a:off x="6208560" y="1109520"/>
              <a:ext cx="89280" cy="105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116080" y="1003680"/>
              <a:ext cx="132120" cy="291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159640" y="1003680"/>
              <a:ext cx="132120" cy="291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2203560" y="1003680"/>
              <a:ext cx="132120" cy="291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344520" y="3516480"/>
            <a:ext cx="871848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tabilizacja napięci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Kompensacja mocy biernej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Ograniczenie wahań napięcia</a:t>
            </a:r>
            <a:r>
              <a:rPr b="1" lang="pl-PL" sz="2200" spc="-1" strike="noStrike">
                <a:solidFill>
                  <a:srgbClr val="0000ff"/>
                </a:solidFill>
                <a:latin typeface="Arial"/>
              </a:rPr>
              <a:t> (ograniczenie zmian mocy czynnej i biernej)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ymetryzacja prądu (obciążenia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ymetryzacja napięci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Redu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  <a:ea typeface="Arial"/>
              </a:rPr>
              <a:t>k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  <a:ea typeface="Arial"/>
              </a:rPr>
              <a:t>j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harmonic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  <a:ea typeface="Arial"/>
              </a:rPr>
              <a:t>znych prądu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 i napięci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C7CC-A03A-4EBB-86C0-B913F9F92834}" type="slidenum">
              <a:t>7</a:t>
            </a:fld>
          </a:p>
        </p:txBody>
      </p:sp>
    </p:spTree>
  </p:cSld>
  <p:transition>
    <p:cover dir="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6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1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9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5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42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560" y="555840"/>
            <a:ext cx="6746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Układ hybrydowy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301760" y="5489640"/>
            <a:ext cx="74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RIES APF + PARALLEL PASSIVE FILTE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042920" y="1758960"/>
            <a:ext cx="6946560" cy="3313440"/>
            <a:chOff x="1042920" y="1758960"/>
            <a:chExt cx="6946560" cy="3313440"/>
          </a:xfrm>
        </p:grpSpPr>
        <p:grpSp>
          <p:nvGrpSpPr>
            <p:cNvPr id="426" name=""/>
            <p:cNvGrpSpPr/>
            <p:nvPr/>
          </p:nvGrpSpPr>
          <p:grpSpPr>
            <a:xfrm>
              <a:off x="5680440" y="2304720"/>
              <a:ext cx="712800" cy="284760"/>
              <a:chOff x="5680440" y="2304720"/>
              <a:chExt cx="712800" cy="28476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5703480" y="2304720"/>
                <a:ext cx="665640" cy="249840"/>
                <a:chOff x="5703480" y="2304720"/>
                <a:chExt cx="665640" cy="2498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5703480" y="2304720"/>
                  <a:ext cx="222120" cy="2498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925600" y="2304720"/>
                  <a:ext cx="221760" cy="2498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147360" y="2304720"/>
                  <a:ext cx="221760" cy="2498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5680440" y="2439360"/>
                <a:ext cx="712800" cy="15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3579840" y="2280240"/>
              <a:ext cx="712800" cy="285480"/>
              <a:chOff x="3579840" y="2280240"/>
              <a:chExt cx="712800" cy="28548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603960" y="2315520"/>
                <a:ext cx="665640" cy="250200"/>
                <a:chOff x="3603960" y="2315520"/>
                <a:chExt cx="665640" cy="250200"/>
              </a:xfrm>
            </p:grpSpPr>
            <p:sp>
              <p:nvSpPr>
                <p:cNvPr id="434" name=""/>
                <p:cNvSpPr/>
                <p:nvPr/>
              </p:nvSpPr>
              <p:spPr>
                <a:xfrm rot="10800000">
                  <a:off x="4047480" y="2315520"/>
                  <a:ext cx="222120" cy="250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0800000">
                  <a:off x="3825720" y="2315520"/>
                  <a:ext cx="221760" cy="250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0800000">
                  <a:off x="3603960" y="2315520"/>
                  <a:ext cx="221760" cy="250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7" name=""/>
              <p:cNvSpPr/>
              <p:nvPr/>
            </p:nvSpPr>
            <p:spPr>
              <a:xfrm rot="10800000">
                <a:off x="3579840" y="2280240"/>
                <a:ext cx="71280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2624760" y="2304720"/>
              <a:ext cx="712800" cy="284760"/>
              <a:chOff x="2624760" y="2304720"/>
              <a:chExt cx="712800" cy="28476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2647800" y="2304720"/>
                <a:ext cx="665640" cy="249840"/>
                <a:chOff x="2647800" y="2304720"/>
                <a:chExt cx="665640" cy="24984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2647800" y="2304720"/>
                  <a:ext cx="222120" cy="2498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869920" y="2304720"/>
                  <a:ext cx="221760" cy="2498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091680" y="2304720"/>
                  <a:ext cx="221760" cy="2498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" name=""/>
              <p:cNvSpPr/>
              <p:nvPr/>
            </p:nvSpPr>
            <p:spPr>
              <a:xfrm>
                <a:off x="2624760" y="2439360"/>
                <a:ext cx="712800" cy="15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1042920" y="1936440"/>
              <a:ext cx="1336320" cy="100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Sourc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445" name=""/>
            <p:cNvCxnSpPr>
              <a:stCxn id="440" idx="2"/>
              <a:endCxn id="444" idx="3"/>
            </p:cNvCxnSpPr>
            <p:nvPr/>
          </p:nvCxnSpPr>
          <p:spPr>
            <a:xfrm flipH="1">
              <a:off x="2396520" y="2430720"/>
              <a:ext cx="236160" cy="972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446" name=""/>
            <p:cNvSpPr/>
            <p:nvPr/>
          </p:nvSpPr>
          <p:spPr>
            <a:xfrm>
              <a:off x="6653160" y="1936440"/>
              <a:ext cx="1336320" cy="100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ff"/>
                  </a:solidFill>
                  <a:latin typeface="Arial"/>
                </a:rPr>
                <a:t>Nonlinear load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447" name=""/>
            <p:cNvCxnSpPr>
              <a:stCxn id="430" idx="6"/>
              <a:endCxn id="446" idx="1"/>
            </p:cNvCxnSpPr>
            <p:nvPr/>
          </p:nvCxnSpPr>
          <p:spPr>
            <a:xfrm>
              <a:off x="6385320" y="2430720"/>
              <a:ext cx="250200" cy="972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448" name=""/>
            <p:cNvSpPr/>
            <p:nvPr/>
          </p:nvSpPr>
          <p:spPr>
            <a:xfrm>
              <a:off x="3267360" y="3296160"/>
              <a:ext cx="1336320" cy="100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3575520" y="2703600"/>
              <a:ext cx="712800" cy="285480"/>
              <a:chOff x="3575520" y="2703600"/>
              <a:chExt cx="712800" cy="285480"/>
            </a:xfrm>
          </p:grpSpPr>
          <p:grpSp>
            <p:nvGrpSpPr>
              <p:cNvPr id="450" name=""/>
              <p:cNvGrpSpPr/>
              <p:nvPr/>
            </p:nvGrpSpPr>
            <p:grpSpPr>
              <a:xfrm>
                <a:off x="3598560" y="2703600"/>
                <a:ext cx="665640" cy="250200"/>
                <a:chOff x="3598560" y="2703600"/>
                <a:chExt cx="665640" cy="2502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3598560" y="2703600"/>
                  <a:ext cx="222120" cy="250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20680" y="2703600"/>
                  <a:ext cx="221760" cy="250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042440" y="2703600"/>
                  <a:ext cx="221760" cy="250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4" name=""/>
              <p:cNvSpPr/>
              <p:nvPr/>
            </p:nvSpPr>
            <p:spPr>
              <a:xfrm>
                <a:off x="3575520" y="2838600"/>
                <a:ext cx="71280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3817800" y="3589200"/>
              <a:ext cx="0" cy="401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4178880" y="3670920"/>
              <a:ext cx="217800" cy="236880"/>
              <a:chOff x="4178880" y="3670920"/>
              <a:chExt cx="217800" cy="236880"/>
            </a:xfrm>
          </p:grpSpPr>
          <p:sp>
            <p:nvSpPr>
              <p:cNvPr id="457" name=""/>
              <p:cNvSpPr/>
              <p:nvPr/>
            </p:nvSpPr>
            <p:spPr>
              <a:xfrm>
                <a:off x="4178880" y="3692160"/>
                <a:ext cx="217800" cy="215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178880" y="3670920"/>
                <a:ext cx="2178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4037760" y="3966480"/>
              <a:ext cx="0" cy="247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3817800" y="3595320"/>
              <a:ext cx="231480" cy="217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833280" y="3790080"/>
              <a:ext cx="208440" cy="183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41120" y="3589200"/>
              <a:ext cx="0" cy="401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609000" y="3790800"/>
              <a:ext cx="1317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42240" y="4300920"/>
              <a:ext cx="0" cy="516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30000" y="4818240"/>
              <a:ext cx="5659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75120" y="4818240"/>
              <a:ext cx="557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23040" y="4300920"/>
              <a:ext cx="0" cy="516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742840" y="2198160"/>
              <a:ext cx="4338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82680" y="2198160"/>
              <a:ext cx="4338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742840" y="1758960"/>
              <a:ext cx="508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pl-PL" sz="1400" spc="-1" strike="noStrike" baseline="-25000">
                  <a:solidFill>
                    <a:srgbClr val="cc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82680" y="1771920"/>
              <a:ext cx="595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pl-PL" sz="1400" spc="-1" strike="noStrike" baseline="-25000">
                  <a:solidFill>
                    <a:srgbClr val="cc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3880440" y="4569480"/>
              <a:ext cx="77760" cy="502920"/>
              <a:chOff x="3880440" y="4569480"/>
              <a:chExt cx="77760" cy="502920"/>
            </a:xfrm>
          </p:grpSpPr>
          <p:sp>
            <p:nvSpPr>
              <p:cNvPr id="473" name=""/>
              <p:cNvSpPr/>
              <p:nvPr/>
            </p:nvSpPr>
            <p:spPr>
              <a:xfrm>
                <a:off x="3880440" y="4569480"/>
                <a:ext cx="0" cy="502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958200" y="4569480"/>
                <a:ext cx="0" cy="502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4037760" y="3356280"/>
              <a:ext cx="0" cy="248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85080" y="3477960"/>
              <a:ext cx="0" cy="192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79320" y="3908520"/>
              <a:ext cx="0" cy="192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4029480" y="3495960"/>
              <a:ext cx="2552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4029480" y="4088160"/>
              <a:ext cx="2552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480" name=""/>
            <p:cNvCxnSpPr>
              <a:stCxn id="442" idx="6"/>
              <a:endCxn id="436" idx="6"/>
            </p:cNvCxnSpPr>
            <p:nvPr/>
          </p:nvCxnSpPr>
          <p:spPr>
            <a:xfrm>
              <a:off x="3329640" y="2431080"/>
              <a:ext cx="255960" cy="72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481" name=""/>
            <p:cNvCxnSpPr>
              <a:stCxn id="434" idx="2"/>
              <a:endCxn id="428" idx="2"/>
            </p:cNvCxnSpPr>
            <p:nvPr/>
          </p:nvCxnSpPr>
          <p:spPr>
            <a:xfrm flipV="1">
              <a:off x="4281120" y="2430720"/>
              <a:ext cx="1407240" cy="72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482" name=""/>
            <p:cNvSpPr/>
            <p:nvPr/>
          </p:nvSpPr>
          <p:spPr>
            <a:xfrm>
              <a:off x="3609000" y="2635200"/>
              <a:ext cx="668160" cy="180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483" name=""/>
            <p:cNvCxnSpPr>
              <a:stCxn id="448" idx="0"/>
              <a:endCxn id="454" idx="0"/>
            </p:cNvCxnSpPr>
            <p:nvPr/>
          </p:nvCxnSpPr>
          <p:spPr>
            <a:xfrm flipH="1" flipV="1">
              <a:off x="3933000" y="2838600"/>
              <a:ext cx="2160" cy="4377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grpSp>
          <p:nvGrpSpPr>
            <p:cNvPr id="484" name=""/>
            <p:cNvGrpSpPr/>
            <p:nvPr/>
          </p:nvGrpSpPr>
          <p:grpSpPr>
            <a:xfrm>
              <a:off x="5120640" y="2835000"/>
              <a:ext cx="253080" cy="804240"/>
              <a:chOff x="5120640" y="2835000"/>
              <a:chExt cx="253080" cy="80424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5151960" y="2860920"/>
                <a:ext cx="221760" cy="750960"/>
                <a:chOff x="5151960" y="2860920"/>
                <a:chExt cx="221760" cy="750960"/>
              </a:xfrm>
            </p:grpSpPr>
            <p:sp>
              <p:nvSpPr>
                <p:cNvPr id="486" name=""/>
                <p:cNvSpPr/>
                <p:nvPr/>
              </p:nvSpPr>
              <p:spPr>
                <a:xfrm rot="5400000">
                  <a:off x="5137560" y="2875320"/>
                  <a:ext cx="250560" cy="2217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rot="5400000">
                  <a:off x="5137560" y="3125520"/>
                  <a:ext cx="250200" cy="2217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rot="5400000">
                  <a:off x="5137560" y="3375720"/>
                  <a:ext cx="250200" cy="2217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9" name=""/>
              <p:cNvSpPr/>
              <p:nvPr/>
            </p:nvSpPr>
            <p:spPr>
              <a:xfrm rot="5400000">
                <a:off x="4785120" y="3170160"/>
                <a:ext cx="804240" cy="133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cxnSp>
          <p:nvCxnSpPr>
            <p:cNvPr id="490" name=""/>
            <p:cNvCxnSpPr>
              <a:stCxn id="486" idx="2"/>
              <a:endCxn id="491" idx="4"/>
            </p:cNvCxnSpPr>
            <p:nvPr/>
          </p:nvCxnSpPr>
          <p:spPr>
            <a:xfrm flipV="1">
              <a:off x="5261400" y="2494440"/>
              <a:ext cx="1080" cy="3466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492" name=""/>
            <p:cNvSpPr/>
            <p:nvPr/>
          </p:nvSpPr>
          <p:spPr>
            <a:xfrm>
              <a:off x="5478120" y="2978640"/>
              <a:ext cx="0" cy="490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16760" y="2395080"/>
              <a:ext cx="88200" cy="10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43600" y="4001400"/>
              <a:ext cx="446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043600" y="4103640"/>
              <a:ext cx="446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266080" y="4103640"/>
              <a:ext cx="0" cy="532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5266080" y="3611160"/>
              <a:ext cx="0" cy="390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474160" y="2967840"/>
              <a:ext cx="742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Times New Roman"/>
                </a:rPr>
                <a:t>np. </a:t>
              </a: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cc0000"/>
                  </a:solidFill>
                  <a:latin typeface="Times New Roman"/>
                </a:rPr>
                <a:t>(5)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683880" y="1825200"/>
              <a:ext cx="595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cc0000"/>
                  </a:solidFill>
                  <a:latin typeface="Times New Roman"/>
                </a:rPr>
                <a:t>v</a:t>
              </a:r>
              <a:r>
                <a:rPr b="1" lang="pl-PL" sz="1400" spc="-1" strike="noStrike" baseline="-25000">
                  <a:solidFill>
                    <a:srgbClr val="cc0000"/>
                  </a:solidFill>
                  <a:latin typeface="Times New Roman"/>
                </a:rPr>
                <a:t>AF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691800" y="2284560"/>
              <a:ext cx="433800" cy="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405160" y="2291400"/>
              <a:ext cx="124560" cy="274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2448360" y="2291400"/>
              <a:ext cx="124560" cy="274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491560" y="2291400"/>
              <a:ext cx="124560" cy="274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25440" y="4341240"/>
              <a:ext cx="595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cc0000"/>
                  </a:solidFill>
                  <a:latin typeface="Times New Roman"/>
                </a:rPr>
                <a:t>v</a:t>
              </a:r>
              <a:r>
                <a:rPr b="1" lang="pl-PL" sz="1400" spc="-1" strike="noStrike" baseline="-25000">
                  <a:solidFill>
                    <a:srgbClr val="cc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E1A1-294C-4917-975D-95C64455A8D1}" type="slidenum">
              <a:t>8</a:t>
            </a:fld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83566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Układ 3-fazowy, 4-przewodowy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36600" y="1370160"/>
            <a:ext cx="8426520" cy="4378320"/>
            <a:chOff x="336600" y="1370160"/>
            <a:chExt cx="8426520" cy="4378320"/>
          </a:xfrm>
        </p:grpSpPr>
        <p:sp>
          <p:nvSpPr>
            <p:cNvPr id="506" name=""/>
            <p:cNvSpPr/>
            <p:nvPr/>
          </p:nvSpPr>
          <p:spPr>
            <a:xfrm>
              <a:off x="4078440" y="3637080"/>
              <a:ext cx="41112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Ca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1735200" y="1760760"/>
              <a:ext cx="538200" cy="179280"/>
              <a:chOff x="1735200" y="1760760"/>
              <a:chExt cx="538200" cy="179280"/>
            </a:xfrm>
          </p:grpSpPr>
          <p:sp>
            <p:nvSpPr>
              <p:cNvPr id="508" name=""/>
              <p:cNvSpPr/>
              <p:nvPr/>
            </p:nvSpPr>
            <p:spPr>
              <a:xfrm>
                <a:off x="1735200" y="1760760"/>
                <a:ext cx="17964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914840" y="1760760"/>
                <a:ext cx="17928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094120" y="1760760"/>
                <a:ext cx="17928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1716120" y="1857600"/>
              <a:ext cx="5763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811160" y="1684440"/>
              <a:ext cx="351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782720" y="1389240"/>
              <a:ext cx="411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Sa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1716120" y="2213280"/>
              <a:ext cx="538200" cy="179280"/>
              <a:chOff x="1716120" y="2213280"/>
              <a:chExt cx="538200" cy="179280"/>
            </a:xfrm>
          </p:grpSpPr>
          <p:sp>
            <p:nvSpPr>
              <p:cNvPr id="515" name=""/>
              <p:cNvSpPr/>
              <p:nvPr/>
            </p:nvSpPr>
            <p:spPr>
              <a:xfrm>
                <a:off x="1716120" y="2213280"/>
                <a:ext cx="17964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895760" y="2213280"/>
                <a:ext cx="17928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075040" y="2213280"/>
                <a:ext cx="17928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518" name=""/>
            <p:cNvSpPr/>
            <p:nvPr/>
          </p:nvSpPr>
          <p:spPr>
            <a:xfrm>
              <a:off x="1697040" y="2310120"/>
              <a:ext cx="576360" cy="10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792440" y="2140200"/>
              <a:ext cx="350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1716120" y="2735280"/>
              <a:ext cx="538200" cy="179640"/>
              <a:chOff x="1716120" y="2735280"/>
              <a:chExt cx="538200" cy="179640"/>
            </a:xfrm>
          </p:grpSpPr>
          <p:sp>
            <p:nvSpPr>
              <p:cNvPr id="521" name=""/>
              <p:cNvSpPr/>
              <p:nvPr/>
            </p:nvSpPr>
            <p:spPr>
              <a:xfrm>
                <a:off x="1716120" y="2735280"/>
                <a:ext cx="179640" cy="179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895760" y="2735280"/>
                <a:ext cx="179280" cy="179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075040" y="2735280"/>
                <a:ext cx="179280" cy="179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1697040" y="2832120"/>
              <a:ext cx="5763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92440" y="2659320"/>
              <a:ext cx="350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92800" y="1370160"/>
              <a:ext cx="411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La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527" name=""/>
            <p:cNvCxnSpPr>
              <a:stCxn id="510" idx="6"/>
              <a:endCxn id="528" idx="2"/>
            </p:cNvCxnSpPr>
            <p:nvPr/>
          </p:nvCxnSpPr>
          <p:spPr>
            <a:xfrm>
              <a:off x="2285640" y="1850760"/>
              <a:ext cx="210564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529" name=""/>
            <p:cNvCxnSpPr>
              <a:stCxn id="517" idx="6"/>
              <a:endCxn id="530" idx="2"/>
            </p:cNvCxnSpPr>
            <p:nvPr/>
          </p:nvCxnSpPr>
          <p:spPr>
            <a:xfrm>
              <a:off x="2266920" y="2303280"/>
              <a:ext cx="212472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531" name=""/>
            <p:cNvCxnSpPr>
              <a:stCxn id="523" idx="6"/>
              <a:endCxn id="532" idx="2"/>
            </p:cNvCxnSpPr>
            <p:nvPr/>
          </p:nvCxnSpPr>
          <p:spPr>
            <a:xfrm>
              <a:off x="2266920" y="2825640"/>
              <a:ext cx="212472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533" name=""/>
            <p:cNvCxnSpPr>
              <a:stCxn id="534" idx="2"/>
              <a:endCxn id="535" idx="2"/>
            </p:cNvCxnSpPr>
            <p:nvPr/>
          </p:nvCxnSpPr>
          <p:spPr>
            <a:xfrm flipH="1" rot="16200000">
              <a:off x="3214440" y="554760"/>
              <a:ext cx="145440" cy="4823640"/>
            </a:xfrm>
            <a:prstGeom prst="bentConnector3">
              <a:avLst>
                <a:gd name="adj1" fmla="val 248138"/>
              </a:avLst>
            </a:prstGeom>
            <a:ln w="25560">
              <a:solidFill>
                <a:srgbClr val="0000ff"/>
              </a:solidFill>
              <a:miter/>
            </a:ln>
          </p:spPr>
        </p:cxnSp>
        <p:grpSp>
          <p:nvGrpSpPr>
            <p:cNvPr id="536" name=""/>
            <p:cNvGrpSpPr/>
            <p:nvPr/>
          </p:nvGrpSpPr>
          <p:grpSpPr>
            <a:xfrm>
              <a:off x="4384800" y="1760760"/>
              <a:ext cx="576000" cy="204840"/>
              <a:chOff x="4384800" y="1760760"/>
              <a:chExt cx="576000" cy="204840"/>
            </a:xfrm>
          </p:grpSpPr>
          <p:grpSp>
            <p:nvGrpSpPr>
              <p:cNvPr id="537" name=""/>
              <p:cNvGrpSpPr/>
              <p:nvPr/>
            </p:nvGrpSpPr>
            <p:grpSpPr>
              <a:xfrm>
                <a:off x="4403520" y="1760760"/>
                <a:ext cx="538200" cy="179640"/>
                <a:chOff x="4403520" y="1760760"/>
                <a:chExt cx="538200" cy="17964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4403520" y="1760760"/>
                  <a:ext cx="17964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4583160" y="176076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762440" y="176076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0" name=""/>
              <p:cNvSpPr/>
              <p:nvPr/>
            </p:nvSpPr>
            <p:spPr>
              <a:xfrm>
                <a:off x="4384800" y="1857600"/>
                <a:ext cx="576000" cy="10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4492800" y="1684440"/>
              <a:ext cx="350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4384800" y="2213280"/>
              <a:ext cx="576000" cy="204120"/>
              <a:chOff x="4384800" y="2213280"/>
              <a:chExt cx="576000" cy="204120"/>
            </a:xfrm>
          </p:grpSpPr>
          <p:grpSp>
            <p:nvGrpSpPr>
              <p:cNvPr id="543" name=""/>
              <p:cNvGrpSpPr/>
              <p:nvPr/>
            </p:nvGrpSpPr>
            <p:grpSpPr>
              <a:xfrm>
                <a:off x="4403520" y="2213280"/>
                <a:ext cx="538200" cy="179280"/>
                <a:chOff x="4403520" y="2213280"/>
                <a:chExt cx="538200" cy="17928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4403520" y="2213280"/>
                  <a:ext cx="179640" cy="179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583160" y="2213280"/>
                  <a:ext cx="179280" cy="179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762440" y="2213280"/>
                  <a:ext cx="179280" cy="179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6" name=""/>
              <p:cNvSpPr/>
              <p:nvPr/>
            </p:nvSpPr>
            <p:spPr>
              <a:xfrm>
                <a:off x="4384800" y="2309760"/>
                <a:ext cx="576000" cy="10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4492800" y="2136960"/>
              <a:ext cx="350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492800" y="1822680"/>
              <a:ext cx="4111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Lb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4384800" y="2735280"/>
              <a:ext cx="576000" cy="204840"/>
              <a:chOff x="4384800" y="2735280"/>
              <a:chExt cx="576000" cy="204840"/>
            </a:xfrm>
          </p:grpSpPr>
          <p:grpSp>
            <p:nvGrpSpPr>
              <p:cNvPr id="550" name=""/>
              <p:cNvGrpSpPr/>
              <p:nvPr/>
            </p:nvGrpSpPr>
            <p:grpSpPr>
              <a:xfrm>
                <a:off x="4403520" y="2735280"/>
                <a:ext cx="538200" cy="179640"/>
                <a:chOff x="4403520" y="2735280"/>
                <a:chExt cx="538200" cy="17964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4403520" y="2735280"/>
                  <a:ext cx="17964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583160" y="273528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762440" y="2735280"/>
                  <a:ext cx="179280" cy="179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3" name=""/>
              <p:cNvSpPr/>
              <p:nvPr/>
            </p:nvSpPr>
            <p:spPr>
              <a:xfrm>
                <a:off x="4384800" y="2832120"/>
                <a:ext cx="576000" cy="10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4492800" y="2659320"/>
              <a:ext cx="350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492800" y="2345040"/>
              <a:ext cx="4111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Lc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59520" y="1584360"/>
              <a:ext cx="1079280" cy="144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Nonl. load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556" name=""/>
            <p:cNvCxnSpPr>
              <a:stCxn id="545" idx="6"/>
              <a:endCxn id="535" idx="1"/>
            </p:cNvCxnSpPr>
            <p:nvPr/>
          </p:nvCxnSpPr>
          <p:spPr>
            <a:xfrm>
              <a:off x="4954320" y="2303640"/>
              <a:ext cx="191160" cy="21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557" name=""/>
            <p:cNvSpPr/>
            <p:nvPr/>
          </p:nvSpPr>
          <p:spPr>
            <a:xfrm>
              <a:off x="4941720" y="1851120"/>
              <a:ext cx="2178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944960" y="2826000"/>
              <a:ext cx="2174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>
              <a:stCxn id="560" idx="4"/>
              <a:endCxn id="561" idx="2"/>
            </p:cNvCxnSpPr>
            <p:nvPr/>
          </p:nvCxnSpPr>
          <p:spPr>
            <a:xfrm flipH="1">
              <a:off x="3956760" y="1884240"/>
              <a:ext cx="2520" cy="17406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562" name=""/>
            <p:cNvCxnSpPr>
              <a:stCxn id="563" idx="4"/>
              <a:endCxn id="564" idx="2"/>
            </p:cNvCxnSpPr>
            <p:nvPr/>
          </p:nvCxnSpPr>
          <p:spPr>
            <a:xfrm>
              <a:off x="3419640" y="2345040"/>
              <a:ext cx="2160" cy="12801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565" name=""/>
            <p:cNvCxnSpPr>
              <a:stCxn id="566" idx="4"/>
              <a:endCxn id="567" idx="2"/>
            </p:cNvCxnSpPr>
            <p:nvPr/>
          </p:nvCxnSpPr>
          <p:spPr>
            <a:xfrm>
              <a:off x="2878200" y="2859120"/>
              <a:ext cx="2160" cy="766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560" name=""/>
            <p:cNvSpPr/>
            <p:nvPr/>
          </p:nvSpPr>
          <p:spPr>
            <a:xfrm>
              <a:off x="3922560" y="1812960"/>
              <a:ext cx="7164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449440" y="3259440"/>
              <a:ext cx="0" cy="2327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449440" y="5570640"/>
              <a:ext cx="6110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8559720" y="4476960"/>
              <a:ext cx="0" cy="1109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8283240" y="4476960"/>
              <a:ext cx="2761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382920" y="2273400"/>
              <a:ext cx="7164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841480" y="2787840"/>
              <a:ext cx="7164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11280" y="3216600"/>
              <a:ext cx="7164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422520" y="4038840"/>
              <a:ext cx="0" cy="465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960720" y="4038840"/>
              <a:ext cx="0" cy="220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119480" y="3652920"/>
              <a:ext cx="0" cy="351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3867120" y="3637080"/>
              <a:ext cx="179280" cy="403200"/>
              <a:chOff x="3867120" y="3637080"/>
              <a:chExt cx="179280" cy="403200"/>
            </a:xfrm>
          </p:grpSpPr>
          <p:sp>
            <p:nvSpPr>
              <p:cNvPr id="561" name=""/>
              <p:cNvSpPr/>
              <p:nvPr/>
            </p:nvSpPr>
            <p:spPr>
              <a:xfrm rot="5400000">
                <a:off x="3889440" y="3614400"/>
                <a:ext cx="13428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5400000">
                <a:off x="3889440" y="3748680"/>
                <a:ext cx="13428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5400000">
                <a:off x="3889440" y="3883320"/>
                <a:ext cx="13428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579" name=""/>
            <p:cNvSpPr/>
            <p:nvPr/>
          </p:nvSpPr>
          <p:spPr>
            <a:xfrm rot="5400000">
              <a:off x="3681360" y="3784680"/>
              <a:ext cx="43200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580" name=""/>
            <p:cNvGrpSpPr/>
            <p:nvPr/>
          </p:nvGrpSpPr>
          <p:grpSpPr>
            <a:xfrm>
              <a:off x="3330720" y="3637080"/>
              <a:ext cx="179280" cy="403200"/>
              <a:chOff x="3330720" y="3637080"/>
              <a:chExt cx="179280" cy="403200"/>
            </a:xfrm>
          </p:grpSpPr>
          <p:sp>
            <p:nvSpPr>
              <p:cNvPr id="564" name=""/>
              <p:cNvSpPr/>
              <p:nvPr/>
            </p:nvSpPr>
            <p:spPr>
              <a:xfrm rot="5400000">
                <a:off x="3353040" y="3614400"/>
                <a:ext cx="13428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5400000">
                <a:off x="3353040" y="3748680"/>
                <a:ext cx="13428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5400000">
                <a:off x="3353040" y="3883320"/>
                <a:ext cx="13428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 rot="5400000">
              <a:off x="3144600" y="3784680"/>
              <a:ext cx="43200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03480" y="3637080"/>
              <a:ext cx="41112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Cc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041640" y="3652920"/>
              <a:ext cx="0" cy="351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83080" y="3652920"/>
              <a:ext cx="0" cy="351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544920" y="3637080"/>
              <a:ext cx="41112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Cb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486400" y="3488040"/>
              <a:ext cx="3276720" cy="2260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57520" y="1841760"/>
              <a:ext cx="411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Sb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51040" y="2364120"/>
              <a:ext cx="4428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Sc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2879640" y="3576600"/>
              <a:ext cx="5545080" cy="1852560"/>
              <a:chOff x="2879640" y="3576600"/>
              <a:chExt cx="5545080" cy="1852560"/>
            </a:xfrm>
          </p:grpSpPr>
          <p:sp>
            <p:nvSpPr>
              <p:cNvPr id="592" name=""/>
              <p:cNvSpPr/>
              <p:nvPr/>
            </p:nvSpPr>
            <p:spPr>
              <a:xfrm flipH="1">
                <a:off x="3951000" y="4259520"/>
                <a:ext cx="20653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3422520" y="4491360"/>
                <a:ext cx="3306960" cy="14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2879640" y="4722840"/>
                <a:ext cx="457056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95" name=""/>
              <p:cNvGrpSpPr/>
              <p:nvPr/>
            </p:nvGrpSpPr>
            <p:grpSpPr>
              <a:xfrm>
                <a:off x="5670720" y="3576600"/>
                <a:ext cx="2754000" cy="1852560"/>
                <a:chOff x="5670720" y="3576600"/>
                <a:chExt cx="2754000" cy="185256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5838840" y="4948560"/>
                  <a:ext cx="0" cy="287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7" name=""/>
                <p:cNvGrpSpPr/>
                <p:nvPr/>
              </p:nvGrpSpPr>
              <p:grpSpPr>
                <a:xfrm>
                  <a:off x="6130800" y="5007240"/>
                  <a:ext cx="176400" cy="169560"/>
                  <a:chOff x="6130800" y="5007240"/>
                  <a:chExt cx="176400" cy="16956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>
                    <a:off x="6130800" y="5022360"/>
                    <a:ext cx="176400" cy="154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6130800" y="5007240"/>
                    <a:ext cx="176400" cy="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0" name=""/>
                <p:cNvSpPr/>
                <p:nvPr/>
              </p:nvSpPr>
              <p:spPr>
                <a:xfrm>
                  <a:off x="6016680" y="5218200"/>
                  <a:ext cx="0" cy="1778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flipV="1">
                  <a:off x="5838840" y="4953240"/>
                  <a:ext cx="187200" cy="1555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851440" y="5092920"/>
                  <a:ext cx="168480" cy="1317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776920" y="4948560"/>
                  <a:ext cx="0" cy="287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670720" y="5092920"/>
                  <a:ext cx="10620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019920" y="4024440"/>
                  <a:ext cx="0" cy="928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6216480" y="4869000"/>
                  <a:ext cx="0" cy="1382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6211800" y="5177160"/>
                  <a:ext cx="0" cy="1378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H="1">
                  <a:off x="6009840" y="488160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H="1">
                  <a:off x="6009840" y="530568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838840" y="3748320"/>
                  <a:ext cx="0" cy="287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1" name=""/>
                <p:cNvGrpSpPr/>
                <p:nvPr/>
              </p:nvGrpSpPr>
              <p:grpSpPr>
                <a:xfrm>
                  <a:off x="6130800" y="3807000"/>
                  <a:ext cx="176400" cy="169560"/>
                  <a:chOff x="6130800" y="3807000"/>
                  <a:chExt cx="176400" cy="16956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>
                    <a:off x="6130800" y="3822120"/>
                    <a:ext cx="176400" cy="154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6130800" y="3807000"/>
                    <a:ext cx="176400" cy="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4" name=""/>
                <p:cNvSpPr/>
                <p:nvPr/>
              </p:nvSpPr>
              <p:spPr>
                <a:xfrm flipV="1">
                  <a:off x="5838840" y="3753000"/>
                  <a:ext cx="187200" cy="1555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5851440" y="3892680"/>
                  <a:ext cx="168480" cy="1317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5776920" y="3748320"/>
                  <a:ext cx="0" cy="287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5670720" y="3892680"/>
                  <a:ext cx="10620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6016680" y="3581640"/>
                  <a:ext cx="0" cy="1778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6216480" y="3668760"/>
                  <a:ext cx="0" cy="1382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211800" y="3976920"/>
                  <a:ext cx="0" cy="1378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H="1">
                  <a:off x="6009840" y="368172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flipH="1">
                  <a:off x="6009840" y="410544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6558120" y="4948560"/>
                  <a:ext cx="0" cy="287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4" name=""/>
                <p:cNvGrpSpPr/>
                <p:nvPr/>
              </p:nvGrpSpPr>
              <p:grpSpPr>
                <a:xfrm>
                  <a:off x="6850080" y="5007240"/>
                  <a:ext cx="176040" cy="169560"/>
                  <a:chOff x="6850080" y="5007240"/>
                  <a:chExt cx="176040" cy="169560"/>
                </a:xfrm>
              </p:grpSpPr>
              <p:sp>
                <p:nvSpPr>
                  <p:cNvPr id="625" name=""/>
                  <p:cNvSpPr/>
                  <p:nvPr/>
                </p:nvSpPr>
                <p:spPr>
                  <a:xfrm>
                    <a:off x="6850080" y="5022360"/>
                    <a:ext cx="176040" cy="154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6850080" y="5007240"/>
                    <a:ext cx="176040" cy="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7" name=""/>
                <p:cNvSpPr/>
                <p:nvPr/>
              </p:nvSpPr>
              <p:spPr>
                <a:xfrm>
                  <a:off x="6735600" y="5218200"/>
                  <a:ext cx="0" cy="1778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flipV="1">
                  <a:off x="6558120" y="4953240"/>
                  <a:ext cx="187200" cy="1555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6570720" y="5092920"/>
                  <a:ext cx="168120" cy="1317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6496200" y="4948560"/>
                  <a:ext cx="0" cy="287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389640" y="5092920"/>
                  <a:ext cx="10656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6738840" y="4024440"/>
                  <a:ext cx="0" cy="928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6935760" y="4869000"/>
                  <a:ext cx="0" cy="1382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931080" y="5177160"/>
                  <a:ext cx="0" cy="1378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H="1">
                  <a:off x="6729120" y="488160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H="1">
                  <a:off x="6729120" y="530568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558120" y="3748320"/>
                  <a:ext cx="0" cy="287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8" name=""/>
                <p:cNvGrpSpPr/>
                <p:nvPr/>
              </p:nvGrpSpPr>
              <p:grpSpPr>
                <a:xfrm>
                  <a:off x="6850080" y="3807000"/>
                  <a:ext cx="176040" cy="169560"/>
                  <a:chOff x="6850080" y="3807000"/>
                  <a:chExt cx="176040" cy="169560"/>
                </a:xfrm>
              </p:grpSpPr>
              <p:sp>
                <p:nvSpPr>
                  <p:cNvPr id="639" name=""/>
                  <p:cNvSpPr/>
                  <p:nvPr/>
                </p:nvSpPr>
                <p:spPr>
                  <a:xfrm>
                    <a:off x="6850080" y="3822120"/>
                    <a:ext cx="176040" cy="154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6850080" y="3807000"/>
                    <a:ext cx="176040" cy="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1" name=""/>
                <p:cNvSpPr/>
                <p:nvPr/>
              </p:nvSpPr>
              <p:spPr>
                <a:xfrm flipV="1">
                  <a:off x="6558120" y="3753000"/>
                  <a:ext cx="187200" cy="1555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570720" y="3892680"/>
                  <a:ext cx="168120" cy="1317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496200" y="3748320"/>
                  <a:ext cx="0" cy="287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389640" y="3892680"/>
                  <a:ext cx="10656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735600" y="3581640"/>
                  <a:ext cx="0" cy="1778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6935760" y="3668760"/>
                  <a:ext cx="0" cy="1382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6931080" y="3976920"/>
                  <a:ext cx="0" cy="1378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flipH="1">
                  <a:off x="6729120" y="368172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H="1">
                  <a:off x="6729120" y="410544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7278840" y="4946760"/>
                  <a:ext cx="0" cy="287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1" name=""/>
                <p:cNvGrpSpPr/>
                <p:nvPr/>
              </p:nvGrpSpPr>
              <p:grpSpPr>
                <a:xfrm>
                  <a:off x="7570800" y="5005440"/>
                  <a:ext cx="176040" cy="169560"/>
                  <a:chOff x="7570800" y="5005440"/>
                  <a:chExt cx="176040" cy="169560"/>
                </a:xfrm>
              </p:grpSpPr>
              <p:sp>
                <p:nvSpPr>
                  <p:cNvPr id="652" name=""/>
                  <p:cNvSpPr/>
                  <p:nvPr/>
                </p:nvSpPr>
                <p:spPr>
                  <a:xfrm>
                    <a:off x="7570800" y="5020560"/>
                    <a:ext cx="176040" cy="154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7570800" y="5005440"/>
                    <a:ext cx="176040" cy="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4" name=""/>
                <p:cNvSpPr/>
                <p:nvPr/>
              </p:nvSpPr>
              <p:spPr>
                <a:xfrm>
                  <a:off x="7456320" y="5216760"/>
                  <a:ext cx="0" cy="1778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V="1">
                  <a:off x="7278840" y="4951080"/>
                  <a:ext cx="187200" cy="1558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7291440" y="5091120"/>
                  <a:ext cx="168120" cy="1317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7216920" y="4946760"/>
                  <a:ext cx="0" cy="287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7110360" y="5091120"/>
                  <a:ext cx="10656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7459560" y="4023000"/>
                  <a:ext cx="0" cy="9284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7656480" y="4867560"/>
                  <a:ext cx="0" cy="1378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7651800" y="5175360"/>
                  <a:ext cx="0" cy="1382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H="1">
                  <a:off x="7449840" y="488016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H="1">
                  <a:off x="7449840" y="530388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7278840" y="3746520"/>
                  <a:ext cx="0" cy="2876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5" name=""/>
                <p:cNvGrpSpPr/>
                <p:nvPr/>
              </p:nvGrpSpPr>
              <p:grpSpPr>
                <a:xfrm>
                  <a:off x="7570800" y="3805560"/>
                  <a:ext cx="176040" cy="169200"/>
                  <a:chOff x="7570800" y="3805560"/>
                  <a:chExt cx="176040" cy="169200"/>
                </a:xfrm>
              </p:grpSpPr>
              <p:sp>
                <p:nvSpPr>
                  <p:cNvPr id="666" name=""/>
                  <p:cNvSpPr/>
                  <p:nvPr/>
                </p:nvSpPr>
                <p:spPr>
                  <a:xfrm>
                    <a:off x="7570800" y="3820680"/>
                    <a:ext cx="176040" cy="154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7570800" y="3805560"/>
                    <a:ext cx="176040" cy="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8" name=""/>
                <p:cNvSpPr/>
                <p:nvPr/>
              </p:nvSpPr>
              <p:spPr>
                <a:xfrm flipV="1">
                  <a:off x="7278840" y="3751560"/>
                  <a:ext cx="187200" cy="1555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291440" y="3891240"/>
                  <a:ext cx="168120" cy="1317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7216920" y="3746520"/>
                  <a:ext cx="0" cy="2876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7110360" y="3891240"/>
                  <a:ext cx="10656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7456320" y="3579840"/>
                  <a:ext cx="0" cy="1778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7656480" y="3667320"/>
                  <a:ext cx="0" cy="1382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7651800" y="3975120"/>
                  <a:ext cx="0" cy="1382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H="1">
                  <a:off x="7449840" y="367992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H="1">
                  <a:off x="7449840" y="410400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flipV="1">
                  <a:off x="6006960" y="3582720"/>
                  <a:ext cx="2249640" cy="1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flipV="1">
                  <a:off x="6010200" y="5389200"/>
                  <a:ext cx="2249640" cy="1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8064360" y="392616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8064360" y="399924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V="1">
                  <a:off x="8244000" y="3576600"/>
                  <a:ext cx="0" cy="3603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8064360" y="495324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8064360" y="50263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8244000" y="5032440"/>
                  <a:ext cx="0" cy="3603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8248680" y="3999240"/>
                  <a:ext cx="0" cy="9540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8215200" y="4443480"/>
                  <a:ext cx="71640" cy="71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983200" y="4221360"/>
                  <a:ext cx="71640" cy="71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6711840" y="4453200"/>
                  <a:ext cx="71640" cy="71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7423200" y="4689720"/>
                  <a:ext cx="71280" cy="71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858080" y="3605400"/>
                  <a:ext cx="47628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cc0000"/>
                      </a:solidFill>
                      <a:latin typeface="Arial"/>
                    </a:rPr>
                    <a:t>C</a:t>
                  </a:r>
                  <a:r>
                    <a:rPr b="1" lang="pl-PL" sz="2000" spc="-1" strike="noStrike" baseline="-25000">
                      <a:solidFill>
                        <a:srgbClr val="cc0000"/>
                      </a:solidFill>
                      <a:latin typeface="Arial"/>
                    </a:rPr>
                    <a:t>dc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7858080" y="4641840"/>
                  <a:ext cx="47952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cc0000"/>
                      </a:solidFill>
                      <a:latin typeface="Arial"/>
                    </a:rPr>
                    <a:t>C</a:t>
                  </a:r>
                  <a:r>
                    <a:rPr b="1" lang="pl-PL" sz="2000" spc="-1" strike="noStrike" baseline="-25000">
                      <a:solidFill>
                        <a:srgbClr val="cc0000"/>
                      </a:solidFill>
                      <a:latin typeface="Arial"/>
                    </a:rPr>
                    <a:t>dc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994360" y="4167360"/>
                  <a:ext cx="258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c0000"/>
                      </a:solidFill>
                      <a:latin typeface="Arial"/>
                    </a:rPr>
                    <a:t>a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6711840" y="4388040"/>
                  <a:ext cx="258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c0000"/>
                      </a:solidFill>
                      <a:latin typeface="Arial"/>
                    </a:rPr>
                    <a:t>b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7429680" y="4621320"/>
                  <a:ext cx="258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c0000"/>
                      </a:solidFill>
                      <a:latin typeface="Arial"/>
                    </a:rPr>
                    <a:t>c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5" name=""/>
            <p:cNvSpPr/>
            <p:nvPr/>
          </p:nvSpPr>
          <p:spPr>
            <a:xfrm>
              <a:off x="4492800" y="3175200"/>
              <a:ext cx="350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527720" y="2876760"/>
              <a:ext cx="4428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Ln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776240" y="3176640"/>
              <a:ext cx="351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811160" y="2878200"/>
              <a:ext cx="44316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Sn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530440" y="3652920"/>
              <a:ext cx="0" cy="351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486160" y="3622680"/>
              <a:ext cx="4809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Arial"/>
                </a:rPr>
                <a:t>Cn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2789280" y="3637080"/>
              <a:ext cx="179280" cy="403200"/>
              <a:chOff x="2789280" y="3637080"/>
              <a:chExt cx="179280" cy="403200"/>
            </a:xfrm>
          </p:grpSpPr>
          <p:sp>
            <p:nvSpPr>
              <p:cNvPr id="567" name=""/>
              <p:cNvSpPr/>
              <p:nvPr/>
            </p:nvSpPr>
            <p:spPr>
              <a:xfrm rot="5400000">
                <a:off x="2811600" y="3614400"/>
                <a:ext cx="13428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5400000">
                <a:off x="2811600" y="3748680"/>
                <a:ext cx="13428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5400000">
                <a:off x="2811600" y="3883320"/>
                <a:ext cx="134280" cy="17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704" name=""/>
            <p:cNvSpPr/>
            <p:nvPr/>
          </p:nvSpPr>
          <p:spPr>
            <a:xfrm rot="5400000">
              <a:off x="2603520" y="3784680"/>
              <a:ext cx="43200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882880" y="4035600"/>
              <a:ext cx="0" cy="693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36600" y="1730520"/>
              <a:ext cx="1079280" cy="1149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Sourc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706" name=""/>
            <p:cNvCxnSpPr>
              <a:stCxn id="534" idx="3"/>
              <a:endCxn id="515" idx="2"/>
            </p:cNvCxnSpPr>
            <p:nvPr/>
          </p:nvCxnSpPr>
          <p:spPr>
            <a:xfrm flipV="1">
              <a:off x="1429920" y="2303280"/>
              <a:ext cx="273960" cy="21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707" name=""/>
            <p:cNvSpPr/>
            <p:nvPr/>
          </p:nvSpPr>
          <p:spPr>
            <a:xfrm>
              <a:off x="1415880" y="1851120"/>
              <a:ext cx="3193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415880" y="2826000"/>
              <a:ext cx="300240" cy="6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0BA3-175B-49C7-BDE5-B7A74ED2B5FC}" type="slidenum">
              <a:t>9</a:t>
            </a:fld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2T15:50:00Z</dcterms:created>
  <dc:creator>KANiUP</dc:creator>
  <dc:description/>
  <dc:language>en-US</dc:language>
  <cp:lastModifiedBy>Maciej Pawełek</cp:lastModifiedBy>
  <cp:lastPrinted>2001-01-17T10:51:36Z</cp:lastPrinted>
  <dcterms:modified xsi:type="dcterms:W3CDTF">2007-01-10T21:52:15Z</dcterms:modified>
  <cp:revision>1480</cp:revision>
  <dc:subject/>
  <dc:title>Energetyczny Filtr Aktywny</dc:title>
</cp:coreProperties>
</file>