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161B-2117-4828-AAF3-A333CB60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9DE-412E-478B-BFB7-372FAAE6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B0F-39B2-4850-9470-6FD2D3A9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D89-AA76-4C50-B8A9-5445C2C4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A769-12D5-469C-8DE8-E9877997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4289-BCE0-4493-B99B-3F747EB5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2C26-0987-4A3D-AB9C-01537060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F887-0859-400E-88F4-9797008C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4DE4-0B7A-4378-9E18-BF54D481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599A-94E4-4926-8CC2-DBA37F5A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119B-252A-40F5-8277-8CFACE3E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8B9-F904-4CC8-82F2-255321D0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9147-AF49-436C-9912-C7104101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6329-128B-4FBB-9191-972A61EE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91CB-E133-431E-8B2F-76DD3281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283D-8FE4-4F17-801E-65175C44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FB4A-0D58-4576-8088-303C717A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440-62FF-4FB4-A1DF-5A5DA743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FCA-0310-462E-AD4B-A15AF181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07D-B177-4060-A4DD-E1886E80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EA4-821C-41DA-92C2-D6F7BFC1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C0F-1454-44B6-AAF5-4A73C411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A6A-2CDC-4FC3-97D6-E1B3FAA5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34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242-F5D0-4B1D-B5AA-D10EC981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1" marL="343080" indent="-343080">
              <a:spcBef>
                <a:spcPts val="799"/>
              </a:spcBef>
              <a:buClr>
                <a:srgbClr val="524c4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2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3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4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5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lvl="6" marL="343080" indent="-343080">
              <a:spcBef>
                <a:spcPts val="799"/>
              </a:spcBef>
              <a:buClr>
                <a:srgbClr val="2037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374e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66680"/>
            <a:ext cx="8458200" cy="87480"/>
          </a:xfrm>
          <a:prstGeom prst="rect">
            <a:avLst/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52280"/>
            <a:ext cx="533520" cy="121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610480" y="6172200"/>
            <a:ext cx="292320" cy="5335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e4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9D05-FFB2-4CB6-B219-D282026FB8A3}" type="slidenum">
              <a:rPr b="0" lang="en-US" sz="1400" spc="-1" strike="noStrike">
                <a:solidFill>
                  <a:srgbClr val="dce4d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524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2971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4d2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dce4d2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374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3AAE-4839-49E8-959D-69F1876DFC49}" type="slidenum">
              <a:rPr b="0" lang="en-US" sz="1400" spc="-1" strike="noStrike">
                <a:solidFill>
                  <a:srgbClr val="203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7.wmf"/><Relationship Id="rId5" Type="http://schemas.openxmlformats.org/officeDocument/2006/relationships/image" Target="../media/image18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75248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JAKOŚĆ ENERGII ELEKTRYCZNEJ</a:t>
            </a:r>
            <a:endParaRPr b="0" lang="en-US" sz="3600" spc="-1" strike="noStrike">
              <a:solidFill>
                <a:srgbClr val="20374e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4497480"/>
            <a:ext cx="36576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0374e"/>
                </a:solidFill>
                <a:latin typeface="Times New Roman"/>
                <a:ea typeface="Times New Roman"/>
              </a:rPr>
              <a:t>Ryszard Pawełek</a:t>
            </a:r>
            <a:endParaRPr b="0" lang="en-US" sz="32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2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5757840" cy="3381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411280" y="5300640"/>
            <a:ext cx="41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Schemat a</a:t>
            </a:r>
            <a:r>
              <a:rPr b="1" lang="pl-PL" sz="2400" spc="-1" strike="noStrike">
                <a:solidFill>
                  <a:srgbClr val="336699"/>
                </a:solidFill>
                <a:latin typeface="Times New Roman"/>
              </a:rPr>
              <a:t>nalizowanej sieci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2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8000" y="4255920"/>
            <a:ext cx="43434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Times New Roman"/>
              </a:rPr>
              <a:t>Wektory</a:t>
            </a:r>
            <a:r>
              <a:rPr b="1" lang="pl-PL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napięć dla transformatora Dy</a:t>
            </a:r>
            <a:r>
              <a:rPr b="1" lang="pl-PL" sz="2000" spc="-1" strike="noStrike" baseline="-30000">
                <a:solidFill>
                  <a:srgbClr val="336699"/>
                </a:solidFill>
                <a:latin typeface="Times New Roman"/>
                <a:ea typeface="Times New Roman"/>
              </a:rPr>
              <a:t>0</a:t>
            </a:r>
            <a:r>
              <a:rPr b="1" lang="pl-PL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5 w normalnych warunkach pracy</a:t>
            </a:r>
            <a:r>
              <a:rPr b="1" lang="pl-PL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8000" y="1916280"/>
            <a:ext cx="4317840" cy="2135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05480" y="1916280"/>
            <a:ext cx="4317840" cy="21333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605480" y="4255920"/>
            <a:ext cx="43434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Wektory napięć dla transformatora Dy</a:t>
            </a:r>
            <a:r>
              <a:rPr b="1" lang="pl-PL" sz="2000" spc="-1" strike="noStrike" baseline="-30000">
                <a:solidFill>
                  <a:srgbClr val="336699"/>
                </a:solidFill>
                <a:latin typeface="Times New Roman"/>
                <a:ea typeface="Times New Roman"/>
              </a:rPr>
              <a:t>0</a:t>
            </a:r>
            <a:r>
              <a:rPr b="1" lang="pl-PL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5 w warunkach awarii 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3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22880" y="451656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Schemat zasilania badanego obiektu</a:t>
            </a:r>
            <a:r>
              <a:rPr b="1" lang="pl-PL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24559" b="0"/>
          <a:stretch/>
        </p:blipFill>
        <p:spPr>
          <a:xfrm>
            <a:off x="179280" y="1773360"/>
            <a:ext cx="565812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3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30920" y="2243160"/>
            <a:ext cx="3276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Współczynnik odkształcenia napięcia THD w trzech fazach</a:t>
            </a:r>
            <a:r>
              <a:rPr b="1" lang="pl-PL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160" y="1557360"/>
            <a:ext cx="5757840" cy="2306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8160" y="3919680"/>
            <a:ext cx="5757840" cy="2306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830920" y="452916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Widmo </a:t>
            </a:r>
            <a:r>
              <a:rPr b="1" lang="pl-PL" sz="2000" spc="-1" strike="noStrike">
                <a:solidFill>
                  <a:srgbClr val="336699"/>
                </a:solidFill>
                <a:latin typeface="Times New Roman"/>
              </a:rPr>
              <a:t>częstotliwościowe </a:t>
            </a:r>
            <a:r>
              <a:rPr b="1" lang="pl-PL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harmonicznych w napięciu fazy L1 </a:t>
            </a:r>
            <a:endParaRPr b="0" lang="en-US" sz="2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3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22880" y="451656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Schemat zasilania badanego obiektu</a:t>
            </a:r>
            <a:r>
              <a:rPr b="1" lang="pl-PL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0" r="24559" b="0"/>
          <a:stretch/>
        </p:blipFill>
        <p:spPr>
          <a:xfrm>
            <a:off x="179280" y="1773360"/>
            <a:ext cx="565812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3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524664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Wartości wybranych  wyższych harmonicznych  w warunkach rezonansowych 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3880" y="1557360"/>
            <a:ext cx="57578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4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79280" y="1798560"/>
            <a:ext cx="4160880" cy="36021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857840" y="1798560"/>
            <a:ext cx="3340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4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900000" y="3933720"/>
                <a:ext cx="2559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836640" y="342792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  <a:ea typeface="Times New Roman"/>
              </a:rPr>
              <a:t>Napięcia w układzi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900000" y="4581360"/>
                <a:ext cx="3900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5151600" y="357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Prądy w układzi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219640" y="4005360"/>
                <a:ext cx="8715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19640" y="4437000"/>
                <a:ext cx="2428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830160" y="5156640"/>
            <a:ext cx="39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Odbiornik pobiera moc czynną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971640" y="5661000"/>
                <a:ext cx="31384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20704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073760" cy="35276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4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635200" y="2247840"/>
            <a:ext cx="1360440" cy="20448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1260360" y="2276640"/>
            <a:ext cx="1371600" cy="2017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4857840" y="1798560"/>
            <a:ext cx="32176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073760" cy="3527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4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635200" y="2247840"/>
            <a:ext cx="1360440" cy="20448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1260360" y="2276640"/>
            <a:ext cx="1371600" cy="2017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4857840" y="1798560"/>
            <a:ext cx="3340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987640" y="1557360"/>
                <a:ext cx="21240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4308480" cy="253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56240" y="3357720"/>
            <a:ext cx="4308480" cy="2539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ENERGIA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073760" cy="35276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4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627280" y="2276640"/>
            <a:ext cx="1360440" cy="20444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1260360" y="2276640"/>
            <a:ext cx="1371600" cy="20174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4857840" y="1798560"/>
            <a:ext cx="33289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073760" cy="3527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4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2635200" y="2247840"/>
            <a:ext cx="1360440" cy="20448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1260360" y="2276640"/>
            <a:ext cx="1371600" cy="20174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4857840" y="1798560"/>
            <a:ext cx="3340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4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877080" y="1197000"/>
            <a:ext cx="2076480" cy="1797120"/>
            <a:chOff x="6877080" y="1197000"/>
            <a:chExt cx="2076480" cy="179712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6877080" y="1197000"/>
              <a:ext cx="20764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8128800" y="1402200"/>
              <a:ext cx="69336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7427880" y="1416960"/>
              <a:ext cx="699120" cy="102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4857840" y="1798560"/>
            <a:ext cx="3213000" cy="35974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2484360" y="1268280"/>
            <a:ext cx="2076480" cy="17971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6"/>
          <a:stretch/>
        </p:blipFill>
        <p:spPr>
          <a:xfrm>
            <a:off x="539640" y="1798560"/>
            <a:ext cx="3340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4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900000" y="3933720"/>
                <a:ext cx="2559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836640" y="342792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  <a:ea typeface="Times New Roman"/>
              </a:rPr>
              <a:t>Napięcia w układzi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900000" y="4581360"/>
                <a:ext cx="3900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5151600" y="357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Prądy w układzie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5346720" y="4437000"/>
                <a:ext cx="21733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830160" y="5156640"/>
            <a:ext cx="39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Odbiornik pobiera moc czynną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058760" y="5638680"/>
                <a:ext cx="29656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0371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79640" y="1798560"/>
            <a:ext cx="6837120" cy="3478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1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1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79640" y="1798560"/>
            <a:ext cx="6837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1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4149720" cy="5037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598920" cy="1922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1568520" cy="71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411280" y="3645000"/>
            <a:ext cx="1451160" cy="720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rcRect l="0" t="0" r="27382" b="0"/>
          <a:stretch/>
        </p:blipFill>
        <p:spPr>
          <a:xfrm>
            <a:off x="684360" y="4508640"/>
            <a:ext cx="3130560" cy="792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84360" y="5697360"/>
                <a:ext cx="8204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979640" y="5589720"/>
                <a:ext cx="1641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1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4149720" cy="503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598920" cy="1922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84360" y="4221000"/>
                <a:ext cx="6728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84360" y="5516640"/>
                <a:ext cx="1255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84360" y="4724280"/>
                <a:ext cx="9144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843280" y="479736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71600" y="35722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Napięcia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73080" y="35722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Prąd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1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4149720" cy="5037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598920" cy="1922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440" y="357228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Moce źródła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1280" y="4149720"/>
                <a:ext cx="825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τ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1280" y="4941720"/>
                <a:ext cx="1727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11280" y="5734080"/>
                <a:ext cx="1092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1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4149720" cy="503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598920" cy="1922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3600" y="3461040"/>
            <a:ext cx="22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3036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Moce odbiornika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3036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rezystancyjnego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11280" y="4365720"/>
                <a:ext cx="838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τ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5157720"/>
                <a:ext cx="6476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11280" y="5661000"/>
                <a:ext cx="850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τ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  <a:p>
            <a:pPr marL="669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374e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RZYKŁAD 1</a:t>
            </a:r>
            <a:endParaRPr b="0" lang="en-US" sz="4000" spc="-1" strike="noStrike">
              <a:solidFill>
                <a:srgbClr val="20374e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4149720" cy="5037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598920" cy="1922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5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11280" y="5013360"/>
                <a:ext cx="1727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542160" y="3461040"/>
            <a:ext cx="216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3036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Moce odbiornika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3036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74e"/>
                </a:solidFill>
                <a:latin typeface="Arial Narrow"/>
              </a:rPr>
              <a:t>nieliniowego:</a:t>
            </a:r>
            <a:endParaRPr b="0" lang="en-US" sz="2400" spc="-1" strike="noStrike">
              <a:solidFill>
                <a:srgbClr val="20374e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4508640"/>
                <a:ext cx="6094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1280" y="5805360"/>
                <a:ext cx="1701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5T08:12:44Z</dcterms:created>
  <dc:creator>Irena Wasiak</dc:creator>
  <dc:description/>
  <dc:language>en-US</dc:language>
  <cp:lastModifiedBy>Maciej Pawełek</cp:lastModifiedBy>
  <cp:lastPrinted>2001-09-17T17:58:04Z</cp:lastPrinted>
  <dcterms:modified xsi:type="dcterms:W3CDTF">2005-09-28T16:06:59Z</dcterms:modified>
  <cp:revision>149</cp:revision>
  <dc:subject/>
  <dc:title>Asymetria Napięcia</dc:title>
</cp:coreProperties>
</file>