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5.wmf" ContentType="image/x-wmf"/>
  <Override PartName="/ppt/media/image62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1.png" ContentType="image/png"/>
  <Override PartName="/ppt/media/image29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F85-AF7B-4A18-B7C5-5F317047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B226-8A75-4779-9162-21149413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2A7-B929-42CF-B0AF-E13EEDFA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92D-E94A-47AE-B650-CBDF0771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4A58-A06C-4032-B647-F26D6291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1B72-8B4F-4ADA-BEF5-447DC0C2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63FC-006B-4634-8F04-3ED78B6A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3634-58EA-40AA-8062-3732AAB3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AC18-0EA6-416E-B8A9-B30CEF50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04DE-381F-4C92-AA85-AA31B52A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331F-F3C5-42F5-B616-D27D664C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D5E-8A17-4567-A85E-CF09BBB0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BD7C-81C2-41E6-871B-03DFCEC6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06F1-D6D5-49EE-93FB-6D458AEC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9512-AFC5-4007-999D-108521BA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4A39-2872-41F0-A78A-1BF19D1B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4B04-5758-47E1-A535-2BAA3FEC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00E-C466-471D-BDB3-FEC132D7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12E-B860-4997-9950-64B7D90E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A0A-930C-4181-9D56-59527E9F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4BE-DA0D-4A9B-954A-CC8A0C81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F05-98A4-4193-A6CD-0EA7F9DD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1E7-C635-4950-ABB5-C99E85AD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B5F-2F97-46A0-A69F-C978A941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1" marL="343080" indent="-343080">
              <a:spcBef>
                <a:spcPts val="799"/>
              </a:spcBef>
              <a:buClr>
                <a:srgbClr val="524c4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2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3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4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5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6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8458200" cy="87480"/>
          </a:xfrm>
          <a:prstGeom prst="rect">
            <a:avLst/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52280"/>
            <a:ext cx="533520" cy="121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10480" y="6172200"/>
            <a:ext cx="292320" cy="5335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e4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D7B6-FD18-45E0-9532-413959D15233}" type="slidenum">
              <a:rPr b="0" lang="en-US" sz="1400" spc="-1" strike="noStrike">
                <a:solidFill>
                  <a:srgbClr val="dce4d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2971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4d2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dce4d2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CE45-C01B-45CF-9A46-86ED173852F1}" type="slidenum"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752480"/>
            <a:ext cx="746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OCE ELEKTRYCZNE</a:t>
            </a: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 WARUNKACH</a:t>
            </a: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ZŁEJ JAKOŚCI ENERGII ELEKTRYCZNEJ</a:t>
            </a: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365400" indent="-3654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Moc pozorna spełniająca warunek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jest definiowana jako iloczyn formalny wartości skutecznych napięcia i prądu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1" marL="434160" indent="-320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lvl="1" marL="434160" indent="-320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gdzie:          k = 1 - dla obwodów jednofazowych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     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k = 3 - dla obwodów trójfazowych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           </a:t>
            </a: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(U, I - wielkości fazowe),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     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k =    - dla obwodów trójfazowych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           </a:t>
            </a:r>
            <a:r>
              <a:rPr b="1" lang="en-US" sz="2000" spc="-1" strike="noStrike">
                <a:solidFill>
                  <a:srgbClr val="20374e"/>
                </a:solidFill>
                <a:latin typeface="Arial Unicode MS"/>
              </a:rPr>
              <a:t>(U, I - wielkości przewodowe),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lvl="1" marL="434160" indent="-320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lvl="1" marL="434160" indent="-320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marL="365400" indent="-365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2363760" cy="720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59280" y="3429000"/>
            <a:ext cx="1573200" cy="46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368440" y="5373720"/>
            <a:ext cx="4032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1219320"/>
            <a:ext cx="84358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Interpretację geometryczną mocy  czynnej P,  biernej Q i pozornej S stanowi trójkąt mocy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2" marL="335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8360" y="2708280"/>
            <a:ext cx="43182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75248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OCE ELEKTRYCZNE</a:t>
            </a: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 OBWODACH JEDNOFAZOWYCH Z ODKSZTAŁCONYMI PRZEBIEGAMI NAPIĘCIA I PRĄDU</a:t>
            </a: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81320" indent="-481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W pracach naukowych dotyczących analizy zjawisk w obwodach elektrycznych z przebiegami odkształconymi można wyróżnić dwie tendencj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3" marL="752400" indent="-3006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badania w dziedzinie częstotliwości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3" marL="752400" indent="-3006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badania zjawisk w dziedzinie czasu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81320" indent="-481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Oba nurty wyłoniły na przestrzeni lat wiele teorii mocy, dotyczących zwłaszcza definicji mocy biernej. Omówione zostaną dwie najbardziej klasyczne teorie mocy dla obwodów z przebiegami odkształconymi, które przez szereg lat były inspiracją dla wielu naukowców oraz najbardziej współczesną teorię mocy łączącą zalety obu kierunków badań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Analiza zjawisk w dziedzinie częstotliwości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2" marL="300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Dla przebiegów okresowych napięć i prądów danych w postaci szeregów Fouriera: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00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00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00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moc czynną można wyrazić za pomocą wzoru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00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00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00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00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przy czym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Budeanu (1927)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0320" y="3070080"/>
            <a:ext cx="3235320" cy="719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38600" y="3068640"/>
            <a:ext cx="3173400" cy="719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4689360"/>
            <a:ext cx="3570120" cy="755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556000" y="5805360"/>
            <a:ext cx="15253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380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Budeanu zaproponował, żeby moc bierną w układach z przebiegami odkształconymi, określić przez analogię do mocy czynnej, jako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80880" algn="just">
              <a:lnSpc>
                <a:spcPct val="75000"/>
              </a:lnSpc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Tak zdefiniowane moce czynna P i bierna Q</a:t>
            </a:r>
            <a:r>
              <a:rPr b="1" lang="pl-PL" sz="2400" spc="-1" strike="noStrike" baseline="-25000">
                <a:solidFill>
                  <a:srgbClr val="20374e"/>
                </a:solidFill>
                <a:latin typeface="Arial Unicode MS"/>
              </a:rPr>
              <a:t>B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 nie określają mocy pozornej, ponieważ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Budeanu (1927)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19640" y="2779560"/>
            <a:ext cx="1968480" cy="72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059280" y="4834080"/>
            <a:ext cx="27860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lvl="2" marL="2545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2545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Dlatego też Budeanu wprowadził dodatkową wielkość, którą nazwał mocą deformacji D</a:t>
            </a:r>
            <a:r>
              <a:rPr b="1" lang="pl-PL" sz="2400" spc="-1" strike="noStrike" baseline="-25000">
                <a:solidFill>
                  <a:srgbClr val="20374e"/>
                </a:solidFill>
                <a:latin typeface="Arial Unicode MS"/>
              </a:rPr>
              <a:t>B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. Moc ta stanowi uzupełnienie równania mocy do postaci:</a:t>
            </a: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254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254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254520" algn="just">
              <a:lnSpc>
                <a:spcPct val="75000"/>
              </a:lnSpc>
              <a:tabLst>
                <a:tab algn="l" pos="0"/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254520" algn="just">
              <a:lnSpc>
                <a:spcPct val="100000"/>
              </a:lnSpc>
              <a:tabLst>
                <a:tab algn="l" pos="0"/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Z powyższych zależności wynikają następujące określenia mocy czynnej i biernej w obwodach elektrycznych z okresowymi przebiegami odkształconymi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3" marL="574560" indent="-19260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 Unicode MS"/>
              </a:rPr>
              <a:t>moc bierna Q</a:t>
            </a:r>
            <a:r>
              <a:rPr b="1" lang="pl-PL" sz="2000" spc="-1" strike="noStrike" baseline="-25000">
                <a:solidFill>
                  <a:srgbClr val="ff0000"/>
                </a:solidFill>
                <a:latin typeface="Arial Unicode MS"/>
              </a:rPr>
              <a:t>B</a:t>
            </a:r>
            <a:r>
              <a:rPr b="1" lang="pl-PL" sz="2000" spc="-1" strike="noStrike">
                <a:solidFill>
                  <a:srgbClr val="ff0000"/>
                </a:solidFill>
                <a:latin typeface="Arial Unicode MS"/>
              </a:rPr>
              <a:t> jest równa sumie amplitud składowej  przemiennych mocy chwilowych poszczególnych harmonicznych,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lvl="3" marL="574560" indent="-19260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 Unicode MS"/>
              </a:rPr>
              <a:t>moc czynna P jest równa sumie mocy czynnych   (składowych stałych) poszczególnych harmonicznych.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Budeanu (1927)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87640" y="2817720"/>
            <a:ext cx="257976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7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Interpretacja geometryczna składowych mocy w teorii Budeanu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71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Budeanu (1927)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71640" y="2276640"/>
            <a:ext cx="431820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81320" indent="-4813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Arial Unicode MS"/>
              </a:rPr>
              <a:t>Analiza zjawisk w dziedzinie czasu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481320" indent="-481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Teoria ta opisuje zjawiska energetyczne w obwodach odkształconych w dziedzinie czasu, bez korzystania z rozkładu przebiegów odkształconych na szereg Fouriera. Fryze zaproponował rozkład przebiegu czasowego prądu (bądź napięcia) na dwie składow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62040" indent="-361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 Narrow"/>
              </a:rPr>
              <a:t>prąd czynny o kształcie napięcia, określony równaniem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62040" indent="-361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62040" indent="-361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62040" indent="-36108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 Narrow"/>
              </a:rPr>
              <a:t>oraz prąd bierny: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Fryzego (1931)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76720" y="4365720"/>
            <a:ext cx="1760400" cy="718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276720" y="5516640"/>
            <a:ext cx="25225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505800" indent="-5058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505800" indent="-5058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Z definicji mocy czynnej wynika, że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505800" indent="-5058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2" marL="695520" indent="-379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95520" indent="-379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95520" indent="-379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ponieważ: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95520" indent="-379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95520" indent="-379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695520" indent="-379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więc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Fryzego (1931)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8057880" cy="720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427640" y="3645000"/>
            <a:ext cx="3044880" cy="720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27640" y="4941720"/>
            <a:ext cx="15620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Pewne wielkości elektryczne, jak np. pojęcie wartości skutecznej, moc chwilowa, czy moc czynna mają ściśle określony sens i interpretację fizyczną. Niektóre inne wielkości (moc bierna, moc pozorna w układach wielofazowych) do dzisiaj wywołują dyskusje i polemiki wśród specjalistów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Wartość skuteczna okresowych przebiegów napięcia lub prądu jest zdefiniowana wzorami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289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289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gdzie u(t), i(t) są wartościami chwilowymi napięcia i prądu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4581360"/>
            <a:ext cx="2354400" cy="1079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4581360"/>
            <a:ext cx="21733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511920" indent="-511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Z zależności powyższych wynika, że składowa bierna prądu chwilowego nie przenosi mocy czynnej oraz, że składowe czynna i bierna prądu chwilowego są wzajemnie ortogonalne. Zatem: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1920" indent="-511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1920" indent="-5119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1" marL="608040" indent="-447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Zaś, po pomnożeniu obu stron równania przez kwadrat napięcia</a:t>
            </a:r>
            <a:r>
              <a:rPr b="1" lang="en-US" sz="2800" spc="-1" strike="noStrike">
                <a:solidFill>
                  <a:srgbClr val="20374e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lvl="2" marL="703800" indent="-383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703800" indent="-383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gdzi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703800" indent="-383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703800" indent="-3837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Fryzego (1931)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80000" y="2852640"/>
            <a:ext cx="1701720" cy="54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780000" y="4292640"/>
            <a:ext cx="1942920" cy="539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780000" y="5157720"/>
            <a:ext cx="14205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Teoria oparta jest o rozkład prądu na składowe w dziedzinie czasu, jednak do opisu poszczególnych składowych wykorzystuje aparat matematyczny z dziedziny częstotliwości. Zgodnie z tą teorią prąd można rozłożyć na trzy wzajemnie ortogonalne składowe spełniające równani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83808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Czarneckiego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195640" y="4797360"/>
            <a:ext cx="37288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Prąd czynny i</a:t>
            </a:r>
            <a:r>
              <a:rPr b="1" lang="pl-PL" sz="2400" spc="-1" strike="noStrike" baseline="-25000">
                <a:solidFill>
                  <a:srgbClr val="20374e"/>
                </a:solidFill>
                <a:latin typeface="Arial Unicode MS"/>
              </a:rPr>
              <a:t>a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(t) określony jest zależnością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przy czym               jest tzw. konduktancją równoważną odbiornika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Czarneckiego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3886200" cy="719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411280" y="3648240"/>
            <a:ext cx="115092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Prąd rozrzutu i</a:t>
            </a:r>
            <a:r>
              <a:rPr b="1" lang="pl-PL" sz="2400" spc="-1" strike="noStrike" baseline="-25000">
                <a:solidFill>
                  <a:srgbClr val="20374e"/>
                </a:solidFill>
                <a:latin typeface="Arial Unicode MS"/>
              </a:rPr>
              <a:t>s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(t) wynikający ze zmiany konduktancji odbiornika wraz z częstotliwością opisuje zależność: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gdzie G</a:t>
            </a:r>
            <a:r>
              <a:rPr b="1" lang="pl-PL" sz="2400" spc="-1" strike="noStrike" baseline="-25000">
                <a:solidFill>
                  <a:srgbClr val="20374e"/>
                </a:solidFill>
                <a:latin typeface="Arial Unicode MS"/>
              </a:rPr>
              <a:t>h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 jest konduktancją odbiornika dla h-tej harmonicznej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Czarneckiego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340000" y="3141720"/>
            <a:ext cx="368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Prąd bierny i</a:t>
            </a:r>
            <a:r>
              <a:rPr b="1" lang="pl-PL" sz="2400" spc="-1" strike="noStrike" baseline="-25000">
                <a:solidFill>
                  <a:srgbClr val="20374e"/>
                </a:solidFill>
                <a:latin typeface="Arial Unicode MS"/>
              </a:rPr>
              <a:t>r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(t) związany z elementami reaktancyjnymi odbiornika dany jest wzorem: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gdzie B</a:t>
            </a:r>
            <a:r>
              <a:rPr b="1" lang="pl-PL" sz="2400" spc="-1" strike="noStrike" baseline="-25000">
                <a:solidFill>
                  <a:srgbClr val="20374e"/>
                </a:solidFill>
                <a:latin typeface="Arial Unicode MS"/>
              </a:rPr>
              <a:t>h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 reprezentuje susceptancję odbiornika dla h-tej harmonicznej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Czarneckiego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30193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585000" indent="-5850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Z warunku ortogonalności poszczególnych składowych prądu chwilowego wynikają zależności: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585000" indent="-5850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85000" indent="-5850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85000" indent="-5850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85000" indent="-5850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85000" indent="-5850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85000" indent="-5850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Teoria mocy Czarneckiego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43280" y="2997360"/>
            <a:ext cx="314172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627280" y="4076640"/>
            <a:ext cx="36162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1752480"/>
            <a:ext cx="8713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OCE ELEKTRYCZNE</a:t>
            </a: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 NIESYMETRYCZNYCH UKŁADACH TRÓJFAZOWYCH</a:t>
            </a: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456840" indent="-45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Specyfika układów trójfazowych wnosi nowe problemy związane z określaniem mocy pozornej i mocy biernej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56840" indent="-456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Traktowanie układu trójfazowego jako trzech niezależnych obwodów jednofazowych prowadzi do następującego określenia mocy zespolonej układu trójfazowego: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56840" indent="-4568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56840" indent="-4568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56840" indent="-456840"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0374e"/>
              </a:solidFill>
              <a:latin typeface="Times New Roman"/>
            </a:endParaRPr>
          </a:p>
          <a:p>
            <a:pPr marL="456840" indent="-4568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gdzie: n </a:t>
            </a:r>
            <a:r>
              <a:rPr b="1" lang="en-US" sz="2400" spc="-1" strike="noStrike">
                <a:solidFill>
                  <a:srgbClr val="20374e"/>
                </a:solidFill>
                <a:latin typeface="Symbol"/>
                <a:ea typeface="Symbol"/>
              </a:rPr>
              <a:t>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A, B, C</a:t>
            </a:r>
            <a:r>
              <a:rPr b="1" lang="en-US" sz="2400" spc="-1" strike="noStrike">
                <a:solidFill>
                  <a:srgbClr val="20374e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 - kolejne fazy układu trójfazowego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56840" indent="-456840" algn="just">
              <a:lnSpc>
                <a:spcPct val="90000"/>
              </a:lnSpc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0374e"/>
              </a:solidFill>
              <a:latin typeface="Times New Roman"/>
            </a:endParaRPr>
          </a:p>
          <a:p>
            <a:pPr marL="456840" indent="-4568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W energetyce zawodowej moc czynną i bierną układu trójfazowego określa się zgodnie z powyższym wzorem na podstawie pomiaru energii elektrycznej w określonym odcinku czasu (np. 15 min) za pomocą trójfazowych liczników energii biernej lub czynnej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oc pozorn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92160" y="3502080"/>
            <a:ext cx="71802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Niesymetryczny układ trójfazowy można zastąpić równoważnym obwodem symetrycznym wprowadzając pojęcia zastępczych fazowych skutecznych wartości prądu i napięcia przyjmując jako kryterium straty mocy czynnej w układzie zasilającym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Jeżeli trójfazowe źródło energii elektrycznej o jednakowej rezystancji wewnętrznej faz równej R jest obciążone niesymetrycznie, to straty mocy w tym źródle są równ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Takie same straty mocy czynnej wywoła zastępczy prąd fazowy I</a:t>
            </a:r>
            <a:r>
              <a:rPr b="1" lang="pl-PL" sz="2400" spc="-1" strike="noStrike" baseline="-25000">
                <a:solidFill>
                  <a:srgbClr val="20374e"/>
                </a:solidFill>
                <a:latin typeface="Arial Unicode MS"/>
              </a:rPr>
              <a:t>f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: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oc pozorn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771640" y="4329000"/>
            <a:ext cx="2897280" cy="540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771640" y="5626080"/>
            <a:ext cx="142092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Z porównania powyższych wzorów wynika, ż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Analogicznie można określić zastępczą wartość skuteczną napięcia fazowego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18040" indent="-51804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Dla tak zdefiniowanych zastępczych wartości skutecznych prądu i napięcia fazowego moc pozorna układu jest równa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oc pozorn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2278080" cy="900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916360" y="3573360"/>
            <a:ext cx="2706480" cy="900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5697360"/>
            <a:ext cx="50702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Moc chwilowa jest prędkością przepływu energii pomiędzy źródłem a odbiornikiem. W układach elektrycznych jest ona określana jako iloczyn wartości chwilowych napięcia i prądu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Gdy p(t) &gt; 0 to energia przepływa od źródła do odbiornika, natomiast gdy  p(t) &lt; 0  to następuje przepływ energii w kierunku od odbiornika do źródła.</a:t>
            </a: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12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12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35956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W praktyce można przyjąć, że w układach elektroenergetycznych napięcia zasilające jest symetryczne, ponieważ przepisy międzynarodowe oraz normy krajowe większości krajów wymagają, aby składowe symetryczne kolejności przeciwnej i kolejności zerowej miały ograniczone wartości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Dla odbiornika niesymetrycznego zasilanego z symetrycznego źródła napięcia moc pozorna jest równa: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oc pozorn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74600" y="4869000"/>
            <a:ext cx="71694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Dla tego samego odbiornika moduł mocy zespolonej wyrażonej wzorem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nazywany często mocą pozorną, ma wartość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44600" indent="-444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Z porównania powyższych zależności wynika, że 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S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 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Unicode MS"/>
              </a:rPr>
              <a:t>z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. Moce te są sobie równe jedynie dla odbiornika symetrycznego z przebiegami sinusoidalnymi napięcia i prądu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Moc pozorn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92160" y="2205000"/>
            <a:ext cx="7180200" cy="719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67690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Moc czynną dowolnego niesymetrycznego, nieliniowego trójfazowego odbiornika energii elektrycznej można określić następująco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42160" indent="-5421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42160" indent="-5421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42160" indent="-5421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42160" indent="-5421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42160" indent="-5421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Z odbiornika tego można wydzielić część symetryczną pobierającą moc czynną równą mocy czynnej danego odbiornika. Konduktancja każdej fazy tego odbiornika będzie równa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14b1f"/>
                </a:solidFill>
                <a:latin typeface="Arial Narrow"/>
              </a:rPr>
              <a:t>Dekompozycja obciążenia niesymetycznego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655720" cy="900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1411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Prądy fazowe odbiornika można rozłożyć na składow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•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czynne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•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bierne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62960" indent="-4629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Schemat zastępczy nieliniowego, niesymetrycznego trójfazowego odbiornika energii elektrycznej wynikający z powyższych równań przedstawia następujący rysunek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14b1f"/>
                </a:solidFill>
                <a:latin typeface="Arial Narrow"/>
              </a:rPr>
              <a:t>Dekompozycja obciążenia niesymetycznego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2286000" cy="539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132000" y="4076640"/>
            <a:ext cx="27352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14b1f"/>
                </a:solidFill>
                <a:latin typeface="Arial Narrow"/>
              </a:rPr>
              <a:t>Dekompozycja obciążenia niesymetycznego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91676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14b1f"/>
                </a:solidFill>
                <a:latin typeface="Arial Narrow"/>
              </a:rPr>
              <a:t>Dekompozycja obciążenia niesymetycznego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98920" cy="2050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791676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Dla tak określonych składowych prądu zachodzi zależność: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75200" indent="-475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Z zależności tych wynika, że fazowe prądy bierne nie muszą być prostopadłe do odpowiadających im napięć fazowych, chociaż całkowita moc czynna przenoszona przez nie jest równo zeru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14b1f"/>
                </a:solidFill>
                <a:latin typeface="Arial Narrow"/>
              </a:rPr>
              <a:t>Dekompozycja obciążenia niesymetycznego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251920" cy="1439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1857240" cy="718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5435640" y="4005360"/>
            <a:ext cx="2192400" cy="720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V="1">
            <a:off x="2843280" y="3500280"/>
            <a:ext cx="647640" cy="503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588000" y="3500280"/>
            <a:ext cx="720720" cy="505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Dla odbiornika niesymetrycznego zasilanego symetrycznym układem napięć trójfazowych, można  wyznaczyć moc pozorną układu na podstawie mierzonych w każdej fazie mocy czynnych i biernych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529920" indent="-5299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Moc bierna ma dla tak zasilanego trójfazowego odbiornika niesymetrycznego następującą wartość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14b1f"/>
                </a:solidFill>
                <a:latin typeface="Arial Narrow"/>
              </a:rPr>
              <a:t>Moc bierna obciążenia niesymetycznego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7169400" cy="540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547640" y="3500280"/>
            <a:ext cx="5578560" cy="540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8774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603360" indent="-6033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Z zależności powyższej wynika, że moc bierna w trójfazowym układzie niesymetrycznym jest nie tylko funkcją mocy biernych fazowych, ale jej wartość zależy również od nierównomierności rozkładu obciążeń czynnych pomiędzy poszczególne fazy.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603360" indent="-6033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603360" indent="-6033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Dla odbiornika symetrycznego zależność ta upraszcza się do postaci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14b1f"/>
                </a:solidFill>
                <a:latin typeface="Arial Narrow"/>
              </a:rPr>
              <a:t>Moc bierna obciążenia niesymetycznego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050920" y="4797360"/>
            <a:ext cx="45054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Jeżeli napięcie i prąd liniowego odbiornika jednofazowego opisane są równaniami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gdzie: </a:t>
            </a:r>
            <a:r>
              <a:rPr b="1" lang="en-US" sz="2400" spc="-1" strike="noStrike">
                <a:solidFill>
                  <a:srgbClr val="20374e"/>
                </a:solidFill>
                <a:latin typeface="Symbol"/>
                <a:ea typeface="Symbol"/>
              </a:rPr>
              <a:t></a:t>
            </a:r>
            <a:r>
              <a:rPr b="1" lang="en-US" sz="2400" spc="-1" strike="noStrike" baseline="-25000">
                <a:solidFill>
                  <a:srgbClr val="20374e"/>
                </a:solidFill>
                <a:latin typeface="Arial Unicode MS"/>
              </a:rPr>
              <a:t>u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 i </a:t>
            </a:r>
            <a:r>
              <a:rPr b="1" lang="en-US" sz="2400" spc="-1" strike="noStrike">
                <a:solidFill>
                  <a:srgbClr val="20374e"/>
                </a:solidFill>
                <a:latin typeface="Symbol"/>
                <a:ea typeface="Symbol"/>
              </a:rPr>
              <a:t></a:t>
            </a:r>
            <a:r>
              <a:rPr b="1" lang="en-US" sz="2400" spc="-1" strike="noStrike" baseline="-25000">
                <a:solidFill>
                  <a:srgbClr val="20374e"/>
                </a:solidFill>
                <a:latin typeface="Arial Unicode MS"/>
              </a:rPr>
              <a:t>i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 są fazami początkowymi przebiegów czasowych napięcia i prądu, to przebieg mocy chwilowej ma postać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2" marL="335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3505320" cy="539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3127320" cy="540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4360" y="5084640"/>
            <a:ext cx="81262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1219320"/>
            <a:ext cx="84358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pl-PL" sz="2400" spc="-1" strike="noStrike">
                <a:solidFill>
                  <a:srgbClr val="20374e"/>
                </a:solidFill>
                <a:latin typeface="Arial Unicode MS"/>
              </a:rPr>
              <a:t>Przykładowe przebiegi napięcia u(t), prądu i(t) oraz mocy chwilowej p(t)</a:t>
            </a: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pl-PL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2" marL="376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9167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Moc czynna jest zdefiniowana jako wartość średnia mocy chwilowej i określa skutki przepływu energii w czasie okresu T. Dla rozpatrywanych przebiegów moc czynna wyraża się wzorem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2" marL="31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Moc bierną natomiast zdefiniowano następująco: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1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1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2" marL="31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przy czym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4902120" cy="900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4508640"/>
            <a:ext cx="159084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411280" y="5300640"/>
            <a:ext cx="14511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Równanie opisujące przebieg mocy chwilowej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można więc przedstawić następująco: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95000"/>
              </a:lnSpc>
              <a:spcBef>
                <a:spcPts val="300"/>
              </a:spcBef>
              <a:buClr>
                <a:srgbClr val="20374e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moc czynna P jest wartością średnią mocy chwilowej (składową stałą),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99680" indent="-499680" algn="just">
              <a:lnSpc>
                <a:spcPct val="95000"/>
              </a:lnSpc>
              <a:spcBef>
                <a:spcPts val="300"/>
              </a:spcBef>
              <a:buClr>
                <a:srgbClr val="20374e"/>
              </a:buClr>
              <a:buFont typeface="Wingdings" charset="2"/>
              <a:buChar char=""/>
              <a:tabLst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moc bierna Q jest amplitudą składowej przemiennej mocy chwilowej.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12628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6391440" cy="576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24000" y="2852640"/>
            <a:ext cx="287280" cy="93672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724360" y="2852640"/>
            <a:ext cx="432000" cy="936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1219320"/>
            <a:ext cx="84358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Rozkład przebiegów mocy chwilowej na składowe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lvl="2" marL="376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9167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1219320"/>
            <a:ext cx="84358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W symetrycznym układzie trójfazowym moc chwilowa określona zależnością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1" marL="535680" indent="-3945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jest wielkością stałą równą mocy czynnej</a:t>
            </a:r>
            <a:r>
              <a:rPr b="0" lang="en-US" sz="2800" spc="-1" strike="noStrike">
                <a:solidFill>
                  <a:srgbClr val="20374e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20374e"/>
              </a:solidFill>
              <a:latin typeface="Times New Roman"/>
            </a:endParaRPr>
          </a:p>
          <a:p>
            <a:pPr lvl="1" marL="535680" indent="-3945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 lvl="1" marL="535680" indent="-394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Unicode MS"/>
              </a:rPr>
              <a:t>Nie zawiera żadnej informacji o mocy biernej układu.</a:t>
            </a: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374e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14b1f"/>
                </a:solidFill>
                <a:latin typeface="Arial Narrow"/>
              </a:rPr>
              <a:t>Wstęp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39340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5T08:12:44Z</dcterms:created>
  <dc:creator>Irena Wasiak</dc:creator>
  <dc:description/>
  <dc:language>en-US</dc:language>
  <cp:lastModifiedBy>Maciej Pawełek</cp:lastModifiedBy>
  <cp:lastPrinted>2001-09-17T17:58:04Z</cp:lastPrinted>
  <dcterms:modified xsi:type="dcterms:W3CDTF">2004-01-15T21:58:07Z</dcterms:modified>
  <cp:revision>141</cp:revision>
  <dc:subject/>
  <dc:title>Asymetria Napięcia</dc:title>
</cp:coreProperties>
</file>