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EC5-DCDD-4145-923E-3FDC7538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591-8C9B-4ED3-AD63-103C8C6B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AEE-47B6-427A-89F0-1E9419E4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CF0-EC40-47A7-A665-A4ED19DA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B44A-1DAA-49C2-BF60-EBE61E65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ACFB-1C9A-4632-A2B9-89C663FA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3C29-9382-49FE-A596-8DA0EFFB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4B1F-D81B-452C-9E03-66EEA914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86EA-258D-461D-AF23-372F0EB8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3D08-73BE-4143-8C8A-D01427D7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0204-14CC-4E2D-BC5A-ACDB6F4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922-F704-49E3-82A8-929782FA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32E8-BC47-4433-B907-DB6E09CA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2E90-19C9-4CF4-9D78-A977E703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E0DA-7996-455A-AA7C-F562E15F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EB29-D786-4956-9A65-F0DA723E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F938-2AE8-4ADA-86D4-ECD05E47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4BE-93F1-4C5A-8D99-D0AD9777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2FA-4BA6-4330-B073-5CBD3E4E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AA8-F04C-48C8-9CD0-B0534820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103-89A8-4018-A71C-0DA90E31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CE7-9095-41F2-884B-2C1126C6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401-8B8A-4068-B399-390F37A6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3A7-4A60-438D-A0B2-725D29C9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524c4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8458200" cy="8748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52280"/>
            <a:ext cx="5335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10480" y="6172200"/>
            <a:ext cx="292320" cy="533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ce4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0D6D-331C-439B-B911-EAAB582E31F7}" type="slidenum">
              <a:rPr b="0" lang="pl-PL" sz="1400" spc="-1" strike="noStrike">
                <a:solidFill>
                  <a:srgbClr val="dce4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971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4d2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ce4d2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89C7-B409-4561-987C-82DDF382A8BA}" type="slidenum">
              <a:rPr b="0" lang="pl-PL" sz="1400" spc="-1" strike="noStrike">
                <a:solidFill>
                  <a:srgbClr val="203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752480"/>
            <a:ext cx="746748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ODKSZTAŁCENIE NAPIĘCIA</a:t>
            </a:r>
            <a:endParaRPr b="0" lang="en-US" sz="44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dobór  pasywnych filtrów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yższych harmonicznych)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1844640"/>
            <a:ext cx="78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densator o pojemności C ma reaktancję o charakterze pojemnościowym zależną od częstotliwości zgodnie z wzore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916360" y="3500280"/>
                <a:ext cx="2447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h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1413000"/>
            <a:ext cx="7848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densator ten zasilany jest z sieci o napięciu odkształconym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933720"/>
            <a:ext cx="784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iera prąd pojemnościowy o przebieg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03280" y="2349360"/>
                <a:ext cx="53085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h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332000" y="4653000"/>
                <a:ext cx="558936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h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1413000"/>
            <a:ext cx="78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tości skuteczne przebiegów napięcia i prądu określonych wyrażeniami wynoszą odpowiednio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987640" y="3068640"/>
                <a:ext cx="297360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rad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55640" y="1413000"/>
            <a:ext cx="78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densatory pracujące w sieci z odkształconym napięciem mogą wraz z indukcyjnością sieci powodować zjawiska rezonansowe dla wyższych harmonicznych. W warunkach rezonansu może nastąpić wzrost napięcia na zaciskach kondensatora oraz znaczne przeciążenie kondensatora prądami wyższych harmonicznych. Z tego względu przepisy (PN) zawierają wymagania techniczne, jakie powinny spełniać kondensatory energetyczne. Wymagania te określone są poprzez dopuszczalne wartości współczynników przeciążenia kondensatora napięciem, prądem i mocą. Współczynniki te zdefiniowane są następując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55640" y="141300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współczynnik przeciążenia napięciowego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132000" y="1989000"/>
                <a:ext cx="28656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p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755640" y="2997360"/>
            <a:ext cx="784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współczynnik przeciążenia prądowego</a:t>
            </a:r>
            <a:r>
              <a:rPr b="0" lang="en-US" sz="2800" spc="-1" strike="noStrike">
                <a:solidFill>
                  <a:srgbClr val="20374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3573360"/>
                <a:ext cx="28112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p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900000" y="4653000"/>
            <a:ext cx="784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współczynnik przeciąż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ą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203640" y="5157720"/>
                <a:ext cx="24368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p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4360" y="206064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 IEC 70 podaje następujące dopuszczalne wartości współczynników przeciążenia: k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do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1, k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o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3, k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do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43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pisy eksploatacji urządzeń elektrycznych podają k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do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1, k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op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3.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4360" y="119700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sunek strat w kondensatorze zasilanym napięciem zawierającym wyższe harmoniczne do strat przy znamionowym napięciu sinusoidalnym określa przeciążenie cieplne kondensatora.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627280" y="3068640"/>
                <a:ext cx="2610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900000" y="407664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556000" y="4365720"/>
                <a:ext cx="3868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ω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56000" y="5589720"/>
                <a:ext cx="219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1280" y="443700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rzymujemy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11280" y="1700280"/>
                <a:ext cx="743580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C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U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ω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U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U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U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nary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U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nary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755640" y="112536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 przekształceniach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68360" y="5157720"/>
                <a:ext cx="39117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184464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ępując analogicznie wyznaczamy współczynnik przeciążenia prądowego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050920" y="3141720"/>
                <a:ext cx="482940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184464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ładając, że w napięciu zasilającym występuje obok harmonicznej podstawowej tylko jedna wyższa harmoniczna rzędu h można określić graniczne wartości przeciążenia kondensatora tą harmoniczną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916360" y="4292640"/>
                <a:ext cx="30366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2133720"/>
            <a:ext cx="784872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at zastępczy pasywnego filtra wyższych harmonicznych pokazano na rysunku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prowadzeni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08000" y="4035240"/>
            <a:ext cx="5038920" cy="675000"/>
            <a:chOff x="1908000" y="4035240"/>
            <a:chExt cx="5038920" cy="675000"/>
          </a:xfrm>
        </p:grpSpPr>
        <p:sp>
          <p:nvSpPr>
            <p:cNvPr id="96" name=""/>
            <p:cNvSpPr/>
            <p:nvPr/>
          </p:nvSpPr>
          <p:spPr>
            <a:xfrm>
              <a:off x="2985480" y="4091040"/>
              <a:ext cx="10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</a:t>
              </a:r>
              <a:endParaRPr b="0" lang="en-US" sz="1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67640" y="4189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9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35000" y="4035240"/>
              <a:ext cx="8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88360" y="4134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9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189320" y="4387320"/>
              <a:ext cx="1231920" cy="154800"/>
              <a:chOff x="4189320" y="4387320"/>
              <a:chExt cx="1231920" cy="1548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4399560" y="4387320"/>
                <a:ext cx="250920" cy="154080"/>
                <a:chOff x="4399560" y="4387320"/>
                <a:chExt cx="250920" cy="1540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399560" y="4387320"/>
                  <a:ext cx="124920" cy="154080"/>
                </a:xfrm>
                <a:custGeom>
                  <a:avLst/>
                  <a:gdLst/>
                  <a:ahLst/>
                  <a:rect l="l" t="t" r="r" b="b"/>
                  <a:pathLst>
                    <a:path w="134" h="165">
                      <a:moveTo>
                        <a:pt x="0" y="165"/>
                      </a:moveTo>
                      <a:lnTo>
                        <a:pt x="15" y="105"/>
                      </a:lnTo>
                      <a:lnTo>
                        <a:pt x="44" y="45"/>
                      </a:lnTo>
                      <a:lnTo>
                        <a:pt x="89" y="15"/>
                      </a:lnTo>
                      <a:lnTo>
                        <a:pt x="13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24480" y="4387320"/>
                  <a:ext cx="126000" cy="154080"/>
                </a:xfrm>
                <a:custGeom>
                  <a:avLst/>
                  <a:gdLst/>
                  <a:ahLst/>
                  <a:rect l="l" t="t" r="r" b="b"/>
                  <a:pathLst>
                    <a:path w="135" h="165">
                      <a:moveTo>
                        <a:pt x="0" y="0"/>
                      </a:moveTo>
                      <a:lnTo>
                        <a:pt x="60" y="15"/>
                      </a:lnTo>
                      <a:lnTo>
                        <a:pt x="90" y="45"/>
                      </a:lnTo>
                      <a:lnTo>
                        <a:pt x="120" y="105"/>
                      </a:lnTo>
                      <a:lnTo>
                        <a:pt x="135" y="16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650840" y="4387320"/>
                <a:ext cx="251280" cy="154080"/>
                <a:chOff x="4650840" y="4387320"/>
                <a:chExt cx="251280" cy="1540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650840" y="4387320"/>
                  <a:ext cx="125640" cy="154080"/>
                </a:xfrm>
                <a:custGeom>
                  <a:avLst/>
                  <a:gdLst/>
                  <a:ahLst/>
                  <a:rect l="l" t="t" r="r" b="b"/>
                  <a:pathLst>
                    <a:path w="135" h="165">
                      <a:moveTo>
                        <a:pt x="0" y="165"/>
                      </a:moveTo>
                      <a:lnTo>
                        <a:pt x="15" y="105"/>
                      </a:lnTo>
                      <a:lnTo>
                        <a:pt x="45" y="45"/>
                      </a:lnTo>
                      <a:lnTo>
                        <a:pt x="90" y="15"/>
                      </a:lnTo>
                      <a:lnTo>
                        <a:pt x="13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776480" y="4387320"/>
                  <a:ext cx="125640" cy="154080"/>
                </a:xfrm>
                <a:custGeom>
                  <a:avLst/>
                  <a:gdLst/>
                  <a:ahLst/>
                  <a:rect l="l" t="t" r="r" b="b"/>
                  <a:pathLst>
                    <a:path w="135" h="165">
                      <a:moveTo>
                        <a:pt x="0" y="0"/>
                      </a:moveTo>
                      <a:lnTo>
                        <a:pt x="60" y="15"/>
                      </a:lnTo>
                      <a:lnTo>
                        <a:pt x="90" y="45"/>
                      </a:lnTo>
                      <a:lnTo>
                        <a:pt x="120" y="105"/>
                      </a:lnTo>
                      <a:lnTo>
                        <a:pt x="135" y="16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902840" y="4387320"/>
                <a:ext cx="251640" cy="154080"/>
                <a:chOff x="4902840" y="4387320"/>
                <a:chExt cx="251640" cy="1540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902840" y="4387320"/>
                  <a:ext cx="126000" cy="154080"/>
                </a:xfrm>
                <a:custGeom>
                  <a:avLst/>
                  <a:gdLst/>
                  <a:ahLst/>
                  <a:rect l="l" t="t" r="r" b="b"/>
                  <a:pathLst>
                    <a:path w="135" h="165">
                      <a:moveTo>
                        <a:pt x="0" y="165"/>
                      </a:moveTo>
                      <a:lnTo>
                        <a:pt x="15" y="105"/>
                      </a:lnTo>
                      <a:lnTo>
                        <a:pt x="45" y="45"/>
                      </a:lnTo>
                      <a:lnTo>
                        <a:pt x="90" y="15"/>
                      </a:lnTo>
                      <a:lnTo>
                        <a:pt x="13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28840" y="4387320"/>
                  <a:ext cx="125640" cy="154080"/>
                </a:xfrm>
                <a:custGeom>
                  <a:avLst/>
                  <a:gdLst/>
                  <a:ahLst/>
                  <a:rect l="l" t="t" r="r" b="b"/>
                  <a:pathLst>
                    <a:path w="135" h="165">
                      <a:moveTo>
                        <a:pt x="0" y="0"/>
                      </a:moveTo>
                      <a:lnTo>
                        <a:pt x="60" y="15"/>
                      </a:lnTo>
                      <a:lnTo>
                        <a:pt x="90" y="45"/>
                      </a:lnTo>
                      <a:lnTo>
                        <a:pt x="120" y="105"/>
                      </a:lnTo>
                      <a:lnTo>
                        <a:pt x="135" y="16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0374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 flipH="1">
                <a:off x="4189320" y="4541400"/>
                <a:ext cx="2098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20374e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55200" y="4541400"/>
                <a:ext cx="2660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20374e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650320" y="4429440"/>
              <a:ext cx="1021320" cy="28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7600" y="4541400"/>
              <a:ext cx="644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77880" y="4035240"/>
              <a:ext cx="10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60400" y="4134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9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51600" y="4387320"/>
              <a:ext cx="720" cy="30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2480" y="4387320"/>
              <a:ext cx="720" cy="30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07200" y="4541400"/>
              <a:ext cx="644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62480" y="4541400"/>
              <a:ext cx="742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49000" y="4485240"/>
              <a:ext cx="97920" cy="9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949400" y="4541400"/>
              <a:ext cx="70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8000" y="4485240"/>
              <a:ext cx="83880" cy="9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20374e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24000" y="2060640"/>
          <a:ext cx="8637480" cy="19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637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79280" y="1341360"/>
            <a:ext cx="842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i przeciążenia kondensatora mocą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4076640"/>
            <a:ext cx="84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i przeciążenia kondensator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ąd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95280" y="4653000"/>
          <a:ext cx="8637480" cy="1932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653000"/>
                    <a:ext cx="863748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0920" y="1700280"/>
          <a:ext cx="863748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863748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4360" y="119700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0374e"/>
                </a:solidFill>
                <a:latin typeface="Times New Roman"/>
              </a:rPr>
              <a:t>Reaktancja filtra dla dowolnej h-tej wyższej harmonicznej wynosi: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00000" y="3213000"/>
            <a:ext cx="78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warunkach rezonansu szeregowego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h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 Rząd harmonicznej rezonansowej h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reślony jest następująco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050920" y="2060640"/>
                <a:ext cx="35370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X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700360" y="4869000"/>
                <a:ext cx="177012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4360" y="119700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Uwzględniając, że: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321300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rzymujem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258920" y="2133720"/>
                <a:ext cx="2260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411280" y="4221000"/>
                <a:ext cx="41785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003640" y="1916280"/>
                <a:ext cx="173052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4360" y="119700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Reaktancja filtra dla harmonicznej podstawowej wynosi: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378936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zrost napięcia harmonicznej podstawowej na kondensatorze wynos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340000" y="2133720"/>
                <a:ext cx="3448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7236000" y="2276640"/>
                <a:ext cx="173016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763640" y="4437000"/>
                <a:ext cx="537696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84360" y="119700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62360" indent="-162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podstawie kryterium dopuszczalnego przeciążenia kondensatora prądem można określić minimalną moc baterii kondensatorów pracujących w filtrze. W tym celu należy założyć, ż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162360" indent="-16236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 jest elementem idealnym, tzn. pomija się jego rezystancję oraz zakłada się, że płynie przez nieg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ok prądu harmonicznej filtrowane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lko prąd harmonicznej podstawowe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162360" indent="-16236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kształtnik tyrystorowy pracuje w warunkach komutacji natychmiastowej i w związku z tym wartości skuteczne prądów wyższych harmonicznych generowanych przez niego mogą być wyrażone uproszczoną zależności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003640" y="5373720"/>
                <a:ext cx="1292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84360" y="119700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prawda w warunkach rzeczywistych przez filtr płyną również prądy innych wyższych harmonicznych, ale o stosunkowo małych wartościach, poza tym prądy wyższych harmonicznych w tym również prąd harmonicznej rezonansowej, są dodatkowo tłumione przez rezystancję filtra.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kolei prądy harmonicznych generowane przez przekształtnik w związku z komutacją tyrystorów, mają wartości mniejsze niż wynikające z zależnośc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roszczonej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tem skutki poczynionych założeń w pewnym stopniu się kompensują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4360" y="119700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tancja filtra dla harmonicznej podstawowej wynosi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268360" y="1773360"/>
                <a:ext cx="3448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1008000" y="3357720"/>
            <a:ext cx="8136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ieważ w ogólnym przypadku napięcie sieci zasilającej U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óżni się od napięcia znamionowego kondensatora U</a:t>
            </a:r>
            <a:r>
              <a:rPr b="1" lang="pl-P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ęc prąd harmonicznej podstawowej płynący przez filtr można wyrazić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195640" y="5084640"/>
                <a:ext cx="50702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4360" y="119700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filtrowanej wyższej harmonicznej generowany przez przekształtnik tyrystorowy w najbardziej niekorzystnym przypadku wynosi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4360" y="386064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tość skuteczną prądu płynącego przez filtr wyższych harmonicznych można więc wyrazić w postaci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771640" y="2492280"/>
                <a:ext cx="255132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700360" y="4869000"/>
                <a:ext cx="49482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3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3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84360" y="119700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ten musi spełniać następujący warunek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4360" y="3068640"/>
            <a:ext cx="81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tość skuteczną prądu płynącego przez filtr wyższych harmonicznych można więc wyrazić w postaci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68360" y="1700280"/>
                <a:ext cx="45561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p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p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68360" y="4005360"/>
                <a:ext cx="45453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sub>
                    </m:sSub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op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755640" y="5800680"/>
                <a:ext cx="15541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3348000" y="5780160"/>
                <a:ext cx="14432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1219320"/>
            <a:ext cx="7848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74e"/>
                </a:solidFill>
                <a:latin typeface="Times New Roman"/>
              </a:rPr>
              <a:t>Kondensatory energetyczne charakteryzowane są najczęściej przez następujące parametry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jemność znamionową 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wynikającą z geometrycznych wymiarów konstrukcyjnych kondensatora oraz z zastosowanych materiałów dielektrycznych,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napięcie znamionowe U</a:t>
            </a:r>
            <a:r>
              <a:rPr b="0" lang="en-US" sz="2800" spc="-1" strike="noStrike" baseline="-25000">
                <a:solidFill>
                  <a:srgbClr val="17672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c znamionową Q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prąd znamionowy I</a:t>
            </a:r>
            <a:r>
              <a:rPr b="0" lang="en-US" sz="2800" spc="-1" strike="noStrike" baseline="-25000">
                <a:solidFill>
                  <a:srgbClr val="17672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17672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spółczynnik strat dielektrycznych tg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1844640"/>
            <a:ext cx="7848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0374e"/>
                </a:solidFill>
                <a:latin typeface="Times New Roman"/>
              </a:rPr>
              <a:t>Kondensatory niskonapięciowe (U</a:t>
            </a:r>
            <a:r>
              <a:rPr b="1" lang="pl-PL" sz="2800" spc="-1" strike="noStrike" baseline="-25000">
                <a:solidFill>
                  <a:srgbClr val="20374e"/>
                </a:solidFill>
                <a:latin typeface="Times New Roman"/>
              </a:rPr>
              <a:t>N</a:t>
            </a:r>
            <a:r>
              <a:rPr b="1" lang="pl-PL" sz="2800" spc="-1" strike="noStrike">
                <a:solidFill>
                  <a:srgbClr val="20374e"/>
                </a:solidFill>
                <a:latin typeface="Times New Roman"/>
              </a:rPr>
              <a:t> &lt; 1 kV) budowane są zazwyczaj jako jednostki trójfazowe o napięciach znamionowych 220 – 380 – 500V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0374e"/>
                </a:solidFill>
                <a:latin typeface="Times New Roman"/>
              </a:rPr>
              <a:t>Kondensatory wysokonapięciowe (U</a:t>
            </a:r>
            <a:r>
              <a:rPr b="1" lang="pl-PL" sz="2800" spc="-1" strike="noStrike" baseline="-25000">
                <a:solidFill>
                  <a:srgbClr val="20374e"/>
                </a:solidFill>
                <a:latin typeface="Times New Roman"/>
              </a:rPr>
              <a:t>N</a:t>
            </a:r>
            <a:r>
              <a:rPr b="1" lang="pl-PL" sz="2800" spc="-1" strike="noStrike">
                <a:solidFill>
                  <a:srgbClr val="20374e"/>
                </a:solidFill>
                <a:latin typeface="Times New Roman"/>
              </a:rPr>
              <a:t> &gt; 1 kV) produkowane w Polsce mają napięcia znamionowe 3,03 – 3,64 – 6,06 – 9,09 kV i są wykonane jako jednofazowe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1844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 znamionowa jednofazowej jednostki kondensatorowej o pojemności 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przy sinusoidalnym napięciu o wartości skutecznej U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z znamionowej pulsacji wynosi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627280" y="3716280"/>
                <a:ext cx="3522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44880" y="4836960"/>
                <a:ext cx="2832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5640" y="1413000"/>
            <a:ext cx="7848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yższy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z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ó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ynika, że moc kondensatora zmienia się z kwadratem napięcia oraz zależy od częstotliwośc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16360" y="2708280"/>
                <a:ext cx="2771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971640" y="4076640"/>
            <a:ext cx="78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znamionowy kondensatora jednofazowego wynos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16360" y="5229360"/>
                <a:ext cx="3609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413000"/>
            <a:ext cx="7848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przypadku jednostki trójfazowej symetrycznej zasilanej napięciem symetrycznym prąd znamionowy kondensatora oblicza się ze wzorów: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połączeniu w trójkąt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4508640"/>
            <a:ext cx="784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połączeniu w gwiazdę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11280" y="3645000"/>
                <a:ext cx="37688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84360" y="5157720"/>
                <a:ext cx="40593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5640" y="119844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kondensatorze występują straty mocy czynnej. Składają się one głównie na straty w dielektryku oraz stosunkowo niewielkie straty w częściach przewodzących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2421000"/>
            <a:ext cx="3529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densator rzecz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sty (z uwzględnieniem strat mocy czynnej) można przedstawić za pomocą schematu zastępczego, w którym równolegle do idealnej pojemności C włączona jest rezystancja R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51280" y="2421000"/>
            <a:ext cx="50385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413000"/>
            <a:ext cx="7848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iędzy wskazami prądu I i składowej biernej prądu I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warty jest kąt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wany kątem strat dielektrycznych. Tangens kąta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zywany współczynnikiem strat dielektrycznych równa się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Kondensator w filtrz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32000" y="3068640"/>
                <a:ext cx="2425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971640" y="4292640"/>
            <a:ext cx="784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czy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– straty mocy czynnej w kondensatorze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– moc pojemnościowa kondensatora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08:12:44Z</dcterms:created>
  <dc:creator>Irena Wasiak</dc:creator>
  <dc:description/>
  <dc:language>en-US</dc:language>
  <cp:lastModifiedBy>Maciej Pawełek</cp:lastModifiedBy>
  <cp:lastPrinted>2001-09-17T17:58:04Z</cp:lastPrinted>
  <dcterms:modified xsi:type="dcterms:W3CDTF">2007-01-10T21:49:08Z</dcterms:modified>
  <cp:revision>149</cp:revision>
  <dc:subject/>
  <dc:title>Asymetria Napięcia</dc:title>
</cp:coreProperties>
</file>