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B1AC-2D28-450A-B529-E1459E26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4E0-A79D-4805-92C0-6CD6C72D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A16-9010-491A-B03A-8834AA55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356-6D4E-41BC-9A27-FD85EAA1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1F1-B311-46EA-81EE-632B77D3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30C-9556-436D-B6BF-4CD7148E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B559-2E24-45A5-BE25-4C352D09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D4C-352F-4ED9-93D6-5329BAE4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964-EDC4-43AF-9B4D-45886313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839-29CC-4157-A8C1-8B286ED8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D14-153D-4B4C-9FC6-0BC26D4D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399-9B11-494F-B058-3BE0D938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337320" indent="-3373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160" indent="-280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5000" indent="-2239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75720" indent="-2239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2608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2608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2608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E6B60A7-CF79-4CA4-ABC6-F4B3AB27A36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0240" y="17521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5000" spc="-1" strike="noStrike">
                <a:solidFill>
                  <a:srgbClr val="ff0000"/>
                </a:solidFill>
                <a:latin typeface="Arial"/>
              </a:rPr>
              <a:t>WAHANIA</a:t>
            </a:r>
            <a:r>
              <a:rPr b="1" lang="pl-PL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5000" spc="-1" strike="noStrike">
                <a:solidFill>
                  <a:srgbClr val="ff0000"/>
                </a:solidFill>
                <a:latin typeface="Arial"/>
              </a:rPr>
              <a:t>NAPIĘCI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5720" y="34290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Wahania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6160" y="2060640"/>
            <a:ext cx="8498160" cy="396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ahania napięcia mogą być opisane na dwa sposo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8906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jako ciąg bardziej lub mniej regularnych zmian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mplitudy, lub wartości skutecznej napięci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8906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8906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jako przebieg modulujący nałożony na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dstawową harmoniczną napięcia kształtujący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wiednię napięcia zasilające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Wahania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96880" y="1700280"/>
            <a:ext cx="7197840" cy="4125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24160" y="5950080"/>
            <a:ext cx="74674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raficzna ilustracja gwałtownych zmian napięcia (wahań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35120" y="2021040"/>
          <a:ext cx="8423280" cy="41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2021040"/>
                    <a:ext cx="842328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36520" y="1557360"/>
            <a:ext cx="7147080" cy="3960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24160" y="6165720"/>
            <a:ext cx="68580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inusoidalne wahania napięcia o częstotliwości 10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Wahania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792520" y="5589720"/>
                <a:ext cx="39369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Wahania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514600"/>
            <a:ext cx="8381880" cy="343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mplituda sygnału modulowan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ulsacja sygnału modulowanego o częstotliwości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ieciowej (50 Hz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ulsacja sygnału modulując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 jest różnicą pomiędzy minimalną 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ą wartościami skutecznymi napięcia w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rakcie wahań, zaś U jest wartością skuteczną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a wygładzoną przez filtr o jednominutowej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łej czasowe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000160" y="1628640"/>
                <a:ext cx="60501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Aanaliza wahań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5791320"/>
            <a:ext cx="800100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nterpretacja graficzna spektrum częstotliwościowego napięcia  z modulacją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24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496880" y="1557360"/>
                <a:ext cx="64882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44880" y="2421000"/>
            <a:ext cx="539892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Ocena wahań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2680" y="1773360"/>
            <a:ext cx="8420040" cy="4535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cena wahań napięcia dokonywana jest ze względu na ich oddziaływanie powodujące zmęczenie wzroku i organizmu ludzkiego na skutek migotania światł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tym celu stosowanych było wiele wskaźników charakteryzujących wahania napięcia w sieciach elektroenergetycznych lub na zaciskach odbiorników, zwanych obecnie klasycznymi wskaźnikami wahań napięcia. Należą do nich między inny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mplitudy wahań napięcia (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δV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w woltach lub częściej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δV*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w jednostkach względnych procentowych) odniesione do napięcia znamionow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częstość amplitud wahań napięcia (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w 1/s (Hz), 1/min lub 1/h) i często – w przypadku okresowych (np. sinusoidalnych lub prostokątnych) wahań – częstotliwość wahań napięcia (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w Hz, 1/min lub 1/h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nergetyczna dawka wahań napięcia (jednostkowa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pl-P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w V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lub %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lub łączna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pl-PL" sz="2000" spc="-1" strike="noStrike" baseline="-25000">
                <a:solidFill>
                  <a:srgbClr val="000000"/>
                </a:solidFill>
                <a:latin typeface="Times New Roman"/>
              </a:rPr>
              <a:t>VT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w V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 lub %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, bądź tradycyjnie w V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in lub najczęściej w %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i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Ocena wahań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6160" y="1773360"/>
            <a:ext cx="8420400" cy="4535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just"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ecnie, od 1983 r. do oceny wahań napięcia stosuje się wskaźniki: krótkookresowego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długookresowego migotania światła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t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artości wskaźnik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zyskuje się w wyniku obróbki statystycznej sygnału wyjściowego miernika migotania UIE (ang.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IE flickermete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dla krótkiego czasu obserwacji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zaś wskaźnik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oblicza się z kolejnych wartości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dla długiego czasu obserwacji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przy czym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 =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według zależnoś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016520" y="4724280"/>
                <a:ext cx="14968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Propagacja wahań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2680" y="1773360"/>
            <a:ext cx="8420040" cy="4535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just">
              <a:spcBef>
                <a:spcPts val="5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Wahania napięcia powstające na skutek pracy odbiorników niespokojnych przenoszą się poprzez sieć elektroenergetyczną zakłócając pracę innych odbiorców. Wielkością charakteryzującą zdolność sieci do przenoszenia wahań napięcia jest współczynnik przenoszenia migotania (ang.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 transfer coefficient of filicker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). Współczynnik przenoszenia migotania pomiędzy węzłami A i B sieci jest zdefiniowany jako iloraz wartości krótkookresowych wskaźników migotania w tych węzłac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728880" y="4869000"/>
                <a:ext cx="1946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Propagacja wahań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24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76520" y="1628640"/>
            <a:ext cx="4473720" cy="431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92160" y="6093000"/>
            <a:ext cx="7705800" cy="576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noszenie się wahań napięcia w sieci promieniowe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Propagacja wahań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24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2692440" cy="2600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92160" y="6093000"/>
            <a:ext cx="7705800" cy="576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noszenie się wahań napięcia w sieci promieniowe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40160" y="1628640"/>
            <a:ext cx="6121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kaźnik migotania światła w węźle A można wyznaczyć z zależności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13240" y="2492280"/>
                <a:ext cx="4221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P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3440160" y="357336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przenoszenia wahań napięcia jest więc równ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513240" y="4365720"/>
                <a:ext cx="43624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P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Przyczyny zmian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2680" y="3428640"/>
            <a:ext cx="8420040" cy="297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8120" indent="-348120" algn="just">
              <a:spcBef>
                <a:spcPts val="649"/>
              </a:spcBef>
              <a:buClr>
                <a:srgbClr val="ff0000"/>
              </a:buClr>
              <a:buFont typeface="Symbol" charset="2"/>
              <a:buChar char="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600" spc="-1" strike="noStrike">
                <a:solidFill>
                  <a:srgbClr val="ff0000"/>
                </a:solidFill>
                <a:latin typeface="Times New Roman"/>
              </a:rPr>
              <a:t>generatory</a:t>
            </a:r>
            <a:r>
              <a:rPr b="1" lang="pl-PL" sz="2600" spc="-1" strike="noStrike">
                <a:solidFill>
                  <a:srgbClr val="000000"/>
                </a:solidFill>
                <a:latin typeface="Times New Roman"/>
              </a:rPr>
              <a:t> – utrzymanie równowagi miedzy produkcją a poborem energii (elektrociepłownie przemysłowe)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just">
              <a:spcBef>
                <a:spcPts val="649"/>
              </a:spcBef>
              <a:buClr>
                <a:srgbClr val="ff0000"/>
              </a:buClr>
              <a:buFont typeface="Symbol" charset="2"/>
              <a:buChar char="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600" spc="-1" strike="noStrike">
                <a:solidFill>
                  <a:srgbClr val="ff0000"/>
                </a:solidFill>
                <a:latin typeface="Times New Roman"/>
              </a:rPr>
              <a:t>sieć elektryczna</a:t>
            </a:r>
            <a:r>
              <a:rPr b="1" lang="pl-PL" sz="2600" spc="-1" strike="noStrike">
                <a:solidFill>
                  <a:srgbClr val="000000"/>
                </a:solidFill>
                <a:latin typeface="Times New Roman"/>
              </a:rPr>
              <a:t> (przesył energii) – zmiana topologii sieci,  czynności łączeniowe regulacyjne, zakłócenia i  awarie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just">
              <a:spcBef>
                <a:spcPts val="649"/>
              </a:spcBef>
              <a:buClr>
                <a:srgbClr val="ff0000"/>
              </a:buClr>
              <a:buFont typeface="Symbol" charset="2"/>
              <a:buChar char="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600" spc="-1" strike="noStrike">
                <a:solidFill>
                  <a:srgbClr val="ff0000"/>
                </a:solidFill>
                <a:latin typeface="Times New Roman"/>
              </a:rPr>
              <a:t>obciążenie</a:t>
            </a:r>
            <a:r>
              <a:rPr b="1" lang="pl-PL" sz="2600" spc="-1" strike="noStrike">
                <a:solidFill>
                  <a:srgbClr val="000000"/>
                </a:solidFill>
                <a:latin typeface="Times New Roman"/>
              </a:rPr>
              <a:t> – zmiany obciążenia na skutek załączania lub wyłączania różnych urządzeń elektryczny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0">
              <a:spcBef>
                <a:spcPts val="6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43040" y="1676520"/>
            <a:ext cx="8420040" cy="141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Propagacja wahań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24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269244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92160" y="6093000"/>
            <a:ext cx="7705800" cy="576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noszenie się wahań napięcia w sieci promieniowe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40160" y="1628640"/>
            <a:ext cx="646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biorca zasilany z węzła B zlokalizowanego pomiędzy źródłem zaburzenia a źródłem zasilania będzie poddany wahaniom napięcia o wartoś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40160" y="407664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przenoszenia wahań napięcia w tym przypadku jest równ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513240" y="2924280"/>
                <a:ext cx="42210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P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513240" y="4869000"/>
                <a:ext cx="43225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+</m:t>
                                    </m:r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P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Propagacja wahań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224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2692440" cy="2600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20880" y="5805360"/>
            <a:ext cx="7705440" cy="57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noszenie się wahań napięcia w sieci promieniowe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40160" y="2421000"/>
            <a:ext cx="6465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biorca zasilany z węzła C położonego za źródłem wahań napięcia odczuwa zaburzenie o takiej samej wartości jak odbiorca zaburzający. Współczynnik przenoszenia wahań napięcia jest więc równ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305240" y="4005360"/>
                <a:ext cx="36640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600" spc="-1" strike="noStrike">
                <a:solidFill>
                  <a:srgbClr val="ff0000"/>
                </a:solidFill>
                <a:latin typeface="Arial"/>
              </a:rPr>
              <a:t>Propagacja wahań napię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24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8880" y="1844640"/>
            <a:ext cx="2692440" cy="2600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20880" y="5805360"/>
            <a:ext cx="7705440" cy="57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noszenie się wahań napięcia w sieci promieniowe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0160" y="2421000"/>
            <a:ext cx="646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biorca D przyłączony do innej linii zasilającej niż odbiorca zaburzający odczuwa skutki jak dla wahań występujących w punkcie przyłączenia linii (węzeł A). Zatem współczynnik przenoszenia wahań napięcia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TCA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 = 1, natomiast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TCP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ma wartoś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065240" y="4724280"/>
                <a:ext cx="7107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Propagacja wahań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5800" y="1628640"/>
            <a:ext cx="9074160" cy="468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just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Istotne znaczenie dla wahań napięcia w sieciach niskiego napięcia ma przenoszenie się wahań z sieci nadrzędnych (średniego i wysokiego napięcia) – tło wahań napięcia. Brak jest dotychczas metod pozwalających na analityczne wyznaczenie współczynników przenoszenia wahań napięcia pomiędzy sieciami o różnych poziomach napięć.  Wyznaczone eksperymentalnie (na drodze pomiarowej) wartości współczynników przenoszenia wynoszą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 algn="just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z sieci najwyższych napięć do sieci wysokich napięć – około 0,8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z sieci wysokich napięć do sieci średnich napięć – około 0,9 (a zatem około 0,72 dla wahań przenoszonych z sieci najwyższych napięć do sieci średnich napięć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z sieci średnich napięć do sieci niskiego napięcia – około 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4520" y="404640"/>
            <a:ext cx="8420040" cy="101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Źródła wahań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2680" y="1413000"/>
            <a:ext cx="8420040" cy="5184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just">
              <a:spcBef>
                <a:spcPts val="476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900" spc="-1" strike="noStrike">
                <a:solidFill>
                  <a:srgbClr val="000000"/>
                </a:solidFill>
                <a:latin typeface="Times New Roman"/>
              </a:rPr>
              <a:t>Każde urządzenie zasilane z sieci elektrycznej ze względu na konieczność załączenia bądź wyłączenia albo z powodu czynności łączeniowych realizowanych przez układy regulacji i sterowania nadzorujące poprawność przebiegu zadanego procesu technologicznego jest źródłem wahań napięcia. Źródłami wahań napięcia w sieciach komunalno-bytowych niskiego napięcia mogą więc być np. wszelkiego rodzaju domowe odbiorniki energii elektrycznej (pralki, lodówki, kuchenki, elektryczne podgrzewacze wody, bojlery elektryczne itp.), których charakter pracy wymusza cykliczne załączanie i wyłączanie. Jednak ze względu na małe moce jednostkowe ich oddziaływanie dotyczy ograniczonej liczby odbiorców. Inne urządzenia zasilane z tych sieci np. przeznaczone do poprawy standardu życia mieszkańców tj. napędy wind, pomp, wentylatorów czy urządzenia klimatyzacji o znacznie większych mocach załączane w sposób cykliczny lub nieregularny mogą być już znaczącymi źródłami wahań napięcia. Podobny charakter oddziaływania mają np. aparaty rentgenowskie czy urządzenia kopiujące (kserografy) dużej mocy wykorzystywane w punktach usługowych</a:t>
            </a:r>
            <a:r>
              <a:rPr b="0" lang="pl-P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4520" y="404640"/>
            <a:ext cx="8420040" cy="101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Źródła wahań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2680" y="1413000"/>
            <a:ext cx="8420040" cy="5184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Podstawowe znaczenie mają jednak odbiorniki przemysłowe, a zwłaszcza tzw. odbiorniki niespokojne o dużych mocach jednostkowych, do których należy zaliczyć przede wszystki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piece łukow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napędy walcownicz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kopalniane maszyny wyciągow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urządzenia spawalnicz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Istotnym źródłem wahań napięcia są rozruchy silników asynchronicznych i praca różnego rodzaju napędów o zmiennym obciążeniu lub cyklicznym charakterze pracy np. piły elektryczne, prasy, kompresory itp. Źródłem wahań napięcia mogą być też baterie kondensatorów do automatycznej kompensacji mocy biernej stosowane powszechnie w sieciach niskiego napięcia praktycznie u każdego odbiorcy przemysłoweg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4520" y="260280"/>
            <a:ext cx="8420040" cy="87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</a:rPr>
              <a:t>Oddziaływanie pieców łukowych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04520" y="5950080"/>
            <a:ext cx="86677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Arial"/>
              </a:rPr>
              <a:t>Instalacja elektryczna pieca łukoweg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9240" y="1052640"/>
            <a:ext cx="5398920" cy="469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0353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</a:rPr>
              <a:t>Charakterystyka pieców łukowych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2680" y="1981080"/>
            <a:ext cx="4133880" cy="4114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31800" y="1844640"/>
            <a:ext cx="4753080" cy="4130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76880" y="1844640"/>
                <a:ext cx="16369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P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76880" y="2924280"/>
                <a:ext cx="16700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176880" y="4076640"/>
                <a:ext cx="1817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176880" y="5157720"/>
                <a:ext cx="30909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0353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</a:rPr>
              <a:t>Charakterystyka pieców łukowych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42680" y="1981080"/>
            <a:ext cx="4133880" cy="4114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1800" y="1844640"/>
            <a:ext cx="4753080" cy="4130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792760" y="2289240"/>
                <a:ext cx="25322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816520" y="3789360"/>
                <a:ext cx="26272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</a:rPr>
              <a:t>Wykresy pracy pieca łukoweg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04880" y="1700280"/>
            <a:ext cx="4341960" cy="2316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13240" y="1700280"/>
            <a:ext cx="3830760" cy="230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857240" y="4292640"/>
                <a:ext cx="16876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97600" y="4292640"/>
                <a:ext cx="42321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ΔP</m:t>
                        </m:r>
                        <m:r>
                          <m:t xml:space="preserve">+</m:t>
                        </m:r>
                        <m:r>
                          <m:t xml:space="preserve">XΔQ</m:t>
                        </m:r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XΔQ</m:t>
                        </m:r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Zmiany obciąże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60520" y="1628640"/>
            <a:ext cx="5038920" cy="2346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36520" y="4581360"/>
            <a:ext cx="7561440" cy="12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dnofazowy schemat zastępczy sieci zasilającej odbiorc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napięcie na początku linii, </a:t>
            </a: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napięcie na końcu linii, </a:t>
            </a: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prąd płynący w linii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, 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moc czynna i bierna pobierana przez odbiorcę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R, 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rezystancja i reaktancja linii, przy czym </a:t>
            </a:r>
            <a:r>
              <a:rPr b="0" i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 = R + j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jest impedancją lin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</a:rPr>
              <a:t>Wykresy pracy pieca łukoweg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20880" y="1700280"/>
            <a:ext cx="7916760" cy="353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657600" y="5516640"/>
                <a:ext cx="22669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w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eca</m:t>
                            </m:r>
                            <m:r>
                              <m:t xml:space="preserve">)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76160" y="33300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</a:rPr>
              <a:t>Rozruch silników asynchronicznych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04520" y="5805360"/>
            <a:ext cx="86677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Arial"/>
              </a:rPr>
              <a:t>Schemat zastępczy obwodu zasilania silnika indukcyjneg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000160" y="1197000"/>
            <a:ext cx="5757840" cy="4278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0353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</a:rPr>
              <a:t>Metoda pierwsz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500" spc="-1" strike="noStrike">
                <a:solidFill>
                  <a:srgbClr val="ff0000"/>
                </a:solidFill>
                <a:latin typeface="Arial"/>
              </a:rPr>
              <a:t>Wyznaczanie zmian napięcia w czasie rozruchu silników asynchronicznyc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737240" y="3141720"/>
                <a:ext cx="437184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15800" y="2421000"/>
            <a:ext cx="4030920" cy="2995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0353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</a:rPr>
              <a:t>Metoda drug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500" spc="-1" strike="noStrike">
                <a:solidFill>
                  <a:srgbClr val="ff0000"/>
                </a:solidFill>
                <a:latin typeface="Arial"/>
              </a:rPr>
              <a:t>Wyznaczanie zmian napięcia w czasie rozruchu silników asynchronicznyc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15800" y="1989000"/>
            <a:ext cx="4030920" cy="299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600880" y="2708280"/>
                <a:ext cx="28828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zw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bar>
                                  </m:e>
                                </m:ba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00880" y="3860640"/>
                <a:ext cx="30621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zw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zw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Z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152880" y="5373720"/>
                <a:ext cx="1479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z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097600" y="5373720"/>
                <a:ext cx="18349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473960" y="5300640"/>
                <a:ext cx="1209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0353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</a:rPr>
              <a:t>Metoda trzec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2500" spc="-1" strike="noStrike">
                <a:solidFill>
                  <a:srgbClr val="ff0000"/>
                </a:solidFill>
                <a:latin typeface="Arial"/>
              </a:rPr>
              <a:t>Wyznaczanie zmian napięcia w czasie rozruchu silników asynchronicznyc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76160" y="2492280"/>
            <a:ext cx="4030920" cy="2995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816520" y="2781360"/>
                <a:ext cx="2274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816520" y="3933720"/>
                <a:ext cx="1744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816520" y="4653000"/>
                <a:ext cx="2659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</a:rPr>
              <a:t>Baterie kondensatorów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816200" y="1600200"/>
          <a:ext cx="6253200" cy="23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600200"/>
                    <a:ext cx="625320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816200" y="4114800"/>
          <a:ext cx="6253200" cy="2340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6200" y="4114800"/>
                    <a:ext cx="625320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</a:rPr>
              <a:t>Baterie kondensatorów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563840" y="1600200"/>
          <a:ext cx="6819840" cy="32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3840" y="1600200"/>
                    <a:ext cx="681984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264200" y="5181480"/>
                <a:ext cx="13284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Zmiany obciąże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0520" y="2276640"/>
            <a:ext cx="3441600" cy="160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60520" y="4941720"/>
            <a:ext cx="3997080" cy="1505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83640" y="1628640"/>
            <a:ext cx="112176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60520" y="4149720"/>
                <a:ext cx="3925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305240" y="1628640"/>
                <a:ext cx="5232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  <m:r>
                          <m:t xml:space="preserve">'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529240" y="2781360"/>
                <a:ext cx="3951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529240" y="3933720"/>
                <a:ext cx="2076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XQ</m:t>
                        </m:r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529240" y="5157720"/>
                <a:ext cx="210204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XQ</m:t>
                        </m:r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Zmiany obciąże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76160" y="1844640"/>
            <a:ext cx="3586320" cy="1440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60520" y="3860640"/>
            <a:ext cx="4140000" cy="161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240160" y="1844640"/>
                <a:ext cx="3789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ΔP</m:t>
                        </m:r>
                        <m:r>
                          <m:t xml:space="preserve">+</m:t>
                        </m:r>
                        <m:r>
                          <m:t xml:space="preserve">XΔQ</m:t>
                        </m:r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889600" y="3068640"/>
                <a:ext cx="21733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Q</m:t>
                        </m:r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889600" y="4149720"/>
                <a:ext cx="24084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XΔQ</m:t>
                        </m:r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889600" y="5300640"/>
                <a:ext cx="1266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Zmiany napięcia (wahania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5240" y="1844640"/>
            <a:ext cx="5038560" cy="3351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73280" y="5373720"/>
            <a:ext cx="50101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ranice występowania wahań napię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Rodzaje zmian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imes New Roman"/>
              </a:rPr>
              <a:t>wolne i szybkie zmiany napięcia,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imes New Roman"/>
              </a:rPr>
              <a:t>pojedyncze i powtarzające się,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imes New Roman"/>
              </a:rPr>
              <a:t>ciągłe i skokow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0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850"/>
              </a:spcBef>
              <a:buClr>
                <a:srgbClr val="ff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3400" spc="-1" strike="noStrike">
                <a:solidFill>
                  <a:srgbClr val="ff0000"/>
                </a:solidFill>
                <a:latin typeface="Times New Roman"/>
              </a:rPr>
              <a:t>wahaniami</a:t>
            </a:r>
            <a:r>
              <a:rPr b="0" lang="pl-PL" sz="3400" spc="-1" strike="noStrike">
                <a:solidFill>
                  <a:srgbClr val="000000"/>
                </a:solidFill>
                <a:latin typeface="Times New Roman"/>
              </a:rPr>
              <a:t> nazywane są gwałtowne, powtarzające się zmiany napię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Klasyfikacja wahań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6160" y="2060640"/>
            <a:ext cx="8498160" cy="360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90640" indent="-89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yp 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kresowe, prostokątne zmiany napięcia o stałej amplitudzie (np. włączanie lub wyłączanie obciążenia czynnego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0640" indent="-89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yp 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iąg nieregularnych zmian napięcia (dolne i górne amplitudy mogą być jednakowe lub nie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0640" indent="-89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yp 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separowane zmiany napięcia, które nie mają charakteru skokowego (np. załączanie obciążenia biernego - rozruch silnikó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90640" indent="-890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yp 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iąg zmian napięcia o charakterze losowym lub ciągłym (np. cyklicznie lub losowo zmienne obciążenie - piece łukow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pl-PL" sz="4200" spc="-1" strike="noStrike">
                <a:solidFill>
                  <a:srgbClr val="ff0000"/>
                </a:solidFill>
                <a:latin typeface="Arial"/>
              </a:rPr>
              <a:t>Klasyfikacja wahań napię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52520" y="1773360"/>
            <a:ext cx="7197840" cy="4460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7T22:28:35Z</dcterms:created>
  <dc:creator>Maciej Pawełek</dc:creator>
  <dc:description/>
  <dc:language>en-US</dc:language>
  <cp:lastModifiedBy>Maciej Pawełek</cp:lastModifiedBy>
  <cp:lastPrinted>2001-07-16T23:43:21Z</cp:lastPrinted>
  <dcterms:modified xsi:type="dcterms:W3CDTF">2004-12-14T18:21:46Z</dcterms:modified>
  <cp:revision>19</cp:revision>
  <dc:subject/>
  <dc:title>WAHANIA NAPIĘCIA</dc:title>
</cp:coreProperties>
</file>