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643-B175-4292-AAB0-8AC36C32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5CE-AA03-4564-A75C-BB5D1FA7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054-5B72-4580-A197-0EF2D375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EF2-523C-4EAB-B5C3-CF227A68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8011-7410-4494-94F5-D0C3A193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EA7-1B04-4152-9267-A8F86A24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7576-36FD-4556-8D37-9D463304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7E84-C89C-4ADC-9274-813C3E3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34AC-8E6F-420F-ACAE-DE38B183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1097-7EE0-4C4F-879A-BAFFAE9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A03E-0BF1-4F15-BD35-494830F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A58-90A1-48F9-834F-2817E73D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0CD-DBE4-4AA1-9FFA-8754C88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CCE2-D59C-49A6-AB8A-7185854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E225-E4AE-4873-B299-A360EEE7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6B43-CB51-4E25-A5F5-A76C54D0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9914-0033-43E5-9652-92E22365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189-CDE5-47B1-8B8B-4EF0A601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79D-2210-4831-9784-2187E139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54C-F332-42EC-BCE2-27C7D021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F44-3A6B-4741-8299-7722C871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57B-5F25-4C47-9183-67548B09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919-7164-40C8-8015-B185A62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70A-55FB-4F32-B32C-88BFDD4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8EAF-1799-4223-8A99-38C28CCA3C4C}" type="slidenum">
              <a:rPr b="0" lang="en-US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7143-9AE4-4AED-A63B-AFEF23F2D2A6}" type="slidenum"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DKSZTAŁCENIE NAPIĘCIA</a:t>
            </a:r>
            <a:endParaRPr b="0" lang="en-US" sz="44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3716280"/>
            <a:ext cx="2448000" cy="25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Times New Roman"/>
              </a:rPr>
              <a:t>Schemat zastępczy ogólnego układu wytwarzania, przesyłu, rozdziału i użytkowania energii elektrycznej dla wyższych harmonicznych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6041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 podstawie założenia o dyskretności widma częstotliwościowego prądów pobieranych z sieci przez odbiorniki nieliniowe oraz założenia o liniowości pozostałych elementów układu do analizy zjawiska odkształcenia napięcia można wykorzystać zasadę superpozycji w dziedzinie częstotliwości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godnie z tą zasadą rozpatruje się sieć osobno dla każdej wyższej harmonicznej, a następnie znając wartości poszczególnych składowych harmonicznych wyznacza się wartości współczynników odkształcenia napięcia w węzłach sieci. Obliczenia napięć węzłowych dla wyższych harmonicznych można dokonać rozwiązując równanie macierzowe w posta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2924280"/>
            <a:ext cx="83055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cierz impedancji własnych i wzajemnych sieci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ktor fazowych napięć węzłowych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ktor prądów źródłowych harmonicznej rzędu h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71640" y="1916280"/>
                <a:ext cx="2644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2924280"/>
            <a:ext cx="83055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ja własna węzła i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ja wzajemna węzłów i, j dla h-tej harmoniczne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źródłowy h-tej harmonicznej w węźle i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źródłowy h-tej harmonicznej w węźle j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717480" indent="-717480" algn="just">
              <a:lnSpc>
                <a:spcPct val="11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ba węzłów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56000" y="1557360"/>
                <a:ext cx="33066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4360" y="3610080"/>
                <a:ext cx="53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4005360"/>
                <a:ext cx="5140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55640" y="4797360"/>
                <a:ext cx="378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55640" y="5229360"/>
                <a:ext cx="378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 zależności powyższej wynika, że wartości napięć wyższych harmonicznych, a co za tym idzie również stopień odkształcenia napięcia w węzłach sieci, zależą nie tylko od prądów wyższych harmonicznych wprowadzanych do sieci (generowanych) przez odbiorniki nieliniowe, ale także od wartości elementów macierzy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y założeniu stałości wymuszeń prądowych można wpływać na napięcia wyższych harmonicznych poprzez odpowiednie kształtowanie impedancji sieci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łączenie w dowolnym węźle sieci (np. w węźle k) nowego elementu (urządzenia kompensacyjnego) o impedancji  powoduje zmianę wartości wszystkich elementów macierzy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zgodnie ze wzor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2565360"/>
            <a:ext cx="8305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wykazać, że włączenie w danym węźle sieci (np. w węźle “i”) takiego odbiornika spowoduje zmianę napięcia h-tej harmonicznej w tym węźle zgodnie z zależnością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700360" y="1341360"/>
                <a:ext cx="3213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3789360"/>
                <a:ext cx="30621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84360" y="5013360"/>
            <a:ext cx="8305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 nazywany jest współczynnikiem zmiany napięcia h-tej harmonicznej po dołączeniu nowego odbiornika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413000"/>
            <a:ext cx="8305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1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łączenie w węźle sieci kondensatora idealnego 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impedancję własną węzła „i” dla h-tej harmonicznej przedstawić w posta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149720"/>
            <a:ext cx="830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spółczynnik zmiany napięcia h-tej harmonicznej w tym węźle będzie równy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1773360"/>
                <a:ext cx="1514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16360" y="3357720"/>
                <a:ext cx="2323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71640" y="5084640"/>
                <a:ext cx="3218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773360"/>
            <a:ext cx="830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ten osiąga wartość maksymaln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716280"/>
            <a:ext cx="830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reaktancji kondensatora równej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43280" y="2492280"/>
                <a:ext cx="22273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203640" y="4365720"/>
                <a:ext cx="1439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1413000"/>
            <a:ext cx="830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rażając reaktancję kondensatora w zależności od jego parametrów znamionowych 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357720"/>
            <a:ext cx="83059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 znamionowa kondensatora (baterii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ięcie znamionowe kondensatora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określić moc baterii kondensatorów przy jakiej w sieci powstaną warunki rezonansu dla prądów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ej harmonicznej. Moc ta jest równa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48000" y="2276640"/>
                <a:ext cx="1494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68800" y="5229360"/>
                <a:ext cx="18158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413000"/>
            <a:ext cx="8305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2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łączenie w węźle sieci idealnego filtra h-tej harmonicznej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żeli w węźle 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zostanie włączony idealny filtr h-tej harmonicznej to na podstawie wcześniejszej zależności możemy napisa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30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 szczególności, gd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68360" y="2205000"/>
                <a:ext cx="971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052800" y="3657600"/>
                <a:ext cx="2557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36800" y="5313240"/>
                <a:ext cx="31194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423040" y="5516640"/>
                <a:ext cx="1106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219320"/>
            <a:ext cx="784872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Odbiorniki nieliniowe, przyłączone do sieci elektroenergetycznej, traktowane jako źródła wyższych harmonicznych prądu można przedstawić za pomocą następujących schematów zastępczych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Źródła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017880" cy="18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51664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Dla harmonicznej podstawowej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5516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Dla wyższych harmoniczn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Filtr elektroenergetyczny składa się z układu elementów R, L, C lub tylko L, C (filtr idealny) o odpowiednio dobranych wartościach. Stanowi on element o bardzo małej impedancji dla harmonicznej (harmonicznych), dla której został dobrany i w związku z tym przedstawia dla niej praktycznie miejsce zwarcia. Jeśli filtr instaluje się w pobliżu źródła harmonicznej, wtedy rozpływ prądów w sieci ulega zmianie. Prąd harmonicznej filtrowanej zamyka się przez filtr, nie płynąc do sieci zasilającej. Również prądy innych harmonicznych o rzędach bliskich częstotliwości rezonansowej filtru popłyną częściowo przez filtr. W ten sposób sieć zasilająca odciążona zostaje od przepływu części prądów wyższych harmonicznych, przez co zmniejszają się harmoniczne spadki napięcia na jej impedancjach i w efekcie – odkształcenie napięcia w sieci.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ęstotliwości rezonansowe filtrów dobiera się dla najniższych częstotliwości harmonicznych szeregu głównego występującego w sieci, a więc 5, 7, 11, 13, a filtrom nadaje się nazwy od rzędu harmonicznej filtrowanej, a więc filtr 5 harmonicznej, filtr 7 harmonicznej itd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r prosty jest to szeregowe połączenie elementów L, C, tzn. w praktyce – dławików i baterii kondensatorów. Ponieważ dławiki jak i kondensatory obarczone są pewnymi stratami energii czynnej, więc mówi się, że filtry rzeczywiste stanowią szeregowe połączenie elementów R, L, C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r prosty służy do filtrowania jednej harmonicznej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r kombinowany stanowi szeregowo-równoległe połączenie elementów R, L, C, tzn. w praktyce oporników, dławików i baterii kondensatorów. Filtr kombinowany służy do filtrowania dwóch harmonicznych, tak jak dwugałęziowy filtr prosty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ry takie nie znalazły jednak zastosowania ze względu na skomplikowaną konstrukcję i trudności w dostrojeniu do wymaganych częstotliwości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ry mogą także filtrować całe pasmo harmonicznych, np. począwszy od 17 harmonicznej wzwyż. Filtry takie nazywa się szerokopasmowymi (high-pass filter)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1484280"/>
            <a:ext cx="80755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estaw filtrów jest to grupa filtrów prostych, z których każdy filtruje inną harmoniczną. Może to być też zestaw kilku filtrów prostych wraz z filtrem high-pass – zasilanych z tych samych szyn zbiorczych.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szczególne filtry proste zestawu filtrów nazywa się jego gałęziami. Filtry stosowane w zakładach przemysłowych zawierają od 1 do 4 gałęzi, najczęściej dla harmonicznych 5, 7, 11, i 13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42320" cy="2879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5229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Schematy połączeń elementów LC w filtrach rezonansowych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Filtry wyższych harmonicznych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516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Zestaw filtrów rezonansowych dla 3, 5 i 7 harmonicznej</a:t>
            </a: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411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47242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Wypadkowa reaktancja filtru dla dowolnej harmonicznej jest równ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34136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Elektroenergetyczny filtr pasywny składa się z elementów LC lub RLC o odpowiednio dobranych wartościach. Filtr LC dla jednej harmonicznej składa się z szeregowo połączonych baterii kondensatorów i dławików (jednego 3-fazowego lub trzech 1-fazowych) o reaktancji indukcyjnej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492360" y="5373720"/>
                <a:ext cx="1997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64000" y="3573360"/>
                <a:ext cx="14065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860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a pulsacja rezonansu szeregowego wynos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1341360"/>
            <a:ext cx="7775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Times New Roman"/>
              </a:rPr>
              <a:t>Dla harmonicznej rezonansowej </a:t>
            </a:r>
            <a:r>
              <a:rPr b="1" i="1" lang="pl-PL" sz="2400" spc="-1" strike="noStrike">
                <a:solidFill>
                  <a:srgbClr val="20374e"/>
                </a:solidFill>
                <a:latin typeface="Times New Roman"/>
              </a:rPr>
              <a:t>h</a:t>
            </a:r>
            <a:r>
              <a:rPr b="1" i="1" lang="pl-PL" sz="2400" spc="-1" strike="noStrike" baseline="-25000">
                <a:solidFill>
                  <a:srgbClr val="20374e"/>
                </a:solidFill>
                <a:latin typeface="Times New Roman"/>
              </a:rPr>
              <a:t>r</a:t>
            </a:r>
            <a:r>
              <a:rPr b="1" lang="pl-PL" sz="2400" spc="-1" strike="noStrike">
                <a:solidFill>
                  <a:srgbClr val="20374e"/>
                </a:solidFill>
                <a:latin typeface="Times New Roman"/>
              </a:rPr>
              <a:t> reaktancja filtru równa się zero, tzn. filtr stanowi obwód, w którym wystąpił rezonans szeregowy. Rząd tej harmonicznej jest równy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916360" y="2852640"/>
                <a:ext cx="2638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132000" y="4653000"/>
                <a:ext cx="2425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dobroć filtru przy częstotliwości rezonansowej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1341360"/>
            <a:ext cx="7775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Przy obliczeniach filtru potrzebne są jeszcze następujące wielkoś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impedancja charakterystyczna filtru wynosząc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556000" y="2852640"/>
                <a:ext cx="4260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40360" y="4869000"/>
                <a:ext cx="119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91480" cy="4318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5640" y="5877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Charakterystyki częstotliwościowe impedancji jednogałęziowych filtrów wyższych harmonicznych</a:t>
            </a:r>
            <a:r>
              <a:rPr b="0" lang="en-US" sz="24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219320"/>
            <a:ext cx="784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UKŁAD Z BATERIĄ KONDENSATORÓW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częstotliwościow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3748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 z jednogałęziowym filtrem wyższych harmoniczn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630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134136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W układzie z filtrem wyższych harmonicznych występuj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58920" indent="-358920" algn="just">
              <a:spcBef>
                <a:spcPts val="1500"/>
              </a:spcBef>
              <a:buClr>
                <a:srgbClr val="203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rezonans szeregowy (napięć) wynikający z parametrów filtra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58920" indent="-358920" algn="just">
              <a:spcBef>
                <a:spcPts val="1500"/>
              </a:spcBef>
              <a:buClr>
                <a:srgbClr val="2037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rezonans równoległy (prądów) będący wynikiem oddziaływania filtra na sieć. Częstotliwość rezonansu równoległego określa wzór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58920" indent="-3589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059280" y="4653000"/>
                <a:ext cx="268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filtrów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1341360"/>
            <a:ext cx="7991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Po załączeniu danego Impedancja układu z filtrem jest mniejsza od impedancji sieci bez filtru dla częstotliwości większych od pewnej częstotliwości granicznej, natomiast jest większa dla częstotliwości mniejszych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Częstotliwość graniczna, dla której wartość impedancji po załączeniu filtru nie ulegnie zmianie, nazywa się częstotliwością neutralną, a jej przybliżoną wartość określa wzór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916360" y="4508640"/>
                <a:ext cx="3112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573408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 z dwugałęziowym filtrem wyższych harmonicznych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(dla 5 i 7 harmonicznej).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62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73408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z czterogałęziowym filtrem wyższych harmonicznych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(dla 5, 7, 11 i 13 harmonicznej).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63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pływ filtrów na charakterystyki sieci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573408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374e"/>
                </a:solidFill>
                <a:latin typeface="Times New Roman"/>
              </a:rPr>
              <a:t>Charakterystyka częstotliwościowa impedancji węzła sieciowego z filtrem 5-tej harmonicznej i baterią kondensatorów</a:t>
            </a:r>
            <a:endParaRPr b="0" lang="en-US" sz="2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63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219320"/>
            <a:ext cx="784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UKŁAD Z FILTREM 5 HARMONICZNEJ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Charakterystyki częstotliwościowe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374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219320"/>
            <a:ext cx="8075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alizę powstawania zjawiska odkształcenia napięcia w sieciach elektroenergetycznych można prześledzić na przykładzie ogólnego układu wytwarzania, przesyłu, rozdziału i użytkowania energii elektrycznej. Układ ten pokazany został na rysunku.</a:t>
            </a:r>
            <a:endParaRPr b="0" lang="en-US" sz="26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5027760" cy="503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2000" y="4437000"/>
            <a:ext cx="277164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Times New Roman"/>
              </a:rPr>
              <a:t>Ogólny układ wytwarzania, przesyłu, rozdziału i użytkowania energii elektrycznej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219320"/>
            <a:ext cx="8075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38480" indent="-43848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analizie zjawiska odkształcenia napięcia w układach sieciowych z odbiornikami nieliniowymi zakłada się, że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38480" indent="-4384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y układu, z wyjątkiem odbiorników nieliniowych, tzn. generatory, transformatory, linie napowietrzne i kablowe, pozostałe odbiorniki oraz urządzenia kompensacyjne (baterie kondensatorów, filtry wyższych harmonicznych) są elementami liniowymi. Elementy te mogą być zastąpione impedancjami o wartościach zależnych od rzędu wyższ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38480" indent="-4384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ądy pobierane przez odbiorniki nieliniowe charakteryzują się dyskretnym widmem częstotliwościowym, przy czym skład widma i wartości prądów poszczególnych harmonicznych zależą od rodzaju odbiornika i od stopnia jego obciążenia. Odbiorniki te mogą być zastąpione impedancją dla harmonicznej podstawowej i źródłem prądowym dla wyższ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1219320"/>
            <a:ext cx="8075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ciążenie każdego węzła można podzielić na trzy charakterystyczne rodzaje o różnych właściwościach lub o różnym przeznaczeniu (patrz węzeł „i” na rysunku poprzednim):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796320" indent="-212400" algn="just">
              <a:lnSpc>
                <a:spcPct val="115000"/>
              </a:lnSpc>
              <a:buClr>
                <a:srgbClr val="524c46"/>
              </a:buClr>
              <a:buFont typeface="Wingdings" charset="2"/>
              <a:buChar char="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biorniki silnikowe i oświetleniowo-grzejne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796320" indent="-212400" algn="just">
              <a:lnSpc>
                <a:spcPct val="115000"/>
              </a:lnSpc>
              <a:buClr>
                <a:srgbClr val="524c46"/>
              </a:buClr>
              <a:buFont typeface="Wingdings" charset="2"/>
              <a:buChar char="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biorniki nieliniowe (traktowane jako źródła prądowe wyższych harmonicznych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796320" indent="-212400" algn="just">
              <a:lnSpc>
                <a:spcPct val="115000"/>
              </a:lnSpc>
              <a:buClr>
                <a:srgbClr val="524c46"/>
              </a:buClr>
              <a:buFont typeface="Wingdings" charset="2"/>
              <a:buChar char=""/>
              <a:tabLst>
                <a:tab algn="l" pos="62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rządzenia kompensacyjne (kondensatory, filtry wyższych harmonicznych) przeznaczone do kompensacji mocy biernej i ograniczenia odkształcenia napięcia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15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podstawie powyższych założeń można utworzyć schematy zastępcze rozpatrywanego układu dla harmonicznej podstawowej  i dla wyższ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228600"/>
            <a:ext cx="80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6920" y="228600"/>
            <a:ext cx="808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etoda analizy odkształcenia napięc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3716280"/>
            <a:ext cx="2448000" cy="25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Times New Roman"/>
              </a:rPr>
              <a:t>Schemat zastępczy ogólnego układu wytwarzania, przesyłu, rozdziału i użytkowania energii elektrycznej dla harmonicznej podstawowej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6041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7-01-10T21:46:36Z</dcterms:modified>
  <cp:revision>154</cp:revision>
  <dc:subject/>
  <dc:title>Asymetria Napięcia</dc:title>
</cp:coreProperties>
</file>