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0C0-AA4B-427B-95B1-FECA38EA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B08-7035-4296-B257-931204C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B70-8950-48E9-B16E-0B0CFCBF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01F-88D6-42AA-8347-876A8C08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E7B4-07D6-4755-BF43-679615FF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2CA0-DC0F-460B-B059-9217DB9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6E87-7CC1-4DB9-B889-F92E0ADD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C569-2ECB-4689-A6D1-CE1071F3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670A-15DD-4F1C-810C-D29D9310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FAD6-BD29-48DE-ACCF-53E258E0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D458-47EE-4EDC-84D7-5683A6A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991-9F42-41F1-8AD4-D9AF4C9B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D78C-5028-4781-A4F6-4E712CE2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39A1-570B-4C88-96A1-C6D8263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79FD-439C-436D-A4C3-3700DD6E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59F7-1293-436E-9C43-3CA24C20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EAEF-E38C-437F-B0C1-72CF9301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51B-000E-4871-96FC-A948493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2A1-B8CE-4318-AD5F-60828B23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607-1EDB-4CA2-8C06-1DABEB60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B26-F581-451D-B06A-F6E683B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AE0-7FB8-4214-B528-6AD0E17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6A7-2117-4FC1-8151-3C900D3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16A-5B72-4DC5-8E47-F020FC7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185B-58CA-43EA-A3D0-97F950E0D510}" type="slidenum">
              <a:rPr b="0" lang="en-US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0480-F86C-4B0B-BD08-F40BDF2F91F6}" type="slidenum"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7.wmf"/><Relationship Id="rId5" Type="http://schemas.openxmlformats.org/officeDocument/2006/relationships/image" Target="../media/image1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JAKOŚĆ ENERGII ELEKTRYCZNEJ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497480"/>
            <a:ext cx="3657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0374e"/>
                </a:solidFill>
                <a:latin typeface="Times New Roman"/>
                <a:ea typeface="Times New Roman"/>
              </a:rPr>
              <a:t>Ryszard Pawełek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2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757840" cy="3381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411280" y="5300640"/>
            <a:ext cx="41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Schemat a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nalizowanej sieci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2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4255920"/>
            <a:ext cx="43434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</a:rPr>
              <a:t>Wektory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napięć dla transformatora Dy</a:t>
            </a:r>
            <a:r>
              <a:rPr b="1" lang="pl-PL" sz="2000" spc="-1" strike="noStrike" baseline="-30000">
                <a:solidFill>
                  <a:srgbClr val="336699"/>
                </a:solidFill>
                <a:latin typeface="Times New Roman"/>
                <a:ea typeface="Times New Roman"/>
              </a:rPr>
              <a:t>0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 w normalnych warunkach pracy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4317840" cy="2135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05480" y="1916280"/>
            <a:ext cx="4317840" cy="2133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605480" y="4255920"/>
            <a:ext cx="43434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ektory napięć dla transformatora Dy</a:t>
            </a:r>
            <a:r>
              <a:rPr b="1" lang="pl-PL" sz="2000" spc="-1" strike="noStrike" baseline="-30000">
                <a:solidFill>
                  <a:srgbClr val="336699"/>
                </a:solidFill>
                <a:latin typeface="Times New Roman"/>
                <a:ea typeface="Times New Roman"/>
              </a:rPr>
              <a:t>0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 w warunkach awarii 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22880" y="45165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Schemat zasilania badanego obiektu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24559" b="0"/>
          <a:stretch/>
        </p:blipFill>
        <p:spPr>
          <a:xfrm>
            <a:off x="179280" y="1773360"/>
            <a:ext cx="56581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30920" y="224316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spółczynnik odkształcenia napięcia THD w trzech fazach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160" y="1557360"/>
            <a:ext cx="5757840" cy="2306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8160" y="3919680"/>
            <a:ext cx="5757840" cy="2306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830920" y="452916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dmo 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</a:rPr>
              <a:t>częstotliwościowe 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harmonicznych w napięciu fazy L1 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22880" y="45165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Schemat zasilania badanego obiektu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24559" b="0"/>
          <a:stretch/>
        </p:blipFill>
        <p:spPr>
          <a:xfrm>
            <a:off x="179280" y="1773360"/>
            <a:ext cx="56581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524664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artości wybranych  wyższych harmonicznych  w warunkach rezonansowych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1557360"/>
            <a:ext cx="57578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9280" y="1798560"/>
            <a:ext cx="4160880" cy="3602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8578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00000" y="3933720"/>
                <a:ext cx="255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836640" y="34279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  <a:ea typeface="Times New Roman"/>
              </a:rPr>
              <a:t>Napięcia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00000" y="4581360"/>
                <a:ext cx="390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151600" y="357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Prądy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19640" y="4005360"/>
                <a:ext cx="871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19640" y="4437000"/>
                <a:ext cx="2428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830160" y="515664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Odbiornik pobiera moc czynn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71640" y="5661000"/>
                <a:ext cx="3138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207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635200" y="2247840"/>
            <a:ext cx="1360440" cy="204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217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35200" y="2247840"/>
            <a:ext cx="1360440" cy="2044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87640" y="1557360"/>
                <a:ext cx="2124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308480" cy="253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56240" y="3357720"/>
            <a:ext cx="4308480" cy="2539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ENERG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627280" y="2276640"/>
            <a:ext cx="1360440" cy="2044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32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635200" y="2247840"/>
            <a:ext cx="1360440" cy="2044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877080" y="1197000"/>
            <a:ext cx="2076480" cy="1797120"/>
            <a:chOff x="6877080" y="1197000"/>
            <a:chExt cx="2076480" cy="179712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6877080" y="1197000"/>
              <a:ext cx="20764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8128800" y="1402200"/>
              <a:ext cx="69336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7427880" y="1416960"/>
              <a:ext cx="699120" cy="102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213000" cy="35974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2484360" y="1268280"/>
            <a:ext cx="2076480" cy="17971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5396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900000" y="3933720"/>
                <a:ext cx="255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836640" y="34279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  <a:ea typeface="Times New Roman"/>
              </a:rPr>
              <a:t>Napięcia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900000" y="4581360"/>
                <a:ext cx="390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5151600" y="357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Prądy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346720" y="4437000"/>
                <a:ext cx="2173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830160" y="515664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Odbiornik pobiera moc czynn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058760" y="5638680"/>
                <a:ext cx="2965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0371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79640" y="1798560"/>
            <a:ext cx="6837120" cy="3478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1798560"/>
            <a:ext cx="6837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1568520" cy="71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11280" y="3645000"/>
            <a:ext cx="1451160" cy="72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0" t="0" r="27382" b="0"/>
          <a:stretch/>
        </p:blipFill>
        <p:spPr>
          <a:xfrm>
            <a:off x="684360" y="4508640"/>
            <a:ext cx="3130560" cy="79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4360" y="5697360"/>
                <a:ext cx="8204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79640" y="5589720"/>
                <a:ext cx="1641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84360" y="4221000"/>
                <a:ext cx="672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4360" y="5516640"/>
                <a:ext cx="125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4360" y="4724280"/>
                <a:ext cx="9144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843280" y="479736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1600" y="35722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Napięci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3080" y="35722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Prąd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357228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Moce źródł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149720"/>
                <a:ext cx="825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1280" y="4941720"/>
                <a:ext cx="172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11280" y="5734080"/>
                <a:ext cx="1092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3600" y="3461040"/>
            <a:ext cx="22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Moce odbiornika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rezystancyjneg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11280" y="4365720"/>
                <a:ext cx="83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157720"/>
                <a:ext cx="647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11280" y="5661000"/>
                <a:ext cx="850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11280" y="5013360"/>
                <a:ext cx="172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42160" y="346104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Moce odbiornika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nielinioweg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4508640"/>
                <a:ext cx="609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5805360"/>
                <a:ext cx="1701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5-09-28T16:06:59Z</dcterms:modified>
  <cp:revision>149</cp:revision>
  <dc:subject/>
  <dc:title>Asymetria Napięcia</dc:title>
</cp:coreProperties>
</file>