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1.png" ContentType="image/png"/>
  <Override PartName="/ppt/media/image29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21E5-81F1-4870-B924-78C646E50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8045-2F02-4F08-BD17-82F3C5C30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2065-35C5-4714-A279-FB0D76273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568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416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568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416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ABB8-3B04-49F7-849B-2013952BA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8920" y="274320"/>
            <a:ext cx="87138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4436-78AA-44A8-AB44-4F6988B7D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568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1416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684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568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1416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70BAA-791C-4016-A4A7-89866A2A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D2B39-3CBC-462B-83E8-DE17CD39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EE8D3-5983-4BFE-909B-9889952F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2BE2B-6C6D-433A-BDE0-541F9864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C88EA-1B75-4148-B7E8-C7E75CCF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7C03-435D-48D2-BF7C-F1E3931CA0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8920" y="274320"/>
            <a:ext cx="87138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830EA-A5E0-4045-91BC-2B00110B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691FE-D713-49D1-9A53-00F34BF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D1D4B-7348-4CAD-967E-CDDE11C5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C232C-434E-4D89-B077-79D2D26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8AF04-BE5B-4AC9-BE71-9E02B6F8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C7482-556E-4E48-A05E-8EE77939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568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1416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568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1416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89F2B-1F5A-4CE7-9656-0F219B55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8E27-0CE7-457F-9BF4-F7532A9CB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742A-5106-4579-884B-31BC2EEE9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8920" y="274320"/>
            <a:ext cx="87138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82B0-4575-465E-AE64-CE8502C44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858E-92B3-4F56-8029-9925E90C8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8D7A-6D43-45E3-9783-7A80A2CB3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D553-26E8-4B80-B868-7DE3AFD49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53000"/>
            <a:ext cx="504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8071-E060-4F99-A4AF-79504BF9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3059280" y="-533520"/>
          <a:ext cx="6769080" cy="599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-533520"/>
                    <a:ext cx="6769080" cy="59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005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2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23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923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923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rcRect l="0" t="10653" r="85777" b="10481"/>
          <a:stretch/>
        </p:blipFill>
        <p:spPr>
          <a:xfrm>
            <a:off x="7380360" y="6585120"/>
            <a:ext cx="216000" cy="161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596360" y="65134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ba"/>
                </a:solidFill>
                <a:latin typeface="Abadi MT Condensed"/>
              </a:rPr>
              <a:t>www.lpqi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rcRect l="0" t="0" r="70564" b="35429"/>
          <a:stretch/>
        </p:blipFill>
        <p:spPr>
          <a:xfrm>
            <a:off x="8666280" y="6502320"/>
            <a:ext cx="298440" cy="297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468360" y="5950080"/>
            <a:ext cx="600120" cy="676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1187280" y="6021360"/>
          <a:ext cx="60012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6021360"/>
                    <a:ext cx="600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1908000" y="6021360"/>
            <a:ext cx="115128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-27000"/>
            <a:ext cx="6372360" cy="3527280"/>
          </a:xfrm>
          <a:prstGeom prst="rect">
            <a:avLst/>
          </a:prstGeom>
          <a:solidFill>
            <a:srgbClr val="a80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1080" y="2513160"/>
            <a:ext cx="331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80056"/>
                </a:solidFill>
                <a:latin typeface="Arial"/>
              </a:rPr>
              <a:t>LPQI is part 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1224000" cy="555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8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37960" y="2708280"/>
            <a:ext cx="1525680" cy="46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260280"/>
            <a:ext cx="331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80056"/>
                </a:solidFill>
                <a:latin typeface="Arial"/>
              </a:rPr>
              <a:t>Core part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370160"/>
            <a:ext cx="331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80056"/>
                </a:solidFill>
                <a:latin typeface="Arial"/>
              </a:rPr>
              <a:t>LPQI-VES is  co-financed 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1989000"/>
            <a:ext cx="583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Ryszard PAWEŁ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Instytut Elektroenergety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olitechniki Łódzki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rpawelek@p.lodz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2771640" cy="33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6732720" y="5981760"/>
          <a:ext cx="2274840" cy="83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5981760"/>
                    <a:ext cx="22748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24000" y="476280"/>
            <a:ext cx="599760" cy="676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42920" y="476280"/>
          <a:ext cx="600120" cy="61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476280"/>
                    <a:ext cx="600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692360" y="549360"/>
            <a:ext cx="94284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160" indent="-280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5000" indent="-223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5720" indent="-2239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BFA4E4E-4472-4CCF-B91D-6F95CA20BC5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Arial"/>
              </a:rPr>
              <a:t>WAHANIA</a:t>
            </a:r>
            <a:r>
              <a:rPr b="1" lang="pl-PL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5000" spc="-1" strike="noStrike">
                <a:solidFill>
                  <a:srgbClr val="ff0000"/>
                </a:solidFill>
                <a:latin typeface="Arial"/>
              </a:rPr>
              <a:t>NAPIĘCI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</a:t>
            </a: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Część 2: Środowisko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EC 61000-2-1</a:t>
            </a:r>
            <a:r>
              <a:rPr b="1" lang="en-GB" sz="2800" spc="-1" strike="noStrike">
                <a:solidFill>
                  <a:srgbClr val="00923f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C. Environment. Description of the environment - Electromagnetic environment for low-frequency conducted disturbances and signalling in power supply syste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48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48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Opis różnych zaburzeń, przyczyn ich powstawania i efektów oddziaływania,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w tym wahań napięcia)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</a:t>
            </a: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Część 2: Środowisko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EC 61000-2-2:</a:t>
            </a:r>
            <a:r>
              <a:rPr b="1" lang="en-GB" sz="2800" spc="-1" strike="noStrike">
                <a:solidFill>
                  <a:srgbClr val="00923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C. Environment. Compatibility levels for low-frequency conducted disturbances and signalling in public low-voltage power supply syste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490680" indent="-49068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EC 61000-2-12:</a:t>
            </a:r>
            <a:r>
              <a:rPr b="1" lang="en-GB" sz="2800" spc="-1" strike="noStrike">
                <a:solidFill>
                  <a:srgbClr val="00923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C. Environment. Compatibility levels for low-frequency conducted disturbances and signalling in public medium-voltage power supply syste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490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IEC 61000-2-2, 61000-2-12 - Poziomy kompatybilności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291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la zmian napięcia: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 = 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U/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3 %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 = 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U/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10 %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508720" y="1844280"/>
            <a:ext cx="40291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la migotania: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 1,0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 0,8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IEC 61000-2-2, 61000-2-12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215480" cy="4724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5280" y="5516640"/>
            <a:ext cx="792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rzywe 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 = 1 dla prostokątnych zmian napię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61000-2-12 - Poziomy planowan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5157720"/>
            <a:ext cx="8207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leżność pomiędzy poziomami kompatybilności, odporności, emisji i poziomem planowany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47892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jest wartością przyjmowaną przez instytucje odpowiedzialne za planowanie i eksploatację sieci zasilających na ograniczonym obszarze (lokalnie).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nie może być wyższy niż poziom kompatybilności. 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jest używany do określania (regulowania) poziomu emisji dla dużych obciążeń i instalacji, które mają być przyłączone do sieci na tym obszarze.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musi uwzględniać inne źródła zakłóceń, w tym liczne urządzenia małej mocy zasilane z sieci niskiego napięcia. 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zależy od skuteczności ograniczeń nałożonych na urządzenia małej mocy.</a:t>
            </a:r>
            <a:r>
              <a:rPr b="0" lang="pl-PL" sz="1800" spc="-1" strike="noStrike">
                <a:solidFill>
                  <a:srgbClr val="00923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60280"/>
            <a:ext cx="8713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61000-2-12 - Poziomy planow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Część 3: Limits</a:t>
            </a:r>
            <a:br>
              <a:rPr sz="2800"/>
            </a:b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 algn="just">
              <a:lnSpc>
                <a:spcPct val="100000"/>
              </a:lnSpc>
              <a:spcBef>
                <a:spcPts val="751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51151"/>
                </a:solidFill>
                <a:latin typeface="Arial"/>
              </a:rPr>
              <a:t>IEC 61000-3-3:</a:t>
            </a:r>
            <a:r>
              <a:rPr b="1" lang="en-GB" sz="2400" spc="-1" strike="noStrike">
                <a:solidFill>
                  <a:srgbClr val="00923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C. Limits. Limitation of voltage fluctuations and flicker in low-voltage supply systems for equipment with rated currents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16A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458640" indent="-458640" algn="just">
              <a:lnSpc>
                <a:spcPct val="100000"/>
              </a:lnSpc>
              <a:spcBef>
                <a:spcPts val="751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51151"/>
                </a:solidFill>
                <a:latin typeface="Arial"/>
              </a:rPr>
              <a:t>IEC 61000-3-5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MC. Limits. Limitation of voltage fluctuations and flicker in low-voltage power supply systems for equipment with rated current greater than 16A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458640" indent="-458640" algn="just">
              <a:lnSpc>
                <a:spcPct val="100000"/>
              </a:lnSpc>
              <a:spcBef>
                <a:spcPts val="774"/>
              </a:spcBef>
              <a:buClr>
                <a:srgbClr val="0092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3f"/>
                </a:solidFill>
                <a:latin typeface="Arial"/>
              </a:rPr>
              <a:t>IEC 61000-3-11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MC. Limits. Limitation of voltage changes, voltage fluctuations and flicker in low voltage supply systems for equipment with rated current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75 A and subject to conditional connection (</a:t>
            </a:r>
            <a:r>
              <a:rPr b="0" lang="en-GB" sz="2400" spc="-1" strike="noStrike">
                <a:solidFill>
                  <a:srgbClr val="00923f"/>
                </a:solidFill>
                <a:latin typeface="Arial"/>
              </a:rPr>
              <a:t>in preparation)</a:t>
            </a:r>
            <a:r>
              <a:rPr b="0" lang="en-GB" sz="2500" spc="-1" strike="noStrike">
                <a:solidFill>
                  <a:srgbClr val="00923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Część 3: 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puszczalne poziomy emisj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just">
              <a:lnSpc>
                <a:spcPct val="100000"/>
              </a:lnSpc>
              <a:spcBef>
                <a:spcPts val="751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PN-EN 61000-3-3, PN-IEC 1000-3-3: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Kompatybilność elektromagnetyczna. Dopuszczalne poziomy. Ograniczenie wahań napięcia i migotania światła powodowanych przez odbiorniki o prądzie znamionowym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16A w sieciach zasilających niskiego napięcia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469440" indent="-469440" algn="just">
              <a:lnSpc>
                <a:spcPct val="100000"/>
              </a:lnSpc>
              <a:spcBef>
                <a:spcPts val="751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PN-T-03501: 2001: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Kompatybilność elektromagnetyczna. Dopuszczalne poziomy. Ograniczanie wahań napięcia i migotania światła, powodowanych przez odbiorniki o prądzie znamionowym większym niż 16A, w sieciach zasilających niskiego napięcia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IEC 61000-3-3 - Warunki wykonywania badań (I</a:t>
            </a:r>
            <a:r>
              <a:rPr b="1" lang="pl-PL" sz="2600" spc="-1" strike="noStrike" baseline="-25000">
                <a:solidFill>
                  <a:srgbClr val="c51151"/>
                </a:solidFill>
                <a:latin typeface="Arial"/>
              </a:rPr>
              <a:t>N</a:t>
            </a: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c51151"/>
                </a:solidFill>
                <a:latin typeface="Symbol"/>
                <a:ea typeface="Symbol"/>
              </a:rPr>
              <a:t></a:t>
            </a: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  16A )</a:t>
            </a:r>
            <a:r>
              <a:rPr b="1" lang="pl-PL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4221000"/>
            <a:ext cx="77724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mpedancja odniesienia (Z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) z elementami: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i="1" lang="pl-PL" sz="2000" spc="-1" strike="noStrike">
                <a:solidFill>
                  <a:srgbClr val="c51151"/>
                </a:solidFill>
                <a:latin typeface="Arial"/>
              </a:rPr>
              <a:t>R</a:t>
            </a:r>
            <a:r>
              <a:rPr b="1" i="1" lang="pl-PL" sz="2000" spc="-1" strike="noStrike" baseline="-25000">
                <a:solidFill>
                  <a:srgbClr val="c51151"/>
                </a:solidFill>
                <a:latin typeface="Arial"/>
              </a:rPr>
              <a:t>A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 = 0,24 </a:t>
            </a:r>
            <a:r>
              <a:rPr b="1" lang="pl-PL" sz="2000" spc="-1" strike="noStrike">
                <a:solidFill>
                  <a:srgbClr val="c51151"/>
                </a:solidFill>
                <a:latin typeface="Symbol"/>
                <a:ea typeface="Symbol"/>
              </a:rPr>
              <a:t>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i="1" lang="pl-PL" sz="2000" spc="-1" strike="noStrike">
                <a:solidFill>
                  <a:srgbClr val="c51151"/>
                </a:solidFill>
                <a:latin typeface="Arial"/>
              </a:rPr>
              <a:t>X</a:t>
            </a:r>
            <a:r>
              <a:rPr b="1" i="1" lang="pl-PL" sz="2000" spc="-1" strike="noStrike" baseline="-25000">
                <a:solidFill>
                  <a:srgbClr val="c51151"/>
                </a:solidFill>
                <a:latin typeface="Arial"/>
              </a:rPr>
              <a:t>A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 = 0,15 </a:t>
            </a:r>
            <a:r>
              <a:rPr b="1" lang="pl-PL" sz="2000" spc="-1" strike="noStrike">
                <a:solidFill>
                  <a:srgbClr val="c51151"/>
                </a:solidFill>
                <a:latin typeface="Symbol"/>
                <a:ea typeface="Symbol"/>
              </a:rPr>
              <a:t>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 dla 50 Hz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i="1" lang="pl-PL" sz="2000" spc="-1" strike="noStrike">
                <a:solidFill>
                  <a:srgbClr val="c51151"/>
                </a:solidFill>
                <a:latin typeface="Arial"/>
              </a:rPr>
              <a:t>R</a:t>
            </a:r>
            <a:r>
              <a:rPr b="1" i="1" lang="pl-PL" sz="2000" spc="-1" strike="noStrike" baseline="-25000">
                <a:solidFill>
                  <a:srgbClr val="c51151"/>
                </a:solidFill>
                <a:latin typeface="Arial"/>
              </a:rPr>
              <a:t>N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 = 0,16 </a:t>
            </a:r>
            <a:r>
              <a:rPr b="1" lang="pl-PL" sz="2000" spc="-1" strike="noStrike">
                <a:solidFill>
                  <a:srgbClr val="c51151"/>
                </a:solidFill>
                <a:latin typeface="Symbol"/>
                <a:ea typeface="Symbol"/>
              </a:rPr>
              <a:t>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i="1" lang="pl-PL" sz="2000" spc="-1" strike="noStrike">
                <a:solidFill>
                  <a:srgbClr val="c51151"/>
                </a:solidFill>
                <a:latin typeface="Arial"/>
              </a:rPr>
              <a:t>X</a:t>
            </a:r>
            <a:r>
              <a:rPr b="1" i="1" lang="pl-PL" sz="2000" spc="-1" strike="noStrike" baseline="-25000">
                <a:solidFill>
                  <a:srgbClr val="c51151"/>
                </a:solidFill>
                <a:latin typeface="Arial"/>
              </a:rPr>
              <a:t>N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 = 0,10 </a:t>
            </a:r>
            <a:r>
              <a:rPr b="1" lang="pl-PL" sz="2000" spc="-1" strike="noStrike">
                <a:solidFill>
                  <a:srgbClr val="c51151"/>
                </a:solidFill>
                <a:latin typeface="Symbol"/>
                <a:ea typeface="Symbol"/>
              </a:rPr>
              <a:t>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 dla 50 Hz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przęt pomiarowy (M)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5398920" cy="32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46000" indent="-505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1,0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0,65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3 %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4 %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artość d(t) podczas zmiany napięcia nie powinna przekraczać 3 % przez czas dłuższy niż 200 ms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la zmian napięcia spowodowanych ręcznym przełączaniem lub zachodzących nie częściej niż jedna zmiana na godzinę, nie stosuje się wymagań dotyczących 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dla 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stosuje się wtedy mnożnk 1,33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274680"/>
            <a:ext cx="8964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Dopuszczalne poziomy emis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991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y związane z normalizacją wahań napi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a, jako jednego z parametrów charakteryzujących jakość energii elektrycznej, zostały zawarte przede wszystkim w grupie dokumentów dotyczących kompatybilności elektromagnetycznej serii IEC 61000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bazie tych dokumentów tworzone są normy europejskie oraz normy krajowe w wielu państwach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Uwagi wstępn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 Wyznaczanie histogramu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na podstawie zmian napięc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0801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IEC 61000-3-3 - Wyznaczanie histogramu na podstawie</a:t>
            </a:r>
            <a:br>
              <a:rPr sz="2400"/>
            </a:b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     zmian napięcia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definicje podstawowe</a:t>
            </a:r>
            <a:endParaRPr b="1" lang="en-US" sz="24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miana wartości skutecznej napięcia w czasie, U(t):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Funkcja zmian wartości skutecznej napięcia w czasie, wyznaczana stopniowo dla kolejno po sobie następujących półokresów składowej podstawowej napięcia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85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Charakterystyka zmiany napięcia, 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U(t):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Funkcja czasu opisująca zmianę wartości skutecznej napięcia występującą między okresami, gdy napięcie jest  w stanie ustalonym co najmniej przez 1 s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85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Maksymalna zmiana napięcia, 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Arial"/>
              </a:rPr>
              <a:t>ma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Różnica między maksymalną a minimalną wartością skuteczną charakterystyki zmiany napięcia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85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Ustalona zmiana napięcia, 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Różnica między dwoma sąsiednimi ustalonymi wartościami skutecznymi napięcia rozdzielonymi przynajmniej jedną charakterystyczną zmianą napięcia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Charakterystyka względnej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    zmiany napięc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IEC 61000-3-3 - Charakterystyka względnej</a:t>
            </a:r>
            <a:br>
              <a:rPr sz="2400"/>
            </a:b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     zmiany napięcia.</a:t>
            </a:r>
            <a:r>
              <a:rPr b="0" lang="pl-PL" sz="2400" spc="-1" strike="noStrike">
                <a:solidFill>
                  <a:srgbClr val="c51151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Definicje podstawowe</a:t>
            </a:r>
            <a:endParaRPr b="1" lang="en-US" sz="24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harakterystyka względnej zmiany napięcia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d(t),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aksymalna względna zmiana napięcia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Arial"/>
              </a:rPr>
              <a:t>max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stalona zmiana napięcia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2184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cena na podstawie przebiegu zmian wartości skutecznej napięcia: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d = </a:t>
            </a:r>
            <a:r>
              <a:rPr b="1" i="1" lang="pl-PL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U/U</a:t>
            </a:r>
            <a:r>
              <a:rPr b="1" i="1" lang="pl-PL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 [%],</a:t>
            </a:r>
            <a:r>
              <a:rPr b="1" lang="pl-PL" sz="2800" spc="-1" strike="noStrike">
                <a:solidFill>
                  <a:srgbClr val="00923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miar bezpośredni wskaźników migotania: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krótkookresowego (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ff0000"/>
                </a:solidFill>
                <a:latin typeface="Arial"/>
              </a:rPr>
              <a:t>st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długookresowego (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ff0000"/>
                </a:solidFill>
                <a:latin typeface="Arial"/>
              </a:rPr>
              <a:t>lt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1" lang="pl-PL" sz="2800" spc="-1" strike="noStrike">
                <a:solidFill>
                  <a:srgbClr val="00923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810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Pomiary i ocena emisji wahań 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   napięc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9289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Wyznaczanie wartości wskaźnika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11280" y="1413000"/>
          <a:ext cx="764388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6438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8244000" y="1413000"/>
            <a:ext cx="0" cy="367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omiar bezpośredni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zystkie rodzaje wahań mogą być ocenione przez bezpośredni pomiar za pomocą miernika migotania światła (“flickermetera”) spełniającego wymagania normy PN-EN 61000-4-15.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37840" y="3695760"/>
            <a:ext cx="80564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Metoda symulacyjna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5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przypadku, gdy względna zmiana napięcia w czasie d(t) jest znana, wartość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może być wyznaczona z zastosowaniem symulacji komputerowej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1752480"/>
            <a:ext cx="701064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żda względna zmiana napięcia może być wyrażona przez czas wrażenia migotania światła,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wyrażony w sekund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110040" y="3068640"/>
                <a:ext cx="2760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1182600" y="4005360"/>
            <a:ext cx="68104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just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ówczas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jest określone następując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110040" y="4508640"/>
                <a:ext cx="25732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,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440" y="110016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Metoda analitycz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443640" y="1413000"/>
                <a:ext cx="22590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227640" y="2565360"/>
                <a:ext cx="25736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,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5967360" cy="4319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11280" y="5157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spółczynniki kształtu F dla prostokątnych i trójkątnych charakterystyk napię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867280" y="1773360"/>
                <a:ext cx="2583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5351400" cy="4318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51577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spółczynniki kształtu F dla dwupoziomowych i jednostajnie narastających charakterystyk napię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6000" y="2997360"/>
                <a:ext cx="25732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,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just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rmy dotycz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wahań napięcia i zjawiska migotania światła 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pracowywane według tych samych reguł, jakie zostały przyjęte w celu standaryzacji w obszarze kompatybilności elektromagnetycznej (EMC). Standaryzacja dopuszczalnych wartości migotania światła wykorzystuje następuj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pojęcia: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lvl="1" marL="836640" indent="-298440" algn="just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  <a:ea typeface="Times New Roman"/>
              </a:rPr>
              <a:t>poziom emisji,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836640" indent="-298440" algn="just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  <a:ea typeface="Times New Roman"/>
              </a:rPr>
              <a:t>poziom kompatybilności,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836640" indent="-298440" algn="just">
              <a:lnSpc>
                <a:spcPct val="100000"/>
              </a:lnSpc>
              <a:spcBef>
                <a:spcPts val="624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  <a:ea typeface="Times New Roman"/>
              </a:rPr>
              <a:t>poziom odporności.</a:t>
            </a: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923f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Uwagi wstępn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78200" cy="416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867280" y="2924280"/>
                <a:ext cx="14922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11640" y="1197000"/>
            <a:ext cx="45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ykorzystanie krzywej 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Pst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 = 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l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3284640"/>
            <a:ext cx="821844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sz="2800" spc="-1" strike="noStrike">
                <a:solidFill>
                  <a:srgbClr val="00923f"/>
                </a:solidFill>
                <a:latin typeface="Verdana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Wyznaczanie wartości 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8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 jest z reguły niezbędne w przypadku urządzeń pracujących przez czas dłuższy niż 30 min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203640" y="1413000"/>
                <a:ext cx="23526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ad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 -  Procedury postępowania przy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    ocenie wahań napięc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08360" y="1197000"/>
            <a:ext cx="46245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498920" y="3346560"/>
                <a:ext cx="1396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900000" y="3789360"/>
            <a:ext cx="2438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880" bIns="47880" anchor="t">
            <a:spAutoFit/>
          </a:bodyPr>
          <a:p>
            <a:pPr>
              <a:tabLst>
                <a:tab algn="l" pos="0"/>
                <a:tab algn="l" pos="98280"/>
                <a:tab algn="l" pos="200160"/>
                <a:tab algn="l" pos="399960"/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pl-PL" sz="1800" spc="-1" strike="noStrike" baseline="-25000">
                <a:solidFill>
                  <a:srgbClr val="ff0000"/>
                </a:solidFill>
                <a:latin typeface="Arial"/>
              </a:rPr>
              <a:t>ref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 = 0,24+j0,15 </a:t>
            </a:r>
            <a:r>
              <a:rPr b="1" lang="pl-PL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280"/>
                <a:tab algn="l" pos="200160"/>
                <a:tab algn="l" pos="399960"/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la 50 H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Część 3: 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puszczalne poziomy emisj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1520" y="2057040"/>
            <a:ext cx="821844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IEC 61000-3-7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 EMC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mits. Assessment of emission limits for fluctuating loads in MV and HV power syste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Norma dotyczy warunków przyłączania odbiorców zakłócających (powodujących migotanie światła) do publicznych sieci średniego (SN) i wysokiego (WN) napięcia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 - Poziomy kompatybilności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    i planowane 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76440" y="1612800"/>
          <a:ext cx="7681680" cy="42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612800"/>
                    <a:ext cx="768168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 - Skutki sumowania emisj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2741760"/>
            <a:ext cx="821844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4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używany tylko do sumowania wahań napięcia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ochodzących od pieców łukowych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3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jest używany dla większości typów zmian napięcia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3,2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używany dla prostoliniowej części wykresu krzywej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2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używany w przypadku stochastycznych zmian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napięcia,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np. wywołanych roztapianiem wsadu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w pieach łukowych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1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zy sumowaniu się zgodnych zmian napięcia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1295280"/>
                <a:ext cx="21621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m</m:t>
                        </m:r>
                      </m:deg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14480" y="333360"/>
            <a:ext cx="4632480" cy="61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881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1: uproszczona ocena emisji zakłóceń dla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małych obciążeń zakłócających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sieciach S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4267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sieciach 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581280" y="4800600"/>
                <a:ext cx="1971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6" name="" descr=""/>
          <p:cNvPicPr/>
          <p:nvPr/>
        </p:nvPicPr>
        <p:blipFill>
          <a:blip r:embed="rId1"/>
          <a:srcRect l="12296" t="0" r="12296" b="0"/>
          <a:stretch/>
        </p:blipFill>
        <p:spPr>
          <a:xfrm>
            <a:off x="380880" y="2133720"/>
            <a:ext cx="8991720" cy="206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644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2: Ograniczenia emisji proporcjonalne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do ustalonej mocy odbiorcy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 sieciach S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ślenie dopuszczalnej wypadkowej emisji odbiorców 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543040" y="2590920"/>
                <a:ext cx="440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N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N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567160" y="3505320"/>
            <a:ext cx="4062240" cy="718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84080" y="4267080"/>
            <a:ext cx="813132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122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2: Ograniczenia emisji proporcjonalne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do ustalonej mocy odbiorcy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7600" y="2316240"/>
            <a:ext cx="830880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bliczone, przy przyjęciu poziomów planowanych dla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0,9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= 0,7 oraz współczynnika przenoszenia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WN,SN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= 0,8, dopuszczalne wypadkowe wartości emisji migotania światła przez odbiorców zaburzających przyłączonych do sieci SN wynoszą odpowied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057400" y="4724280"/>
                <a:ext cx="14907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334120" y="4724280"/>
                <a:ext cx="1466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716360" y="2133720"/>
            <a:ext cx="39880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 — poziom wraż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 — poziom odpor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3 — poziom emis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4 — poziom kompatybil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4005360"/>
            <a:ext cx="820440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 rysunku przedstawiono wzajemne usytuowanie poziomu kompatybilności systemu oraz poziomów emisji i odporności. Różnica pomiędzy poziomem odporności i poziomem emisji zaburzeń, zwana zapasem kompatybilności, jest podstawowym elementem oceny kompatybilności elektromagnetycznej systemów elektroenergetycznych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986280" cy="25891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Uwagi wstępn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122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2: Ograniczenia emisji proporcjonalne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do ustalonej mocy odbiorcy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7600" y="1752480"/>
            <a:ext cx="830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padkowy dopuszczalny poziom emisji migotania światła jest rozdzielany pomiędzy indywidualnych odbiorców odpowiednio do ich udziału w całkowitym obciążeniu sieci. Wybrano takie kryterium, ponieważ moc zamówiona odpowiada stopniowi wykorzystania sieci zasilającej przez odbiorcę, a więc odpowiada również udziałowi odbiorcy w kosztach inwestycyjnych sieci. Metoda ta daje pewność, że poziom zaburzenia spowodowany emisjami wszystkich odbiorców podłączonych do sieci nie spowoduje przekroczenia wartości poziomu planowa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ślenie dopuszczalnej wypadkowej emisji odbior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sieciach S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sieciach 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678040" y="2362320"/>
                <a:ext cx="25750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774880" y="3581280"/>
                <a:ext cx="2406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WN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2360" y="4572000"/>
            <a:ext cx="8305920" cy="1386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38080" y="304920"/>
            <a:ext cx="85122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2: Ograniczenia emisji proporcjonalne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do ustalonej mocy odbior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15960" y="1371600"/>
            <a:ext cx="791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EC 61000-4-14: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1999: Electromagnetic compatibility (EMC).  Part 4. Testing and measuring techniques. Section 14. Voltage fluctuation immunity 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PN-EN 61000-4-14: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2002: Kompatybilność elektromagnetyczna. Metody badań i pomiarów. Badanie odporności na wahania napię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274680"/>
            <a:ext cx="8713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Część 4: 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Poziomy odpor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4-14 – Poziomy odpornośc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3520" y="1676520"/>
          <a:ext cx="8534160" cy="33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5341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4-14 – Poziomy odpornośc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828800" y="914400"/>
          <a:ext cx="459432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4594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4-14 – Poziomy odpornośc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33720" y="1219320"/>
          <a:ext cx="4495680" cy="193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19320"/>
                    <a:ext cx="449568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133720" y="3429000"/>
          <a:ext cx="4495680" cy="280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429000"/>
                    <a:ext cx="449568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Normowane wskaźnik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rótkookresowy wskaźnik migotania światła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i="1" lang="pl-PL" sz="2800" spc="-1" strike="noStrike" baseline="-25000">
                <a:solidFill>
                  <a:srgbClr val="cc0000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ługookresowy wskaźnik migotania światła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1792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i="1" lang="pl-PL" sz="2800" spc="-1" strike="noStrike" baseline="-25000">
                <a:solidFill>
                  <a:srgbClr val="cc0000"/>
                </a:solidFill>
                <a:latin typeface="Times New Roman"/>
              </a:rPr>
              <a:t>lt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1792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48000" y="3789360"/>
                <a:ext cx="20160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Podstawowe dokumenty – przepisy krajow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porządzenie Ministra Gospodarki i Pracy z dnia 20 grudnia 2004 r. w sprawie szczegółowych warunków przyłączania podmiotów do sieci elektroenergetycznych, ruchu i eksploatacji tych sieci (Dziennik Ustaw Nr 2 z 2005 r., poz. 6)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N-EN 50160: Parametry napięcia zasilającego w publicznych sieciach rozdzielczych. PKN 1998</a:t>
            </a:r>
            <a:r>
              <a:rPr b="0" lang="pl-PL" sz="2400" spc="-1" strike="noStrike">
                <a:solidFill>
                  <a:srgbClr val="00923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Przepisy krajowe – wymagan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87280" y="1557360"/>
          <a:ext cx="6913800" cy="3432240"/>
        </p:xfrm>
        <a:graphic>
          <a:graphicData uri="http://schemas.openxmlformats.org/drawingml/2006/table">
            <a:tbl>
              <a:tblPr/>
              <a:tblGrid>
                <a:gridCol w="1265400"/>
                <a:gridCol w="2940120"/>
                <a:gridCol w="2708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rządze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-EN 50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zęść 1: Wymagania ogólne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Część 2: Środowisko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Część 3: Dopuszczalne poziomy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zęść 4: Metody badań i pomiarów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zęść 5: Wytyczne dotyczące instalowania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 urządzeń i ograniczania zakłóceń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zęść 9: Różne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</a:t>
            </a:r>
            <a:r>
              <a:rPr b="1" lang="pl-PL" sz="2600" spc="-1" strike="noStrike">
                <a:solidFill>
                  <a:srgbClr val="0000ff"/>
                </a:solidFill>
                <a:latin typeface="Arial"/>
              </a:rPr>
              <a:t>Część 1:</a:t>
            </a:r>
            <a:r>
              <a:rPr b="1" lang="pl-PL" sz="2600" spc="-1" strike="noStrike">
                <a:solidFill>
                  <a:srgbClr val="a80056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0000ff"/>
                </a:solidFill>
                <a:latin typeface="Arial"/>
              </a:rPr>
              <a:t>Wymagania ogólne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IEC 61000-1-1</a:t>
            </a:r>
            <a:r>
              <a:rPr b="1" lang="pl-PL" sz="2800" spc="-1" strike="noStrike">
                <a:solidFill>
                  <a:srgbClr val="00923f"/>
                </a:solidFill>
                <a:latin typeface="Arial"/>
              </a:rPr>
              <a:t>: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MC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. Application and interpretation of fundamental definitions and ter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Zastosowanie i interpretacja podstawowych definicji i terminów związanych z EM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1:14:34Z</dcterms:created>
  <dc:creator>baggio</dc:creator>
  <dc:description/>
  <dc:language>en-US</dc:language>
  <cp:lastModifiedBy>Maciej Pawełek</cp:lastModifiedBy>
  <dcterms:modified xsi:type="dcterms:W3CDTF">2005-12-07T22:39:58Z</dcterms:modified>
  <cp:revision>211</cp:revision>
  <dc:subject/>
  <dc:title>Diapositiva 1</dc:title>
</cp:coreProperties>
</file>