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0FE-F747-4C40-81FF-B5FAB626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49A5-C2E6-4699-B853-E52759C1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A4B-96C1-4D8D-937B-5DC93832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CDB-B3B7-43BC-826F-E74AA403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0FCB-42DD-42F0-9B71-0DB1319A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A5C6-1388-41CE-AE25-BAC1D6F0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01CA-601D-49A7-A2E8-EA064A88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BEAC-8372-4284-8749-AD79A096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563F-719C-4EF3-AAA6-704ACC40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7415-D291-4D9A-B404-0643B1DE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E5B3-DECE-4265-B2E7-DF5962F9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D0D-F639-4D8A-98B0-E1D44DD0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61A9-86E7-46AF-B26B-78729E02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67AD-6BCC-40B5-A02F-1406E006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833C-5DD6-4252-BAFF-070CA5E7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435C-CCA7-4FB6-8DFD-DA59E760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B5CE-E735-4F4E-916F-B0AEAE03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ADE-0346-48D7-8AE7-8BCAE3FB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CF2-A65F-46AB-9554-5DAA9066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37B-7EC6-4D25-AB70-EA9B0387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9BF-915B-4C76-805F-415F7A4C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B94-F0DB-4583-9718-86DB2841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A32-5B51-498A-B929-085EC3CE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D7AF-0362-400F-887B-BB6E1082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1" marL="343080" indent="-343080">
              <a:spcBef>
                <a:spcPts val="799"/>
              </a:spcBef>
              <a:buClr>
                <a:srgbClr val="524c4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2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3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4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5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6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3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3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66680"/>
            <a:ext cx="8458200" cy="87480"/>
          </a:xfrm>
          <a:prstGeom prst="rect">
            <a:avLst/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52280"/>
            <a:ext cx="533520" cy="121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610480" y="6172200"/>
            <a:ext cx="292320" cy="5335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ce4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2A71-1FEF-4657-8D4E-CE3A8455592B}" type="slidenum">
              <a:rPr b="0" lang="pl-PL" sz="1400" spc="-1" strike="noStrike">
                <a:solidFill>
                  <a:srgbClr val="dce4d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2971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4d2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dce4d2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3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3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E570-22DC-4A06-9A3B-5C54D9247318}" type="slidenum">
              <a:rPr b="0" lang="pl-PL" sz="1400" spc="-1" strike="noStrike">
                <a:solidFill>
                  <a:srgbClr val="203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752480"/>
            <a:ext cx="7467480" cy="42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ODKSZTAŁCENIE NAPIĘCIA</a:t>
            </a:r>
            <a:endParaRPr b="0" lang="en-US" sz="44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dobór  pasywnych filtrów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yższych harmonicznych)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55640" y="1844640"/>
            <a:ext cx="78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densator o pojemności C ma reaktancję o charakterze pojemnościowym zależną od częstotliwości zgodnie z wzorem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916360" y="3500280"/>
                <a:ext cx="24476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h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1413000"/>
            <a:ext cx="7848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densator ten zasilany jest z sieci o napięciu odkształconym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933720"/>
            <a:ext cx="784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biera prąd pojemnościowy o przebieg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403280" y="2349360"/>
                <a:ext cx="530856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nary>
                      <m:naryPr>
                        <m:chr m:val="∑"/>
                      </m:naryPr>
                      <m:sub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h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332000" y="4653000"/>
                <a:ext cx="558936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C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h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5640" y="1413000"/>
            <a:ext cx="7848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tości skuteczne przebiegów napięcia i prądu określonych wyrażeniami wynoszą odpowiednio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987640" y="3068640"/>
                <a:ext cx="2973600" cy="25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sSub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rad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55640" y="1413000"/>
            <a:ext cx="7848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densatory pracujące w sieci z odkształconym napięciem mogą wraz z indukcyjnością sieci powodować zjawiska rezonansowe dla wyższych harmonicznych. W warunkach rezonansu może nastąpić wzrost napięcia na zaciskach kondensatora oraz znaczne przeciążenie kondensatora prądami wyższych harmonicznych. Z tego względu przepisy (PN) zawierają wymagania techniczne, jakie powinny spełniać kondensatory energetyczne. Wymagania te określone są poprzez dopuszczalne wartości współczynników przeciążenia kondensatora napięciem, prądem i mocą. Współczynniki te zdefiniowane są następująco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55640" y="1413000"/>
            <a:ext cx="784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74e"/>
                </a:solidFill>
                <a:latin typeface="Times New Roman"/>
              </a:rPr>
              <a:t>współczynnik przeciążenia napięciowego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132000" y="1989000"/>
                <a:ext cx="28656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p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755640" y="2997360"/>
            <a:ext cx="784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74e"/>
                </a:solidFill>
                <a:latin typeface="Times New Roman"/>
              </a:rPr>
              <a:t>współczynnik przeciążenia prądowego</a:t>
            </a:r>
            <a:r>
              <a:rPr b="0" lang="en-US" sz="2800" spc="-1" strike="noStrike">
                <a:solidFill>
                  <a:srgbClr val="20374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3640" y="3573360"/>
                <a:ext cx="28112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p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900000" y="4653000"/>
            <a:ext cx="784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74e"/>
                </a:solidFill>
                <a:latin typeface="Times New Roman"/>
              </a:rPr>
              <a:t>współczynnik przeciążeni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cą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203640" y="5157720"/>
                <a:ext cx="24368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p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4360" y="206064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 IEC 70 podaje następujące dopuszczalne wartości współczynników przeciążenia: k</a:t>
            </a:r>
            <a:r>
              <a:rPr b="1" lang="pl-P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dop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1, k</a:t>
            </a:r>
            <a:r>
              <a:rPr b="1" lang="pl-P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dop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3, k</a:t>
            </a:r>
            <a:r>
              <a:rPr b="1" lang="pl-P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dop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43.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episy eksploatacji urządzeń elektrycznych podają k</a:t>
            </a:r>
            <a:r>
              <a:rPr b="1" lang="pl-P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dop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1, k</a:t>
            </a:r>
            <a:r>
              <a:rPr b="1" lang="pl-P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dop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3.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4360" y="119700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sunek strat w kondensatorze zasilanym napięciem zawierającym wyższe harmoniczne do strat przy znamionowym napięciu sinusoidalnym określa przeciążenie cieplne kondensatora.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627280" y="3068640"/>
                <a:ext cx="26100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900000" y="4076640"/>
            <a:ext cx="784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556000" y="4365720"/>
                <a:ext cx="38685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ωC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556000" y="5589720"/>
                <a:ext cx="219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1280" y="443700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rzymujemy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611280" y="1700280"/>
                <a:ext cx="7435800" cy="25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C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U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ω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U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U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U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sSub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nary>
                          </m:num>
                          <m:den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U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nary>
                          </m:num>
                          <m:den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h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</m:nary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755640" y="1125360"/>
            <a:ext cx="784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 przekształceniach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268360" y="5157720"/>
                <a:ext cx="39117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5640" y="1844640"/>
            <a:ext cx="784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tępując analogicznie wyznaczamy współczynnik przeciążenia prądowego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050920" y="3141720"/>
                <a:ext cx="482940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h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b>
                                            <m:r>
                                              <m:t xml:space="preserve">h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5640" y="1844640"/>
            <a:ext cx="784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ładając, że w napięciu zasilającym występuje obok harmonicznej podstawowej tylko jedna wyższa harmoniczna rzędu h można określić graniczne wartości przeciążenia kondensatora tą harmoniczną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916360" y="4292640"/>
                <a:ext cx="30366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2133720"/>
            <a:ext cx="784872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90000"/>
              </a:lnSpc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mat zastępczy pasywnego filtra wyższych harmonicznych pokazano na rysunku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prowadzeni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08000" y="4035240"/>
            <a:ext cx="5038920" cy="675000"/>
            <a:chOff x="1908000" y="4035240"/>
            <a:chExt cx="5038920" cy="675000"/>
          </a:xfrm>
        </p:grpSpPr>
        <p:sp>
          <p:nvSpPr>
            <p:cNvPr id="96" name=""/>
            <p:cNvSpPr/>
            <p:nvPr/>
          </p:nvSpPr>
          <p:spPr>
            <a:xfrm>
              <a:off x="2985480" y="4091040"/>
              <a:ext cx="105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R</a:t>
              </a:r>
              <a:endParaRPr b="0" lang="en-US" sz="1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67640" y="4189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F</a:t>
              </a:r>
              <a:endParaRPr b="0" lang="en-US" sz="9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35000" y="4035240"/>
              <a:ext cx="8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1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88360" y="4134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F</a:t>
              </a:r>
              <a:endParaRPr b="0" lang="en-US" sz="9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4189320" y="4387320"/>
              <a:ext cx="1231920" cy="154800"/>
              <a:chOff x="4189320" y="4387320"/>
              <a:chExt cx="1231920" cy="1548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4399560" y="4387320"/>
                <a:ext cx="250920" cy="154080"/>
                <a:chOff x="4399560" y="4387320"/>
                <a:chExt cx="250920" cy="1540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399560" y="4387320"/>
                  <a:ext cx="124920" cy="154080"/>
                </a:xfrm>
                <a:custGeom>
                  <a:avLst/>
                  <a:gdLst/>
                  <a:ahLst/>
                  <a:rect l="l" t="t" r="r" b="b"/>
                  <a:pathLst>
                    <a:path w="134" h="165">
                      <a:moveTo>
                        <a:pt x="0" y="165"/>
                      </a:moveTo>
                      <a:lnTo>
                        <a:pt x="15" y="105"/>
                      </a:lnTo>
                      <a:lnTo>
                        <a:pt x="44" y="45"/>
                      </a:lnTo>
                      <a:lnTo>
                        <a:pt x="89" y="15"/>
                      </a:lnTo>
                      <a:lnTo>
                        <a:pt x="13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0374e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524480" y="4387320"/>
                  <a:ext cx="126000" cy="154080"/>
                </a:xfrm>
                <a:custGeom>
                  <a:avLst/>
                  <a:gdLst/>
                  <a:ahLst/>
                  <a:rect l="l" t="t" r="r" b="b"/>
                  <a:pathLst>
                    <a:path w="135" h="165">
                      <a:moveTo>
                        <a:pt x="0" y="0"/>
                      </a:moveTo>
                      <a:lnTo>
                        <a:pt x="60" y="15"/>
                      </a:lnTo>
                      <a:lnTo>
                        <a:pt x="90" y="45"/>
                      </a:lnTo>
                      <a:lnTo>
                        <a:pt x="120" y="105"/>
                      </a:lnTo>
                      <a:lnTo>
                        <a:pt x="135" y="16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0374e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4650840" y="4387320"/>
                <a:ext cx="251280" cy="154080"/>
                <a:chOff x="4650840" y="4387320"/>
                <a:chExt cx="251280" cy="1540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650840" y="4387320"/>
                  <a:ext cx="125640" cy="154080"/>
                </a:xfrm>
                <a:custGeom>
                  <a:avLst/>
                  <a:gdLst/>
                  <a:ahLst/>
                  <a:rect l="l" t="t" r="r" b="b"/>
                  <a:pathLst>
                    <a:path w="135" h="165">
                      <a:moveTo>
                        <a:pt x="0" y="165"/>
                      </a:moveTo>
                      <a:lnTo>
                        <a:pt x="15" y="105"/>
                      </a:lnTo>
                      <a:lnTo>
                        <a:pt x="45" y="45"/>
                      </a:lnTo>
                      <a:lnTo>
                        <a:pt x="90" y="15"/>
                      </a:lnTo>
                      <a:lnTo>
                        <a:pt x="13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0374e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776480" y="4387320"/>
                  <a:ext cx="125640" cy="154080"/>
                </a:xfrm>
                <a:custGeom>
                  <a:avLst/>
                  <a:gdLst/>
                  <a:ahLst/>
                  <a:rect l="l" t="t" r="r" b="b"/>
                  <a:pathLst>
                    <a:path w="135" h="165">
                      <a:moveTo>
                        <a:pt x="0" y="0"/>
                      </a:moveTo>
                      <a:lnTo>
                        <a:pt x="60" y="15"/>
                      </a:lnTo>
                      <a:lnTo>
                        <a:pt x="90" y="45"/>
                      </a:lnTo>
                      <a:lnTo>
                        <a:pt x="120" y="105"/>
                      </a:lnTo>
                      <a:lnTo>
                        <a:pt x="135" y="16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0374e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902840" y="4387320"/>
                <a:ext cx="251640" cy="154080"/>
                <a:chOff x="4902840" y="4387320"/>
                <a:chExt cx="251640" cy="1540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4902840" y="4387320"/>
                  <a:ext cx="126000" cy="154080"/>
                </a:xfrm>
                <a:custGeom>
                  <a:avLst/>
                  <a:gdLst/>
                  <a:ahLst/>
                  <a:rect l="l" t="t" r="r" b="b"/>
                  <a:pathLst>
                    <a:path w="135" h="165">
                      <a:moveTo>
                        <a:pt x="0" y="165"/>
                      </a:moveTo>
                      <a:lnTo>
                        <a:pt x="15" y="105"/>
                      </a:lnTo>
                      <a:lnTo>
                        <a:pt x="45" y="45"/>
                      </a:lnTo>
                      <a:lnTo>
                        <a:pt x="90" y="15"/>
                      </a:lnTo>
                      <a:lnTo>
                        <a:pt x="13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0374e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028840" y="4387320"/>
                  <a:ext cx="125640" cy="154080"/>
                </a:xfrm>
                <a:custGeom>
                  <a:avLst/>
                  <a:gdLst/>
                  <a:ahLst/>
                  <a:rect l="l" t="t" r="r" b="b"/>
                  <a:pathLst>
                    <a:path w="135" h="165">
                      <a:moveTo>
                        <a:pt x="0" y="0"/>
                      </a:moveTo>
                      <a:lnTo>
                        <a:pt x="60" y="15"/>
                      </a:lnTo>
                      <a:lnTo>
                        <a:pt x="90" y="45"/>
                      </a:lnTo>
                      <a:lnTo>
                        <a:pt x="120" y="105"/>
                      </a:lnTo>
                      <a:lnTo>
                        <a:pt x="135" y="16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0374e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 flipH="1">
                <a:off x="4189320" y="4541400"/>
                <a:ext cx="2098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20374e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155200" y="4541400"/>
                <a:ext cx="2660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20374e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650320" y="4429440"/>
              <a:ext cx="1021320" cy="28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57600" y="4541400"/>
              <a:ext cx="6440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77880" y="4035240"/>
              <a:ext cx="105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60400" y="4134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F</a:t>
              </a:r>
              <a:endParaRPr b="0" lang="en-US" sz="9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51600" y="4387320"/>
              <a:ext cx="720" cy="30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62480" y="4387320"/>
              <a:ext cx="720" cy="30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07200" y="4541400"/>
              <a:ext cx="6440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62480" y="4541400"/>
              <a:ext cx="742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49000" y="4485240"/>
              <a:ext cx="97920" cy="9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949400" y="4541400"/>
              <a:ext cx="700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08000" y="4485240"/>
              <a:ext cx="83880" cy="9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24000" y="2060640"/>
          <a:ext cx="8637480" cy="193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60640"/>
                    <a:ext cx="863748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179280" y="1341360"/>
            <a:ext cx="842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półczynniki przeciążenia kondensatora mocą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" y="4076640"/>
            <a:ext cx="842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półczynniki przeciążenia kondensator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ąd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395280" y="4653000"/>
          <a:ext cx="8637480" cy="1932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4653000"/>
                    <a:ext cx="863748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50920" y="1700280"/>
          <a:ext cx="863748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0280"/>
                    <a:ext cx="863748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4360" y="119700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0374e"/>
                </a:solidFill>
                <a:latin typeface="Times New Roman"/>
              </a:rPr>
              <a:t>Reaktancja filtra dla dowolnej h-tej wyższej harmonicznej wynosi: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00000" y="3213000"/>
            <a:ext cx="7848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warunkach rezonansu szeregowego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h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 Rząd harmonicznej rezonansowej h</a:t>
            </a:r>
            <a:r>
              <a:rPr b="1" lang="pl-P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kreślony jest następująco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2050920" y="2060640"/>
                <a:ext cx="35370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X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700360" y="4869000"/>
                <a:ext cx="177012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4360" y="119700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74e"/>
                </a:solidFill>
                <a:latin typeface="Times New Roman"/>
              </a:rPr>
              <a:t>Uwzględniając, że: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5640" y="321300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rzymujem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258920" y="2133720"/>
                <a:ext cx="2260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411280" y="4221000"/>
                <a:ext cx="41785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003640" y="1916280"/>
                <a:ext cx="1730520" cy="11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4360" y="119700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74e"/>
                </a:solidFill>
                <a:latin typeface="Times New Roman"/>
              </a:rPr>
              <a:t>Reaktancja filtra dla harmonicznej podstawowej wynosi: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378936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zrost napięcia harmonicznej podstawowej na kondensatorze wynos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340000" y="2133720"/>
                <a:ext cx="34480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7236000" y="2276640"/>
                <a:ext cx="1730160" cy="11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1763640" y="4437000"/>
                <a:ext cx="537696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84360" y="1197000"/>
            <a:ext cx="81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62360" indent="-1623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podstawie kryterium dopuszczalnego przeciążenia kondensatora prądem można określić minimalną moc baterii kondensatorów pracujących w filtrze. W tym celu należy założyć, ż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162360" indent="-16236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r jest elementem idealnym, tzn. pomija się jego rezystancję oraz zakłada się, że płynie przez nieg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ok prądu harmonicznej filtrowane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lko prąd harmonicznej podstawowej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162360" indent="-16236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ekształtnik tyrystorowy pracuje w warunkach komutacji natychmiastowej i w związku z tym wartości skuteczne prądów wyższych harmonicznych generowanych przez niego mogą być wyrażone uproszczoną zależności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003640" y="5373720"/>
                <a:ext cx="1292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684360" y="1197000"/>
            <a:ext cx="81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prawda w warunkach rzeczywistych przez filtr płyną również prądy innych wyższych harmonicznych, ale o stosunkowo małych wartościach, poza tym prądy wyższych harmonicznych w tym również prąd harmonicznej rezonansowej, są dodatkowo tłumione przez rezystancję filtra.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kolei prądy harmonicznych generowane przez przekształtnik w związku z komutacją tyrystorów, mają wartości mniejsze niż wynikające z zależnośc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roszczonej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tem skutki poczynionych założeń w pewnym stopniu się kompensują.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84360" y="1197000"/>
            <a:ext cx="81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ktancja filtra dla harmonicznej podstawowej wynosi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268360" y="1773360"/>
                <a:ext cx="34480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>
            <a:off x="1008000" y="3357720"/>
            <a:ext cx="8136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ieważ w ogólnym przypadku napięcie sieci zasilającej U</a:t>
            </a:r>
            <a:r>
              <a:rPr b="1" lang="pl-P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s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óżni się od napięcia znamionowego kondensatora U</a:t>
            </a:r>
            <a:r>
              <a:rPr b="1" lang="pl-P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ęc prąd harmonicznej podstawowej płynący przez filtr można wyrazić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195640" y="5084640"/>
                <a:ext cx="50702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84360" y="1197000"/>
            <a:ext cx="81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ąd filtrowanej wyższej harmonicznej generowany przez przekształtnik tyrystorowy w najbardziej niekorzystnym przypadku wynosi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4360" y="3860640"/>
            <a:ext cx="81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tość skuteczną prądu płynącego przez filtr wyższych harmonicznych można więc wyrazić w postaci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2771640" y="2492280"/>
                <a:ext cx="255132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2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700360" y="4869000"/>
                <a:ext cx="49482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3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3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684360" y="1197000"/>
            <a:ext cx="81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ąd ten musi spełniać następujący warunek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4360" y="3068640"/>
            <a:ext cx="81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tość skuteczną prądu płynącego przez filtr wyższych harmonicznych można więc wyrazić w postaci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268360" y="1700280"/>
                <a:ext cx="455616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p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p</m:t>
                            </m:r>
                          </m:sub>
                        </m:sSub>
                      </m:sub>
                    </m:sSub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268360" y="4005360"/>
                <a:ext cx="454536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sub>
                    </m:sSub>
                    <m:r>
                      <m:t xml:space="preserve">≥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op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755640" y="5800680"/>
                <a:ext cx="15541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2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3348000" y="5780160"/>
                <a:ext cx="14432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1219320"/>
            <a:ext cx="78487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74e"/>
                </a:solidFill>
                <a:latin typeface="Times New Roman"/>
              </a:rPr>
              <a:t>Kondensatory energetyczne charakteryzowane są najczęściej przez następujące parametry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20374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ojemność znamionową 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wynikającą z geometrycznych wymiarów konstrukcyjnych kondensatora oraz z zastosowanych materiałów dielektrycznych,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672a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17672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17672a"/>
                </a:solidFill>
                <a:latin typeface="Times New Roman"/>
              </a:rPr>
              <a:t>napięcie znamionowe U</a:t>
            </a:r>
            <a:r>
              <a:rPr b="0" lang="en-US" sz="2800" spc="-1" strike="noStrike" baseline="-25000">
                <a:solidFill>
                  <a:srgbClr val="17672a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17672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c znamionową 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672a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17672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17672a"/>
                </a:solidFill>
                <a:latin typeface="Times New Roman"/>
              </a:rPr>
              <a:t>prąd znamionowy I</a:t>
            </a:r>
            <a:r>
              <a:rPr b="0" lang="en-US" sz="2800" spc="-1" strike="noStrike" baseline="-25000">
                <a:solidFill>
                  <a:srgbClr val="17672a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17672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spółczynnik strat dielektrycznych tg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1844640"/>
            <a:ext cx="78487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0374e"/>
                </a:solidFill>
                <a:latin typeface="Times New Roman"/>
              </a:rPr>
              <a:t>Kondensatory niskonapięciowe (U</a:t>
            </a:r>
            <a:r>
              <a:rPr b="1" lang="pl-PL" sz="2800" spc="-1" strike="noStrike" baseline="-25000">
                <a:solidFill>
                  <a:srgbClr val="20374e"/>
                </a:solidFill>
                <a:latin typeface="Times New Roman"/>
              </a:rPr>
              <a:t>N</a:t>
            </a:r>
            <a:r>
              <a:rPr b="1" lang="pl-PL" sz="2800" spc="-1" strike="noStrike">
                <a:solidFill>
                  <a:srgbClr val="20374e"/>
                </a:solidFill>
                <a:latin typeface="Times New Roman"/>
              </a:rPr>
              <a:t> &lt; 1 kV) budowane są zazwyczaj jako jednostki trójfazowe o napięciach znamionowych 220 – 380 – 500V.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0374e"/>
                </a:solidFill>
                <a:latin typeface="Times New Roman"/>
              </a:rPr>
              <a:t>Kondensatory wysokonapięciowe (U</a:t>
            </a:r>
            <a:r>
              <a:rPr b="1" lang="pl-PL" sz="2800" spc="-1" strike="noStrike" baseline="-25000">
                <a:solidFill>
                  <a:srgbClr val="20374e"/>
                </a:solidFill>
                <a:latin typeface="Times New Roman"/>
              </a:rPr>
              <a:t>N</a:t>
            </a:r>
            <a:r>
              <a:rPr b="1" lang="pl-PL" sz="2800" spc="-1" strike="noStrike">
                <a:solidFill>
                  <a:srgbClr val="20374e"/>
                </a:solidFill>
                <a:latin typeface="Times New Roman"/>
              </a:rPr>
              <a:t> &gt; 1 kV) produkowane w Polsce mają napięcia znamionowe 3,03 – 3,64 – 6,06 – 9,09 kV i są wykonane jako jednofazowe.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1844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c znamionowa jednofazowej jednostki kondensatorowej o pojemności C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przy sinusoidalnym napięciu o wartości skutecznej U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az znamionowej pulsacji wynosi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627280" y="3716280"/>
                <a:ext cx="35226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044880" y="4836960"/>
                <a:ext cx="28321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55640" y="1413000"/>
            <a:ext cx="7848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yższyc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z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ó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ynika, że moc kondensatora zmienia się z kwadratem napięcia oraz zależy od częstotliwośc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916360" y="2708280"/>
                <a:ext cx="27716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971640" y="4076640"/>
            <a:ext cx="78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ąd znamionowy kondensatora jednofazowego wynos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916360" y="5229360"/>
                <a:ext cx="36097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55640" y="1413000"/>
            <a:ext cx="7848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przypadku jednostki trójfazowej symetrycznej zasilanej napięciem symetrycznym prąd znamionowy kondensatora oblicza się ze wzorów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 połączeniu w trójkąt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4508640"/>
            <a:ext cx="784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 połączeniu w gwiazdę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411280" y="3645000"/>
                <a:ext cx="37688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484360" y="5157720"/>
                <a:ext cx="405936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55640" y="1198440"/>
            <a:ext cx="78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kondensatorze występują straty mocy czynnej. Składają się one głównie na straty w dielektryku oraz stosunkowo niewielkie straty w częściach przewodzących.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2421000"/>
            <a:ext cx="35290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densator rzecz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sty (z uwzględnieniem strat mocy czynnej) można przedstawić za pomocą schematu zastępczego, w którym równolegle do idealnej pojemności C włączona jest rezystancja R.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51280" y="2421000"/>
            <a:ext cx="503856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55640" y="1413000"/>
            <a:ext cx="7848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między wskazami prądu I i składowej biernej prądu I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warty jest kąt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wany kątem strat dielektrycznych. Tangens kąta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zywany współczynnikiem strat dielektrycznych równa się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132000" y="3068640"/>
                <a:ext cx="24256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971640" y="4292640"/>
            <a:ext cx="7848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 czym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– straty mocy czynnej w kondensatorze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– moc pojemnościowa kondensatora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5T08:12:44Z</dcterms:created>
  <dc:creator>Irena Wasiak</dc:creator>
  <dc:description/>
  <dc:language>en-US</dc:language>
  <cp:lastModifiedBy>Maciej Pawełek</cp:lastModifiedBy>
  <cp:lastPrinted>2001-09-17T17:58:04Z</cp:lastPrinted>
  <dcterms:modified xsi:type="dcterms:W3CDTF">2007-01-10T21:49:08Z</dcterms:modified>
  <cp:revision>149</cp:revision>
  <dc:subject/>
  <dc:title>Asymetria Napięcia</dc:title>
</cp:coreProperties>
</file>