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F68-9FA5-471D-A666-728C74A6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E53-EC2E-4C20-835C-139F6F20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FB60-E8DD-4416-8D86-B2366287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6757-8A58-4088-9325-6C803C8F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DAB3-1F80-4A7A-B65D-5895EF47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2B58-5387-422F-9E25-83547549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CF8B-A5F0-42B6-9181-B875DB1B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2BCD-B028-4AF0-A40D-D0ED65D8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ADC6-9FC5-4FDC-9BB8-9A9C4A82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8A0F-0CD0-48C4-98A0-3F1526B0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5B90-320F-46C0-940A-01FCADD6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C6C-67D9-474B-B304-5832C55D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5D48-A398-47B3-B0D5-4A5B6286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9CA0-C779-494C-81C6-621F67FE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CB0A-070B-4B5E-95B5-D26E474F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E55E-0AC1-47F8-AC59-24DCE585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8738-3DCA-45BF-8A6D-BDD8CDB8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AA4-1C06-4A45-9472-D832E9C0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E3FE-D726-459A-B1BF-F2C1125C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732-CFA7-4F86-A249-29A380B3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66A-4545-4246-8C54-83B1348B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5383-8080-4242-99D0-516CD869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8F0-E5B7-4203-8F5D-7B2926FF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242-1842-44A0-8939-930B95D2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1" marL="343080" indent="-343080">
              <a:spcBef>
                <a:spcPts val="799"/>
              </a:spcBef>
              <a:buClr>
                <a:srgbClr val="524c4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2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3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4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5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6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66680"/>
            <a:ext cx="8458200" cy="87480"/>
          </a:xfrm>
          <a:prstGeom prst="rect">
            <a:avLst/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52280"/>
            <a:ext cx="533520" cy="121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610480" y="6172200"/>
            <a:ext cx="292320" cy="5335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e4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F26F-618B-4DBC-9F81-E58598C6E7C6}" type="slidenum">
              <a:rPr b="0" lang="en-US" sz="1400" spc="-1" strike="noStrike">
                <a:solidFill>
                  <a:srgbClr val="dce4d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2971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4d2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dce4d2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21D8-9349-47D8-A476-3DA4ACD0D72C}" type="slidenum"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752480"/>
            <a:ext cx="7467480" cy="26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ODKSZTAŁCENIE NAPIĘCIA</a:t>
            </a:r>
            <a:endParaRPr b="0" lang="en-US" sz="44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16720" y="3716280"/>
            <a:ext cx="2448000" cy="253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374e"/>
                </a:solidFill>
                <a:latin typeface="Times New Roman"/>
              </a:rPr>
              <a:t>Schemat zastępczy ogólnego układu wytwarzania, przesyłu, rozdziału i użytkowania energii elektrycznej dla wyższych harmonicznych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6041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1484280"/>
            <a:ext cx="80755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Na podstawie założenia o dyskretności widma częstotliwościowego prądów pobieranych z sieci przez odbiorniki nieliniowe oraz założenia o liniowości pozostałych elementów układu do analizy zjawiska odkształcenia napięcia można wykorzystać zasadę superpozycji w dziedzinie częstotliwości.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godnie z tą zasadą rozpatruje się sieć osobno dla każdej wyższej harmonicznej, a następnie znając wartości poszczególnych składowych harmonicznych wyznacza się wartości współczynników odkształcenia napięcia w węzłach sieci. Obliczenia napięć węzłowych dla wyższych harmonicznych można dokonać rozwiązując równanie macierzowe w postaci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4360" y="2924280"/>
            <a:ext cx="830556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7480" indent="-717480"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zi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11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acierz impedancji własnych i wzajemnych sieci dla h-tej harmonicznej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11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ktor fazowych napięć węzłowych dla h-tej harmonicznej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11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ektor prądów źródłowych harmonicznej rzędu h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771640" y="1916280"/>
                <a:ext cx="2644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2924280"/>
            <a:ext cx="83055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7480" indent="-717480"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zi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11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ancja własna węzła i dla h-tej harmonicznej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11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ancja wzajemna węzłów i, j dla h-tej harmonicznej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11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ąd źródłowy h-tej harmonicznej w węźle i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11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ąd źródłowy h-tej harmonicznej w węźle j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11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ba węzłów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556000" y="1557360"/>
                <a:ext cx="33066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84360" y="3610080"/>
                <a:ext cx="539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84360" y="4005360"/>
                <a:ext cx="5140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55640" y="4797360"/>
                <a:ext cx="378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55640" y="5229360"/>
                <a:ext cx="378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1484280"/>
            <a:ext cx="80755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 zależności powyższej wynika, że wartości napięć wyższych harmonicznych, a co za tym idzie również stopień odkształcenia napięcia w węzłach sieci, zależą nie tylko od prądów wyższych harmonicznych wprowadzanych do sieci (generowanych) przez odbiorniki nieliniowe, ale także od wartości elementów macierzy 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y założeniu stałości wymuszeń prądowych można wpływać na napięcia wyższych harmonicznych poprzez odpowiednie kształtowanie impedancji sieci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łączenie w dowolnym węźle sieci (np. w węźle k) nowego elementu (urządzenia kompensacyjnego) o impedancji  powoduje zmianę wartości wszystkich elementów macierzy 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zgodnie ze wzorem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11280" y="2565360"/>
            <a:ext cx="8305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żna wykazać, że włączenie w danym węźle sieci (np. w węźle “i”) takiego odbiornika spowoduje zmianę napięcia h-tej harmonicznej w tym węźle zgodnie z zależnością: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700360" y="1341360"/>
                <a:ext cx="3213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43280" y="3789360"/>
                <a:ext cx="30621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sSub>
                                  <m:e>
                                    <m:r>
                                      <m:t xml:space="preserve">0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i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sSub>
                                  <m:e>
                                    <m:r>
                                      <m:t xml:space="preserve">0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84360" y="5013360"/>
            <a:ext cx="8305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półczynnik  nazywany jest współczynnikiem zmiany napięcia h-tej harmonicznej po dołączeniu nowego odbiornika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1413000"/>
            <a:ext cx="8305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kład 1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łączenie w węźle sieci kondensatora idealnego 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żeli impedancję własną węzła „i” dla h-tej harmonicznej przedstawić w postaci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149720"/>
            <a:ext cx="830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spółczynnik zmiany napięcia h-tej harmonicznej w tym węźle będzie równy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04000" y="1773360"/>
                <a:ext cx="1514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16360" y="3357720"/>
                <a:ext cx="23238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771640" y="5084640"/>
                <a:ext cx="32180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i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i</m:t>
                                            </m:r>
                                          </m:e>
                                          <m:sub>
                                            <m:r>
                                              <m:t xml:space="preserve">h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h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1773360"/>
            <a:ext cx="8305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półczynnik ten osiąga wartość maksymalną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716280"/>
            <a:ext cx="830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a reaktancji kondensatora równej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843280" y="2492280"/>
                <a:ext cx="22273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203640" y="4365720"/>
                <a:ext cx="1439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95280" y="1413000"/>
            <a:ext cx="8305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rażając reaktancję kondensatora w zależności od jego parametrów znamionowych :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357720"/>
            <a:ext cx="83059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zie: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c znamionowa kondensatora (baterii),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pięcie znamionowe kondensatora,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żna określić moc baterii kondensatorów przy jakiej w sieci powstaną warunki rezonansu dla prądów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ej harmonicznej. Moc ta jest równa: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348000" y="2276640"/>
                <a:ext cx="1494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268800" y="5229360"/>
                <a:ext cx="18158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1413000"/>
            <a:ext cx="8305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kład 2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łączenie w węźle sieci idealnego filtra h-tej harmonicznej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żeli w węźle 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zostanie włączony idealny filtr h-tej harmonicznej to na podstawie wcześniejszej zależności możemy napisać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724280"/>
            <a:ext cx="830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 szczególności, gd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= 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68360" y="2205000"/>
                <a:ext cx="971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052800" y="3657600"/>
                <a:ext cx="25574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036800" y="5313240"/>
                <a:ext cx="311940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423040" y="5516640"/>
                <a:ext cx="1106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8080" y="1219320"/>
            <a:ext cx="784872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Odbiorniki nieliniowe, przyłączone do sieci elektroenergetycznej, traktowane jako źródła wyższych harmonicznych prądu można przedstawić za pomocą następujących schematów zastępczych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Źródła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16000" y="3357720"/>
            <a:ext cx="2949480" cy="185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017880" cy="1852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51664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Dla harmonicznej podstawowej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551664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Dla wyższych harmonicznych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11280" y="1484280"/>
            <a:ext cx="80755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Filtr elektroenergetyczny składa się z układu elementów R, L, C lub tylko L, C (filtr idealny) o odpowiednio dobranych wartościach. Stanowi on element o bardzo małej impedancji dla harmonicznej (harmonicznych), dla której został dobrany i w związku z tym przedstawia dla niej praktycznie miejsce zwarcia. Jeśli filtr instaluje się w pobliżu źródła harmonicznej, wtedy rozpływ prądów w sieci ulega zmianie. Prąd harmonicznej filtrowanej zamyka się przez filtr, nie płynąc do sieci zasilającej. Również prądy innych harmonicznych o rzędach bliskich częstotliwości rezonansowej filtru popłyną częściowo przez filtr. W ten sposób sieć zasilająca odciążona zostaje od przepływu części prądów wyższych harmonicznych, przez co zmniejszają się harmoniczne spadki napięcia na jej impedancjach i w efekcie – odkształcenie napięcia w sieci.</a:t>
            </a:r>
            <a:endParaRPr b="0" lang="en-US" sz="22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y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1484280"/>
            <a:ext cx="80755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zęstotliwości rezonansowe filtrów dobiera się dla najniższych częstotliwości harmonicznych szeregu głównego występującego w sieci, a więc 5, 7, 11, 13, a filtrom nadaje się nazwy od rzędu harmonicznej filtrowanej, a więc filtr 5 harmonicznej, filtr 7 harmonicznej itd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tr prosty jest to szeregowe połączenie elementów L, C, tzn. w praktyce – dławików i baterii kondensatorów. Ponieważ dławiki jak i kondensatory obarczone są pewnymi stratami energii czynnej, więc mówi się, że filtry rzeczywiste stanowią szeregowe połączenie elementów R, L, C.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tr prosty służy do filtrowania jednej harmonicznej.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y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1280" y="1484280"/>
            <a:ext cx="80755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iltr kombinowany stanowi szeregowo-równoległe połączenie elementów R, L, C, tzn. w praktyce oporników, dławików i baterii kondensatorów. Filtr kombinowany służy do filtrowania dwóch harmonicznych, tak jak dwugałęziowy filtr prosty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iltry takie nie znalazły jednak zastosowania ze względu na skomplikowaną konstrukcję i trudności w dostrojeniu do wymaganych częstotliwości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iltry mogą także filtrować całe pasmo harmonicznych, np. począwszy od 17 harmonicznej wzwyż. Filtry takie nazywa się szerokopasmowymi (high-pass filter)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y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11280" y="1484280"/>
            <a:ext cx="80755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estaw filtrów jest to grupa filtrów prostych, z których każdy filtruje inną harmoniczną. Może to być też zestaw kilku filtrów prostych wraz z filtrem high-pass – zasilanych z tych samych szyn zbiorczych.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oszczególne filtry proste zestawu filtrów nazywa się jego gałęziami. Filtry stosowane w zakładach przemysłowych zawierają od 1 do 4 gałęzi, najczęściej dla harmonicznych 5, 7, 11, i 13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y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y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42320" cy="2879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5280" y="5229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Schematy połączeń elementów LC w filtrach rezonansowych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y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5516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Zestaw filtrów rezonansowych dla 3, 5 i 7 harmonicznej</a:t>
            </a:r>
            <a:r>
              <a:rPr b="0" lang="en-US" sz="2400" spc="-1" strike="noStrike">
                <a:solidFill>
                  <a:srgbClr val="20374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4118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Charakterystyki filtrów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472428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Wypadkowa reaktancja filtru dla dowolnej harmonicznej jest równa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134136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Elektroenergetyczny filtr pasywny składa się z elementów LC lub RLC o odpowiednio dobranych wartościach. Filtr LC dla jednej harmonicznej składa się z szeregowo połączonych baterii kondensatorów i dławików (jednego 3-fazowego lub trzech 1-fazowych) o reaktancji indukcyjnej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492360" y="5373720"/>
                <a:ext cx="1997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564000" y="3573360"/>
                <a:ext cx="140652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Charakterystyki filtrów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38606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a pulsacja rezonansu szeregowego wynosi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1341360"/>
            <a:ext cx="77752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Times New Roman"/>
              </a:rPr>
              <a:t>Dla harmonicznej rezonansowej </a:t>
            </a:r>
            <a:r>
              <a:rPr b="1" i="1" lang="pl-PL" sz="2400" spc="-1" strike="noStrike">
                <a:solidFill>
                  <a:srgbClr val="20374e"/>
                </a:solidFill>
                <a:latin typeface="Times New Roman"/>
              </a:rPr>
              <a:t>h</a:t>
            </a:r>
            <a:r>
              <a:rPr b="1" i="1" lang="pl-PL" sz="2400" spc="-1" strike="noStrike" baseline="-25000">
                <a:solidFill>
                  <a:srgbClr val="20374e"/>
                </a:solidFill>
                <a:latin typeface="Times New Roman"/>
              </a:rPr>
              <a:t>r</a:t>
            </a:r>
            <a:r>
              <a:rPr b="1" lang="pl-PL" sz="2400" spc="-1" strike="noStrike">
                <a:solidFill>
                  <a:srgbClr val="20374e"/>
                </a:solidFill>
                <a:latin typeface="Times New Roman"/>
              </a:rPr>
              <a:t> reaktancja filtru równa się zero, tzn. filtr stanowi obwód, w którym wystąpił rezonans szeregowy. Rząd tej harmonicznej jest równy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916360" y="2852640"/>
                <a:ext cx="2638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132000" y="4653000"/>
                <a:ext cx="2425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Charakterystyki filtrów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42210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dobroć filtru przy częstotliwości rezonansowej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1341360"/>
            <a:ext cx="7775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Przy obliczeniach filtru potrzebne są jeszcze następujące wielkości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impedancja charakterystyczna filtru wynosząca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556000" y="2852640"/>
                <a:ext cx="42606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40360" y="4869000"/>
                <a:ext cx="11905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Charakterystyki filtrów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791480" cy="4318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55640" y="5877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Charakterystyki częstotliwościowe impedancji jednogałęziowych filtrów wyższych harmonicznych</a:t>
            </a:r>
            <a:r>
              <a:rPr b="0" lang="en-US" sz="24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1219320"/>
            <a:ext cx="784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UKŁAD Z BATERIĄ KONDENSATORÓW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Charakterystyki częstotliwościow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3748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pływ filtrów na charakterystyki sieci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57340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Charakterystyka częstotliwościowa impedancji węzła sieciowego z jednogałęziowym filtrem wyższych harmonicznych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630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Charakterystyki filtrów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1341360"/>
            <a:ext cx="7991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W układzie z filtrem wyższych harmonicznych występują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358920" indent="-358920" algn="just">
              <a:spcBef>
                <a:spcPts val="1500"/>
              </a:spcBef>
              <a:buClr>
                <a:srgbClr val="20374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rezonans szeregowy (napięć) wynikający z parametrów filtra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358920" indent="-358920" algn="just">
              <a:spcBef>
                <a:spcPts val="1500"/>
              </a:spcBef>
              <a:buClr>
                <a:srgbClr val="20374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rezonans równoległy (prądów) będący wynikiem oddziaływania filtra na sieć. Częstotliwość rezonansu równoległego określa wzór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358920" indent="-35892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059280" y="4653000"/>
                <a:ext cx="2687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Charakterystyki filtrów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360" y="1341360"/>
            <a:ext cx="79912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Po załączeniu danego Impedancja układu z filtrem jest mniejsza od impedancji sieci bez filtru dla częstotliwości większych od pewnej częstotliwości granicznej, natomiast jest większa dla częstotliwości mniejszych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Częstotliwość graniczna, dla której wartość impedancji po załączeniu filtru nie ulegnie zmianie, nazywa się częstotliwością neutralną, a jej przybliżoną wartość określa wzór: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916360" y="4508640"/>
                <a:ext cx="3112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pływ filtrów na charakterystyki sieci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573408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0374e"/>
                </a:solidFill>
                <a:latin typeface="Times New Roman"/>
              </a:rPr>
              <a:t>Charakterystyka częstotliwościowa impedancji węzła sieciowego z dwugałęziowym filtrem wyższych harmonicznych</a:t>
            </a:r>
            <a:endParaRPr b="0" lang="en-US" sz="22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0374e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20374e"/>
                </a:solidFill>
                <a:latin typeface="Times New Roman"/>
              </a:rPr>
              <a:t>(dla 5 i 7 harmonicznej).</a:t>
            </a:r>
            <a:endParaRPr b="0" lang="en-US" sz="2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7626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pływ filtrów na charakterystyki sieci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73408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0374e"/>
                </a:solidFill>
                <a:latin typeface="Times New Roman"/>
              </a:rPr>
              <a:t>Charakterystyka częstotliwościowa impedancji węzła sieciowego</a:t>
            </a:r>
            <a:endParaRPr b="0" lang="en-US" sz="22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0374e"/>
                </a:solidFill>
                <a:latin typeface="Times New Roman"/>
              </a:rPr>
              <a:t>z czterogałęziowym filtrem wyższych harmonicznych</a:t>
            </a:r>
            <a:endParaRPr b="0" lang="en-US" sz="22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0374e"/>
                </a:solidFill>
                <a:latin typeface="Times New Roman"/>
              </a:rPr>
              <a:t>(dla 5, 7, 11 i 13 harmonicznej).</a:t>
            </a:r>
            <a:endParaRPr b="0" lang="en-US" sz="2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7630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pływ filtrów na charakterystyki sieci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573408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0374e"/>
                </a:solidFill>
                <a:latin typeface="Times New Roman"/>
              </a:rPr>
              <a:t>Charakterystyka częstotliwościowa impedancji węzła sieciowego z filtrem 5-tej harmonicznej i baterią kondensatorów</a:t>
            </a:r>
            <a:endParaRPr b="0" lang="en-US" sz="2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7630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1219320"/>
            <a:ext cx="784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UKŁAD Z FILTREM 5 HARMONICZNEJ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Charakterystyki częstotliwościow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63748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1280" y="1219320"/>
            <a:ext cx="80755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5000"/>
              </a:lnSpc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alizę powstawania zjawiska odkształcenia napięcia w sieciach elektroenergetycznych można prześledzić na przykładzie ogólnego układu wytwarzania, przesyłu, rozdziału i użytkowania energii elektrycznej. Układ ten pokazany został na rysunku.</a:t>
            </a:r>
            <a:endParaRPr b="0" lang="en-US" sz="26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5027760" cy="5037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12000" y="4437000"/>
            <a:ext cx="277164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Ogólny układ wytwarzania, przesyłu, rozdziału i użytkowania energii elektrycznej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1219320"/>
            <a:ext cx="80755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438480" indent="-438480" algn="just">
              <a:lnSpc>
                <a:spcPct val="115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 analizie zjawiska odkształcenia napięcia w układach sieciowych z odbiornikami nieliniowymi zakłada się, że: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marL="438480" indent="-4384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y układu, z wyjątkiem odbiorników nieliniowych, tzn. generatory, transformatory, linie napowietrzne i kablowe, pozostałe odbiorniki oraz urządzenia kompensacyjne (baterie kondensatorów, filtry wyższych harmonicznych) są elementami liniowymi. Elementy te mogą być zastąpione impedancjami o wartościach zależnych od rzędu wyższych harmonicznych.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marL="438480" indent="-4384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ądy pobierane przez odbiorniki nieliniowe charakteryzują się dyskretnym widmem częstotliwościowym, przy czym skład widma i wartości prądów poszczególnych harmonicznych zależą od rodzaju odbiornika i od stopnia jego obciążenia. Odbiorniki te mogą być zastąpione impedancją dla harmonicznej podstawowej i źródłem prądowym dla wyższych harmonicznych.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1219320"/>
            <a:ext cx="80755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 algn="just">
              <a:lnSpc>
                <a:spcPct val="115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ciążenie każdego węzła można podzielić na trzy charakterystyczne rodzaje o różnych właściwościach lub o różnym przeznaczeniu (patrz węzeł „i” na rysunku poprzednim):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lvl="1" marL="796320" indent="-212400" algn="just">
              <a:lnSpc>
                <a:spcPct val="115000"/>
              </a:lnSpc>
              <a:buClr>
                <a:srgbClr val="524c46"/>
              </a:buClr>
              <a:buFont typeface="Wingdings" charset="2"/>
              <a:buChar char=""/>
              <a:tabLst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dbiorniki silnikowe i oświetleniowo-grzejne,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lvl="1" marL="796320" indent="-212400" algn="just">
              <a:lnSpc>
                <a:spcPct val="115000"/>
              </a:lnSpc>
              <a:buClr>
                <a:srgbClr val="524c46"/>
              </a:buClr>
              <a:buFont typeface="Wingdings" charset="2"/>
              <a:buChar char=""/>
              <a:tabLst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dbiorniki nieliniowe (traktowane jako źródła prądowe wyższych harmonicznych),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lvl="1" marL="796320" indent="-212400" algn="just">
              <a:lnSpc>
                <a:spcPct val="115000"/>
              </a:lnSpc>
              <a:buClr>
                <a:srgbClr val="524c46"/>
              </a:buClr>
              <a:buFont typeface="Wingdings" charset="2"/>
              <a:buChar char=""/>
              <a:tabLst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rządzenia kompensacyjne (kondensatory, filtry wyższych harmonicznych) przeznaczone do kompensacji mocy biernej i ograniczenia odkształcenia napięcia.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marL="450720" indent="-450720" algn="just">
              <a:lnSpc>
                <a:spcPct val="115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marL="450720" indent="-450720" algn="just">
              <a:lnSpc>
                <a:spcPct val="115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podstawie powyższych założeń można utworzyć schematy zastępcze rozpatrywanego układu dla harmonicznej podstawowej  i dla wyższych harmonicznych.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3716280"/>
            <a:ext cx="2448000" cy="253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374e"/>
                </a:solidFill>
                <a:latin typeface="Times New Roman"/>
              </a:rPr>
              <a:t>Schemat zastępczy ogólnego układu wytwarzania, przesyłu, rozdziału i użytkowania energii elektrycznej dla harmonicznej podstawowej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6041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5T08:12:44Z</dcterms:created>
  <dc:creator>Irena Wasiak</dc:creator>
  <dc:description/>
  <dc:language>en-US</dc:language>
  <cp:lastModifiedBy>Maciej Pawełek</cp:lastModifiedBy>
  <cp:lastPrinted>2001-09-17T17:58:04Z</cp:lastPrinted>
  <dcterms:modified xsi:type="dcterms:W3CDTF">2007-01-10T21:46:36Z</dcterms:modified>
  <cp:revision>154</cp:revision>
  <dc:subject/>
  <dc:title>Asymetria Napięcia</dc:title>
</cp:coreProperties>
</file>