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CBD0-285A-448A-90B4-4E3BA53D6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179280"/>
            <a:ext cx="835668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158920"/>
            <a:ext cx="7773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07760"/>
            <a:ext cx="7773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C5B2-DBE3-4F62-9109-4B1CA3F06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179280"/>
            <a:ext cx="835668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158920"/>
            <a:ext cx="37933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9200" y="2158920"/>
            <a:ext cx="37933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07760"/>
            <a:ext cx="37933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9200" y="4307760"/>
            <a:ext cx="37933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3BAF-73D3-43D5-8C65-8EAE417C4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179280"/>
            <a:ext cx="835668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158920"/>
            <a:ext cx="2503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4520" y="2158920"/>
            <a:ext cx="2503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2880" y="2158920"/>
            <a:ext cx="2503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07760"/>
            <a:ext cx="2503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4520" y="4307760"/>
            <a:ext cx="2503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2880" y="4307760"/>
            <a:ext cx="2503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C629-3B0A-4C8B-8E72-AFCD83DBC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179280"/>
            <a:ext cx="835668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158920"/>
            <a:ext cx="77738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7F01-779C-4D19-9498-B48A1591B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179280"/>
            <a:ext cx="835668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158920"/>
            <a:ext cx="77738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C40A-0CDA-4ADB-B9F4-D68815971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179280"/>
            <a:ext cx="835668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158920"/>
            <a:ext cx="37933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9200" y="2158920"/>
            <a:ext cx="37933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71ED-BB2D-4AEC-829E-F11E2CB29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179280"/>
            <a:ext cx="835668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5668-6589-40E4-A6AB-CA428EB0D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179280"/>
            <a:ext cx="83566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446D-F34C-49F3-89EB-9F7A7489C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179280"/>
            <a:ext cx="835668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158920"/>
            <a:ext cx="37933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9200" y="2158920"/>
            <a:ext cx="37933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07760"/>
            <a:ext cx="37933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D14A-3A38-4398-B03E-731E529D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179280"/>
            <a:ext cx="835668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158920"/>
            <a:ext cx="37933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9200" y="2158920"/>
            <a:ext cx="37933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9200" y="4307760"/>
            <a:ext cx="37933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B2B0-FB5E-488E-A1B5-0490AD39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179280"/>
            <a:ext cx="835668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158920"/>
            <a:ext cx="37933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9200" y="2158920"/>
            <a:ext cx="37933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07760"/>
            <a:ext cx="7773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7B8E-CC3F-460E-937F-51FF0E5B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179280"/>
            <a:ext cx="835668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58920"/>
            <a:ext cx="77738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37360" y="6462720"/>
            <a:ext cx="190512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87014-23AF-490E-B4B0-AE48B3260C03}" type="slidenum">
              <a:rPr b="0" lang="pl-PL" sz="12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0760" y="316080"/>
            <a:ext cx="9024840" cy="6480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1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28600" y="2808360"/>
            <a:ext cx="868680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FILTRY AKTYWNE (APF)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ACTIVE POWER FILTER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A615-C2B3-40A9-80DF-F38086D2B74F}" type="slidenum">
              <a:t>1</a:t>
            </a:fld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440" y="179280"/>
            <a:ext cx="835668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Układ 3-fazowy, 4-przewodowy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325440" y="1463760"/>
            <a:ext cx="8640720" cy="4187880"/>
            <a:chOff x="325440" y="1463760"/>
            <a:chExt cx="8640720" cy="4187880"/>
          </a:xfrm>
        </p:grpSpPr>
        <p:sp>
          <p:nvSpPr>
            <p:cNvPr id="711" name=""/>
            <p:cNvSpPr/>
            <p:nvPr/>
          </p:nvSpPr>
          <p:spPr>
            <a:xfrm>
              <a:off x="1782720" y="1482840"/>
              <a:ext cx="41112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c0000"/>
                  </a:solidFill>
                  <a:latin typeface="Arial"/>
                </a:rPr>
                <a:t>i</a:t>
              </a:r>
              <a:r>
                <a:rPr b="1" lang="pl-PL" sz="2000" spc="-1" strike="noStrike" baseline="-25000">
                  <a:solidFill>
                    <a:srgbClr val="cc0000"/>
                  </a:solidFill>
                  <a:latin typeface="Arial"/>
                </a:rPr>
                <a:t>Sa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492800" y="1463760"/>
              <a:ext cx="41112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c0000"/>
                  </a:solidFill>
                  <a:latin typeface="Arial"/>
                </a:rPr>
                <a:t>i</a:t>
              </a:r>
              <a:r>
                <a:rPr b="1" lang="pl-PL" sz="2000" spc="-1" strike="noStrike" baseline="-25000">
                  <a:solidFill>
                    <a:srgbClr val="cc0000"/>
                  </a:solidFill>
                  <a:latin typeface="Arial"/>
                </a:rPr>
                <a:t>La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078440" y="3730680"/>
              <a:ext cx="41112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c0000"/>
                  </a:solidFill>
                  <a:latin typeface="Arial"/>
                </a:rPr>
                <a:t>i</a:t>
              </a:r>
              <a:r>
                <a:rPr b="1" lang="pl-PL" sz="2000" spc="-1" strike="noStrike" baseline="-25000">
                  <a:solidFill>
                    <a:srgbClr val="cc0000"/>
                  </a:solidFill>
                  <a:latin typeface="Arial"/>
                </a:rPr>
                <a:t>Ca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714" name=""/>
            <p:cNvGrpSpPr/>
            <p:nvPr/>
          </p:nvGrpSpPr>
          <p:grpSpPr>
            <a:xfrm>
              <a:off x="1716120" y="1854360"/>
              <a:ext cx="576000" cy="204120"/>
              <a:chOff x="1716120" y="1854360"/>
              <a:chExt cx="576000" cy="204120"/>
            </a:xfrm>
          </p:grpSpPr>
          <p:grpSp>
            <p:nvGrpSpPr>
              <p:cNvPr id="715" name=""/>
              <p:cNvGrpSpPr/>
              <p:nvPr/>
            </p:nvGrpSpPr>
            <p:grpSpPr>
              <a:xfrm>
                <a:off x="1734840" y="1854360"/>
                <a:ext cx="538200" cy="179280"/>
                <a:chOff x="1734840" y="1854360"/>
                <a:chExt cx="538200" cy="179280"/>
              </a:xfrm>
            </p:grpSpPr>
            <p:sp>
              <p:nvSpPr>
                <p:cNvPr id="716" name=""/>
                <p:cNvSpPr/>
                <p:nvPr/>
              </p:nvSpPr>
              <p:spPr>
                <a:xfrm>
                  <a:off x="1734840" y="1854360"/>
                  <a:ext cx="179640" cy="1792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1914480" y="1854360"/>
                  <a:ext cx="179280" cy="1792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2093760" y="1854360"/>
                  <a:ext cx="179280" cy="1792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9" name=""/>
              <p:cNvSpPr/>
              <p:nvPr/>
            </p:nvSpPr>
            <p:spPr>
              <a:xfrm>
                <a:off x="1716120" y="1950840"/>
                <a:ext cx="576000" cy="10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720" name=""/>
            <p:cNvSpPr/>
            <p:nvPr/>
          </p:nvSpPr>
          <p:spPr>
            <a:xfrm>
              <a:off x="1811160" y="1778040"/>
              <a:ext cx="3510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721" name=""/>
            <p:cNvGrpSpPr/>
            <p:nvPr/>
          </p:nvGrpSpPr>
          <p:grpSpPr>
            <a:xfrm>
              <a:off x="1697040" y="2306520"/>
              <a:ext cx="576000" cy="204840"/>
              <a:chOff x="1697040" y="2306520"/>
              <a:chExt cx="576000" cy="204840"/>
            </a:xfrm>
          </p:grpSpPr>
          <p:grpSp>
            <p:nvGrpSpPr>
              <p:cNvPr id="722" name=""/>
              <p:cNvGrpSpPr/>
              <p:nvPr/>
            </p:nvGrpSpPr>
            <p:grpSpPr>
              <a:xfrm>
                <a:off x="1715760" y="2306520"/>
                <a:ext cx="538200" cy="179640"/>
                <a:chOff x="1715760" y="2306520"/>
                <a:chExt cx="538200" cy="179640"/>
              </a:xfrm>
            </p:grpSpPr>
            <p:sp>
              <p:nvSpPr>
                <p:cNvPr id="723" name=""/>
                <p:cNvSpPr/>
                <p:nvPr/>
              </p:nvSpPr>
              <p:spPr>
                <a:xfrm>
                  <a:off x="1715760" y="2306520"/>
                  <a:ext cx="179640" cy="1796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1895400" y="2306520"/>
                  <a:ext cx="179280" cy="1796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2074680" y="2306520"/>
                  <a:ext cx="179280" cy="1796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6" name=""/>
              <p:cNvSpPr/>
              <p:nvPr/>
            </p:nvSpPr>
            <p:spPr>
              <a:xfrm>
                <a:off x="1697040" y="2403360"/>
                <a:ext cx="576000" cy="10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727" name=""/>
            <p:cNvSpPr/>
            <p:nvPr/>
          </p:nvSpPr>
          <p:spPr>
            <a:xfrm>
              <a:off x="1792440" y="2233440"/>
              <a:ext cx="3506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728" name=""/>
            <p:cNvGrpSpPr/>
            <p:nvPr/>
          </p:nvGrpSpPr>
          <p:grpSpPr>
            <a:xfrm>
              <a:off x="1697040" y="2828880"/>
              <a:ext cx="576000" cy="204840"/>
              <a:chOff x="1697040" y="2828880"/>
              <a:chExt cx="576000" cy="204840"/>
            </a:xfrm>
          </p:grpSpPr>
          <p:grpSp>
            <p:nvGrpSpPr>
              <p:cNvPr id="729" name=""/>
              <p:cNvGrpSpPr/>
              <p:nvPr/>
            </p:nvGrpSpPr>
            <p:grpSpPr>
              <a:xfrm>
                <a:off x="1715760" y="2828880"/>
                <a:ext cx="538200" cy="179640"/>
                <a:chOff x="1715760" y="2828880"/>
                <a:chExt cx="538200" cy="179640"/>
              </a:xfrm>
            </p:grpSpPr>
            <p:sp>
              <p:nvSpPr>
                <p:cNvPr id="730" name=""/>
                <p:cNvSpPr/>
                <p:nvPr/>
              </p:nvSpPr>
              <p:spPr>
                <a:xfrm>
                  <a:off x="1715760" y="2828880"/>
                  <a:ext cx="179640" cy="1796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1895400" y="2828880"/>
                  <a:ext cx="179280" cy="1796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2074680" y="2828880"/>
                  <a:ext cx="179280" cy="1796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3" name=""/>
              <p:cNvSpPr/>
              <p:nvPr/>
            </p:nvSpPr>
            <p:spPr>
              <a:xfrm>
                <a:off x="1697040" y="2925720"/>
                <a:ext cx="576000" cy="10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734" name=""/>
            <p:cNvSpPr/>
            <p:nvPr/>
          </p:nvSpPr>
          <p:spPr>
            <a:xfrm>
              <a:off x="1792440" y="2752560"/>
              <a:ext cx="3506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18" idx="6"/>
              <a:endCxn id="736" idx="2"/>
            </p:cNvCxnSpPr>
            <p:nvPr/>
          </p:nvCxnSpPr>
          <p:spPr>
            <a:xfrm>
              <a:off x="2285640" y="1944360"/>
              <a:ext cx="2105640" cy="108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</a:ln>
          </p:spPr>
        </p:cxnSp>
        <p:cxnSp>
          <p:nvCxnSpPr>
            <p:cNvPr id="737" name=""/>
            <p:cNvCxnSpPr>
              <a:stCxn id="725" idx="6"/>
              <a:endCxn id="738" idx="2"/>
            </p:cNvCxnSpPr>
            <p:nvPr/>
          </p:nvCxnSpPr>
          <p:spPr>
            <a:xfrm>
              <a:off x="2266920" y="2396880"/>
              <a:ext cx="2124720" cy="108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</a:ln>
          </p:spPr>
        </p:cxnSp>
        <p:cxnSp>
          <p:nvCxnSpPr>
            <p:cNvPr id="739" name=""/>
            <p:cNvCxnSpPr>
              <a:stCxn id="732" idx="6"/>
              <a:endCxn id="740" idx="2"/>
            </p:cNvCxnSpPr>
            <p:nvPr/>
          </p:nvCxnSpPr>
          <p:spPr>
            <a:xfrm>
              <a:off x="2266920" y="2918880"/>
              <a:ext cx="2124720" cy="108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</a:ln>
          </p:spPr>
        </p:cxnSp>
        <p:cxnSp>
          <p:nvCxnSpPr>
            <p:cNvPr id="741" name=""/>
            <p:cNvCxnSpPr>
              <a:stCxn id="742" idx="2"/>
              <a:endCxn id="743" idx="2"/>
            </p:cNvCxnSpPr>
            <p:nvPr/>
          </p:nvCxnSpPr>
          <p:spPr>
            <a:xfrm flipH="1" rot="16200000">
              <a:off x="3209040" y="641520"/>
              <a:ext cx="146520" cy="4834800"/>
            </a:xfrm>
            <a:prstGeom prst="bentConnector3">
              <a:avLst>
                <a:gd name="adj1" fmla="val 246551"/>
              </a:avLst>
            </a:prstGeom>
            <a:ln w="25560">
              <a:solidFill>
                <a:srgbClr val="0000ff"/>
              </a:solidFill>
              <a:miter/>
            </a:ln>
          </p:spPr>
        </p:cxnSp>
        <p:grpSp>
          <p:nvGrpSpPr>
            <p:cNvPr id="744" name=""/>
            <p:cNvGrpSpPr/>
            <p:nvPr/>
          </p:nvGrpSpPr>
          <p:grpSpPr>
            <a:xfrm>
              <a:off x="4384800" y="1854360"/>
              <a:ext cx="576000" cy="204120"/>
              <a:chOff x="4384800" y="1854360"/>
              <a:chExt cx="576000" cy="204120"/>
            </a:xfrm>
          </p:grpSpPr>
          <p:grpSp>
            <p:nvGrpSpPr>
              <p:cNvPr id="745" name=""/>
              <p:cNvGrpSpPr/>
              <p:nvPr/>
            </p:nvGrpSpPr>
            <p:grpSpPr>
              <a:xfrm>
                <a:off x="4403520" y="1854360"/>
                <a:ext cx="538200" cy="179280"/>
                <a:chOff x="4403520" y="1854360"/>
                <a:chExt cx="538200" cy="17928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4403520" y="1854360"/>
                  <a:ext cx="179640" cy="1792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4583160" y="1854360"/>
                  <a:ext cx="179280" cy="1792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4762440" y="1854360"/>
                  <a:ext cx="179280" cy="1792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8" name=""/>
              <p:cNvSpPr/>
              <p:nvPr/>
            </p:nvSpPr>
            <p:spPr>
              <a:xfrm>
                <a:off x="4384800" y="1950840"/>
                <a:ext cx="576000" cy="10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749" name=""/>
            <p:cNvSpPr/>
            <p:nvPr/>
          </p:nvSpPr>
          <p:spPr>
            <a:xfrm>
              <a:off x="4492800" y="1778040"/>
              <a:ext cx="3506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750" name=""/>
            <p:cNvGrpSpPr/>
            <p:nvPr/>
          </p:nvGrpSpPr>
          <p:grpSpPr>
            <a:xfrm>
              <a:off x="4384800" y="2306520"/>
              <a:ext cx="576000" cy="204840"/>
              <a:chOff x="4384800" y="2306520"/>
              <a:chExt cx="576000" cy="204840"/>
            </a:xfrm>
          </p:grpSpPr>
          <p:grpSp>
            <p:nvGrpSpPr>
              <p:cNvPr id="751" name=""/>
              <p:cNvGrpSpPr/>
              <p:nvPr/>
            </p:nvGrpSpPr>
            <p:grpSpPr>
              <a:xfrm>
                <a:off x="4403520" y="2306520"/>
                <a:ext cx="538200" cy="179640"/>
                <a:chOff x="4403520" y="2306520"/>
                <a:chExt cx="538200" cy="179640"/>
              </a:xfrm>
            </p:grpSpPr>
            <p:sp>
              <p:nvSpPr>
                <p:cNvPr id="738" name=""/>
                <p:cNvSpPr/>
                <p:nvPr/>
              </p:nvSpPr>
              <p:spPr>
                <a:xfrm>
                  <a:off x="4403520" y="2306520"/>
                  <a:ext cx="179640" cy="1796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4583160" y="2306520"/>
                  <a:ext cx="179280" cy="1796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4762440" y="2306520"/>
                  <a:ext cx="179280" cy="1796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4" name=""/>
              <p:cNvSpPr/>
              <p:nvPr/>
            </p:nvSpPr>
            <p:spPr>
              <a:xfrm>
                <a:off x="4384800" y="2403360"/>
                <a:ext cx="576000" cy="10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755" name=""/>
            <p:cNvSpPr/>
            <p:nvPr/>
          </p:nvSpPr>
          <p:spPr>
            <a:xfrm>
              <a:off x="4492800" y="2230560"/>
              <a:ext cx="3506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492800" y="1916280"/>
              <a:ext cx="41112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c0000"/>
                  </a:solidFill>
                  <a:latin typeface="Arial"/>
                </a:rPr>
                <a:t>i</a:t>
              </a:r>
              <a:r>
                <a:rPr b="1" lang="pl-PL" sz="2000" spc="-1" strike="noStrike" baseline="-25000">
                  <a:solidFill>
                    <a:srgbClr val="cc0000"/>
                  </a:solidFill>
                  <a:latin typeface="Arial"/>
                </a:rPr>
                <a:t>Lb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757" name=""/>
            <p:cNvGrpSpPr/>
            <p:nvPr/>
          </p:nvGrpSpPr>
          <p:grpSpPr>
            <a:xfrm>
              <a:off x="4384800" y="2828880"/>
              <a:ext cx="576000" cy="204840"/>
              <a:chOff x="4384800" y="2828880"/>
              <a:chExt cx="576000" cy="204840"/>
            </a:xfrm>
          </p:grpSpPr>
          <p:grpSp>
            <p:nvGrpSpPr>
              <p:cNvPr id="758" name=""/>
              <p:cNvGrpSpPr/>
              <p:nvPr/>
            </p:nvGrpSpPr>
            <p:grpSpPr>
              <a:xfrm>
                <a:off x="4403520" y="2828880"/>
                <a:ext cx="538200" cy="179640"/>
                <a:chOff x="4403520" y="2828880"/>
                <a:chExt cx="538200" cy="179640"/>
              </a:xfrm>
            </p:grpSpPr>
            <p:sp>
              <p:nvSpPr>
                <p:cNvPr id="740" name=""/>
                <p:cNvSpPr/>
                <p:nvPr/>
              </p:nvSpPr>
              <p:spPr>
                <a:xfrm>
                  <a:off x="4403520" y="2828880"/>
                  <a:ext cx="179640" cy="1796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4583160" y="2828880"/>
                  <a:ext cx="179280" cy="1796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4762440" y="2828880"/>
                  <a:ext cx="179280" cy="1796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1" name=""/>
              <p:cNvSpPr/>
              <p:nvPr/>
            </p:nvSpPr>
            <p:spPr>
              <a:xfrm>
                <a:off x="4384800" y="2925720"/>
                <a:ext cx="576000" cy="10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762" name=""/>
            <p:cNvSpPr/>
            <p:nvPr/>
          </p:nvSpPr>
          <p:spPr>
            <a:xfrm>
              <a:off x="4492800" y="2752560"/>
              <a:ext cx="3506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492800" y="2438280"/>
              <a:ext cx="41112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c0000"/>
                  </a:solidFill>
                  <a:latin typeface="Arial"/>
                </a:rPr>
                <a:t>i</a:t>
              </a:r>
              <a:r>
                <a:rPr b="1" lang="pl-PL" sz="2000" spc="-1" strike="noStrike" baseline="-25000">
                  <a:solidFill>
                    <a:srgbClr val="cc0000"/>
                  </a:solidFill>
                  <a:latin typeface="Arial"/>
                </a:rPr>
                <a:t>Lc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159520" y="1677960"/>
              <a:ext cx="1079280" cy="1440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ff"/>
                  </a:solidFill>
                  <a:latin typeface="Arial"/>
                </a:rPr>
                <a:t>Nonl.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ff"/>
                  </a:solidFill>
                  <a:latin typeface="Arial"/>
                </a:rPr>
                <a:t>load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cxnSp>
          <p:nvCxnSpPr>
            <p:cNvPr id="764" name=""/>
            <p:cNvCxnSpPr>
              <a:stCxn id="753" idx="6"/>
              <a:endCxn id="743" idx="1"/>
            </p:cNvCxnSpPr>
            <p:nvPr/>
          </p:nvCxnSpPr>
          <p:spPr>
            <a:xfrm>
              <a:off x="4954320" y="2397240"/>
              <a:ext cx="191160" cy="21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</a:ln>
          </p:spPr>
        </p:cxnSp>
        <p:sp>
          <p:nvSpPr>
            <p:cNvPr id="765" name=""/>
            <p:cNvSpPr/>
            <p:nvPr/>
          </p:nvSpPr>
          <p:spPr>
            <a:xfrm>
              <a:off x="4941720" y="1944720"/>
              <a:ext cx="2178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944960" y="2919240"/>
              <a:ext cx="2174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cxnSp>
          <p:nvCxnSpPr>
            <p:cNvPr id="767" name=""/>
            <p:cNvCxnSpPr>
              <a:stCxn id="768" idx="4"/>
              <a:endCxn id="769" idx="2"/>
            </p:cNvCxnSpPr>
            <p:nvPr/>
          </p:nvCxnSpPr>
          <p:spPr>
            <a:xfrm flipH="1">
              <a:off x="3956760" y="1977840"/>
              <a:ext cx="2520" cy="17406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</a:ln>
          </p:spPr>
        </p:cxnSp>
        <p:cxnSp>
          <p:nvCxnSpPr>
            <p:cNvPr id="770" name=""/>
            <p:cNvCxnSpPr>
              <a:stCxn id="771" idx="4"/>
              <a:endCxn id="772" idx="2"/>
            </p:cNvCxnSpPr>
            <p:nvPr/>
          </p:nvCxnSpPr>
          <p:spPr>
            <a:xfrm>
              <a:off x="3419640" y="2437920"/>
              <a:ext cx="2160" cy="128052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</a:ln>
          </p:spPr>
        </p:cxnSp>
        <p:cxnSp>
          <p:nvCxnSpPr>
            <p:cNvPr id="773" name=""/>
            <p:cNvCxnSpPr>
              <a:stCxn id="774" idx="4"/>
              <a:endCxn id="775" idx="2"/>
            </p:cNvCxnSpPr>
            <p:nvPr/>
          </p:nvCxnSpPr>
          <p:spPr>
            <a:xfrm>
              <a:off x="2878200" y="2952720"/>
              <a:ext cx="2160" cy="76608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</a:ln>
          </p:spPr>
        </p:cxnSp>
        <p:sp>
          <p:nvSpPr>
            <p:cNvPr id="768" name=""/>
            <p:cNvSpPr/>
            <p:nvPr/>
          </p:nvSpPr>
          <p:spPr>
            <a:xfrm>
              <a:off x="3922560" y="1906560"/>
              <a:ext cx="71640" cy="7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449440" y="3352680"/>
              <a:ext cx="0" cy="14702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449440" y="4822920"/>
              <a:ext cx="53294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3951000" y="4352760"/>
              <a:ext cx="16714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3414240" y="4510080"/>
              <a:ext cx="29307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2879280" y="4665600"/>
              <a:ext cx="42195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382920" y="2367000"/>
              <a:ext cx="71640" cy="71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841480" y="2881440"/>
              <a:ext cx="71640" cy="71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411280" y="3309840"/>
              <a:ext cx="71640" cy="7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422520" y="4132440"/>
              <a:ext cx="0" cy="3776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960720" y="4132440"/>
              <a:ext cx="0" cy="2203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119480" y="3746520"/>
              <a:ext cx="0" cy="3506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785" name=""/>
            <p:cNvGrpSpPr/>
            <p:nvPr/>
          </p:nvGrpSpPr>
          <p:grpSpPr>
            <a:xfrm>
              <a:off x="3843000" y="3718080"/>
              <a:ext cx="204840" cy="431640"/>
              <a:chOff x="3843000" y="3718080"/>
              <a:chExt cx="204840" cy="431640"/>
            </a:xfrm>
          </p:grpSpPr>
          <p:grpSp>
            <p:nvGrpSpPr>
              <p:cNvPr id="786" name=""/>
              <p:cNvGrpSpPr/>
              <p:nvPr/>
            </p:nvGrpSpPr>
            <p:grpSpPr>
              <a:xfrm>
                <a:off x="3868200" y="3731760"/>
                <a:ext cx="179640" cy="403200"/>
                <a:chOff x="3868200" y="3731760"/>
                <a:chExt cx="179640" cy="403200"/>
              </a:xfrm>
            </p:grpSpPr>
            <p:sp>
              <p:nvSpPr>
                <p:cNvPr id="769" name=""/>
                <p:cNvSpPr/>
                <p:nvPr/>
              </p:nvSpPr>
              <p:spPr>
                <a:xfrm rot="5400000">
                  <a:off x="3890880" y="3709080"/>
                  <a:ext cx="134280" cy="1796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 rot="5400000">
                  <a:off x="3890880" y="3843360"/>
                  <a:ext cx="134280" cy="1796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 rot="5400000">
                  <a:off x="3890880" y="3978000"/>
                  <a:ext cx="134280" cy="1796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9" name=""/>
              <p:cNvSpPr/>
              <p:nvPr/>
            </p:nvSpPr>
            <p:spPr>
              <a:xfrm rot="5400000">
                <a:off x="3681000" y="3879720"/>
                <a:ext cx="431640" cy="10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790" name=""/>
            <p:cNvGrpSpPr/>
            <p:nvPr/>
          </p:nvGrpSpPr>
          <p:grpSpPr>
            <a:xfrm>
              <a:off x="3306240" y="3718080"/>
              <a:ext cx="204840" cy="431640"/>
              <a:chOff x="3306240" y="3718080"/>
              <a:chExt cx="204840" cy="431640"/>
            </a:xfrm>
          </p:grpSpPr>
          <p:grpSp>
            <p:nvGrpSpPr>
              <p:cNvPr id="791" name=""/>
              <p:cNvGrpSpPr/>
              <p:nvPr/>
            </p:nvGrpSpPr>
            <p:grpSpPr>
              <a:xfrm>
                <a:off x="3331440" y="3731760"/>
                <a:ext cx="179640" cy="403200"/>
                <a:chOff x="3331440" y="3731760"/>
                <a:chExt cx="179640" cy="403200"/>
              </a:xfrm>
            </p:grpSpPr>
            <p:sp>
              <p:nvSpPr>
                <p:cNvPr id="772" name=""/>
                <p:cNvSpPr/>
                <p:nvPr/>
              </p:nvSpPr>
              <p:spPr>
                <a:xfrm rot="5400000">
                  <a:off x="3354120" y="3709080"/>
                  <a:ext cx="134280" cy="1796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 rot="5400000">
                  <a:off x="3354120" y="3843360"/>
                  <a:ext cx="134280" cy="1796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 rot="5400000">
                  <a:off x="3354120" y="3978000"/>
                  <a:ext cx="134280" cy="1796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4" name=""/>
              <p:cNvSpPr/>
              <p:nvPr/>
            </p:nvSpPr>
            <p:spPr>
              <a:xfrm rot="5400000">
                <a:off x="3144240" y="3879720"/>
                <a:ext cx="431640" cy="10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795" name=""/>
            <p:cNvSpPr/>
            <p:nvPr/>
          </p:nvSpPr>
          <p:spPr>
            <a:xfrm>
              <a:off x="3003480" y="3730680"/>
              <a:ext cx="41112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c0000"/>
                  </a:solidFill>
                  <a:latin typeface="Arial"/>
                </a:rPr>
                <a:t>i</a:t>
              </a:r>
              <a:r>
                <a:rPr b="1" lang="pl-PL" sz="2000" spc="-1" strike="noStrike" baseline="-25000">
                  <a:solidFill>
                    <a:srgbClr val="cc0000"/>
                  </a:solidFill>
                  <a:latin typeface="Arial"/>
                </a:rPr>
                <a:t>Cc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041640" y="3746520"/>
              <a:ext cx="0" cy="3506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583080" y="3746520"/>
              <a:ext cx="0" cy="3506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544920" y="3730680"/>
              <a:ext cx="41112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c0000"/>
                  </a:solidFill>
                  <a:latin typeface="Arial"/>
                </a:rPr>
                <a:t>i</a:t>
              </a:r>
              <a:r>
                <a:rPr b="1" lang="pl-PL" sz="2000" spc="-1" strike="noStrike" baseline="-25000">
                  <a:solidFill>
                    <a:srgbClr val="cc0000"/>
                  </a:solidFill>
                  <a:latin typeface="Arial"/>
                </a:rPr>
                <a:t>Cb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757520" y="1935000"/>
              <a:ext cx="411120" cy="3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c0000"/>
                  </a:solidFill>
                  <a:latin typeface="Arial"/>
                </a:rPr>
                <a:t>i</a:t>
              </a:r>
              <a:r>
                <a:rPr b="1" lang="pl-PL" sz="2000" spc="-1" strike="noStrike" baseline="-25000">
                  <a:solidFill>
                    <a:srgbClr val="cc0000"/>
                  </a:solidFill>
                  <a:latin typeface="Arial"/>
                </a:rPr>
                <a:t>Sb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751040" y="2457360"/>
              <a:ext cx="44280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c0000"/>
                  </a:solidFill>
                  <a:latin typeface="Arial"/>
                </a:rPr>
                <a:t>i</a:t>
              </a:r>
              <a:r>
                <a:rPr b="1" lang="pl-PL" sz="2000" spc="-1" strike="noStrike" baseline="-25000">
                  <a:solidFill>
                    <a:srgbClr val="cc0000"/>
                  </a:solidFill>
                  <a:latin typeface="Arial"/>
                </a:rPr>
                <a:t>Sc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492800" y="3268800"/>
              <a:ext cx="3506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527720" y="2970360"/>
              <a:ext cx="44280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c0000"/>
                  </a:solidFill>
                  <a:latin typeface="Arial"/>
                </a:rPr>
                <a:t>i</a:t>
              </a:r>
              <a:r>
                <a:rPr b="1" lang="pl-PL" sz="2000" spc="-1" strike="noStrike" baseline="-25000">
                  <a:solidFill>
                    <a:srgbClr val="cc0000"/>
                  </a:solidFill>
                  <a:latin typeface="Arial"/>
                </a:rPr>
                <a:t>Ln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776240" y="3270240"/>
              <a:ext cx="3510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811160" y="2971800"/>
              <a:ext cx="4431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c0000"/>
                  </a:solidFill>
                  <a:latin typeface="Arial"/>
                </a:rPr>
                <a:t>i</a:t>
              </a:r>
              <a:r>
                <a:rPr b="1" lang="pl-PL" sz="2000" spc="-1" strike="noStrike" baseline="-25000">
                  <a:solidFill>
                    <a:srgbClr val="cc0000"/>
                  </a:solidFill>
                  <a:latin typeface="Arial"/>
                </a:rPr>
                <a:t>Sn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530440" y="3746520"/>
              <a:ext cx="0" cy="3506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486160" y="3716280"/>
              <a:ext cx="48096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c0000"/>
                  </a:solidFill>
                  <a:latin typeface="Arial"/>
                </a:rPr>
                <a:t>i</a:t>
              </a:r>
              <a:r>
                <a:rPr b="1" lang="pl-PL" sz="2000" spc="-1" strike="noStrike" baseline="-25000">
                  <a:solidFill>
                    <a:srgbClr val="cc0000"/>
                  </a:solidFill>
                  <a:latin typeface="Arial"/>
                </a:rPr>
                <a:t>Cn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807" name=""/>
            <p:cNvGrpSpPr/>
            <p:nvPr/>
          </p:nvGrpSpPr>
          <p:grpSpPr>
            <a:xfrm>
              <a:off x="2765520" y="3716280"/>
              <a:ext cx="203040" cy="431640"/>
              <a:chOff x="2765520" y="3716280"/>
              <a:chExt cx="203040" cy="431640"/>
            </a:xfrm>
          </p:grpSpPr>
          <p:grpSp>
            <p:nvGrpSpPr>
              <p:cNvPr id="808" name=""/>
              <p:cNvGrpSpPr/>
              <p:nvPr/>
            </p:nvGrpSpPr>
            <p:grpSpPr>
              <a:xfrm>
                <a:off x="2789280" y="3730680"/>
                <a:ext cx="179280" cy="403200"/>
                <a:chOff x="2789280" y="3730680"/>
                <a:chExt cx="179280" cy="403200"/>
              </a:xfrm>
            </p:grpSpPr>
            <p:sp>
              <p:nvSpPr>
                <p:cNvPr id="775" name=""/>
                <p:cNvSpPr/>
                <p:nvPr/>
              </p:nvSpPr>
              <p:spPr>
                <a:xfrm rot="5400000">
                  <a:off x="2811600" y="3708000"/>
                  <a:ext cx="134280" cy="1792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 rot="5400000">
                  <a:off x="2811600" y="3842280"/>
                  <a:ext cx="134280" cy="1792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 rot="5400000">
                  <a:off x="2811600" y="3976920"/>
                  <a:ext cx="134280" cy="1792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11" name=""/>
              <p:cNvSpPr/>
              <p:nvPr/>
            </p:nvSpPr>
            <p:spPr>
              <a:xfrm rot="5400000">
                <a:off x="2603520" y="3877920"/>
                <a:ext cx="431640" cy="10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812" name=""/>
            <p:cNvSpPr/>
            <p:nvPr/>
          </p:nvSpPr>
          <p:spPr>
            <a:xfrm>
              <a:off x="2882880" y="4129200"/>
              <a:ext cx="0" cy="5364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813" name=""/>
            <p:cNvGrpSpPr/>
            <p:nvPr/>
          </p:nvGrpSpPr>
          <p:grpSpPr>
            <a:xfrm>
              <a:off x="5273640" y="3675240"/>
              <a:ext cx="636480" cy="1814040"/>
              <a:chOff x="5273640" y="3675240"/>
              <a:chExt cx="636480" cy="1814040"/>
            </a:xfrm>
          </p:grpSpPr>
          <p:sp>
            <p:nvSpPr>
              <p:cNvPr id="814" name=""/>
              <p:cNvSpPr/>
              <p:nvPr/>
            </p:nvSpPr>
            <p:spPr>
              <a:xfrm>
                <a:off x="5441760" y="5041800"/>
                <a:ext cx="0" cy="2869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815" name=""/>
              <p:cNvGrpSpPr/>
              <p:nvPr/>
            </p:nvGrpSpPr>
            <p:grpSpPr>
              <a:xfrm>
                <a:off x="5734080" y="5100480"/>
                <a:ext cx="176040" cy="169200"/>
                <a:chOff x="5734080" y="5100480"/>
                <a:chExt cx="176040" cy="169200"/>
              </a:xfrm>
            </p:grpSpPr>
            <p:sp>
              <p:nvSpPr>
                <p:cNvPr id="816" name=""/>
                <p:cNvSpPr/>
                <p:nvPr/>
              </p:nvSpPr>
              <p:spPr>
                <a:xfrm>
                  <a:off x="5734080" y="5115600"/>
                  <a:ext cx="176040" cy="154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5734080" y="5100480"/>
                  <a:ext cx="17604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18" name=""/>
              <p:cNvSpPr/>
              <p:nvPr/>
            </p:nvSpPr>
            <p:spPr>
              <a:xfrm>
                <a:off x="5619600" y="5311800"/>
                <a:ext cx="0" cy="1774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flipV="1">
                <a:off x="5441760" y="5046120"/>
                <a:ext cx="187560" cy="1551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5454720" y="5185440"/>
                <a:ext cx="168120" cy="13140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5379840" y="5041800"/>
                <a:ext cx="0" cy="2869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5273640" y="5186160"/>
                <a:ext cx="10620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5622840" y="4118040"/>
                <a:ext cx="0" cy="9280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5819760" y="4962240"/>
                <a:ext cx="0" cy="1378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5815080" y="5270400"/>
                <a:ext cx="0" cy="1378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H="1">
                <a:off x="5613120" y="4975200"/>
                <a:ext cx="20628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flipH="1">
                <a:off x="5613120" y="5398920"/>
                <a:ext cx="20628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5441760" y="3841560"/>
                <a:ext cx="0" cy="2869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829" name=""/>
              <p:cNvGrpSpPr/>
              <p:nvPr/>
            </p:nvGrpSpPr>
            <p:grpSpPr>
              <a:xfrm>
                <a:off x="5734080" y="3900240"/>
                <a:ext cx="176040" cy="169200"/>
                <a:chOff x="5734080" y="3900240"/>
                <a:chExt cx="176040" cy="169200"/>
              </a:xfrm>
            </p:grpSpPr>
            <p:sp>
              <p:nvSpPr>
                <p:cNvPr id="830" name=""/>
                <p:cNvSpPr/>
                <p:nvPr/>
              </p:nvSpPr>
              <p:spPr>
                <a:xfrm>
                  <a:off x="5734080" y="3915360"/>
                  <a:ext cx="176040" cy="154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5734080" y="3900240"/>
                  <a:ext cx="17604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2" name=""/>
              <p:cNvSpPr/>
              <p:nvPr/>
            </p:nvSpPr>
            <p:spPr>
              <a:xfrm flipV="1">
                <a:off x="5441760" y="3846240"/>
                <a:ext cx="187560" cy="1555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5454720" y="3985560"/>
                <a:ext cx="168120" cy="13140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379840" y="3841560"/>
                <a:ext cx="0" cy="2869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5273640" y="3986280"/>
                <a:ext cx="10620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5619600" y="3675240"/>
                <a:ext cx="0" cy="1774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819760" y="3762360"/>
                <a:ext cx="0" cy="1375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815080" y="4070160"/>
                <a:ext cx="0" cy="1378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flipH="1">
                <a:off x="5613120" y="3774960"/>
                <a:ext cx="20628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flipH="1">
                <a:off x="5613120" y="4198680"/>
                <a:ext cx="20628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841" name=""/>
            <p:cNvGrpSpPr/>
            <p:nvPr/>
          </p:nvGrpSpPr>
          <p:grpSpPr>
            <a:xfrm>
              <a:off x="5996160" y="3675240"/>
              <a:ext cx="636480" cy="1814040"/>
              <a:chOff x="5996160" y="3675240"/>
              <a:chExt cx="636480" cy="1814040"/>
            </a:xfrm>
          </p:grpSpPr>
          <p:sp>
            <p:nvSpPr>
              <p:cNvPr id="842" name=""/>
              <p:cNvSpPr/>
              <p:nvPr/>
            </p:nvSpPr>
            <p:spPr>
              <a:xfrm>
                <a:off x="6164280" y="5041800"/>
                <a:ext cx="0" cy="2869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843" name=""/>
              <p:cNvGrpSpPr/>
              <p:nvPr/>
            </p:nvGrpSpPr>
            <p:grpSpPr>
              <a:xfrm>
                <a:off x="6456600" y="5100480"/>
                <a:ext cx="176040" cy="169200"/>
                <a:chOff x="6456600" y="5100480"/>
                <a:chExt cx="176040" cy="169200"/>
              </a:xfrm>
            </p:grpSpPr>
            <p:sp>
              <p:nvSpPr>
                <p:cNvPr id="844" name=""/>
                <p:cNvSpPr/>
                <p:nvPr/>
              </p:nvSpPr>
              <p:spPr>
                <a:xfrm>
                  <a:off x="6456600" y="5115600"/>
                  <a:ext cx="176040" cy="154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6456600" y="5100480"/>
                  <a:ext cx="17604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6" name=""/>
              <p:cNvSpPr/>
              <p:nvPr/>
            </p:nvSpPr>
            <p:spPr>
              <a:xfrm>
                <a:off x="6342120" y="5311800"/>
                <a:ext cx="0" cy="1774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V="1">
                <a:off x="6164280" y="5046120"/>
                <a:ext cx="187560" cy="1551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6177240" y="5185440"/>
                <a:ext cx="168120" cy="13140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102360" y="5041800"/>
                <a:ext cx="0" cy="2869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5996160" y="5186160"/>
                <a:ext cx="10620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6345360" y="4118040"/>
                <a:ext cx="0" cy="9280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542280" y="4962240"/>
                <a:ext cx="0" cy="1378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6537600" y="5270400"/>
                <a:ext cx="0" cy="1378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H="1">
                <a:off x="6335640" y="4975200"/>
                <a:ext cx="20628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6335640" y="5398920"/>
                <a:ext cx="20628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6164280" y="3841560"/>
                <a:ext cx="0" cy="2869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857" name=""/>
              <p:cNvGrpSpPr/>
              <p:nvPr/>
            </p:nvGrpSpPr>
            <p:grpSpPr>
              <a:xfrm>
                <a:off x="6456600" y="3900240"/>
                <a:ext cx="176040" cy="169200"/>
                <a:chOff x="6456600" y="3900240"/>
                <a:chExt cx="176040" cy="169200"/>
              </a:xfrm>
            </p:grpSpPr>
            <p:sp>
              <p:nvSpPr>
                <p:cNvPr id="858" name=""/>
                <p:cNvSpPr/>
                <p:nvPr/>
              </p:nvSpPr>
              <p:spPr>
                <a:xfrm>
                  <a:off x="6456600" y="3915360"/>
                  <a:ext cx="176040" cy="154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6456600" y="3900240"/>
                  <a:ext cx="17604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0" name=""/>
              <p:cNvSpPr/>
              <p:nvPr/>
            </p:nvSpPr>
            <p:spPr>
              <a:xfrm flipV="1">
                <a:off x="6164280" y="3846240"/>
                <a:ext cx="187560" cy="1555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6177240" y="3985560"/>
                <a:ext cx="168120" cy="13140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6102360" y="3841560"/>
                <a:ext cx="0" cy="2869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5996160" y="3986280"/>
                <a:ext cx="10620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6342120" y="3675240"/>
                <a:ext cx="0" cy="1774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6542280" y="3762360"/>
                <a:ext cx="0" cy="1375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6537600" y="4070160"/>
                <a:ext cx="0" cy="1378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H="1">
                <a:off x="6335640" y="3774960"/>
                <a:ext cx="20628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flipH="1">
                <a:off x="6335640" y="4198680"/>
                <a:ext cx="20628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869" name=""/>
            <p:cNvGrpSpPr/>
            <p:nvPr/>
          </p:nvGrpSpPr>
          <p:grpSpPr>
            <a:xfrm>
              <a:off x="6713640" y="3673440"/>
              <a:ext cx="636480" cy="1814040"/>
              <a:chOff x="6713640" y="3673440"/>
              <a:chExt cx="636480" cy="1814040"/>
            </a:xfrm>
          </p:grpSpPr>
          <p:sp>
            <p:nvSpPr>
              <p:cNvPr id="870" name=""/>
              <p:cNvSpPr/>
              <p:nvPr/>
            </p:nvSpPr>
            <p:spPr>
              <a:xfrm>
                <a:off x="6881760" y="5040000"/>
                <a:ext cx="0" cy="2869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871" name=""/>
              <p:cNvGrpSpPr/>
              <p:nvPr/>
            </p:nvGrpSpPr>
            <p:grpSpPr>
              <a:xfrm>
                <a:off x="7174080" y="5098680"/>
                <a:ext cx="176040" cy="169200"/>
                <a:chOff x="7174080" y="5098680"/>
                <a:chExt cx="176040" cy="169200"/>
              </a:xfrm>
            </p:grpSpPr>
            <p:sp>
              <p:nvSpPr>
                <p:cNvPr id="872" name=""/>
                <p:cNvSpPr/>
                <p:nvPr/>
              </p:nvSpPr>
              <p:spPr>
                <a:xfrm>
                  <a:off x="7174080" y="5113800"/>
                  <a:ext cx="176040" cy="154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7174080" y="5098680"/>
                  <a:ext cx="17604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4" name=""/>
              <p:cNvSpPr/>
              <p:nvPr/>
            </p:nvSpPr>
            <p:spPr>
              <a:xfrm>
                <a:off x="7059600" y="5310000"/>
                <a:ext cx="0" cy="1774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flipV="1">
                <a:off x="6881760" y="5044320"/>
                <a:ext cx="187560" cy="1551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6894720" y="5183640"/>
                <a:ext cx="168120" cy="13140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6819840" y="5040000"/>
                <a:ext cx="0" cy="2869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6713640" y="5184360"/>
                <a:ext cx="10620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062840" y="4116240"/>
                <a:ext cx="0" cy="9280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7259760" y="4960440"/>
                <a:ext cx="0" cy="1378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7255080" y="5268600"/>
                <a:ext cx="0" cy="1378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flipH="1">
                <a:off x="7053120" y="4973400"/>
                <a:ext cx="20628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flipH="1">
                <a:off x="7053120" y="5397120"/>
                <a:ext cx="20628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6881760" y="3839760"/>
                <a:ext cx="0" cy="2869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885" name=""/>
              <p:cNvGrpSpPr/>
              <p:nvPr/>
            </p:nvGrpSpPr>
            <p:grpSpPr>
              <a:xfrm>
                <a:off x="7174080" y="3898440"/>
                <a:ext cx="176040" cy="169200"/>
                <a:chOff x="7174080" y="3898440"/>
                <a:chExt cx="176040" cy="169200"/>
              </a:xfrm>
            </p:grpSpPr>
            <p:sp>
              <p:nvSpPr>
                <p:cNvPr id="886" name=""/>
                <p:cNvSpPr/>
                <p:nvPr/>
              </p:nvSpPr>
              <p:spPr>
                <a:xfrm>
                  <a:off x="7174080" y="3913560"/>
                  <a:ext cx="176040" cy="154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7174080" y="3898440"/>
                  <a:ext cx="17604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88" name=""/>
              <p:cNvSpPr/>
              <p:nvPr/>
            </p:nvSpPr>
            <p:spPr>
              <a:xfrm flipV="1">
                <a:off x="6881760" y="3844440"/>
                <a:ext cx="187560" cy="1555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6894720" y="3983760"/>
                <a:ext cx="168120" cy="13140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6819840" y="3839760"/>
                <a:ext cx="0" cy="2869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6713640" y="3984480"/>
                <a:ext cx="10620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7059600" y="3673440"/>
                <a:ext cx="0" cy="1774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7259760" y="3760560"/>
                <a:ext cx="0" cy="1375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255080" y="4068360"/>
                <a:ext cx="0" cy="1378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flipH="1">
                <a:off x="7053120" y="3773160"/>
                <a:ext cx="20628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H="1">
                <a:off x="7053120" y="4196880"/>
                <a:ext cx="20628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897" name=""/>
            <p:cNvSpPr/>
            <p:nvPr/>
          </p:nvSpPr>
          <p:spPr>
            <a:xfrm flipV="1">
              <a:off x="5613480" y="3675240"/>
              <a:ext cx="2962080" cy="28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616720" y="5484960"/>
              <a:ext cx="2958840" cy="14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589720" y="4314960"/>
              <a:ext cx="71280" cy="71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311880" y="4471920"/>
              <a:ext cx="71280" cy="7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027920" y="4629240"/>
              <a:ext cx="71280" cy="71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8391600" y="4549680"/>
              <a:ext cx="3603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8391600" y="4622760"/>
              <a:ext cx="3603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V="1">
              <a:off x="8570880" y="3668760"/>
              <a:ext cx="0" cy="8920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8185320" y="4229280"/>
              <a:ext cx="47592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c0000"/>
                  </a:solidFill>
                  <a:latin typeface="Arial"/>
                </a:rPr>
                <a:t>C</a:t>
              </a:r>
              <a:r>
                <a:rPr b="1" lang="pl-PL" sz="2000" spc="-1" strike="noStrike" baseline="-25000">
                  <a:solidFill>
                    <a:srgbClr val="cc0000"/>
                  </a:solidFill>
                  <a:latin typeface="Arial"/>
                </a:rPr>
                <a:t>dc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106960" y="3505320"/>
              <a:ext cx="3859200" cy="2146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599080" y="4245120"/>
              <a:ext cx="258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326280" y="4411800"/>
              <a:ext cx="258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043760" y="4564080"/>
              <a:ext cx="258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910" name=""/>
            <p:cNvGrpSpPr/>
            <p:nvPr/>
          </p:nvGrpSpPr>
          <p:grpSpPr>
            <a:xfrm>
              <a:off x="7432560" y="3668760"/>
              <a:ext cx="636480" cy="1814040"/>
              <a:chOff x="7432560" y="3668760"/>
              <a:chExt cx="636480" cy="1814040"/>
            </a:xfrm>
          </p:grpSpPr>
          <p:sp>
            <p:nvSpPr>
              <p:cNvPr id="911" name=""/>
              <p:cNvSpPr/>
              <p:nvPr/>
            </p:nvSpPr>
            <p:spPr>
              <a:xfrm>
                <a:off x="7600680" y="5035320"/>
                <a:ext cx="0" cy="2869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912" name=""/>
              <p:cNvGrpSpPr/>
              <p:nvPr/>
            </p:nvGrpSpPr>
            <p:grpSpPr>
              <a:xfrm>
                <a:off x="7893000" y="5094000"/>
                <a:ext cx="176040" cy="169200"/>
                <a:chOff x="7893000" y="5094000"/>
                <a:chExt cx="176040" cy="169200"/>
              </a:xfrm>
            </p:grpSpPr>
            <p:sp>
              <p:nvSpPr>
                <p:cNvPr id="913" name=""/>
                <p:cNvSpPr/>
                <p:nvPr/>
              </p:nvSpPr>
              <p:spPr>
                <a:xfrm>
                  <a:off x="7893000" y="5109120"/>
                  <a:ext cx="176040" cy="154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7893000" y="5094000"/>
                  <a:ext cx="17604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5" name=""/>
              <p:cNvSpPr/>
              <p:nvPr/>
            </p:nvSpPr>
            <p:spPr>
              <a:xfrm>
                <a:off x="7778520" y="5305320"/>
                <a:ext cx="0" cy="1774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 flipV="1">
                <a:off x="7600680" y="5039640"/>
                <a:ext cx="187560" cy="1551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7613640" y="5178960"/>
                <a:ext cx="168120" cy="13140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7538760" y="5035320"/>
                <a:ext cx="0" cy="2869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7432560" y="5179680"/>
                <a:ext cx="10620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781760" y="4111560"/>
                <a:ext cx="0" cy="9280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7978680" y="4955760"/>
                <a:ext cx="0" cy="1378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7974000" y="5263920"/>
                <a:ext cx="0" cy="1378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flipH="1">
                <a:off x="7772040" y="4968720"/>
                <a:ext cx="20628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 flipH="1">
                <a:off x="7772040" y="5392440"/>
                <a:ext cx="20628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00680" y="3835080"/>
                <a:ext cx="0" cy="2869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926" name=""/>
              <p:cNvGrpSpPr/>
              <p:nvPr/>
            </p:nvGrpSpPr>
            <p:grpSpPr>
              <a:xfrm>
                <a:off x="7893000" y="3893760"/>
                <a:ext cx="176040" cy="169200"/>
                <a:chOff x="7893000" y="3893760"/>
                <a:chExt cx="176040" cy="169200"/>
              </a:xfrm>
            </p:grpSpPr>
            <p:sp>
              <p:nvSpPr>
                <p:cNvPr id="927" name=""/>
                <p:cNvSpPr/>
                <p:nvPr/>
              </p:nvSpPr>
              <p:spPr>
                <a:xfrm>
                  <a:off x="7893000" y="3908880"/>
                  <a:ext cx="176040" cy="154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7893000" y="3893760"/>
                  <a:ext cx="17604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9" name=""/>
              <p:cNvSpPr/>
              <p:nvPr/>
            </p:nvSpPr>
            <p:spPr>
              <a:xfrm flipV="1">
                <a:off x="7600680" y="3839760"/>
                <a:ext cx="187560" cy="1555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13640" y="3979080"/>
                <a:ext cx="168120" cy="13140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7538760" y="3835080"/>
                <a:ext cx="0" cy="2869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7432560" y="3979800"/>
                <a:ext cx="10620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7778520" y="3668760"/>
                <a:ext cx="0" cy="1774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7978680" y="3755880"/>
                <a:ext cx="0" cy="1375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974000" y="4063680"/>
                <a:ext cx="0" cy="1378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flipH="1">
                <a:off x="7772040" y="3768480"/>
                <a:ext cx="20628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 flipH="1">
                <a:off x="7772040" y="4192200"/>
                <a:ext cx="20628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938" name=""/>
            <p:cNvSpPr/>
            <p:nvPr/>
          </p:nvSpPr>
          <p:spPr>
            <a:xfrm flipV="1">
              <a:off x="8575560" y="4622760"/>
              <a:ext cx="0" cy="8668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7746840" y="4786200"/>
              <a:ext cx="71640" cy="7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7759800" y="4716360"/>
              <a:ext cx="258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25440" y="1822320"/>
              <a:ext cx="1079640" cy="1149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ff"/>
                  </a:solidFill>
                  <a:latin typeface="Arial"/>
                </a:rPr>
                <a:t>Sourc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cxnSp>
          <p:nvCxnSpPr>
            <p:cNvPr id="941" name=""/>
            <p:cNvCxnSpPr>
              <a:stCxn id="742" idx="3"/>
              <a:endCxn id="723" idx="2"/>
            </p:cNvCxnSpPr>
            <p:nvPr/>
          </p:nvCxnSpPr>
          <p:spPr>
            <a:xfrm>
              <a:off x="1419120" y="2396880"/>
              <a:ext cx="285120" cy="108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</a:ln>
          </p:spPr>
        </p:cxnSp>
        <p:sp>
          <p:nvSpPr>
            <p:cNvPr id="942" name=""/>
            <p:cNvSpPr/>
            <p:nvPr/>
          </p:nvSpPr>
          <p:spPr>
            <a:xfrm>
              <a:off x="1405080" y="1936800"/>
              <a:ext cx="3189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405080" y="2906640"/>
              <a:ext cx="299880" cy="64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871B-4321-45E8-8A04-20BB435EFEAC}" type="slidenum">
              <a:t>10</a:t>
            </a:fld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85440" y="179280"/>
            <a:ext cx="835668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Układ 3-fazowy, 4-przewodowy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grpSp>
        <p:nvGrpSpPr>
          <p:cNvPr id="945" name=""/>
          <p:cNvGrpSpPr/>
          <p:nvPr/>
        </p:nvGrpSpPr>
        <p:grpSpPr>
          <a:xfrm>
            <a:off x="336600" y="1184400"/>
            <a:ext cx="8404200" cy="4746600"/>
            <a:chOff x="336600" y="1184400"/>
            <a:chExt cx="8404200" cy="4746600"/>
          </a:xfrm>
        </p:grpSpPr>
        <p:grpSp>
          <p:nvGrpSpPr>
            <p:cNvPr id="946" name=""/>
            <p:cNvGrpSpPr/>
            <p:nvPr/>
          </p:nvGrpSpPr>
          <p:grpSpPr>
            <a:xfrm>
              <a:off x="1735200" y="1574640"/>
              <a:ext cx="538200" cy="179640"/>
              <a:chOff x="1735200" y="1574640"/>
              <a:chExt cx="538200" cy="179640"/>
            </a:xfrm>
          </p:grpSpPr>
          <p:sp>
            <p:nvSpPr>
              <p:cNvPr id="947" name=""/>
              <p:cNvSpPr/>
              <p:nvPr/>
            </p:nvSpPr>
            <p:spPr>
              <a:xfrm>
                <a:off x="1735200" y="1574640"/>
                <a:ext cx="179640" cy="1796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1914840" y="1574640"/>
                <a:ext cx="179280" cy="1796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2094120" y="1574640"/>
                <a:ext cx="179280" cy="1796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950" name=""/>
            <p:cNvSpPr/>
            <p:nvPr/>
          </p:nvSpPr>
          <p:spPr>
            <a:xfrm>
              <a:off x="1716120" y="1671480"/>
              <a:ext cx="57636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811160" y="1498680"/>
              <a:ext cx="3510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782720" y="1203480"/>
              <a:ext cx="41112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c0000"/>
                  </a:solidFill>
                  <a:latin typeface="Arial"/>
                </a:rPr>
                <a:t>i</a:t>
              </a:r>
              <a:r>
                <a:rPr b="1" lang="pl-PL" sz="2000" spc="-1" strike="noStrike" baseline="-25000">
                  <a:solidFill>
                    <a:srgbClr val="cc0000"/>
                  </a:solidFill>
                  <a:latin typeface="Arial"/>
                </a:rPr>
                <a:t>Sa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953" name=""/>
            <p:cNvGrpSpPr/>
            <p:nvPr/>
          </p:nvGrpSpPr>
          <p:grpSpPr>
            <a:xfrm>
              <a:off x="1716120" y="2027160"/>
              <a:ext cx="538200" cy="179640"/>
              <a:chOff x="1716120" y="2027160"/>
              <a:chExt cx="538200" cy="179640"/>
            </a:xfrm>
          </p:grpSpPr>
          <p:sp>
            <p:nvSpPr>
              <p:cNvPr id="954" name=""/>
              <p:cNvSpPr/>
              <p:nvPr/>
            </p:nvSpPr>
            <p:spPr>
              <a:xfrm>
                <a:off x="1716120" y="2027160"/>
                <a:ext cx="179640" cy="1796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1895760" y="2027160"/>
                <a:ext cx="179280" cy="1796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2075040" y="2027160"/>
                <a:ext cx="179280" cy="1796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957" name=""/>
            <p:cNvSpPr/>
            <p:nvPr/>
          </p:nvSpPr>
          <p:spPr>
            <a:xfrm>
              <a:off x="1697040" y="2124000"/>
              <a:ext cx="57636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792440" y="1954080"/>
              <a:ext cx="3506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959" name=""/>
            <p:cNvGrpSpPr/>
            <p:nvPr/>
          </p:nvGrpSpPr>
          <p:grpSpPr>
            <a:xfrm>
              <a:off x="1716120" y="2549520"/>
              <a:ext cx="538200" cy="179280"/>
              <a:chOff x="1716120" y="2549520"/>
              <a:chExt cx="538200" cy="179280"/>
            </a:xfrm>
          </p:grpSpPr>
          <p:sp>
            <p:nvSpPr>
              <p:cNvPr id="960" name=""/>
              <p:cNvSpPr/>
              <p:nvPr/>
            </p:nvSpPr>
            <p:spPr>
              <a:xfrm>
                <a:off x="1716120" y="2549520"/>
                <a:ext cx="179640" cy="1792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1895760" y="2549520"/>
                <a:ext cx="179280" cy="1792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2075040" y="2549520"/>
                <a:ext cx="179280" cy="1792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963" name=""/>
            <p:cNvSpPr/>
            <p:nvPr/>
          </p:nvSpPr>
          <p:spPr>
            <a:xfrm>
              <a:off x="1697040" y="2646360"/>
              <a:ext cx="57636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792440" y="2473200"/>
              <a:ext cx="3506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994440" y="1184400"/>
              <a:ext cx="41112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c0000"/>
                  </a:solidFill>
                  <a:latin typeface="Arial"/>
                </a:rPr>
                <a:t>i</a:t>
              </a:r>
              <a:r>
                <a:rPr b="1" lang="pl-PL" sz="2000" spc="-1" strike="noStrike" baseline="-25000">
                  <a:solidFill>
                    <a:srgbClr val="cc0000"/>
                  </a:solidFill>
                  <a:latin typeface="Arial"/>
                </a:rPr>
                <a:t>La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cxnSp>
          <p:nvCxnSpPr>
            <p:cNvPr id="966" name=""/>
            <p:cNvCxnSpPr>
              <a:stCxn id="949" idx="6"/>
              <a:endCxn id="967" idx="2"/>
            </p:cNvCxnSpPr>
            <p:nvPr/>
          </p:nvCxnSpPr>
          <p:spPr>
            <a:xfrm>
              <a:off x="2285640" y="1665000"/>
              <a:ext cx="4607640" cy="108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</a:ln>
          </p:spPr>
        </p:cxnSp>
        <p:cxnSp>
          <p:nvCxnSpPr>
            <p:cNvPr id="968" name=""/>
            <p:cNvCxnSpPr>
              <a:stCxn id="956" idx="6"/>
              <a:endCxn id="969" idx="2"/>
            </p:cNvCxnSpPr>
            <p:nvPr/>
          </p:nvCxnSpPr>
          <p:spPr>
            <a:xfrm>
              <a:off x="2266920" y="2117520"/>
              <a:ext cx="4626720" cy="108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</a:ln>
          </p:spPr>
        </p:cxnSp>
        <p:cxnSp>
          <p:nvCxnSpPr>
            <p:cNvPr id="970" name=""/>
            <p:cNvCxnSpPr>
              <a:stCxn id="962" idx="6"/>
              <a:endCxn id="971" idx="2"/>
            </p:cNvCxnSpPr>
            <p:nvPr/>
          </p:nvCxnSpPr>
          <p:spPr>
            <a:xfrm>
              <a:off x="2266920" y="2639520"/>
              <a:ext cx="4626720" cy="108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</a:ln>
          </p:spPr>
        </p:cxnSp>
        <p:cxnSp>
          <p:nvCxnSpPr>
            <p:cNvPr id="972" name=""/>
            <p:cNvCxnSpPr/>
            <p:nvPr/>
          </p:nvCxnSpPr>
          <p:spPr>
            <a:xfrm flipH="1" rot="16200000">
              <a:off x="4457520" y="-900360"/>
              <a:ext cx="153360" cy="7325280"/>
            </a:xfrm>
            <a:prstGeom prst="bentConnector3">
              <a:avLst>
                <a:gd name="adj1" fmla="val 249882"/>
              </a:avLst>
            </a:prstGeom>
            <a:ln w="25560">
              <a:solidFill>
                <a:srgbClr val="0000ff"/>
              </a:solidFill>
              <a:miter/>
            </a:ln>
          </p:spPr>
        </p:cxnSp>
        <p:grpSp>
          <p:nvGrpSpPr>
            <p:cNvPr id="973" name=""/>
            <p:cNvGrpSpPr/>
            <p:nvPr/>
          </p:nvGrpSpPr>
          <p:grpSpPr>
            <a:xfrm>
              <a:off x="6886440" y="1574640"/>
              <a:ext cx="576000" cy="204840"/>
              <a:chOff x="6886440" y="1574640"/>
              <a:chExt cx="576000" cy="204840"/>
            </a:xfrm>
          </p:grpSpPr>
          <p:grpSp>
            <p:nvGrpSpPr>
              <p:cNvPr id="974" name=""/>
              <p:cNvGrpSpPr/>
              <p:nvPr/>
            </p:nvGrpSpPr>
            <p:grpSpPr>
              <a:xfrm>
                <a:off x="6905160" y="1574640"/>
                <a:ext cx="538200" cy="179640"/>
                <a:chOff x="6905160" y="1574640"/>
                <a:chExt cx="538200" cy="179640"/>
              </a:xfrm>
            </p:grpSpPr>
            <p:sp>
              <p:nvSpPr>
                <p:cNvPr id="967" name=""/>
                <p:cNvSpPr/>
                <p:nvPr/>
              </p:nvSpPr>
              <p:spPr>
                <a:xfrm>
                  <a:off x="6905160" y="1574640"/>
                  <a:ext cx="179640" cy="1796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7084800" y="1574640"/>
                  <a:ext cx="179280" cy="1796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7264080" y="1574640"/>
                  <a:ext cx="179280" cy="1796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7" name=""/>
              <p:cNvSpPr/>
              <p:nvPr/>
            </p:nvSpPr>
            <p:spPr>
              <a:xfrm>
                <a:off x="6886440" y="1671480"/>
                <a:ext cx="576000" cy="10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978" name=""/>
            <p:cNvSpPr/>
            <p:nvPr/>
          </p:nvSpPr>
          <p:spPr>
            <a:xfrm>
              <a:off x="6994440" y="1498680"/>
              <a:ext cx="3510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979" name=""/>
            <p:cNvGrpSpPr/>
            <p:nvPr/>
          </p:nvGrpSpPr>
          <p:grpSpPr>
            <a:xfrm>
              <a:off x="6886440" y="2027160"/>
              <a:ext cx="576000" cy="204840"/>
              <a:chOff x="6886440" y="2027160"/>
              <a:chExt cx="576000" cy="204840"/>
            </a:xfrm>
          </p:grpSpPr>
          <p:grpSp>
            <p:nvGrpSpPr>
              <p:cNvPr id="980" name=""/>
              <p:cNvGrpSpPr/>
              <p:nvPr/>
            </p:nvGrpSpPr>
            <p:grpSpPr>
              <a:xfrm>
                <a:off x="6905160" y="2027160"/>
                <a:ext cx="538200" cy="179640"/>
                <a:chOff x="6905160" y="2027160"/>
                <a:chExt cx="538200" cy="179640"/>
              </a:xfrm>
            </p:grpSpPr>
            <p:sp>
              <p:nvSpPr>
                <p:cNvPr id="969" name=""/>
                <p:cNvSpPr/>
                <p:nvPr/>
              </p:nvSpPr>
              <p:spPr>
                <a:xfrm>
                  <a:off x="6905160" y="2027160"/>
                  <a:ext cx="179640" cy="1796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7084800" y="2027160"/>
                  <a:ext cx="179280" cy="1796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7264080" y="2027160"/>
                  <a:ext cx="179280" cy="1796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3" name=""/>
              <p:cNvSpPr/>
              <p:nvPr/>
            </p:nvSpPr>
            <p:spPr>
              <a:xfrm>
                <a:off x="6886440" y="2124000"/>
                <a:ext cx="576000" cy="10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984" name=""/>
            <p:cNvSpPr/>
            <p:nvPr/>
          </p:nvSpPr>
          <p:spPr>
            <a:xfrm>
              <a:off x="6994440" y="1951200"/>
              <a:ext cx="3510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994440" y="1636560"/>
              <a:ext cx="4111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c0000"/>
                  </a:solidFill>
                  <a:latin typeface="Arial"/>
                </a:rPr>
                <a:t>i</a:t>
              </a:r>
              <a:r>
                <a:rPr b="1" lang="pl-PL" sz="2000" spc="-1" strike="noStrike" baseline="-25000">
                  <a:solidFill>
                    <a:srgbClr val="cc0000"/>
                  </a:solidFill>
                  <a:latin typeface="Arial"/>
                </a:rPr>
                <a:t>Lb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986" name=""/>
            <p:cNvGrpSpPr/>
            <p:nvPr/>
          </p:nvGrpSpPr>
          <p:grpSpPr>
            <a:xfrm>
              <a:off x="6886440" y="2549520"/>
              <a:ext cx="576000" cy="204840"/>
              <a:chOff x="6886440" y="2549520"/>
              <a:chExt cx="576000" cy="204840"/>
            </a:xfrm>
          </p:grpSpPr>
          <p:grpSp>
            <p:nvGrpSpPr>
              <p:cNvPr id="987" name=""/>
              <p:cNvGrpSpPr/>
              <p:nvPr/>
            </p:nvGrpSpPr>
            <p:grpSpPr>
              <a:xfrm>
                <a:off x="6905160" y="2549520"/>
                <a:ext cx="538200" cy="179640"/>
                <a:chOff x="6905160" y="2549520"/>
                <a:chExt cx="538200" cy="179640"/>
              </a:xfrm>
            </p:grpSpPr>
            <p:sp>
              <p:nvSpPr>
                <p:cNvPr id="971" name=""/>
                <p:cNvSpPr/>
                <p:nvPr/>
              </p:nvSpPr>
              <p:spPr>
                <a:xfrm>
                  <a:off x="6905160" y="2549520"/>
                  <a:ext cx="179640" cy="1796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7084800" y="2549520"/>
                  <a:ext cx="179280" cy="1796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7264080" y="2549520"/>
                  <a:ext cx="179280" cy="1796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0" name=""/>
              <p:cNvSpPr/>
              <p:nvPr/>
            </p:nvSpPr>
            <p:spPr>
              <a:xfrm>
                <a:off x="6886440" y="2646360"/>
                <a:ext cx="576000" cy="10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991" name=""/>
            <p:cNvSpPr/>
            <p:nvPr/>
          </p:nvSpPr>
          <p:spPr>
            <a:xfrm>
              <a:off x="6994440" y="2473200"/>
              <a:ext cx="3510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6994440" y="2158920"/>
              <a:ext cx="41112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c0000"/>
                  </a:solidFill>
                  <a:latin typeface="Arial"/>
                </a:rPr>
                <a:t>i</a:t>
              </a:r>
              <a:r>
                <a:rPr b="1" lang="pl-PL" sz="2000" spc="-1" strike="noStrike" baseline="-25000">
                  <a:solidFill>
                    <a:srgbClr val="cc0000"/>
                  </a:solidFill>
                  <a:latin typeface="Arial"/>
                </a:rPr>
                <a:t>Lc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661160" y="1398600"/>
              <a:ext cx="1079640" cy="1440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ff"/>
                  </a:solidFill>
                  <a:latin typeface="Arial"/>
                </a:rPr>
                <a:t>Nonl. load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cxnSp>
          <p:nvCxnSpPr>
            <p:cNvPr id="994" name=""/>
            <p:cNvCxnSpPr>
              <a:stCxn id="982" idx="6"/>
              <a:endCxn id="993" idx="1"/>
            </p:cNvCxnSpPr>
            <p:nvPr/>
          </p:nvCxnSpPr>
          <p:spPr>
            <a:xfrm>
              <a:off x="7456320" y="2117880"/>
              <a:ext cx="191520" cy="21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</a:ln>
          </p:spPr>
        </p:cxnSp>
        <p:sp>
          <p:nvSpPr>
            <p:cNvPr id="995" name=""/>
            <p:cNvSpPr/>
            <p:nvPr/>
          </p:nvSpPr>
          <p:spPr>
            <a:xfrm>
              <a:off x="7443720" y="1665360"/>
              <a:ext cx="2174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446960" y="2639880"/>
              <a:ext cx="2174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1757520" y="1655640"/>
              <a:ext cx="41112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c0000"/>
                  </a:solidFill>
                  <a:latin typeface="Arial"/>
                </a:rPr>
                <a:t>i</a:t>
              </a:r>
              <a:r>
                <a:rPr b="1" lang="pl-PL" sz="2000" spc="-1" strike="noStrike" baseline="-25000">
                  <a:solidFill>
                    <a:srgbClr val="cc0000"/>
                  </a:solidFill>
                  <a:latin typeface="Arial"/>
                </a:rPr>
                <a:t>Sb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751040" y="2178000"/>
              <a:ext cx="44280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c0000"/>
                  </a:solidFill>
                  <a:latin typeface="Arial"/>
                </a:rPr>
                <a:t>i</a:t>
              </a:r>
              <a:r>
                <a:rPr b="1" lang="pl-PL" sz="2000" spc="-1" strike="noStrike" baseline="-25000">
                  <a:solidFill>
                    <a:srgbClr val="cc0000"/>
                  </a:solidFill>
                  <a:latin typeface="Arial"/>
                </a:rPr>
                <a:t>Sc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994440" y="2989440"/>
              <a:ext cx="3510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029360" y="2690640"/>
              <a:ext cx="44316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c0000"/>
                  </a:solidFill>
                  <a:latin typeface="Arial"/>
                </a:rPr>
                <a:t>i</a:t>
              </a:r>
              <a:r>
                <a:rPr b="1" lang="pl-PL" sz="2000" spc="-1" strike="noStrike" baseline="-25000">
                  <a:solidFill>
                    <a:srgbClr val="cc0000"/>
                  </a:solidFill>
                  <a:latin typeface="Arial"/>
                </a:rPr>
                <a:t>Ln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077840" y="2990880"/>
              <a:ext cx="3510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112760" y="2692440"/>
              <a:ext cx="4431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c0000"/>
                  </a:solidFill>
                  <a:latin typeface="Arial"/>
                </a:rPr>
                <a:t>i</a:t>
              </a:r>
              <a:r>
                <a:rPr b="1" lang="pl-PL" sz="2000" spc="-1" strike="noStrike" baseline="-25000">
                  <a:solidFill>
                    <a:srgbClr val="cc0000"/>
                  </a:solidFill>
                  <a:latin typeface="Arial"/>
                </a:rPr>
                <a:t>Sn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146320" y="5477040"/>
              <a:ext cx="0" cy="2872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1004" name=""/>
            <p:cNvGrpSpPr/>
            <p:nvPr/>
          </p:nvGrpSpPr>
          <p:grpSpPr>
            <a:xfrm>
              <a:off x="2438280" y="5535720"/>
              <a:ext cx="176400" cy="169560"/>
              <a:chOff x="2438280" y="5535720"/>
              <a:chExt cx="176400" cy="169560"/>
            </a:xfrm>
          </p:grpSpPr>
          <p:sp>
            <p:nvSpPr>
              <p:cNvPr id="1005" name=""/>
              <p:cNvSpPr/>
              <p:nvPr/>
            </p:nvSpPr>
            <p:spPr>
              <a:xfrm>
                <a:off x="2438280" y="5550840"/>
                <a:ext cx="176400" cy="1544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2438280" y="5535720"/>
                <a:ext cx="17640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07" name=""/>
            <p:cNvSpPr/>
            <p:nvPr/>
          </p:nvSpPr>
          <p:spPr>
            <a:xfrm>
              <a:off x="2324160" y="5746680"/>
              <a:ext cx="0" cy="1778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V="1">
              <a:off x="2146320" y="5481720"/>
              <a:ext cx="187200" cy="1555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158920" y="5621400"/>
              <a:ext cx="168480" cy="1317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084400" y="5477040"/>
              <a:ext cx="0" cy="2872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978200" y="5621400"/>
              <a:ext cx="1062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327400" y="4552920"/>
              <a:ext cx="0" cy="928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523960" y="5397480"/>
              <a:ext cx="0" cy="1382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519280" y="5705640"/>
              <a:ext cx="0" cy="1378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 flipH="1">
              <a:off x="2317320" y="5410080"/>
              <a:ext cx="2062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H="1">
              <a:off x="2317320" y="5834160"/>
              <a:ext cx="2062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146320" y="4276800"/>
              <a:ext cx="0" cy="2872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1018" name=""/>
            <p:cNvGrpSpPr/>
            <p:nvPr/>
          </p:nvGrpSpPr>
          <p:grpSpPr>
            <a:xfrm>
              <a:off x="2438280" y="4335480"/>
              <a:ext cx="176400" cy="169560"/>
              <a:chOff x="2438280" y="4335480"/>
              <a:chExt cx="176400" cy="169560"/>
            </a:xfrm>
          </p:grpSpPr>
          <p:sp>
            <p:nvSpPr>
              <p:cNvPr id="1019" name=""/>
              <p:cNvSpPr/>
              <p:nvPr/>
            </p:nvSpPr>
            <p:spPr>
              <a:xfrm>
                <a:off x="2438280" y="4350600"/>
                <a:ext cx="176400" cy="1544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2438280" y="4335480"/>
                <a:ext cx="17640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21" name=""/>
            <p:cNvSpPr/>
            <p:nvPr/>
          </p:nvSpPr>
          <p:spPr>
            <a:xfrm flipV="1">
              <a:off x="2146320" y="4281480"/>
              <a:ext cx="187200" cy="1555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158920" y="4421160"/>
              <a:ext cx="168480" cy="1317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084400" y="4276800"/>
              <a:ext cx="0" cy="2872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978200" y="4421160"/>
              <a:ext cx="1062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324160" y="4110120"/>
              <a:ext cx="0" cy="1778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523960" y="4197240"/>
              <a:ext cx="0" cy="1382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519280" y="4505400"/>
              <a:ext cx="0" cy="1378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H="1">
              <a:off x="2317320" y="4210200"/>
              <a:ext cx="2062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H="1">
              <a:off x="2317320" y="4633920"/>
              <a:ext cx="2062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1030" name=""/>
            <p:cNvGrpSpPr/>
            <p:nvPr/>
          </p:nvGrpSpPr>
          <p:grpSpPr>
            <a:xfrm>
              <a:off x="2700360" y="4110120"/>
              <a:ext cx="636480" cy="1814040"/>
              <a:chOff x="2700360" y="4110120"/>
              <a:chExt cx="636480" cy="1814040"/>
            </a:xfrm>
          </p:grpSpPr>
          <p:sp>
            <p:nvSpPr>
              <p:cNvPr id="1031" name=""/>
              <p:cNvSpPr/>
              <p:nvPr/>
            </p:nvSpPr>
            <p:spPr>
              <a:xfrm>
                <a:off x="2868480" y="5476680"/>
                <a:ext cx="0" cy="2869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1032" name=""/>
              <p:cNvGrpSpPr/>
              <p:nvPr/>
            </p:nvGrpSpPr>
            <p:grpSpPr>
              <a:xfrm>
                <a:off x="3160800" y="5535360"/>
                <a:ext cx="176040" cy="169200"/>
                <a:chOff x="3160800" y="5535360"/>
                <a:chExt cx="176040" cy="169200"/>
              </a:xfrm>
            </p:grpSpPr>
            <p:sp>
              <p:nvSpPr>
                <p:cNvPr id="1033" name=""/>
                <p:cNvSpPr/>
                <p:nvPr/>
              </p:nvSpPr>
              <p:spPr>
                <a:xfrm>
                  <a:off x="3160800" y="5550480"/>
                  <a:ext cx="176040" cy="154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3160800" y="5535360"/>
                  <a:ext cx="17604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5" name=""/>
              <p:cNvSpPr/>
              <p:nvPr/>
            </p:nvSpPr>
            <p:spPr>
              <a:xfrm>
                <a:off x="3046320" y="5746680"/>
                <a:ext cx="0" cy="1774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flipV="1">
                <a:off x="2868480" y="5481000"/>
                <a:ext cx="187560" cy="1551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2881440" y="5620320"/>
                <a:ext cx="168120" cy="13140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2806560" y="5476680"/>
                <a:ext cx="0" cy="2869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2700360" y="5621040"/>
                <a:ext cx="10620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3049560" y="4552920"/>
                <a:ext cx="0" cy="9280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3246480" y="5397120"/>
                <a:ext cx="0" cy="1378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3241800" y="5705280"/>
                <a:ext cx="0" cy="1378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 flipH="1">
                <a:off x="3039840" y="5410080"/>
                <a:ext cx="20628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flipH="1">
                <a:off x="3039840" y="5833800"/>
                <a:ext cx="20628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2868480" y="4276440"/>
                <a:ext cx="0" cy="2869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1046" name=""/>
              <p:cNvGrpSpPr/>
              <p:nvPr/>
            </p:nvGrpSpPr>
            <p:grpSpPr>
              <a:xfrm>
                <a:off x="3160800" y="4335120"/>
                <a:ext cx="176040" cy="169200"/>
                <a:chOff x="3160800" y="4335120"/>
                <a:chExt cx="176040" cy="169200"/>
              </a:xfrm>
            </p:grpSpPr>
            <p:sp>
              <p:nvSpPr>
                <p:cNvPr id="1047" name=""/>
                <p:cNvSpPr/>
                <p:nvPr/>
              </p:nvSpPr>
              <p:spPr>
                <a:xfrm>
                  <a:off x="3160800" y="4350240"/>
                  <a:ext cx="176040" cy="154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3160800" y="4335120"/>
                  <a:ext cx="17604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49" name=""/>
              <p:cNvSpPr/>
              <p:nvPr/>
            </p:nvSpPr>
            <p:spPr>
              <a:xfrm flipV="1">
                <a:off x="2868480" y="4281120"/>
                <a:ext cx="187560" cy="1555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2881440" y="4420440"/>
                <a:ext cx="168120" cy="13140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2806560" y="4276440"/>
                <a:ext cx="0" cy="2869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2700360" y="4421160"/>
                <a:ext cx="10620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3046320" y="4110120"/>
                <a:ext cx="0" cy="1774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246480" y="4197240"/>
                <a:ext cx="0" cy="1375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3241800" y="4505040"/>
                <a:ext cx="0" cy="1378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 flipH="1">
                <a:off x="3039840" y="4209840"/>
                <a:ext cx="20628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 flipH="1">
                <a:off x="3039840" y="4633560"/>
                <a:ext cx="20628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58" name=""/>
            <p:cNvSpPr/>
            <p:nvPr/>
          </p:nvSpPr>
          <p:spPr>
            <a:xfrm flipV="1">
              <a:off x="2317680" y="4092120"/>
              <a:ext cx="6257880" cy="32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317680" y="5931000"/>
              <a:ext cx="62578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8375760" y="4983120"/>
              <a:ext cx="3603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8375760" y="5056200"/>
              <a:ext cx="3603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V="1">
              <a:off x="8555040" y="4102200"/>
              <a:ext cx="0" cy="8920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8177040" y="4662360"/>
              <a:ext cx="47628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c0000"/>
                  </a:solidFill>
                  <a:latin typeface="Arial"/>
                </a:rPr>
                <a:t>C</a:t>
              </a:r>
              <a:r>
                <a:rPr b="1" lang="pl-PL" sz="2000" spc="-1" strike="noStrike" baseline="-25000">
                  <a:solidFill>
                    <a:srgbClr val="cc0000"/>
                  </a:solidFill>
                  <a:latin typeface="Arial"/>
                </a:rPr>
                <a:t>dc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V="1">
              <a:off x="8559720" y="5056200"/>
              <a:ext cx="0" cy="8668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307040" y="5477040"/>
              <a:ext cx="0" cy="2872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1066" name=""/>
            <p:cNvGrpSpPr/>
            <p:nvPr/>
          </p:nvGrpSpPr>
          <p:grpSpPr>
            <a:xfrm>
              <a:off x="4599000" y="5535720"/>
              <a:ext cx="176040" cy="169560"/>
              <a:chOff x="4599000" y="5535720"/>
              <a:chExt cx="176040" cy="169560"/>
            </a:xfrm>
          </p:grpSpPr>
          <p:sp>
            <p:nvSpPr>
              <p:cNvPr id="1067" name=""/>
              <p:cNvSpPr/>
              <p:nvPr/>
            </p:nvSpPr>
            <p:spPr>
              <a:xfrm>
                <a:off x="4599000" y="5550840"/>
                <a:ext cx="176040" cy="1544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4599000" y="5535720"/>
                <a:ext cx="17604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69" name=""/>
            <p:cNvSpPr/>
            <p:nvPr/>
          </p:nvSpPr>
          <p:spPr>
            <a:xfrm>
              <a:off x="4484520" y="5746680"/>
              <a:ext cx="0" cy="1778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V="1">
              <a:off x="4307040" y="5481720"/>
              <a:ext cx="187200" cy="1555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319640" y="5621400"/>
              <a:ext cx="168120" cy="1317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245120" y="5477040"/>
              <a:ext cx="0" cy="2872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138560" y="5621400"/>
              <a:ext cx="1065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487760" y="4552920"/>
              <a:ext cx="0" cy="928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4684680" y="5397480"/>
              <a:ext cx="0" cy="1382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680000" y="5705640"/>
              <a:ext cx="0" cy="1378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H="1">
              <a:off x="4478040" y="5410080"/>
              <a:ext cx="2062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H="1">
              <a:off x="4478040" y="5834160"/>
              <a:ext cx="2062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307040" y="4276800"/>
              <a:ext cx="0" cy="2872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1080" name=""/>
            <p:cNvGrpSpPr/>
            <p:nvPr/>
          </p:nvGrpSpPr>
          <p:grpSpPr>
            <a:xfrm>
              <a:off x="4599000" y="4335480"/>
              <a:ext cx="176040" cy="169560"/>
              <a:chOff x="4599000" y="4335480"/>
              <a:chExt cx="176040" cy="169560"/>
            </a:xfrm>
          </p:grpSpPr>
          <p:sp>
            <p:nvSpPr>
              <p:cNvPr id="1081" name=""/>
              <p:cNvSpPr/>
              <p:nvPr/>
            </p:nvSpPr>
            <p:spPr>
              <a:xfrm>
                <a:off x="4599000" y="4350600"/>
                <a:ext cx="176040" cy="1544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4599000" y="4335480"/>
                <a:ext cx="17604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83" name=""/>
            <p:cNvSpPr/>
            <p:nvPr/>
          </p:nvSpPr>
          <p:spPr>
            <a:xfrm flipV="1">
              <a:off x="4307040" y="4281480"/>
              <a:ext cx="187200" cy="1555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319640" y="4421160"/>
              <a:ext cx="168120" cy="1317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245120" y="4276800"/>
              <a:ext cx="0" cy="2872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4138560" y="4421160"/>
              <a:ext cx="1065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484520" y="4110120"/>
              <a:ext cx="0" cy="1778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684680" y="4197240"/>
              <a:ext cx="0" cy="1382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4680000" y="4505400"/>
              <a:ext cx="0" cy="1378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H="1">
              <a:off x="4478040" y="4210200"/>
              <a:ext cx="2062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H="1">
              <a:off x="4478040" y="4633920"/>
              <a:ext cx="2062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1092" name=""/>
            <p:cNvGrpSpPr/>
            <p:nvPr/>
          </p:nvGrpSpPr>
          <p:grpSpPr>
            <a:xfrm>
              <a:off x="4861080" y="4110120"/>
              <a:ext cx="636480" cy="1814040"/>
              <a:chOff x="4861080" y="4110120"/>
              <a:chExt cx="636480" cy="1814040"/>
            </a:xfrm>
          </p:grpSpPr>
          <p:sp>
            <p:nvSpPr>
              <p:cNvPr id="1093" name=""/>
              <p:cNvSpPr/>
              <p:nvPr/>
            </p:nvSpPr>
            <p:spPr>
              <a:xfrm>
                <a:off x="5029200" y="5476680"/>
                <a:ext cx="0" cy="2869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1094" name=""/>
              <p:cNvGrpSpPr/>
              <p:nvPr/>
            </p:nvGrpSpPr>
            <p:grpSpPr>
              <a:xfrm>
                <a:off x="5321520" y="5535360"/>
                <a:ext cx="176040" cy="169200"/>
                <a:chOff x="5321520" y="5535360"/>
                <a:chExt cx="176040" cy="169200"/>
              </a:xfrm>
            </p:grpSpPr>
            <p:sp>
              <p:nvSpPr>
                <p:cNvPr id="1095" name=""/>
                <p:cNvSpPr/>
                <p:nvPr/>
              </p:nvSpPr>
              <p:spPr>
                <a:xfrm>
                  <a:off x="5321520" y="5550480"/>
                  <a:ext cx="176040" cy="154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5321520" y="5535360"/>
                  <a:ext cx="17604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7" name=""/>
              <p:cNvSpPr/>
              <p:nvPr/>
            </p:nvSpPr>
            <p:spPr>
              <a:xfrm>
                <a:off x="5207040" y="5746680"/>
                <a:ext cx="0" cy="1774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 flipV="1">
                <a:off x="5029200" y="5481000"/>
                <a:ext cx="187560" cy="1551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5042160" y="5620320"/>
                <a:ext cx="168120" cy="13140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4967280" y="5476680"/>
                <a:ext cx="0" cy="2869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4861080" y="5621040"/>
                <a:ext cx="10620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5210280" y="4552920"/>
                <a:ext cx="0" cy="9280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5407200" y="5397120"/>
                <a:ext cx="0" cy="1378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402520" y="5705280"/>
                <a:ext cx="0" cy="1378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 flipH="1">
                <a:off x="5200560" y="5410080"/>
                <a:ext cx="20628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 flipH="1">
                <a:off x="5200560" y="5833800"/>
                <a:ext cx="20628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5029200" y="4276440"/>
                <a:ext cx="0" cy="2869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1108" name=""/>
              <p:cNvGrpSpPr/>
              <p:nvPr/>
            </p:nvGrpSpPr>
            <p:grpSpPr>
              <a:xfrm>
                <a:off x="5321520" y="4335120"/>
                <a:ext cx="176040" cy="169200"/>
                <a:chOff x="5321520" y="4335120"/>
                <a:chExt cx="176040" cy="169200"/>
              </a:xfrm>
            </p:grpSpPr>
            <p:sp>
              <p:nvSpPr>
                <p:cNvPr id="1109" name=""/>
                <p:cNvSpPr/>
                <p:nvPr/>
              </p:nvSpPr>
              <p:spPr>
                <a:xfrm>
                  <a:off x="5321520" y="4350240"/>
                  <a:ext cx="176040" cy="154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>
                  <a:off x="5321520" y="4335120"/>
                  <a:ext cx="17604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11" name=""/>
              <p:cNvSpPr/>
              <p:nvPr/>
            </p:nvSpPr>
            <p:spPr>
              <a:xfrm flipV="1">
                <a:off x="5029200" y="4281120"/>
                <a:ext cx="187560" cy="1555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042160" y="4420440"/>
                <a:ext cx="168120" cy="13140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4967280" y="4276440"/>
                <a:ext cx="0" cy="2869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4861080" y="4421160"/>
                <a:ext cx="10620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5207040" y="4110120"/>
                <a:ext cx="0" cy="1774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5407200" y="4197240"/>
                <a:ext cx="0" cy="1375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5402520" y="4505040"/>
                <a:ext cx="0" cy="1378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 flipH="1">
                <a:off x="5200560" y="4209840"/>
                <a:ext cx="20628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 flipH="1">
                <a:off x="5200560" y="4633560"/>
                <a:ext cx="20628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120" name=""/>
            <p:cNvSpPr/>
            <p:nvPr/>
          </p:nvSpPr>
          <p:spPr>
            <a:xfrm>
              <a:off x="6465960" y="5477040"/>
              <a:ext cx="0" cy="2872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1121" name=""/>
            <p:cNvGrpSpPr/>
            <p:nvPr/>
          </p:nvGrpSpPr>
          <p:grpSpPr>
            <a:xfrm>
              <a:off x="6757920" y="5535720"/>
              <a:ext cx="176400" cy="169560"/>
              <a:chOff x="6757920" y="5535720"/>
              <a:chExt cx="176400" cy="169560"/>
            </a:xfrm>
          </p:grpSpPr>
          <p:sp>
            <p:nvSpPr>
              <p:cNvPr id="1122" name=""/>
              <p:cNvSpPr/>
              <p:nvPr/>
            </p:nvSpPr>
            <p:spPr>
              <a:xfrm>
                <a:off x="6757920" y="5550840"/>
                <a:ext cx="176400" cy="1544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6757920" y="5535720"/>
                <a:ext cx="17640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124" name=""/>
            <p:cNvSpPr/>
            <p:nvPr/>
          </p:nvSpPr>
          <p:spPr>
            <a:xfrm>
              <a:off x="6643800" y="5746680"/>
              <a:ext cx="0" cy="1778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V="1">
              <a:off x="6465960" y="5481720"/>
              <a:ext cx="187200" cy="1555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478560" y="5621400"/>
              <a:ext cx="168480" cy="1317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6404040" y="5477040"/>
              <a:ext cx="0" cy="2872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6297480" y="5621400"/>
              <a:ext cx="1065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6647040" y="4552920"/>
              <a:ext cx="0" cy="928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6843600" y="5397480"/>
              <a:ext cx="0" cy="1382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6838920" y="5705640"/>
              <a:ext cx="0" cy="1378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H="1">
              <a:off x="6636960" y="5410080"/>
              <a:ext cx="2062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H="1">
              <a:off x="6636960" y="5834160"/>
              <a:ext cx="2062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465960" y="4276800"/>
              <a:ext cx="0" cy="2872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1135" name=""/>
            <p:cNvGrpSpPr/>
            <p:nvPr/>
          </p:nvGrpSpPr>
          <p:grpSpPr>
            <a:xfrm>
              <a:off x="6757920" y="4335480"/>
              <a:ext cx="176400" cy="169560"/>
              <a:chOff x="6757920" y="4335480"/>
              <a:chExt cx="176400" cy="169560"/>
            </a:xfrm>
          </p:grpSpPr>
          <p:sp>
            <p:nvSpPr>
              <p:cNvPr id="1136" name=""/>
              <p:cNvSpPr/>
              <p:nvPr/>
            </p:nvSpPr>
            <p:spPr>
              <a:xfrm>
                <a:off x="6757920" y="4350600"/>
                <a:ext cx="176400" cy="1544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6757920" y="4335480"/>
                <a:ext cx="17640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138" name=""/>
            <p:cNvSpPr/>
            <p:nvPr/>
          </p:nvSpPr>
          <p:spPr>
            <a:xfrm flipV="1">
              <a:off x="6465960" y="4281480"/>
              <a:ext cx="187200" cy="1555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6478560" y="4421160"/>
              <a:ext cx="168480" cy="1317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6404040" y="4276800"/>
              <a:ext cx="0" cy="2872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6297480" y="4421160"/>
              <a:ext cx="1065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643800" y="4110120"/>
              <a:ext cx="0" cy="1778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843600" y="4197240"/>
              <a:ext cx="0" cy="1382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838920" y="4505400"/>
              <a:ext cx="0" cy="1378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H="1">
              <a:off x="6636960" y="4210200"/>
              <a:ext cx="2062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H="1">
              <a:off x="6636960" y="4633920"/>
              <a:ext cx="2062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1147" name=""/>
            <p:cNvGrpSpPr/>
            <p:nvPr/>
          </p:nvGrpSpPr>
          <p:grpSpPr>
            <a:xfrm>
              <a:off x="7020000" y="4110120"/>
              <a:ext cx="636480" cy="1814040"/>
              <a:chOff x="7020000" y="4110120"/>
              <a:chExt cx="636480" cy="1814040"/>
            </a:xfrm>
          </p:grpSpPr>
          <p:sp>
            <p:nvSpPr>
              <p:cNvPr id="1148" name=""/>
              <p:cNvSpPr/>
              <p:nvPr/>
            </p:nvSpPr>
            <p:spPr>
              <a:xfrm>
                <a:off x="7188120" y="5476680"/>
                <a:ext cx="0" cy="2869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1149" name=""/>
              <p:cNvGrpSpPr/>
              <p:nvPr/>
            </p:nvGrpSpPr>
            <p:grpSpPr>
              <a:xfrm>
                <a:off x="7480440" y="5535360"/>
                <a:ext cx="176040" cy="169200"/>
                <a:chOff x="7480440" y="5535360"/>
                <a:chExt cx="176040" cy="169200"/>
              </a:xfrm>
            </p:grpSpPr>
            <p:sp>
              <p:nvSpPr>
                <p:cNvPr id="1150" name=""/>
                <p:cNvSpPr/>
                <p:nvPr/>
              </p:nvSpPr>
              <p:spPr>
                <a:xfrm>
                  <a:off x="7480440" y="5550480"/>
                  <a:ext cx="176040" cy="154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7480440" y="5535360"/>
                  <a:ext cx="17604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2" name=""/>
              <p:cNvSpPr/>
              <p:nvPr/>
            </p:nvSpPr>
            <p:spPr>
              <a:xfrm>
                <a:off x="7365960" y="5746680"/>
                <a:ext cx="0" cy="1774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flipV="1">
                <a:off x="7188120" y="5481000"/>
                <a:ext cx="187560" cy="1551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7201080" y="5620320"/>
                <a:ext cx="168120" cy="13140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126200" y="5476680"/>
                <a:ext cx="0" cy="2869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020000" y="5621040"/>
                <a:ext cx="10620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7369200" y="4552920"/>
                <a:ext cx="0" cy="9280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7566120" y="5397120"/>
                <a:ext cx="0" cy="1378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7561440" y="5705280"/>
                <a:ext cx="0" cy="1378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 flipH="1">
                <a:off x="7359480" y="5410080"/>
                <a:ext cx="20628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 flipH="1">
                <a:off x="7359480" y="5833800"/>
                <a:ext cx="20628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7188120" y="4276440"/>
                <a:ext cx="0" cy="2869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1163" name=""/>
              <p:cNvGrpSpPr/>
              <p:nvPr/>
            </p:nvGrpSpPr>
            <p:grpSpPr>
              <a:xfrm>
                <a:off x="7480440" y="4335120"/>
                <a:ext cx="176040" cy="169200"/>
                <a:chOff x="7480440" y="4335120"/>
                <a:chExt cx="176040" cy="169200"/>
              </a:xfrm>
            </p:grpSpPr>
            <p:sp>
              <p:nvSpPr>
                <p:cNvPr id="1164" name=""/>
                <p:cNvSpPr/>
                <p:nvPr/>
              </p:nvSpPr>
              <p:spPr>
                <a:xfrm>
                  <a:off x="7480440" y="4350240"/>
                  <a:ext cx="176040" cy="154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7480440" y="4335120"/>
                  <a:ext cx="17604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6" name=""/>
              <p:cNvSpPr/>
              <p:nvPr/>
            </p:nvSpPr>
            <p:spPr>
              <a:xfrm flipV="1">
                <a:off x="7188120" y="4281120"/>
                <a:ext cx="187560" cy="1555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7201080" y="4420440"/>
                <a:ext cx="168120" cy="13140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7126200" y="4276440"/>
                <a:ext cx="0" cy="2869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7020000" y="4421160"/>
                <a:ext cx="10620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7365960" y="4110120"/>
                <a:ext cx="0" cy="1774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7566120" y="4197240"/>
                <a:ext cx="0" cy="1375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7561440" y="4505040"/>
                <a:ext cx="0" cy="1378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 flipH="1">
                <a:off x="7359480" y="4209840"/>
                <a:ext cx="20628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 flipH="1">
                <a:off x="7359480" y="4633560"/>
                <a:ext cx="20628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1175" name=""/>
            <p:cNvGrpSpPr/>
            <p:nvPr/>
          </p:nvGrpSpPr>
          <p:grpSpPr>
            <a:xfrm>
              <a:off x="1798560" y="3238920"/>
              <a:ext cx="579240" cy="511560"/>
              <a:chOff x="1798560" y="3238920"/>
              <a:chExt cx="579240" cy="511560"/>
            </a:xfrm>
          </p:grpSpPr>
          <p:grpSp>
            <p:nvGrpSpPr>
              <p:cNvPr id="1176" name=""/>
              <p:cNvGrpSpPr/>
              <p:nvPr/>
            </p:nvGrpSpPr>
            <p:grpSpPr>
              <a:xfrm>
                <a:off x="1801800" y="3238920"/>
                <a:ext cx="576000" cy="206280"/>
                <a:chOff x="1801800" y="3238920"/>
                <a:chExt cx="576000" cy="206280"/>
              </a:xfrm>
            </p:grpSpPr>
            <p:grpSp>
              <p:nvGrpSpPr>
                <p:cNvPr id="1177" name=""/>
                <p:cNvGrpSpPr/>
                <p:nvPr/>
              </p:nvGrpSpPr>
              <p:grpSpPr>
                <a:xfrm>
                  <a:off x="1820880" y="3264480"/>
                  <a:ext cx="538200" cy="180720"/>
                  <a:chOff x="1820880" y="3264480"/>
                  <a:chExt cx="538200" cy="180720"/>
                </a:xfrm>
              </p:grpSpPr>
              <p:sp>
                <p:nvSpPr>
                  <p:cNvPr id="1178" name=""/>
                  <p:cNvSpPr/>
                  <p:nvPr/>
                </p:nvSpPr>
                <p:spPr>
                  <a:xfrm rot="10800000">
                    <a:off x="2179440" y="3264480"/>
                    <a:ext cx="179640" cy="180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" name=""/>
                  <p:cNvSpPr/>
                  <p:nvPr/>
                </p:nvSpPr>
                <p:spPr>
                  <a:xfrm rot="10800000">
                    <a:off x="2000160" y="3264480"/>
                    <a:ext cx="179280" cy="180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 rot="10800000">
                    <a:off x="1820880" y="3264480"/>
                    <a:ext cx="179280" cy="180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81" name=""/>
                <p:cNvSpPr/>
                <p:nvPr/>
              </p:nvSpPr>
              <p:spPr>
                <a:xfrm rot="10800000">
                  <a:off x="1801800" y="3238920"/>
                  <a:ext cx="576000" cy="108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2" name=""/>
              <p:cNvGrpSpPr/>
              <p:nvPr/>
            </p:nvGrpSpPr>
            <p:grpSpPr>
              <a:xfrm>
                <a:off x="1798560" y="3544200"/>
                <a:ext cx="576000" cy="206280"/>
                <a:chOff x="1798560" y="3544200"/>
                <a:chExt cx="576000" cy="206280"/>
              </a:xfrm>
            </p:grpSpPr>
            <p:grpSp>
              <p:nvGrpSpPr>
                <p:cNvPr id="1183" name=""/>
                <p:cNvGrpSpPr/>
                <p:nvPr/>
              </p:nvGrpSpPr>
              <p:grpSpPr>
                <a:xfrm>
                  <a:off x="1817280" y="3544200"/>
                  <a:ext cx="538200" cy="180720"/>
                  <a:chOff x="1817280" y="3544200"/>
                  <a:chExt cx="538200" cy="180720"/>
                </a:xfrm>
              </p:grpSpPr>
              <p:sp>
                <p:nvSpPr>
                  <p:cNvPr id="1184" name=""/>
                  <p:cNvSpPr/>
                  <p:nvPr/>
                </p:nvSpPr>
                <p:spPr>
                  <a:xfrm>
                    <a:off x="1817280" y="3544200"/>
                    <a:ext cx="179640" cy="180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5" name=""/>
                  <p:cNvSpPr/>
                  <p:nvPr/>
                </p:nvSpPr>
                <p:spPr>
                  <a:xfrm>
                    <a:off x="1996920" y="3544200"/>
                    <a:ext cx="179280" cy="180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6" name=""/>
                  <p:cNvSpPr/>
                  <p:nvPr/>
                </p:nvSpPr>
                <p:spPr>
                  <a:xfrm>
                    <a:off x="2176200" y="3544200"/>
                    <a:ext cx="179280" cy="180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87" name=""/>
                <p:cNvSpPr/>
                <p:nvPr/>
              </p:nvSpPr>
              <p:spPr>
                <a:xfrm>
                  <a:off x="1798560" y="3641760"/>
                  <a:ext cx="576000" cy="108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88" name=""/>
              <p:cNvSpPr/>
              <p:nvPr/>
            </p:nvSpPr>
            <p:spPr>
              <a:xfrm>
                <a:off x="1825560" y="3494520"/>
                <a:ext cx="539640" cy="0"/>
              </a:xfrm>
              <a:prstGeom prst="line">
                <a:avLst/>
              </a:prstGeom>
              <a:ln w="507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189" name=""/>
            <p:cNvSpPr/>
            <p:nvPr/>
          </p:nvSpPr>
          <p:spPr>
            <a:xfrm>
              <a:off x="1817640" y="3641760"/>
              <a:ext cx="0" cy="1396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811160" y="5038560"/>
              <a:ext cx="5223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355840" y="3630600"/>
              <a:ext cx="0" cy="2462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1901880" y="3865680"/>
              <a:ext cx="4665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901880" y="3857760"/>
              <a:ext cx="0" cy="10522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895400" y="4910040"/>
              <a:ext cx="11541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1195" name=""/>
            <p:cNvGrpSpPr/>
            <p:nvPr/>
          </p:nvGrpSpPr>
          <p:grpSpPr>
            <a:xfrm>
              <a:off x="3957480" y="3238920"/>
              <a:ext cx="579240" cy="511560"/>
              <a:chOff x="3957480" y="3238920"/>
              <a:chExt cx="579240" cy="511560"/>
            </a:xfrm>
          </p:grpSpPr>
          <p:grpSp>
            <p:nvGrpSpPr>
              <p:cNvPr id="1196" name=""/>
              <p:cNvGrpSpPr/>
              <p:nvPr/>
            </p:nvGrpSpPr>
            <p:grpSpPr>
              <a:xfrm>
                <a:off x="3960720" y="3238920"/>
                <a:ext cx="576000" cy="206280"/>
                <a:chOff x="3960720" y="3238920"/>
                <a:chExt cx="576000" cy="206280"/>
              </a:xfrm>
            </p:grpSpPr>
            <p:grpSp>
              <p:nvGrpSpPr>
                <p:cNvPr id="1197" name=""/>
                <p:cNvGrpSpPr/>
                <p:nvPr/>
              </p:nvGrpSpPr>
              <p:grpSpPr>
                <a:xfrm>
                  <a:off x="3979800" y="3264480"/>
                  <a:ext cx="538200" cy="180720"/>
                  <a:chOff x="3979800" y="3264480"/>
                  <a:chExt cx="538200" cy="180720"/>
                </a:xfrm>
              </p:grpSpPr>
              <p:sp>
                <p:nvSpPr>
                  <p:cNvPr id="1198" name=""/>
                  <p:cNvSpPr/>
                  <p:nvPr/>
                </p:nvSpPr>
                <p:spPr>
                  <a:xfrm rot="10800000">
                    <a:off x="4338360" y="3264480"/>
                    <a:ext cx="179640" cy="180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9" name=""/>
                  <p:cNvSpPr/>
                  <p:nvPr/>
                </p:nvSpPr>
                <p:spPr>
                  <a:xfrm rot="10800000">
                    <a:off x="4159080" y="3264480"/>
                    <a:ext cx="179280" cy="180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0" name=""/>
                  <p:cNvSpPr/>
                  <p:nvPr/>
                </p:nvSpPr>
                <p:spPr>
                  <a:xfrm rot="10800000">
                    <a:off x="3979800" y="3264480"/>
                    <a:ext cx="179280" cy="180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01" name=""/>
                <p:cNvSpPr/>
                <p:nvPr/>
              </p:nvSpPr>
              <p:spPr>
                <a:xfrm rot="10800000">
                  <a:off x="3960720" y="3238920"/>
                  <a:ext cx="576000" cy="108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2" name=""/>
              <p:cNvGrpSpPr/>
              <p:nvPr/>
            </p:nvGrpSpPr>
            <p:grpSpPr>
              <a:xfrm>
                <a:off x="3957480" y="3544200"/>
                <a:ext cx="576000" cy="206280"/>
                <a:chOff x="3957480" y="3544200"/>
                <a:chExt cx="576000" cy="206280"/>
              </a:xfrm>
            </p:grpSpPr>
            <p:grpSp>
              <p:nvGrpSpPr>
                <p:cNvPr id="1203" name=""/>
                <p:cNvGrpSpPr/>
                <p:nvPr/>
              </p:nvGrpSpPr>
              <p:grpSpPr>
                <a:xfrm>
                  <a:off x="3976200" y="3544200"/>
                  <a:ext cx="538200" cy="180720"/>
                  <a:chOff x="3976200" y="3544200"/>
                  <a:chExt cx="538200" cy="180720"/>
                </a:xfrm>
              </p:grpSpPr>
              <p:sp>
                <p:nvSpPr>
                  <p:cNvPr id="1204" name=""/>
                  <p:cNvSpPr/>
                  <p:nvPr/>
                </p:nvSpPr>
                <p:spPr>
                  <a:xfrm>
                    <a:off x="3976200" y="3544200"/>
                    <a:ext cx="179640" cy="180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5" name=""/>
                  <p:cNvSpPr/>
                  <p:nvPr/>
                </p:nvSpPr>
                <p:spPr>
                  <a:xfrm>
                    <a:off x="4155840" y="3544200"/>
                    <a:ext cx="179280" cy="180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6" name=""/>
                  <p:cNvSpPr/>
                  <p:nvPr/>
                </p:nvSpPr>
                <p:spPr>
                  <a:xfrm>
                    <a:off x="4335120" y="3544200"/>
                    <a:ext cx="179280" cy="180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07" name=""/>
                <p:cNvSpPr/>
                <p:nvPr/>
              </p:nvSpPr>
              <p:spPr>
                <a:xfrm>
                  <a:off x="3957480" y="3641760"/>
                  <a:ext cx="576000" cy="108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08" name=""/>
              <p:cNvSpPr/>
              <p:nvPr/>
            </p:nvSpPr>
            <p:spPr>
              <a:xfrm>
                <a:off x="3984480" y="3494520"/>
                <a:ext cx="539640" cy="0"/>
              </a:xfrm>
              <a:prstGeom prst="line">
                <a:avLst/>
              </a:prstGeom>
              <a:ln w="507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209" name=""/>
            <p:cNvSpPr/>
            <p:nvPr/>
          </p:nvSpPr>
          <p:spPr>
            <a:xfrm>
              <a:off x="3976560" y="3641760"/>
              <a:ext cx="0" cy="1396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3970440" y="5038560"/>
              <a:ext cx="5223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514760" y="3630600"/>
              <a:ext cx="0" cy="2462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060800" y="3865680"/>
              <a:ext cx="46692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060800" y="3857760"/>
              <a:ext cx="0" cy="10522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054320" y="4910040"/>
              <a:ext cx="11541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1215" name=""/>
            <p:cNvGrpSpPr/>
            <p:nvPr/>
          </p:nvGrpSpPr>
          <p:grpSpPr>
            <a:xfrm>
              <a:off x="6116760" y="3238920"/>
              <a:ext cx="579240" cy="511560"/>
              <a:chOff x="6116760" y="3238920"/>
              <a:chExt cx="579240" cy="511560"/>
            </a:xfrm>
          </p:grpSpPr>
          <p:grpSp>
            <p:nvGrpSpPr>
              <p:cNvPr id="1216" name=""/>
              <p:cNvGrpSpPr/>
              <p:nvPr/>
            </p:nvGrpSpPr>
            <p:grpSpPr>
              <a:xfrm>
                <a:off x="6120000" y="3238920"/>
                <a:ext cx="576000" cy="206280"/>
                <a:chOff x="6120000" y="3238920"/>
                <a:chExt cx="576000" cy="206280"/>
              </a:xfrm>
            </p:grpSpPr>
            <p:grpSp>
              <p:nvGrpSpPr>
                <p:cNvPr id="1217" name=""/>
                <p:cNvGrpSpPr/>
                <p:nvPr/>
              </p:nvGrpSpPr>
              <p:grpSpPr>
                <a:xfrm>
                  <a:off x="6139080" y="3264480"/>
                  <a:ext cx="538200" cy="180720"/>
                  <a:chOff x="6139080" y="3264480"/>
                  <a:chExt cx="538200" cy="180720"/>
                </a:xfrm>
              </p:grpSpPr>
              <p:sp>
                <p:nvSpPr>
                  <p:cNvPr id="1218" name=""/>
                  <p:cNvSpPr/>
                  <p:nvPr/>
                </p:nvSpPr>
                <p:spPr>
                  <a:xfrm rot="10800000">
                    <a:off x="6497640" y="3264480"/>
                    <a:ext cx="179640" cy="180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9" name=""/>
                  <p:cNvSpPr/>
                  <p:nvPr/>
                </p:nvSpPr>
                <p:spPr>
                  <a:xfrm rot="10800000">
                    <a:off x="6318360" y="3264480"/>
                    <a:ext cx="179280" cy="180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" name=""/>
                  <p:cNvSpPr/>
                  <p:nvPr/>
                </p:nvSpPr>
                <p:spPr>
                  <a:xfrm rot="10800000">
                    <a:off x="6139080" y="3264480"/>
                    <a:ext cx="179280" cy="180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21" name=""/>
                <p:cNvSpPr/>
                <p:nvPr/>
              </p:nvSpPr>
              <p:spPr>
                <a:xfrm rot="10800000">
                  <a:off x="6120000" y="3238920"/>
                  <a:ext cx="576000" cy="108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2" name=""/>
              <p:cNvGrpSpPr/>
              <p:nvPr/>
            </p:nvGrpSpPr>
            <p:grpSpPr>
              <a:xfrm>
                <a:off x="6116760" y="3544200"/>
                <a:ext cx="576000" cy="206280"/>
                <a:chOff x="6116760" y="3544200"/>
                <a:chExt cx="576000" cy="206280"/>
              </a:xfrm>
            </p:grpSpPr>
            <p:grpSp>
              <p:nvGrpSpPr>
                <p:cNvPr id="1223" name=""/>
                <p:cNvGrpSpPr/>
                <p:nvPr/>
              </p:nvGrpSpPr>
              <p:grpSpPr>
                <a:xfrm>
                  <a:off x="6135480" y="3544200"/>
                  <a:ext cx="538200" cy="180720"/>
                  <a:chOff x="6135480" y="3544200"/>
                  <a:chExt cx="538200" cy="180720"/>
                </a:xfrm>
              </p:grpSpPr>
              <p:sp>
                <p:nvSpPr>
                  <p:cNvPr id="1224" name=""/>
                  <p:cNvSpPr/>
                  <p:nvPr/>
                </p:nvSpPr>
                <p:spPr>
                  <a:xfrm>
                    <a:off x="6135480" y="3544200"/>
                    <a:ext cx="179640" cy="180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5" name=""/>
                  <p:cNvSpPr/>
                  <p:nvPr/>
                </p:nvSpPr>
                <p:spPr>
                  <a:xfrm>
                    <a:off x="6315120" y="3544200"/>
                    <a:ext cx="179280" cy="180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6" name=""/>
                  <p:cNvSpPr/>
                  <p:nvPr/>
                </p:nvSpPr>
                <p:spPr>
                  <a:xfrm>
                    <a:off x="6494400" y="3544200"/>
                    <a:ext cx="179280" cy="180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27" name=""/>
                <p:cNvSpPr/>
                <p:nvPr/>
              </p:nvSpPr>
              <p:spPr>
                <a:xfrm>
                  <a:off x="6116760" y="3641760"/>
                  <a:ext cx="576000" cy="108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8" name=""/>
              <p:cNvSpPr/>
              <p:nvPr/>
            </p:nvSpPr>
            <p:spPr>
              <a:xfrm>
                <a:off x="6143760" y="3494520"/>
                <a:ext cx="539640" cy="0"/>
              </a:xfrm>
              <a:prstGeom prst="line">
                <a:avLst/>
              </a:prstGeom>
              <a:ln w="507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229" name=""/>
            <p:cNvSpPr/>
            <p:nvPr/>
          </p:nvSpPr>
          <p:spPr>
            <a:xfrm>
              <a:off x="6135840" y="3641760"/>
              <a:ext cx="0" cy="1396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129360" y="5038560"/>
              <a:ext cx="5223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673680" y="3630600"/>
              <a:ext cx="0" cy="2462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219720" y="3865680"/>
              <a:ext cx="46692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219720" y="3857760"/>
              <a:ext cx="0" cy="10522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213600" y="4910040"/>
              <a:ext cx="11541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 flipV="1">
              <a:off x="1817640" y="3065400"/>
              <a:ext cx="0" cy="2793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 flipV="1">
              <a:off x="2355840" y="1665000"/>
              <a:ext cx="0" cy="16794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 flipV="1">
              <a:off x="3976560" y="3065400"/>
              <a:ext cx="0" cy="2793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 flipV="1">
              <a:off x="6135840" y="3067200"/>
              <a:ext cx="0" cy="2793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 flipV="1">
              <a:off x="4514760" y="2117880"/>
              <a:ext cx="0" cy="12333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V="1">
              <a:off x="6673680" y="2639880"/>
              <a:ext cx="0" cy="7178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6100920" y="3030480"/>
              <a:ext cx="71280" cy="7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640560" y="2600280"/>
              <a:ext cx="71280" cy="7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481640" y="2081160"/>
              <a:ext cx="71280" cy="7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3944880" y="3030480"/>
              <a:ext cx="71640" cy="7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2319480" y="1628640"/>
              <a:ext cx="71280" cy="7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1782720" y="3030480"/>
              <a:ext cx="71640" cy="7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2293920" y="5006880"/>
              <a:ext cx="71280" cy="7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3014640" y="4876920"/>
              <a:ext cx="71640" cy="71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452840" y="5006880"/>
              <a:ext cx="71640" cy="7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173560" y="4876920"/>
              <a:ext cx="71640" cy="71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615000" y="5006880"/>
              <a:ext cx="71640" cy="7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7335720" y="4873680"/>
              <a:ext cx="71640" cy="71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2382840" y="1700280"/>
              <a:ext cx="258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522680" y="2198520"/>
              <a:ext cx="352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6405480" y="2701800"/>
              <a:ext cx="352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6702480" y="3389400"/>
              <a:ext cx="49032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cc0000"/>
                  </a:solidFill>
                  <a:latin typeface="Arial"/>
                </a:rPr>
                <a:t>Tr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708520" y="3556080"/>
              <a:ext cx="41112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c0000"/>
                  </a:solidFill>
                  <a:latin typeface="Arial"/>
                </a:rPr>
                <a:t>i</a:t>
              </a:r>
              <a:r>
                <a:rPr b="1" lang="pl-PL" sz="2000" spc="-1" strike="noStrike" baseline="-25000">
                  <a:solidFill>
                    <a:srgbClr val="cc0000"/>
                  </a:solidFill>
                  <a:latin typeface="Arial"/>
                </a:rPr>
                <a:t>Cc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6031080" y="3638520"/>
              <a:ext cx="0" cy="3510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3533760" y="3556080"/>
              <a:ext cx="41112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c0000"/>
                  </a:solidFill>
                  <a:latin typeface="Arial"/>
                </a:rPr>
                <a:t>i</a:t>
              </a:r>
              <a:r>
                <a:rPr b="1" lang="pl-PL" sz="2000" spc="-1" strike="noStrike" baseline="-25000">
                  <a:solidFill>
                    <a:srgbClr val="cc0000"/>
                  </a:solidFill>
                  <a:latin typeface="Arial"/>
                </a:rPr>
                <a:t>Cb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3855960" y="3638520"/>
              <a:ext cx="0" cy="3510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1387440" y="3556080"/>
              <a:ext cx="41112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c0000"/>
                  </a:solidFill>
                  <a:latin typeface="Arial"/>
                </a:rPr>
                <a:t>i</a:t>
              </a:r>
              <a:r>
                <a:rPr b="1" lang="pl-PL" sz="2000" spc="-1" strike="noStrike" baseline="-25000">
                  <a:solidFill>
                    <a:srgbClr val="cc0000"/>
                  </a:solidFill>
                  <a:latin typeface="Arial"/>
                </a:rPr>
                <a:t>Ca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1709640" y="3638520"/>
              <a:ext cx="0" cy="3510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336600" y="1536840"/>
              <a:ext cx="1079280" cy="1149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ff"/>
                  </a:solidFill>
                  <a:latin typeface="Arial"/>
                </a:rPr>
                <a:t>Sourc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cxnSp>
          <p:nvCxnSpPr>
            <p:cNvPr id="1264" name=""/>
            <p:cNvCxnSpPr>
              <a:stCxn id="1263" idx="3"/>
              <a:endCxn id="954" idx="2"/>
            </p:cNvCxnSpPr>
            <p:nvPr/>
          </p:nvCxnSpPr>
          <p:spPr>
            <a:xfrm>
              <a:off x="1429920" y="2111400"/>
              <a:ext cx="273960" cy="72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</a:ln>
          </p:spPr>
        </p:cxnSp>
        <p:sp>
          <p:nvSpPr>
            <p:cNvPr id="1265" name=""/>
            <p:cNvSpPr/>
            <p:nvPr/>
          </p:nvSpPr>
          <p:spPr>
            <a:xfrm>
              <a:off x="1415880" y="1657440"/>
              <a:ext cx="31932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415880" y="2631960"/>
              <a:ext cx="300240" cy="64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ECA0-D4E3-45A5-ABA2-99766D747970}" type="slidenum">
              <a:t>11</a:t>
            </a:fld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228600" y="179280"/>
            <a:ext cx="868680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Szeregowy APF – redukcja harmonicznych prądu</a:t>
            </a:r>
            <a:endParaRPr b="0" lang="en-US" sz="2800" spc="-1" strike="noStrike">
              <a:solidFill>
                <a:srgbClr val="cc0000"/>
              </a:solidFill>
              <a:latin typeface="Times New Roman"/>
            </a:endParaRPr>
          </a:p>
        </p:txBody>
      </p:sp>
      <p:pic>
        <p:nvPicPr>
          <p:cNvPr id="1268" name="" descr=""/>
          <p:cNvPicPr/>
          <p:nvPr/>
        </p:nvPicPr>
        <p:blipFill>
          <a:blip r:embed="rId1"/>
          <a:srcRect l="57955" t="17820" r="1222" b="50708"/>
          <a:stretch/>
        </p:blipFill>
        <p:spPr>
          <a:xfrm>
            <a:off x="228600" y="3630600"/>
            <a:ext cx="4370400" cy="303228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pic>
        <p:nvPicPr>
          <p:cNvPr id="1269" name="" descr=""/>
          <p:cNvPicPr/>
          <p:nvPr/>
        </p:nvPicPr>
        <p:blipFill>
          <a:blip r:embed="rId2"/>
          <a:srcRect l="58613" t="57914" r="470" b="8844"/>
          <a:stretch/>
        </p:blipFill>
        <p:spPr>
          <a:xfrm>
            <a:off x="4775040" y="3630600"/>
            <a:ext cx="4140360" cy="303228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grpSp>
        <p:nvGrpSpPr>
          <p:cNvPr id="1270" name=""/>
          <p:cNvGrpSpPr/>
          <p:nvPr/>
        </p:nvGrpSpPr>
        <p:grpSpPr>
          <a:xfrm>
            <a:off x="2413080" y="1143000"/>
            <a:ext cx="4317840" cy="2488320"/>
            <a:chOff x="2413080" y="1143000"/>
            <a:chExt cx="4317840" cy="2488320"/>
          </a:xfrm>
        </p:grpSpPr>
        <p:pic>
          <p:nvPicPr>
            <p:cNvPr id="1271" name="" descr=""/>
            <p:cNvPicPr/>
            <p:nvPr/>
          </p:nvPicPr>
          <p:blipFill>
            <a:blip r:embed="rId3"/>
            <a:srcRect l="0" t="28498" r="43384" b="19720"/>
            <a:stretch/>
          </p:blipFill>
          <p:spPr>
            <a:xfrm>
              <a:off x="2413080" y="1143000"/>
              <a:ext cx="4317840" cy="2362320"/>
            </a:xfrm>
            <a:prstGeom prst="rect">
              <a:avLst/>
            </a:prstGeom>
            <a:ln w="12600">
              <a:solidFill>
                <a:srgbClr val="0000ff"/>
              </a:solidFill>
              <a:miter/>
            </a:ln>
          </p:spPr>
        </p:pic>
        <p:sp>
          <p:nvSpPr>
            <p:cNvPr id="1272" name=""/>
            <p:cNvSpPr/>
            <p:nvPr/>
          </p:nvSpPr>
          <p:spPr>
            <a:xfrm>
              <a:off x="4599000" y="3294000"/>
              <a:ext cx="1763640" cy="337320"/>
            </a:xfrm>
            <a:prstGeom prst="rect">
              <a:avLst/>
            </a:prstGeom>
            <a:solidFill>
              <a:srgbClr val="ffff66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APF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212360" y="1143000"/>
              <a:ext cx="1802160" cy="337320"/>
            </a:xfrm>
            <a:prstGeom prst="rect">
              <a:avLst/>
            </a:prstGeom>
            <a:solidFill>
              <a:srgbClr val="ffff66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cc0000"/>
                  </a:solidFill>
                  <a:latin typeface="Arial"/>
                </a:rPr>
                <a:t>6-pulses rectifier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274" name=""/>
          <p:cNvSpPr/>
          <p:nvPr/>
        </p:nvSpPr>
        <p:spPr>
          <a:xfrm flipH="1" flipV="1">
            <a:off x="3238560" y="4057200"/>
            <a:ext cx="1828800" cy="55260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 flipH="1" flipV="1">
            <a:off x="3562200" y="4971960"/>
            <a:ext cx="2076480" cy="87624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 flipH="1">
            <a:off x="4195800" y="5619600"/>
            <a:ext cx="3938400" cy="66708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467E-6DBB-462D-AEF5-9B0BEBE590F3}" type="slidenum">
              <a:t>12</a:t>
            </a:fld>
          </a:p>
        </p:txBody>
      </p:sp>
    </p:spTree>
  </p:cSld>
  <p:transition>
    <p:cover dir="d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7" name="" descr=""/>
          <p:cNvPicPr/>
          <p:nvPr/>
        </p:nvPicPr>
        <p:blipFill>
          <a:blip r:embed="rId1"/>
          <a:stretch/>
        </p:blipFill>
        <p:spPr>
          <a:xfrm>
            <a:off x="5173560" y="406872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1278" name="" descr=""/>
          <p:cNvPicPr/>
          <p:nvPr/>
        </p:nvPicPr>
        <p:blipFill>
          <a:blip r:embed="rId2"/>
          <a:stretch/>
        </p:blipFill>
        <p:spPr>
          <a:xfrm>
            <a:off x="393840" y="406872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1279" name="" descr=""/>
          <p:cNvPicPr/>
          <p:nvPr/>
        </p:nvPicPr>
        <p:blipFill>
          <a:blip r:embed="rId3"/>
          <a:stretch/>
        </p:blipFill>
        <p:spPr>
          <a:xfrm>
            <a:off x="393840" y="10191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1280" name="" descr=""/>
          <p:cNvPicPr/>
          <p:nvPr/>
        </p:nvPicPr>
        <p:blipFill>
          <a:blip r:embed="rId4"/>
          <a:stretch/>
        </p:blipFill>
        <p:spPr>
          <a:xfrm>
            <a:off x="5173560" y="1019160"/>
            <a:ext cx="3584520" cy="2687760"/>
          </a:xfrm>
          <a:prstGeom prst="rect">
            <a:avLst/>
          </a:prstGeom>
          <a:ln w="0">
            <a:noFill/>
          </a:ln>
        </p:spPr>
      </p:pic>
      <p:sp>
        <p:nvSpPr>
          <p:cNvPr id="1281" name=""/>
          <p:cNvSpPr/>
          <p:nvPr/>
        </p:nvSpPr>
        <p:spPr>
          <a:xfrm>
            <a:off x="1498680" y="1501560"/>
            <a:ext cx="5713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6515280" y="1302840"/>
            <a:ext cx="77436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EFA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1066680" y="1945800"/>
            <a:ext cx="7747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2743200" y="1302840"/>
            <a:ext cx="7747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/5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1854360" y="5692320"/>
            <a:ext cx="166356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THD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=28,48% 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6680160" y="5692320"/>
            <a:ext cx="16639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THD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=0,19% 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1549440" y="4282560"/>
            <a:ext cx="5713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6350040" y="4282560"/>
            <a:ext cx="7747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25EF-3199-478B-847B-DBFA34F9C3C3}" type="slidenum">
              <a:t>13</a:t>
            </a:fld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9" name="" descr=""/>
          <p:cNvPicPr/>
          <p:nvPr/>
        </p:nvPicPr>
        <p:blipFill>
          <a:blip r:embed="rId1"/>
          <a:stretch/>
        </p:blipFill>
        <p:spPr>
          <a:xfrm>
            <a:off x="304920" y="104292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1290" name="" descr=""/>
          <p:cNvPicPr/>
          <p:nvPr/>
        </p:nvPicPr>
        <p:blipFill>
          <a:blip r:embed="rId2"/>
          <a:stretch/>
        </p:blipFill>
        <p:spPr>
          <a:xfrm>
            <a:off x="304920" y="40989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1291" name="" descr=""/>
          <p:cNvPicPr/>
          <p:nvPr/>
        </p:nvPicPr>
        <p:blipFill>
          <a:blip r:embed="rId3"/>
          <a:stretch/>
        </p:blipFill>
        <p:spPr>
          <a:xfrm>
            <a:off x="5175360" y="40910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1292" name="" descr=""/>
          <p:cNvPicPr/>
          <p:nvPr/>
        </p:nvPicPr>
        <p:blipFill>
          <a:blip r:embed="rId4"/>
          <a:stretch/>
        </p:blipFill>
        <p:spPr>
          <a:xfrm>
            <a:off x="5175360" y="1009800"/>
            <a:ext cx="3584520" cy="2687400"/>
          </a:xfrm>
          <a:prstGeom prst="rect">
            <a:avLst/>
          </a:prstGeom>
          <a:ln w="0">
            <a:noFill/>
          </a:ln>
        </p:spPr>
      </p:pic>
      <p:sp>
        <p:nvSpPr>
          <p:cNvPr id="1293" name=""/>
          <p:cNvSpPr/>
          <p:nvPr/>
        </p:nvSpPr>
        <p:spPr>
          <a:xfrm>
            <a:off x="1587600" y="4252680"/>
            <a:ext cx="5713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6058080" y="1302840"/>
            <a:ext cx="77436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EFA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6286680" y="4252680"/>
            <a:ext cx="77436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755800" y="1341000"/>
            <a:ext cx="7747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/5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866960" y="5594040"/>
            <a:ext cx="166356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THD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=29,11% 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1473120" y="1645920"/>
            <a:ext cx="5716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6680160" y="5594040"/>
            <a:ext cx="16639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THD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=0,73% 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1206360" y="2134800"/>
            <a:ext cx="7747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10F0-B726-4717-B8CD-ED44418228B4}" type="slidenum">
              <a:t>14</a:t>
            </a:fld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9280"/>
            <a:ext cx="777384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c0000"/>
                </a:solidFill>
                <a:uFillTx/>
                <a:latin typeface="Times New Roman"/>
              </a:rPr>
              <a:t>Klasyfikacja APF</a:t>
            </a:r>
            <a:endParaRPr b="0" lang="en-US" sz="36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038240"/>
            <a:ext cx="7773840" cy="53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Rodzaj inwertera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Arial"/>
              </a:rPr>
              <a:t>Źródło prądowe - Current source inverter (CSI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c0000"/>
                </a:solidFill>
                <a:latin typeface="Arial"/>
              </a:rPr>
              <a:t>Źródło napięciowe - Voltage source inverter (VSI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Układ połączenia z siecią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Arial"/>
              </a:rPr>
              <a:t>szeregow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Arial"/>
              </a:rPr>
              <a:t>równoległ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Arial"/>
              </a:rPr>
              <a:t>hybrydow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Rodzaj sieci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Arial"/>
              </a:rPr>
              <a:t>1-fazowa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Arial"/>
              </a:rPr>
              <a:t>3-fazowa – 3- lub 4-przewodowa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26672" t="23934" r="17627" b="16059"/>
          <a:stretch/>
        </p:blipFill>
        <p:spPr>
          <a:xfrm>
            <a:off x="5819760" y="2817720"/>
            <a:ext cx="3036960" cy="2454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D137-72D8-4D83-A39E-D47CD981B31C}" type="slidenum">
              <a:t>2</a:t>
            </a:fld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" dur="5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" dur="5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" dur="50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059360" y="504720"/>
            <a:ext cx="5938560" cy="3128760"/>
            <a:chOff x="4059360" y="504720"/>
            <a:chExt cx="5938560" cy="3128760"/>
          </a:xfrm>
        </p:grpSpPr>
        <p:sp>
          <p:nvSpPr>
            <p:cNvPr id="47" name=""/>
            <p:cNvSpPr/>
            <p:nvPr/>
          </p:nvSpPr>
          <p:spPr>
            <a:xfrm>
              <a:off x="7079400" y="1938240"/>
              <a:ext cx="291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3680" indent="-193680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u="sng">
                  <a:solidFill>
                    <a:srgbClr val="ff3300"/>
                  </a:solidFill>
                  <a:uFillTx/>
                  <a:latin typeface="Arial"/>
                </a:rPr>
                <a:t>CSI</a:t>
              </a:r>
              <a:endParaRPr b="0" lang="en-US" sz="3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4059360" y="504720"/>
              <a:ext cx="4722480" cy="3128760"/>
              <a:chOff x="4059360" y="504720"/>
              <a:chExt cx="4722480" cy="3128760"/>
            </a:xfrm>
          </p:grpSpPr>
          <p:grpSp>
            <p:nvGrpSpPr>
              <p:cNvPr id="49" name=""/>
              <p:cNvGrpSpPr/>
              <p:nvPr/>
            </p:nvGrpSpPr>
            <p:grpSpPr>
              <a:xfrm>
                <a:off x="5429880" y="925920"/>
                <a:ext cx="533160" cy="220680"/>
                <a:chOff x="5429880" y="925920"/>
                <a:chExt cx="533160" cy="220680"/>
              </a:xfrm>
            </p:grpSpPr>
            <p:grpSp>
              <p:nvGrpSpPr>
                <p:cNvPr id="50" name=""/>
                <p:cNvGrpSpPr/>
                <p:nvPr/>
              </p:nvGrpSpPr>
              <p:grpSpPr>
                <a:xfrm>
                  <a:off x="5447160" y="925920"/>
                  <a:ext cx="497520" cy="193320"/>
                  <a:chOff x="5447160" y="925920"/>
                  <a:chExt cx="497520" cy="193320"/>
                </a:xfrm>
              </p:grpSpPr>
              <p:sp>
                <p:nvSpPr>
                  <p:cNvPr id="51" name=""/>
                  <p:cNvSpPr/>
                  <p:nvPr/>
                </p:nvSpPr>
                <p:spPr>
                  <a:xfrm>
                    <a:off x="5447160" y="925920"/>
                    <a:ext cx="165960" cy="193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5613120" y="925920"/>
                    <a:ext cx="165600" cy="193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5779080" y="925920"/>
                    <a:ext cx="165600" cy="193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" name=""/>
                <p:cNvSpPr/>
                <p:nvPr/>
              </p:nvSpPr>
              <p:spPr>
                <a:xfrm>
                  <a:off x="5429880" y="1030320"/>
                  <a:ext cx="533160" cy="116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" name=""/>
              <p:cNvSpPr/>
              <p:nvPr/>
            </p:nvSpPr>
            <p:spPr>
              <a:xfrm>
                <a:off x="4059360" y="641160"/>
                <a:ext cx="998640" cy="776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ff"/>
                </a:solidFill>
                <a:miter/>
              </a:ln>
              <a:effectLst>
                <a:outerShdw dist="15375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600" spc="-1" strike="noStrike">
                    <a:solidFill>
                      <a:srgbClr val="0000ff"/>
                    </a:solidFill>
                    <a:latin typeface="Arial"/>
                  </a:rPr>
                  <a:t>Supply network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cxnSp>
            <p:nvCxnSpPr>
              <p:cNvPr id="56" name=""/>
              <p:cNvCxnSpPr>
                <a:stCxn id="51" idx="2"/>
                <a:endCxn id="55" idx="3"/>
              </p:cNvCxnSpPr>
              <p:nvPr/>
            </p:nvCxnSpPr>
            <p:spPr>
              <a:xfrm flipH="1">
                <a:off x="5070960" y="1023840"/>
                <a:ext cx="365040" cy="7200"/>
              </a:xfrm>
              <a:prstGeom prst="straightConnector1">
                <a:avLst/>
              </a:prstGeom>
              <a:ln w="25560">
                <a:solidFill>
                  <a:srgbClr val="0000ff"/>
                </a:solidFill>
                <a:miter/>
              </a:ln>
            </p:spPr>
          </p:cxnSp>
          <p:grpSp>
            <p:nvGrpSpPr>
              <p:cNvPr id="57" name=""/>
              <p:cNvGrpSpPr/>
              <p:nvPr/>
            </p:nvGrpSpPr>
            <p:grpSpPr>
              <a:xfrm>
                <a:off x="6827040" y="925920"/>
                <a:ext cx="532800" cy="220680"/>
                <a:chOff x="6827040" y="925920"/>
                <a:chExt cx="532800" cy="220680"/>
              </a:xfrm>
            </p:grpSpPr>
            <p:grpSp>
              <p:nvGrpSpPr>
                <p:cNvPr id="58" name=""/>
                <p:cNvGrpSpPr/>
                <p:nvPr/>
              </p:nvGrpSpPr>
              <p:grpSpPr>
                <a:xfrm>
                  <a:off x="6844320" y="925920"/>
                  <a:ext cx="497160" cy="193320"/>
                  <a:chOff x="6844320" y="925920"/>
                  <a:chExt cx="497160" cy="193320"/>
                </a:xfrm>
              </p:grpSpPr>
              <p:sp>
                <p:nvSpPr>
                  <p:cNvPr id="59" name=""/>
                  <p:cNvSpPr/>
                  <p:nvPr/>
                </p:nvSpPr>
                <p:spPr>
                  <a:xfrm>
                    <a:off x="6844320" y="925920"/>
                    <a:ext cx="165960" cy="193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7010280" y="925920"/>
                    <a:ext cx="165600" cy="193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7175880" y="925920"/>
                    <a:ext cx="165600" cy="193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2" name=""/>
                <p:cNvSpPr/>
                <p:nvPr/>
              </p:nvSpPr>
              <p:spPr>
                <a:xfrm>
                  <a:off x="6827040" y="1030320"/>
                  <a:ext cx="532800" cy="116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63" name=""/>
              <p:cNvCxnSpPr>
                <a:stCxn id="59" idx="2"/>
                <a:endCxn id="53" idx="6"/>
              </p:cNvCxnSpPr>
              <p:nvPr/>
            </p:nvCxnSpPr>
            <p:spPr>
              <a:xfrm flipH="1">
                <a:off x="5956200" y="1023480"/>
                <a:ext cx="875880" cy="1080"/>
              </a:xfrm>
              <a:prstGeom prst="straightConnector1">
                <a:avLst/>
              </a:prstGeom>
              <a:ln w="25560">
                <a:solidFill>
                  <a:srgbClr val="0000ff"/>
                </a:solidFill>
                <a:miter/>
              </a:ln>
            </p:spPr>
          </p:cxnSp>
          <p:sp>
            <p:nvSpPr>
              <p:cNvPr id="64" name=""/>
              <p:cNvSpPr/>
              <p:nvPr/>
            </p:nvSpPr>
            <p:spPr>
              <a:xfrm>
                <a:off x="7782840" y="641160"/>
                <a:ext cx="999000" cy="776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ff"/>
                </a:solidFill>
                <a:miter/>
              </a:ln>
              <a:effectLst>
                <a:outerShdw dist="15375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600" spc="-1" strike="noStrike">
                    <a:solidFill>
                      <a:srgbClr val="0000ff"/>
                    </a:solidFill>
                    <a:latin typeface="Arial"/>
                  </a:rPr>
                  <a:t>Nonlinear load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cxnSp>
            <p:nvCxnSpPr>
              <p:cNvPr id="65" name=""/>
              <p:cNvCxnSpPr>
                <a:stCxn id="61" idx="6"/>
                <a:endCxn id="64" idx="1"/>
              </p:cNvCxnSpPr>
              <p:nvPr/>
            </p:nvCxnSpPr>
            <p:spPr>
              <a:xfrm>
                <a:off x="7354080" y="1023840"/>
                <a:ext cx="416160" cy="7200"/>
              </a:xfrm>
              <a:prstGeom prst="straightConnector1">
                <a:avLst/>
              </a:prstGeom>
              <a:ln w="25560">
                <a:solidFill>
                  <a:srgbClr val="0000ff"/>
                </a:solidFill>
                <a:miter/>
              </a:ln>
            </p:spPr>
          </p:cxnSp>
          <p:sp>
            <p:nvSpPr>
              <p:cNvPr id="66" name=""/>
              <p:cNvSpPr/>
              <p:nvPr/>
            </p:nvSpPr>
            <p:spPr>
              <a:xfrm>
                <a:off x="5898600" y="2226600"/>
                <a:ext cx="998640" cy="8650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ff"/>
                </a:solidFill>
                <a:miter/>
              </a:ln>
              <a:effectLst>
                <a:outerShdw dist="15375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cxnSp>
            <p:nvCxnSpPr>
              <p:cNvPr id="67" name=""/>
              <p:cNvCxnSpPr>
                <a:stCxn id="66" idx="0"/>
              </p:cNvCxnSpPr>
              <p:nvPr/>
            </p:nvCxnSpPr>
            <p:spPr>
              <a:xfrm flipV="1">
                <a:off x="6397920" y="1023840"/>
                <a:ext cx="2160" cy="1187640"/>
              </a:xfrm>
              <a:prstGeom prst="straightConnector1">
                <a:avLst/>
              </a:prstGeom>
              <a:ln w="25560">
                <a:solidFill>
                  <a:srgbClr val="0000ff"/>
                </a:solidFill>
                <a:miter/>
              </a:ln>
            </p:spPr>
          </p:cxnSp>
          <p:sp>
            <p:nvSpPr>
              <p:cNvPr id="68" name=""/>
              <p:cNvSpPr/>
              <p:nvPr/>
            </p:nvSpPr>
            <p:spPr>
              <a:xfrm>
                <a:off x="6309720" y="2387880"/>
                <a:ext cx="0" cy="3099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69" name=""/>
              <p:cNvGrpSpPr/>
              <p:nvPr/>
            </p:nvGrpSpPr>
            <p:grpSpPr>
              <a:xfrm>
                <a:off x="6383160" y="2735640"/>
                <a:ext cx="176040" cy="169200"/>
                <a:chOff x="6383160" y="2735640"/>
                <a:chExt cx="176040" cy="16920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6383160" y="2750760"/>
                  <a:ext cx="176040" cy="154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6383160" y="2735640"/>
                  <a:ext cx="17604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" name=""/>
              <p:cNvSpPr/>
              <p:nvPr/>
            </p:nvSpPr>
            <p:spPr>
              <a:xfrm flipH="1">
                <a:off x="6471000" y="2905200"/>
                <a:ext cx="1080" cy="1162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471360" y="2685960"/>
                <a:ext cx="0" cy="565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V="1">
                <a:off x="6309720" y="2392920"/>
                <a:ext cx="173160" cy="1677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321600" y="2542680"/>
                <a:ext cx="155520" cy="14220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252480" y="2387880"/>
                <a:ext cx="0" cy="3099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153840" y="2543400"/>
                <a:ext cx="9828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471360" y="2281680"/>
                <a:ext cx="0" cy="1144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9" name=""/>
              <p:cNvGrpSpPr/>
              <p:nvPr/>
            </p:nvGrpSpPr>
            <p:grpSpPr>
              <a:xfrm>
                <a:off x="6127560" y="3402000"/>
                <a:ext cx="532800" cy="220680"/>
                <a:chOff x="6127560" y="3402000"/>
                <a:chExt cx="532800" cy="220680"/>
              </a:xfrm>
            </p:grpSpPr>
            <p:grpSp>
              <p:nvGrpSpPr>
                <p:cNvPr id="80" name=""/>
                <p:cNvGrpSpPr/>
                <p:nvPr/>
              </p:nvGrpSpPr>
              <p:grpSpPr>
                <a:xfrm>
                  <a:off x="6144840" y="3402000"/>
                  <a:ext cx="497160" cy="193320"/>
                  <a:chOff x="6144840" y="3402000"/>
                  <a:chExt cx="497160" cy="1933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>
                    <a:off x="6144840" y="3402000"/>
                    <a:ext cx="165960" cy="193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6310800" y="3402000"/>
                    <a:ext cx="165600" cy="193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6476400" y="3402000"/>
                    <a:ext cx="165600" cy="193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4" name=""/>
                <p:cNvSpPr/>
                <p:nvPr/>
              </p:nvSpPr>
              <p:spPr>
                <a:xfrm>
                  <a:off x="6127560" y="3506400"/>
                  <a:ext cx="532800" cy="116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" name=""/>
              <p:cNvSpPr/>
              <p:nvPr/>
            </p:nvSpPr>
            <p:spPr>
              <a:xfrm>
                <a:off x="5954040" y="3092040"/>
                <a:ext cx="0" cy="39924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945400" y="3491280"/>
                <a:ext cx="20844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635520" y="3491280"/>
                <a:ext cx="20880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831360" y="3092040"/>
                <a:ext cx="0" cy="39924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518080" y="843840"/>
                <a:ext cx="32436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897240" y="843840"/>
                <a:ext cx="32472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512400" y="1343880"/>
                <a:ext cx="0" cy="3787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518080" y="504720"/>
                <a:ext cx="38016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400" spc="-1" strike="noStrike">
                    <a:solidFill>
                      <a:srgbClr val="cc0000"/>
                    </a:solidFill>
                    <a:latin typeface="Times New Roman"/>
                  </a:rPr>
                  <a:t>i</a:t>
                </a:r>
                <a:r>
                  <a:rPr b="1" lang="pl-PL" sz="1400" spc="-1" strike="noStrike" baseline="-25000">
                    <a:solidFill>
                      <a:srgbClr val="cc0000"/>
                    </a:solidFill>
                    <a:latin typeface="Times New Roman"/>
                  </a:rPr>
                  <a:t>S</a:t>
                </a:r>
                <a:endParaRPr b="0" lang="en-US" sz="1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897240" y="514800"/>
                <a:ext cx="4453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400" spc="-1" strike="noStrike">
                    <a:solidFill>
                      <a:srgbClr val="cc0000"/>
                    </a:solidFill>
                    <a:latin typeface="Times New Roman"/>
                  </a:rPr>
                  <a:t>i</a:t>
                </a:r>
                <a:r>
                  <a:rPr b="1" lang="pl-PL" sz="1400" spc="-1" strike="noStrike" baseline="-25000">
                    <a:solidFill>
                      <a:srgbClr val="cc0000"/>
                    </a:solidFill>
                    <a:latin typeface="Times New Roman"/>
                  </a:rPr>
                  <a:t>L</a:t>
                </a:r>
                <a:endParaRPr b="0" lang="en-US" sz="1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512400" y="1343880"/>
                <a:ext cx="380160" cy="48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400" spc="-1" strike="noStrike">
                    <a:solidFill>
                      <a:srgbClr val="cc0000"/>
                    </a:solidFill>
                    <a:latin typeface="Times New Roman"/>
                  </a:rPr>
                  <a:t>i</a:t>
                </a:r>
                <a:r>
                  <a:rPr b="1" lang="pl-PL" sz="1400" spc="-1" strike="noStrike" baseline="-25000">
                    <a:solidFill>
                      <a:srgbClr val="cc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205320" y="3328560"/>
                <a:ext cx="32472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494760" y="3092040"/>
                <a:ext cx="444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0000"/>
                    </a:solidFill>
                    <a:latin typeface="Times New Roman"/>
                  </a:rPr>
                  <a:t>i</a:t>
                </a:r>
                <a:r>
                  <a:rPr b="1" lang="en-US" sz="1400" spc="-1" strike="noStrike" baseline="-25000">
                    <a:solidFill>
                      <a:srgbClr val="cc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369840" y="984240"/>
                <a:ext cx="66240" cy="77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5106600" y="936360"/>
                <a:ext cx="96120" cy="2120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>
                <a:off x="5139000" y="936360"/>
                <a:ext cx="96120" cy="2120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H="1">
                <a:off x="5171760" y="936360"/>
                <a:ext cx="96120" cy="2120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101" name=""/>
              <p:cNvGrpSpPr/>
              <p:nvPr/>
            </p:nvGrpSpPr>
            <p:grpSpPr>
              <a:xfrm>
                <a:off x="5447520" y="1441800"/>
                <a:ext cx="982080" cy="388080"/>
                <a:chOff x="5447520" y="1441800"/>
                <a:chExt cx="982080" cy="38808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5613120" y="1633320"/>
                  <a:ext cx="76932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3" name=""/>
                <p:cNvGrpSpPr/>
                <p:nvPr/>
              </p:nvGrpSpPr>
              <p:grpSpPr>
                <a:xfrm>
                  <a:off x="5545440" y="1441800"/>
                  <a:ext cx="58680" cy="388080"/>
                  <a:chOff x="5545440" y="1441800"/>
                  <a:chExt cx="58680" cy="388080"/>
                </a:xfrm>
              </p:grpSpPr>
              <p:sp>
                <p:nvSpPr>
                  <p:cNvPr id="104" name=""/>
                  <p:cNvSpPr/>
                  <p:nvPr/>
                </p:nvSpPr>
                <p:spPr>
                  <a:xfrm>
                    <a:off x="5545440" y="1441800"/>
                    <a:ext cx="0" cy="388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5604120" y="1441800"/>
                    <a:ext cx="0" cy="388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6" name=""/>
                <p:cNvSpPr/>
                <p:nvPr/>
              </p:nvSpPr>
              <p:spPr>
                <a:xfrm>
                  <a:off x="6363720" y="1590480"/>
                  <a:ext cx="65880" cy="770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920" bIns="792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5447520" y="1633320"/>
                  <a:ext cx="9792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5691240" y="1976760"/>
                <a:ext cx="1408680" cy="165672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" name=""/>
          <p:cNvGrpSpPr/>
          <p:nvPr/>
        </p:nvGrpSpPr>
        <p:grpSpPr>
          <a:xfrm>
            <a:off x="633240" y="3909960"/>
            <a:ext cx="5757480" cy="2789280"/>
            <a:chOff x="633240" y="3909960"/>
            <a:chExt cx="5757480" cy="2789280"/>
          </a:xfrm>
        </p:grpSpPr>
        <p:sp>
          <p:nvSpPr>
            <p:cNvPr id="110" name=""/>
            <p:cNvSpPr/>
            <p:nvPr/>
          </p:nvSpPr>
          <p:spPr>
            <a:xfrm>
              <a:off x="633240" y="5165640"/>
              <a:ext cx="19083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3680" indent="-193680"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u="sng">
                  <a:solidFill>
                    <a:srgbClr val="ff3300"/>
                  </a:solidFill>
                  <a:uFillTx/>
                  <a:latin typeface="Arial"/>
                </a:rPr>
                <a:t>VSI</a:t>
              </a:r>
              <a:br>
                <a:rPr sz="3200"/>
              </a:br>
              <a:endParaRPr b="0" lang="en-US" sz="3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914040" y="3909960"/>
              <a:ext cx="5476680" cy="2789280"/>
              <a:chOff x="914040" y="3909960"/>
              <a:chExt cx="5476680" cy="2789280"/>
            </a:xfrm>
          </p:grpSpPr>
          <p:grpSp>
            <p:nvGrpSpPr>
              <p:cNvPr id="112" name=""/>
              <p:cNvGrpSpPr/>
              <p:nvPr/>
            </p:nvGrpSpPr>
            <p:grpSpPr>
              <a:xfrm>
                <a:off x="2503080" y="4300560"/>
                <a:ext cx="618120" cy="204840"/>
                <a:chOff x="2503080" y="4300560"/>
                <a:chExt cx="618120" cy="204840"/>
              </a:xfrm>
            </p:grpSpPr>
            <p:grpSp>
              <p:nvGrpSpPr>
                <p:cNvPr id="113" name=""/>
                <p:cNvGrpSpPr/>
                <p:nvPr/>
              </p:nvGrpSpPr>
              <p:grpSpPr>
                <a:xfrm>
                  <a:off x="2522880" y="4300560"/>
                  <a:ext cx="577440" cy="179640"/>
                  <a:chOff x="2522880" y="4300560"/>
                  <a:chExt cx="577440" cy="17964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>
                    <a:off x="2522880" y="4300560"/>
                    <a:ext cx="192600" cy="179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2715480" y="4300560"/>
                    <a:ext cx="192240" cy="179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2908080" y="4300560"/>
                    <a:ext cx="192240" cy="179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2503080" y="4397400"/>
                  <a:ext cx="618120" cy="108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8" name=""/>
              <p:cNvSpPr/>
              <p:nvPr/>
            </p:nvSpPr>
            <p:spPr>
              <a:xfrm>
                <a:off x="914040" y="4037040"/>
                <a:ext cx="1158120" cy="719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ff"/>
                </a:solidFill>
                <a:miter/>
              </a:ln>
              <a:effectLst>
                <a:outerShdw dist="15375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600" spc="-1" strike="noStrike">
                    <a:solidFill>
                      <a:srgbClr val="0000ff"/>
                    </a:solidFill>
                    <a:latin typeface="Arial"/>
                  </a:rPr>
                  <a:t>Supply network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cxnSp>
            <p:nvCxnSpPr>
              <p:cNvPr id="119" name=""/>
              <p:cNvCxnSpPr>
                <a:stCxn id="114" idx="2"/>
                <a:endCxn id="118" idx="3"/>
              </p:cNvCxnSpPr>
              <p:nvPr/>
            </p:nvCxnSpPr>
            <p:spPr>
              <a:xfrm flipH="1">
                <a:off x="2087280" y="4390920"/>
                <a:ext cx="422640" cy="7200"/>
              </a:xfrm>
              <a:prstGeom prst="straightConnector1">
                <a:avLst/>
              </a:prstGeom>
              <a:ln w="25560">
                <a:solidFill>
                  <a:srgbClr val="0000ff"/>
                </a:solidFill>
                <a:miter/>
              </a:ln>
            </p:spPr>
          </p:cxnSp>
          <p:grpSp>
            <p:nvGrpSpPr>
              <p:cNvPr id="120" name=""/>
              <p:cNvGrpSpPr/>
              <p:nvPr/>
            </p:nvGrpSpPr>
            <p:grpSpPr>
              <a:xfrm>
                <a:off x="4123080" y="4300560"/>
                <a:ext cx="618120" cy="204840"/>
                <a:chOff x="4123080" y="4300560"/>
                <a:chExt cx="618120" cy="20484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4142880" y="4300560"/>
                  <a:ext cx="577440" cy="179640"/>
                  <a:chOff x="4142880" y="4300560"/>
                  <a:chExt cx="577440" cy="17964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4142880" y="4300560"/>
                    <a:ext cx="192600" cy="179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4335480" y="4300560"/>
                    <a:ext cx="192240" cy="179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>
                    <a:off x="4528080" y="4300560"/>
                    <a:ext cx="192240" cy="179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5" name=""/>
                <p:cNvSpPr/>
                <p:nvPr/>
              </p:nvSpPr>
              <p:spPr>
                <a:xfrm>
                  <a:off x="4123080" y="4397400"/>
                  <a:ext cx="618120" cy="108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126" name=""/>
              <p:cNvCxnSpPr>
                <a:stCxn id="122" idx="2"/>
                <a:endCxn id="116" idx="6"/>
              </p:cNvCxnSpPr>
              <p:nvPr/>
            </p:nvCxnSpPr>
            <p:spPr>
              <a:xfrm flipH="1">
                <a:off x="3114360" y="4390560"/>
                <a:ext cx="1015920" cy="1080"/>
              </a:xfrm>
              <a:prstGeom prst="straightConnector1">
                <a:avLst/>
              </a:prstGeom>
              <a:ln w="25560">
                <a:solidFill>
                  <a:srgbClr val="0000ff"/>
                </a:solidFill>
                <a:miter/>
              </a:ln>
            </p:spPr>
          </p:cxnSp>
          <p:sp>
            <p:nvSpPr>
              <p:cNvPr id="127" name=""/>
              <p:cNvSpPr/>
              <p:nvPr/>
            </p:nvSpPr>
            <p:spPr>
              <a:xfrm>
                <a:off x="5232240" y="4037040"/>
                <a:ext cx="1158480" cy="719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ff"/>
                </a:solidFill>
                <a:miter/>
              </a:ln>
              <a:effectLst>
                <a:outerShdw dist="15375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600" spc="-1" strike="noStrike">
                    <a:solidFill>
                      <a:srgbClr val="0000ff"/>
                    </a:solidFill>
                    <a:latin typeface="Arial"/>
                  </a:rPr>
                  <a:t>Nonlinear load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cxnSp>
            <p:nvCxnSpPr>
              <p:cNvPr id="128" name=""/>
              <p:cNvCxnSpPr>
                <a:stCxn id="124" idx="6"/>
                <a:endCxn id="127" idx="1"/>
              </p:cNvCxnSpPr>
              <p:nvPr/>
            </p:nvCxnSpPr>
            <p:spPr>
              <a:xfrm>
                <a:off x="4734720" y="4390920"/>
                <a:ext cx="482760" cy="7200"/>
              </a:xfrm>
              <a:prstGeom prst="straightConnector1">
                <a:avLst/>
              </a:prstGeom>
              <a:ln w="25560">
                <a:solidFill>
                  <a:srgbClr val="0000ff"/>
                </a:solidFill>
                <a:miter/>
              </a:ln>
            </p:spPr>
          </p:cxnSp>
          <p:sp>
            <p:nvSpPr>
              <p:cNvPr id="129" name=""/>
              <p:cNvSpPr/>
              <p:nvPr/>
            </p:nvSpPr>
            <p:spPr>
              <a:xfrm>
                <a:off x="3046680" y="5356080"/>
                <a:ext cx="1158120" cy="719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ff"/>
                </a:solidFill>
                <a:miter/>
              </a:ln>
              <a:effectLst>
                <a:outerShdw dist="15375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3503520" y="4584600"/>
                <a:ext cx="219240" cy="576000"/>
                <a:chOff x="3503520" y="4584600"/>
                <a:chExt cx="219240" cy="576000"/>
              </a:xfrm>
            </p:grpSpPr>
            <p:grpSp>
              <p:nvGrpSpPr>
                <p:cNvPr id="131" name=""/>
                <p:cNvGrpSpPr/>
                <p:nvPr/>
              </p:nvGrpSpPr>
              <p:grpSpPr>
                <a:xfrm>
                  <a:off x="3530880" y="4603320"/>
                  <a:ext cx="191880" cy="538200"/>
                  <a:chOff x="3530880" y="4603320"/>
                  <a:chExt cx="191880" cy="538200"/>
                </a:xfrm>
              </p:grpSpPr>
              <p:sp>
                <p:nvSpPr>
                  <p:cNvPr id="132" name=""/>
                  <p:cNvSpPr/>
                  <p:nvPr/>
                </p:nvSpPr>
                <p:spPr>
                  <a:xfrm rot="5400000">
                    <a:off x="3537000" y="4597200"/>
                    <a:ext cx="179640" cy="191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 rot="5400000">
                    <a:off x="3537000" y="4776480"/>
                    <a:ext cx="179280" cy="191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 rot="5400000">
                    <a:off x="3537000" y="4955760"/>
                    <a:ext cx="179280" cy="191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5" name=""/>
                <p:cNvSpPr/>
                <p:nvPr/>
              </p:nvSpPr>
              <p:spPr>
                <a:xfrm rot="5400000">
                  <a:off x="3273120" y="4814640"/>
                  <a:ext cx="576000" cy="115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136" name=""/>
              <p:cNvCxnSpPr>
                <a:stCxn id="132" idx="2"/>
              </p:cNvCxnSpPr>
              <p:nvPr/>
            </p:nvCxnSpPr>
            <p:spPr>
              <a:xfrm flipV="1">
                <a:off x="3625560" y="4388760"/>
                <a:ext cx="1080" cy="199080"/>
              </a:xfrm>
              <a:prstGeom prst="straightConnector1">
                <a:avLst/>
              </a:prstGeom>
              <a:ln w="25560">
                <a:solidFill>
                  <a:srgbClr val="0000ff"/>
                </a:solidFill>
                <a:miter/>
              </a:ln>
            </p:spPr>
          </p:cxnSp>
          <p:cxnSp>
            <p:nvCxnSpPr>
              <p:cNvPr id="137" name=""/>
              <p:cNvCxnSpPr>
                <a:stCxn id="129" idx="0"/>
                <a:endCxn id="134" idx="6"/>
              </p:cNvCxnSpPr>
              <p:nvPr/>
            </p:nvCxnSpPr>
            <p:spPr>
              <a:xfrm flipV="1">
                <a:off x="3625560" y="5150880"/>
                <a:ext cx="1080" cy="191160"/>
              </a:xfrm>
              <a:prstGeom prst="straightConnector1">
                <a:avLst/>
              </a:prstGeom>
              <a:ln w="25560">
                <a:solidFill>
                  <a:srgbClr val="0000ff"/>
                </a:solidFill>
                <a:miter/>
              </a:ln>
            </p:spPr>
          </p:cxnSp>
          <p:sp>
            <p:nvSpPr>
              <p:cNvPr id="138" name=""/>
              <p:cNvSpPr/>
              <p:nvPr/>
            </p:nvSpPr>
            <p:spPr>
              <a:xfrm>
                <a:off x="3523680" y="5565600"/>
                <a:ext cx="0" cy="28764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3837240" y="5624640"/>
                <a:ext cx="188280" cy="169200"/>
                <a:chOff x="3837240" y="5624640"/>
                <a:chExt cx="188280" cy="16920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3837240" y="5639760"/>
                  <a:ext cx="188280" cy="154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3837240" y="5624640"/>
                  <a:ext cx="18828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2" name=""/>
              <p:cNvSpPr/>
              <p:nvPr/>
            </p:nvSpPr>
            <p:spPr>
              <a:xfrm>
                <a:off x="3714480" y="5835600"/>
                <a:ext cx="0" cy="17784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V="1">
                <a:off x="3523680" y="5570640"/>
                <a:ext cx="201240" cy="1555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537360" y="5710320"/>
                <a:ext cx="180360" cy="1317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457080" y="5565600"/>
                <a:ext cx="0" cy="28764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342960" y="5710320"/>
                <a:ext cx="11376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111480" y="6075360"/>
                <a:ext cx="0" cy="3697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101400" y="6445080"/>
                <a:ext cx="51768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690360" y="6445080"/>
                <a:ext cx="45288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134960" y="6075360"/>
                <a:ext cx="0" cy="3697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605320" y="4224240"/>
                <a:ext cx="37656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205160" y="4224240"/>
                <a:ext cx="37656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813120" y="4687920"/>
                <a:ext cx="0" cy="35064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605320" y="3909960"/>
                <a:ext cx="441360" cy="31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400" spc="-1" strike="noStrike">
                    <a:solidFill>
                      <a:srgbClr val="cc0000"/>
                    </a:solidFill>
                    <a:latin typeface="Times New Roman"/>
                  </a:rPr>
                  <a:t>i</a:t>
                </a:r>
                <a:r>
                  <a:rPr b="1" lang="pl-PL" sz="1400" spc="-1" strike="noStrike" baseline="-25000">
                    <a:solidFill>
                      <a:srgbClr val="cc0000"/>
                    </a:solidFill>
                    <a:latin typeface="Times New Roman"/>
                  </a:rPr>
                  <a:t>S</a:t>
                </a:r>
                <a:endParaRPr b="0" lang="en-US" sz="1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205160" y="3919680"/>
                <a:ext cx="5158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400" spc="-1" strike="noStrike">
                    <a:solidFill>
                      <a:srgbClr val="cc0000"/>
                    </a:solidFill>
                    <a:latin typeface="Times New Roman"/>
                  </a:rPr>
                  <a:t>i</a:t>
                </a:r>
                <a:r>
                  <a:rPr b="1" lang="pl-PL" sz="1400" spc="-1" strike="noStrike" baseline="-25000">
                    <a:solidFill>
                      <a:srgbClr val="cc0000"/>
                    </a:solidFill>
                    <a:latin typeface="Times New Roman"/>
                  </a:rPr>
                  <a:t>L</a:t>
                </a:r>
                <a:endParaRPr b="0" lang="en-US" sz="1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813120" y="4687920"/>
                <a:ext cx="44100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400" spc="-1" strike="noStrike">
                    <a:solidFill>
                      <a:srgbClr val="cc0000"/>
                    </a:solidFill>
                    <a:latin typeface="Times New Roman"/>
                  </a:rPr>
                  <a:t>i</a:t>
                </a:r>
                <a:r>
                  <a:rPr b="1" lang="pl-PL" sz="1400" spc="-1" strike="noStrike" baseline="-25000">
                    <a:solidFill>
                      <a:srgbClr val="cc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157" name=""/>
              <p:cNvGrpSpPr/>
              <p:nvPr/>
            </p:nvGrpSpPr>
            <p:grpSpPr>
              <a:xfrm>
                <a:off x="3622320" y="6267600"/>
                <a:ext cx="67320" cy="360360"/>
                <a:chOff x="3622320" y="6267600"/>
                <a:chExt cx="67320" cy="36036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3622320" y="6267600"/>
                  <a:ext cx="0" cy="36036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3689640" y="6267600"/>
                  <a:ext cx="0" cy="36036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0" name=""/>
              <p:cNvSpPr/>
              <p:nvPr/>
            </p:nvSpPr>
            <p:spPr>
              <a:xfrm>
                <a:off x="3714480" y="5398920"/>
                <a:ext cx="0" cy="17784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929040" y="5486400"/>
                <a:ext cx="0" cy="13824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924000" y="5794200"/>
                <a:ext cx="0" cy="13824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3707640" y="5499000"/>
                <a:ext cx="22104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>
                <a:off x="3707640" y="5923080"/>
                <a:ext cx="22104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714480" y="6124680"/>
                <a:ext cx="5158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400" spc="-1" strike="noStrike">
                    <a:solidFill>
                      <a:srgbClr val="cc0000"/>
                    </a:solidFill>
                    <a:latin typeface="Times New Roman"/>
                  </a:rPr>
                  <a:t>v</a:t>
                </a:r>
                <a:r>
                  <a:rPr b="1" lang="pl-PL" sz="1400" spc="-1" strike="noStrike" baseline="-25000">
                    <a:solidFill>
                      <a:srgbClr val="cc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166" name=""/>
              <p:cNvGrpSpPr/>
              <p:nvPr/>
            </p:nvGrpSpPr>
            <p:grpSpPr>
              <a:xfrm>
                <a:off x="2122920" y="4310280"/>
                <a:ext cx="163800" cy="196560"/>
                <a:chOff x="2122920" y="4310280"/>
                <a:chExt cx="163800" cy="196560"/>
              </a:xfrm>
            </p:grpSpPr>
            <p:sp>
              <p:nvSpPr>
                <p:cNvPr id="167" name=""/>
                <p:cNvSpPr/>
                <p:nvPr/>
              </p:nvSpPr>
              <p:spPr>
                <a:xfrm flipH="1">
                  <a:off x="2122920" y="4310280"/>
                  <a:ext cx="89280" cy="19656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 flipH="1">
                  <a:off x="2160000" y="4310280"/>
                  <a:ext cx="89280" cy="19656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flipH="1">
                  <a:off x="2197440" y="4310280"/>
                  <a:ext cx="89280" cy="19656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0" name=""/>
              <p:cNvSpPr/>
              <p:nvPr/>
            </p:nvSpPr>
            <p:spPr>
              <a:xfrm>
                <a:off x="3589920" y="4354560"/>
                <a:ext cx="766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809800" y="5211720"/>
                <a:ext cx="1633680" cy="148752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2" name=""/>
          <p:cNvSpPr/>
          <p:nvPr/>
        </p:nvSpPr>
        <p:spPr>
          <a:xfrm>
            <a:off x="383400" y="244440"/>
            <a:ext cx="343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c0000"/>
                </a:solidFill>
                <a:latin typeface="Arial"/>
              </a:rPr>
              <a:t>Rodzaj inwerter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863B-3EDF-4A1F-8187-8C5870904582}" type="slidenum">
              <a:t>3</a:t>
            </a:fld>
          </a:p>
        </p:txBody>
      </p:sp>
    </p:spTree>
  </p:cSld>
  <p:transition>
    <p:cover dir="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5" dur="1" fill="hold"/>
                                  <p:tgtEl>
                                    <p:spTgt spid="10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1920" y="-11160"/>
            <a:ext cx="835668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Układ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536840" y="814320"/>
            <a:ext cx="6228720" cy="3361320"/>
            <a:chOff x="1536840" y="814320"/>
            <a:chExt cx="6228720" cy="3361320"/>
          </a:xfrm>
        </p:grpSpPr>
        <p:grpSp>
          <p:nvGrpSpPr>
            <p:cNvPr id="175" name=""/>
            <p:cNvGrpSpPr/>
            <p:nvPr/>
          </p:nvGrpSpPr>
          <p:grpSpPr>
            <a:xfrm>
              <a:off x="5194440" y="1367640"/>
              <a:ext cx="702720" cy="289440"/>
              <a:chOff x="5194440" y="1367640"/>
              <a:chExt cx="702720" cy="289440"/>
            </a:xfrm>
          </p:grpSpPr>
          <p:grpSp>
            <p:nvGrpSpPr>
              <p:cNvPr id="176" name=""/>
              <p:cNvGrpSpPr/>
              <p:nvPr/>
            </p:nvGrpSpPr>
            <p:grpSpPr>
              <a:xfrm>
                <a:off x="5217120" y="1367640"/>
                <a:ext cx="656280" cy="253800"/>
                <a:chOff x="5217120" y="1367640"/>
                <a:chExt cx="656280" cy="25380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5217120" y="1367640"/>
                  <a:ext cx="218880" cy="2538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5436000" y="1367640"/>
                  <a:ext cx="218520" cy="2538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5654880" y="1367640"/>
                  <a:ext cx="218520" cy="2538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0" name=""/>
              <p:cNvSpPr/>
              <p:nvPr/>
            </p:nvSpPr>
            <p:spPr>
              <a:xfrm>
                <a:off x="5194440" y="1504440"/>
                <a:ext cx="70272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4270320" y="1343880"/>
              <a:ext cx="702720" cy="289440"/>
              <a:chOff x="4270320" y="1343880"/>
              <a:chExt cx="702720" cy="28944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4294080" y="1379520"/>
                <a:ext cx="656280" cy="253800"/>
                <a:chOff x="4294080" y="1379520"/>
                <a:chExt cx="656280" cy="253800"/>
              </a:xfrm>
            </p:grpSpPr>
            <p:sp>
              <p:nvSpPr>
                <p:cNvPr id="183" name=""/>
                <p:cNvSpPr/>
                <p:nvPr/>
              </p:nvSpPr>
              <p:spPr>
                <a:xfrm rot="10800000">
                  <a:off x="4731480" y="1379520"/>
                  <a:ext cx="218880" cy="2538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rot="10800000">
                  <a:off x="4512960" y="1379520"/>
                  <a:ext cx="218520" cy="2538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rot="10800000">
                  <a:off x="4294080" y="1379520"/>
                  <a:ext cx="218520" cy="2538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 rot="10800000">
                <a:off x="4270320" y="1343880"/>
                <a:ext cx="70272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3344400" y="1367640"/>
              <a:ext cx="702720" cy="289440"/>
              <a:chOff x="3344400" y="1367640"/>
              <a:chExt cx="702720" cy="28944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3367080" y="1367640"/>
                <a:ext cx="656280" cy="253800"/>
                <a:chOff x="3367080" y="1367640"/>
                <a:chExt cx="656280" cy="2538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3367080" y="1367640"/>
                  <a:ext cx="218880" cy="2538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3585960" y="1367640"/>
                  <a:ext cx="218520" cy="2538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804840" y="1367640"/>
                  <a:ext cx="218520" cy="2538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3344400" y="1504440"/>
                <a:ext cx="70272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1536840" y="994320"/>
              <a:ext cx="1317240" cy="1019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ff"/>
                  </a:solidFill>
                  <a:latin typeface="Arial"/>
                </a:rPr>
                <a:t>Sourc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cxnSp>
          <p:nvCxnSpPr>
            <p:cNvPr id="194" name=""/>
            <p:cNvCxnSpPr>
              <a:stCxn id="189" idx="2"/>
              <a:endCxn id="193" idx="3"/>
            </p:cNvCxnSpPr>
            <p:nvPr/>
          </p:nvCxnSpPr>
          <p:spPr>
            <a:xfrm flipH="1">
              <a:off x="2870640" y="1496520"/>
              <a:ext cx="481320" cy="93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</a:ln>
          </p:spPr>
        </p:cxnSp>
        <p:sp>
          <p:nvSpPr>
            <p:cNvPr id="195" name=""/>
            <p:cNvSpPr/>
            <p:nvPr/>
          </p:nvSpPr>
          <p:spPr>
            <a:xfrm>
              <a:off x="6447960" y="994320"/>
              <a:ext cx="1317600" cy="1019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ff"/>
                  </a:solidFill>
                  <a:latin typeface="Arial"/>
                </a:rPr>
                <a:t>Nonlinear load</a:t>
              </a: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cxnSp>
          <p:nvCxnSpPr>
            <p:cNvPr id="196" name=""/>
            <p:cNvCxnSpPr>
              <a:stCxn id="179" idx="6"/>
              <a:endCxn id="195" idx="1"/>
            </p:cNvCxnSpPr>
            <p:nvPr/>
          </p:nvCxnSpPr>
          <p:spPr>
            <a:xfrm>
              <a:off x="5889960" y="1496520"/>
              <a:ext cx="541440" cy="93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</a:ln>
          </p:spPr>
        </p:cxnSp>
        <p:sp>
          <p:nvSpPr>
            <p:cNvPr id="197" name=""/>
            <p:cNvSpPr/>
            <p:nvPr/>
          </p:nvSpPr>
          <p:spPr>
            <a:xfrm>
              <a:off x="3962520" y="2373480"/>
              <a:ext cx="1317240" cy="1019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4266360" y="1773000"/>
              <a:ext cx="702720" cy="289440"/>
              <a:chOff x="4266360" y="1773000"/>
              <a:chExt cx="702720" cy="289440"/>
            </a:xfrm>
          </p:grpSpPr>
          <p:grpSp>
            <p:nvGrpSpPr>
              <p:cNvPr id="199" name=""/>
              <p:cNvGrpSpPr/>
              <p:nvPr/>
            </p:nvGrpSpPr>
            <p:grpSpPr>
              <a:xfrm>
                <a:off x="4289040" y="1773000"/>
                <a:ext cx="656280" cy="253800"/>
                <a:chOff x="4289040" y="1773000"/>
                <a:chExt cx="656280" cy="25380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4289040" y="1773000"/>
                  <a:ext cx="218880" cy="2538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507920" y="1773000"/>
                  <a:ext cx="218520" cy="2538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726800" y="1773000"/>
                  <a:ext cx="218520" cy="2538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3" name=""/>
              <p:cNvSpPr/>
              <p:nvPr/>
            </p:nvSpPr>
            <p:spPr>
              <a:xfrm>
                <a:off x="4266360" y="1909800"/>
                <a:ext cx="70272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>
              <a:off x="4504680" y="2670480"/>
              <a:ext cx="0" cy="4075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4861440" y="2754360"/>
              <a:ext cx="214200" cy="239760"/>
              <a:chOff x="4861440" y="2754360"/>
              <a:chExt cx="214200" cy="239760"/>
            </a:xfrm>
          </p:grpSpPr>
          <p:sp>
            <p:nvSpPr>
              <p:cNvPr id="206" name=""/>
              <p:cNvSpPr/>
              <p:nvPr/>
            </p:nvSpPr>
            <p:spPr>
              <a:xfrm>
                <a:off x="4861440" y="2775600"/>
                <a:ext cx="214200" cy="2185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861440" y="2754360"/>
                <a:ext cx="21420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>
              <a:off x="4721760" y="3053160"/>
              <a:ext cx="0" cy="2520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4504680" y="2677680"/>
              <a:ext cx="228600" cy="2203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520520" y="2875680"/>
              <a:ext cx="204840" cy="1864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429080" y="2670480"/>
              <a:ext cx="0" cy="4075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299480" y="2875680"/>
              <a:ext cx="1296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035960" y="3393000"/>
              <a:ext cx="0" cy="523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024440" y="3917160"/>
              <a:ext cx="5580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659840" y="3917160"/>
              <a:ext cx="5504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200560" y="3393000"/>
              <a:ext cx="0" cy="523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460680" y="1260000"/>
              <a:ext cx="427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79760" y="1260000"/>
              <a:ext cx="428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460680" y="814320"/>
              <a:ext cx="501480" cy="44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cc0000"/>
                  </a:solidFill>
                  <a:latin typeface="Times New Roman"/>
                </a:rPr>
                <a:t>i</a:t>
              </a:r>
              <a:r>
                <a:rPr b="1" lang="pl-PL" sz="1400" spc="-1" strike="noStrike" baseline="-25000">
                  <a:solidFill>
                    <a:srgbClr val="cc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279760" y="828000"/>
              <a:ext cx="586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cc0000"/>
                  </a:solidFill>
                  <a:latin typeface="Times New Roman"/>
                </a:rPr>
                <a:t>i</a:t>
              </a:r>
              <a:r>
                <a:rPr b="1" lang="pl-PL" sz="1400" spc="-1" strike="noStrike" baseline="-25000">
                  <a:solidFill>
                    <a:srgbClr val="cc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4582440" y="3665520"/>
              <a:ext cx="76680" cy="510120"/>
              <a:chOff x="4582440" y="3665520"/>
              <a:chExt cx="76680" cy="510120"/>
            </a:xfrm>
          </p:grpSpPr>
          <p:sp>
            <p:nvSpPr>
              <p:cNvPr id="222" name=""/>
              <p:cNvSpPr/>
              <p:nvPr/>
            </p:nvSpPr>
            <p:spPr>
              <a:xfrm>
                <a:off x="4582440" y="3665520"/>
                <a:ext cx="0" cy="5101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659120" y="3665520"/>
                <a:ext cx="0" cy="5101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721760" y="2434320"/>
              <a:ext cx="0" cy="2520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965840" y="2558160"/>
              <a:ext cx="0" cy="1958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960080" y="2994480"/>
              <a:ext cx="0" cy="1958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4713840" y="2576160"/>
              <a:ext cx="2516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4713840" y="3177360"/>
              <a:ext cx="2516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721760" y="3462840"/>
              <a:ext cx="586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cc0000"/>
                  </a:solidFill>
                  <a:latin typeface="Times New Roman"/>
                </a:rPr>
                <a:t>v</a:t>
              </a:r>
              <a:r>
                <a:rPr b="1" lang="pl-PL" sz="1400" spc="-1" strike="noStrike" baseline="-25000">
                  <a:solidFill>
                    <a:srgbClr val="cc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cxnSp>
          <p:nvCxnSpPr>
            <p:cNvPr id="230" name=""/>
            <p:cNvCxnSpPr>
              <a:stCxn id="191" idx="6"/>
              <a:endCxn id="185" idx="6"/>
            </p:cNvCxnSpPr>
            <p:nvPr/>
          </p:nvCxnSpPr>
          <p:spPr>
            <a:xfrm>
              <a:off x="4039920" y="1496520"/>
              <a:ext cx="236880" cy="72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</a:ln>
          </p:spPr>
        </p:cxnSp>
        <p:cxnSp>
          <p:nvCxnSpPr>
            <p:cNvPr id="231" name=""/>
            <p:cNvCxnSpPr>
              <a:stCxn id="183" idx="2"/>
              <a:endCxn id="177" idx="2"/>
            </p:cNvCxnSpPr>
            <p:nvPr/>
          </p:nvCxnSpPr>
          <p:spPr>
            <a:xfrm flipV="1">
              <a:off x="4961520" y="1496160"/>
              <a:ext cx="240840" cy="72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</a:ln>
          </p:spPr>
        </p:cxnSp>
        <p:sp>
          <p:nvSpPr>
            <p:cNvPr id="232" name=""/>
            <p:cNvSpPr/>
            <p:nvPr/>
          </p:nvSpPr>
          <p:spPr>
            <a:xfrm>
              <a:off x="4299480" y="1703160"/>
              <a:ext cx="65844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cxnSp>
          <p:nvCxnSpPr>
            <p:cNvPr id="233" name=""/>
            <p:cNvCxnSpPr>
              <a:stCxn id="197" idx="0"/>
              <a:endCxn id="203" idx="0"/>
            </p:cNvCxnSpPr>
            <p:nvPr/>
          </p:nvCxnSpPr>
          <p:spPr>
            <a:xfrm flipH="1" flipV="1">
              <a:off x="4618800" y="1909440"/>
              <a:ext cx="2160" cy="44388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</a:ln>
          </p:spPr>
        </p:cxnSp>
        <p:sp>
          <p:nvSpPr>
            <p:cNvPr id="234" name=""/>
            <p:cNvSpPr/>
            <p:nvPr/>
          </p:nvSpPr>
          <p:spPr>
            <a:xfrm flipH="1">
              <a:off x="2891520" y="1356840"/>
              <a:ext cx="126360" cy="278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2934360" y="1356840"/>
              <a:ext cx="126360" cy="278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2976840" y="1356840"/>
              <a:ext cx="126360" cy="278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384800" y="895320"/>
              <a:ext cx="586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cc0000"/>
                  </a:solidFill>
                  <a:latin typeface="Times New Roman"/>
                </a:rPr>
                <a:t>v</a:t>
              </a:r>
              <a:r>
                <a:rPr b="1" lang="pl-PL" sz="1400" spc="-1" strike="noStrike" baseline="-25000">
                  <a:solidFill>
                    <a:srgbClr val="cc0000"/>
                  </a:solidFill>
                  <a:latin typeface="Times New Roman"/>
                </a:rPr>
                <a:t>AF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392720" y="1361160"/>
              <a:ext cx="427680" cy="1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287280" y="4237200"/>
            <a:ext cx="871848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Redukcja harmonicznych napięcia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Stabilizacja napięcia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Symetryzacja napięcia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Ograniczenie wahań napięcia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Kompensacja mocy biernej (harmonicznej podstawowej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88720" y="2946240"/>
            <a:ext cx="28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zeregowy APF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8D14-C574-42F0-94AD-1FD546969EE7}" type="slidenum">
              <a:t>4</a:t>
            </a:fld>
          </a:p>
        </p:txBody>
      </p:sp>
    </p:spTree>
  </p:cSld>
  <p:transition>
    <p:cover dir="d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2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3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9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9" dur="1" fill="hold"/>
                                  <p:tgtEl>
                                    <p:spTgt spid="23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81080" y="179280"/>
            <a:ext cx="835632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Układ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029200" y="295596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Równoległy APF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1219320" y="1066680"/>
            <a:ext cx="5358960" cy="2851560"/>
            <a:chOff x="1219320" y="1066680"/>
            <a:chExt cx="5358960" cy="2851560"/>
          </a:xfrm>
        </p:grpSpPr>
        <p:grpSp>
          <p:nvGrpSpPr>
            <p:cNvPr id="244" name=""/>
            <p:cNvGrpSpPr/>
            <p:nvPr/>
          </p:nvGrpSpPr>
          <p:grpSpPr>
            <a:xfrm>
              <a:off x="2774520" y="1476360"/>
              <a:ext cx="604800" cy="214560"/>
              <a:chOff x="2774520" y="1476360"/>
              <a:chExt cx="604800" cy="214560"/>
            </a:xfrm>
          </p:grpSpPr>
          <p:grpSp>
            <p:nvGrpSpPr>
              <p:cNvPr id="245" name=""/>
              <p:cNvGrpSpPr/>
              <p:nvPr/>
            </p:nvGrpSpPr>
            <p:grpSpPr>
              <a:xfrm>
                <a:off x="2793960" y="1476360"/>
                <a:ext cx="564480" cy="187920"/>
                <a:chOff x="2793960" y="1476360"/>
                <a:chExt cx="564480" cy="18792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2793960" y="1476360"/>
                  <a:ext cx="188640" cy="1879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2982600" y="1476360"/>
                  <a:ext cx="187920" cy="1879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170520" y="1476360"/>
                  <a:ext cx="187920" cy="1879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2774520" y="1577880"/>
                <a:ext cx="604800" cy="113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1219320" y="1199880"/>
              <a:ext cx="1133280" cy="75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ff"/>
                  </a:solidFill>
                  <a:latin typeface="Arial"/>
                </a:rPr>
                <a:t>Sourc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46" idx="2"/>
              <a:endCxn id="250" idx="3"/>
            </p:cNvCxnSpPr>
            <p:nvPr/>
          </p:nvCxnSpPr>
          <p:spPr>
            <a:xfrm flipH="1">
              <a:off x="2367360" y="1571400"/>
              <a:ext cx="414000" cy="72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</a:ln>
          </p:spPr>
        </p:cxnSp>
        <p:grpSp>
          <p:nvGrpSpPr>
            <p:cNvPr id="252" name=""/>
            <p:cNvGrpSpPr/>
            <p:nvPr/>
          </p:nvGrpSpPr>
          <p:grpSpPr>
            <a:xfrm>
              <a:off x="4359960" y="1476360"/>
              <a:ext cx="604440" cy="214560"/>
              <a:chOff x="4359960" y="1476360"/>
              <a:chExt cx="604440" cy="21456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379400" y="1476360"/>
                <a:ext cx="564480" cy="187920"/>
                <a:chOff x="4379400" y="1476360"/>
                <a:chExt cx="564480" cy="18792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4379400" y="1476360"/>
                  <a:ext cx="188280" cy="1879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4567680" y="1476360"/>
                  <a:ext cx="187920" cy="1879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4755960" y="1476360"/>
                  <a:ext cx="187920" cy="1879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7" name=""/>
              <p:cNvSpPr/>
              <p:nvPr/>
            </p:nvSpPr>
            <p:spPr>
              <a:xfrm>
                <a:off x="4359960" y="1577880"/>
                <a:ext cx="604440" cy="113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5444640" y="1199880"/>
              <a:ext cx="1133640" cy="75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ff"/>
                  </a:solidFill>
                  <a:latin typeface="Arial"/>
                </a:rPr>
                <a:t>Nonlinear load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6" idx="6"/>
              <a:endCxn id="258" idx="1"/>
            </p:cNvCxnSpPr>
            <p:nvPr/>
          </p:nvCxnSpPr>
          <p:spPr>
            <a:xfrm>
              <a:off x="4958280" y="1571400"/>
              <a:ext cx="472320" cy="72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</a:ln>
          </p:spPr>
        </p:cxnSp>
        <p:sp>
          <p:nvSpPr>
            <p:cNvPr id="260" name=""/>
            <p:cNvSpPr/>
            <p:nvPr/>
          </p:nvSpPr>
          <p:spPr>
            <a:xfrm>
              <a:off x="2874600" y="1396440"/>
              <a:ext cx="36792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439520" y="1396440"/>
              <a:ext cx="3682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874600" y="1066680"/>
              <a:ext cx="43164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cc0000"/>
                  </a:solidFill>
                  <a:latin typeface="Times New Roman"/>
                </a:rPr>
                <a:t>i</a:t>
              </a:r>
              <a:r>
                <a:rPr b="1" lang="pl-PL" sz="1400" spc="-1" strike="noStrike" baseline="-25000">
                  <a:solidFill>
                    <a:srgbClr val="cc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439520" y="1076760"/>
              <a:ext cx="5050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cc0000"/>
                  </a:solidFill>
                  <a:latin typeface="Times New Roman"/>
                </a:rPr>
                <a:t>i</a:t>
              </a:r>
              <a:r>
                <a:rPr b="1" lang="pl-PL" sz="1400" spc="-1" strike="noStrike" baseline="-25000">
                  <a:solidFill>
                    <a:srgbClr val="cc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3306240" y="1537920"/>
              <a:ext cx="1180800" cy="2380320"/>
              <a:chOff x="3306240" y="1537920"/>
              <a:chExt cx="1180800" cy="2380320"/>
            </a:xfrm>
          </p:grpSpPr>
          <p:grpSp>
            <p:nvGrpSpPr>
              <p:cNvPr id="265" name=""/>
              <p:cNvGrpSpPr/>
              <p:nvPr/>
            </p:nvGrpSpPr>
            <p:grpSpPr>
              <a:xfrm>
                <a:off x="3869280" y="3540600"/>
                <a:ext cx="66240" cy="377640"/>
                <a:chOff x="3869280" y="3540600"/>
                <a:chExt cx="66240" cy="37764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3869280" y="3540600"/>
                  <a:ext cx="0" cy="37764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3935520" y="3540600"/>
                  <a:ext cx="0" cy="37764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" name=""/>
              <p:cNvGrpSpPr/>
              <p:nvPr/>
            </p:nvGrpSpPr>
            <p:grpSpPr>
              <a:xfrm>
                <a:off x="3306240" y="1537920"/>
                <a:ext cx="1180800" cy="2188800"/>
                <a:chOff x="3306240" y="1537920"/>
                <a:chExt cx="1180800" cy="2188800"/>
              </a:xfrm>
            </p:grpSpPr>
            <p:cxnSp>
              <p:nvCxnSpPr>
                <p:cNvPr id="269" name=""/>
                <p:cNvCxnSpPr>
                  <a:stCxn id="254" idx="2"/>
                  <a:endCxn id="248" idx="6"/>
                </p:cNvCxnSpPr>
                <p:nvPr/>
              </p:nvCxnSpPr>
              <p:spPr>
                <a:xfrm flipH="1">
                  <a:off x="3372120" y="1570680"/>
                  <a:ext cx="993600" cy="1080"/>
                </a:xfrm>
                <a:prstGeom prst="straightConnector1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</p:cxnSp>
            <p:sp>
              <p:nvSpPr>
                <p:cNvPr id="270" name=""/>
                <p:cNvSpPr/>
                <p:nvPr/>
              </p:nvSpPr>
              <p:spPr>
                <a:xfrm>
                  <a:off x="3306240" y="2583720"/>
                  <a:ext cx="1132560" cy="75456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ff"/>
                  </a:solidFill>
                  <a:miter/>
                </a:ln>
                <a:effectLst>
                  <a:outerShdw dist="153753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1" name=""/>
                <p:cNvGrpSpPr/>
                <p:nvPr/>
              </p:nvGrpSpPr>
              <p:grpSpPr>
                <a:xfrm>
                  <a:off x="3753000" y="1774080"/>
                  <a:ext cx="214200" cy="604440"/>
                  <a:chOff x="3753000" y="1774080"/>
                  <a:chExt cx="214200" cy="604440"/>
                </a:xfrm>
              </p:grpSpPr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3779640" y="1793520"/>
                    <a:ext cx="187560" cy="564480"/>
                    <a:chOff x="3779640" y="1793520"/>
                    <a:chExt cx="187560" cy="5644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5400000">
                      <a:off x="3779280" y="1793880"/>
                      <a:ext cx="188280" cy="1875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55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5400000">
                      <a:off x="3779280" y="1981800"/>
                      <a:ext cx="187920" cy="1875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55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 rot="5400000">
                      <a:off x="3779280" y="2170080"/>
                      <a:ext cx="187920" cy="1875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55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76" name=""/>
                  <p:cNvSpPr/>
                  <p:nvPr/>
                </p:nvSpPr>
                <p:spPr>
                  <a:xfrm rot="5400000">
                    <a:off x="3507120" y="2019600"/>
                    <a:ext cx="604440" cy="11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277" name=""/>
                <p:cNvCxnSpPr>
                  <a:stCxn id="273" idx="2"/>
                </p:cNvCxnSpPr>
                <p:nvPr/>
              </p:nvCxnSpPr>
              <p:spPr>
                <a:xfrm flipV="1">
                  <a:off x="3872160" y="1570320"/>
                  <a:ext cx="1080" cy="209160"/>
                </a:xfrm>
                <a:prstGeom prst="straightConnector1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</p:cxnSp>
            <p:cxnSp>
              <p:nvCxnSpPr>
                <p:cNvPr id="278" name=""/>
                <p:cNvCxnSpPr>
                  <a:stCxn id="270" idx="0"/>
                  <a:endCxn id="275" idx="6"/>
                </p:cNvCxnSpPr>
                <p:nvPr/>
              </p:nvCxnSpPr>
              <p:spPr>
                <a:xfrm flipV="1">
                  <a:off x="3872160" y="2368440"/>
                  <a:ext cx="1080" cy="200520"/>
                </a:xfrm>
                <a:prstGeom prst="straightConnector1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</p:cxnSp>
            <p:sp>
              <p:nvSpPr>
                <p:cNvPr id="279" name=""/>
                <p:cNvSpPr/>
                <p:nvPr/>
              </p:nvSpPr>
              <p:spPr>
                <a:xfrm>
                  <a:off x="3772440" y="2804040"/>
                  <a:ext cx="0" cy="30132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0" name=""/>
                <p:cNvGrpSpPr/>
                <p:nvPr/>
              </p:nvGrpSpPr>
              <p:grpSpPr>
                <a:xfrm>
                  <a:off x="4079160" y="2865600"/>
                  <a:ext cx="184320" cy="177840"/>
                  <a:chOff x="4079160" y="2865600"/>
                  <a:chExt cx="184320" cy="177840"/>
                </a:xfrm>
              </p:grpSpPr>
              <p:sp>
                <p:nvSpPr>
                  <p:cNvPr id="281" name=""/>
                  <p:cNvSpPr/>
                  <p:nvPr/>
                </p:nvSpPr>
                <p:spPr>
                  <a:xfrm>
                    <a:off x="4079160" y="2881440"/>
                    <a:ext cx="184320" cy="1620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4079160" y="2865600"/>
                    <a:ext cx="184320" cy="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3" name=""/>
                <p:cNvSpPr/>
                <p:nvPr/>
              </p:nvSpPr>
              <p:spPr>
                <a:xfrm>
                  <a:off x="3958920" y="3087000"/>
                  <a:ext cx="0" cy="1864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V="1">
                  <a:off x="3772440" y="2808720"/>
                  <a:ext cx="196560" cy="1630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3785760" y="2955600"/>
                  <a:ext cx="176400" cy="13824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3707640" y="2804040"/>
                  <a:ext cx="0" cy="30132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3596040" y="2955600"/>
                  <a:ext cx="11160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3369240" y="3338640"/>
                  <a:ext cx="0" cy="3880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3359160" y="3726720"/>
                  <a:ext cx="50616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3935880" y="3726720"/>
                  <a:ext cx="44316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4370760" y="3338640"/>
                  <a:ext cx="0" cy="3880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4055760" y="1882800"/>
                  <a:ext cx="0" cy="3682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055760" y="1882800"/>
                  <a:ext cx="431280" cy="47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l-PL" sz="1400" spc="-1" strike="noStrike">
                      <a:solidFill>
                        <a:srgbClr val="cc0000"/>
                      </a:solidFill>
                      <a:latin typeface="Times New Roman"/>
                    </a:rPr>
                    <a:t>i</a:t>
                  </a:r>
                  <a:r>
                    <a:rPr b="1" lang="pl-PL" sz="1400" spc="-1" strike="noStrike" baseline="-25000">
                      <a:solidFill>
                        <a:srgbClr val="cc0000"/>
                      </a:solidFill>
                      <a:latin typeface="Times New Roman"/>
                    </a:rPr>
                    <a:t>C</a:t>
                  </a:r>
                  <a:endParaRPr b="0" lang="en-US" sz="1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3958920" y="2629080"/>
                  <a:ext cx="0" cy="18612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4169160" y="2720520"/>
                  <a:ext cx="0" cy="14472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4164120" y="3043800"/>
                  <a:ext cx="0" cy="14436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 flipH="1">
                  <a:off x="3952080" y="2733840"/>
                  <a:ext cx="21636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 flipH="1">
                  <a:off x="3952080" y="3178800"/>
                  <a:ext cx="21636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958920" y="3390120"/>
                  <a:ext cx="50508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l-PL" sz="1400" spc="-1" strike="noStrike">
                      <a:solidFill>
                        <a:srgbClr val="cc0000"/>
                      </a:solidFill>
                      <a:latin typeface="Times New Roman"/>
                    </a:rPr>
                    <a:t>v</a:t>
                  </a:r>
                  <a:r>
                    <a:rPr b="1" lang="pl-PL" sz="1400" spc="-1" strike="noStrike" baseline="-25000">
                      <a:solidFill>
                        <a:srgbClr val="cc0000"/>
                      </a:solidFill>
                      <a:latin typeface="Times New Roman"/>
                    </a:rPr>
                    <a:t>d</a:t>
                  </a:r>
                  <a:endParaRPr b="0" lang="en-US" sz="1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3837240" y="1537920"/>
                  <a:ext cx="74880" cy="74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1" name=""/>
            <p:cNvSpPr/>
            <p:nvPr/>
          </p:nvSpPr>
          <p:spPr>
            <a:xfrm flipH="1">
              <a:off x="2412720" y="1474920"/>
              <a:ext cx="93600" cy="206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2449440" y="1474920"/>
              <a:ext cx="93600" cy="206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2486160" y="1474920"/>
              <a:ext cx="93600" cy="206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196920" y="3933720"/>
            <a:ext cx="871848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Redu</a:t>
            </a:r>
            <a:r>
              <a:rPr b="1" lang="pl-PL" sz="2400" spc="-1" strike="noStrike">
                <a:solidFill>
                  <a:srgbClr val="0000ff"/>
                </a:solidFill>
                <a:latin typeface="Arial"/>
                <a:ea typeface="Arial"/>
              </a:rPr>
              <a:t>k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c</a:t>
            </a:r>
            <a:r>
              <a:rPr b="1" lang="pl-PL" sz="2400" spc="-1" strike="noStrike">
                <a:solidFill>
                  <a:srgbClr val="0000ff"/>
                </a:solidFill>
                <a:latin typeface="Arial"/>
                <a:ea typeface="Arial"/>
              </a:rPr>
              <a:t>ja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 harmonic</a:t>
            </a:r>
            <a:r>
              <a:rPr b="1" lang="pl-PL" sz="2400" spc="-1" strike="noStrike">
                <a:solidFill>
                  <a:srgbClr val="0000ff"/>
                </a:solidFill>
                <a:latin typeface="Arial"/>
                <a:ea typeface="Arial"/>
              </a:rPr>
              <a:t>znych prądu</a:t>
            </a: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Symetryzacja prądu (obciążenia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Ograniczenie wahań napięcia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Kompensacja mocy biernej (harmonicznej podstawowej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56D0-2DB3-47D5-9504-37D1B35E2335}" type="slidenum">
              <a:t>5</a:t>
            </a:fld>
          </a:p>
        </p:txBody>
      </p:sp>
    </p:spTree>
  </p:cSld>
  <p:transition>
    <p:cover dir="d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" dur="5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3" dur="500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7" dur="1" fill="hold"/>
                                  <p:tgtEl>
                                    <p:spTgt spid="30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495360" y="2514600"/>
            <a:ext cx="8004240" cy="1744560"/>
            <a:chOff x="495360" y="2514600"/>
            <a:chExt cx="8004240" cy="1744560"/>
          </a:xfrm>
        </p:grpSpPr>
        <p:sp>
          <p:nvSpPr>
            <p:cNvPr id="306" name=""/>
            <p:cNvSpPr/>
            <p:nvPr/>
          </p:nvSpPr>
          <p:spPr>
            <a:xfrm>
              <a:off x="5556240" y="2514600"/>
              <a:ext cx="608040" cy="51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X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577960" y="2514600"/>
              <a:ext cx="608040" cy="51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X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95360" y="2560680"/>
              <a:ext cx="1623960" cy="1698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ff"/>
                  </a:solidFill>
                  <a:latin typeface="Times New Roman"/>
                </a:rPr>
                <a:t>Supply network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608880" y="2560680"/>
              <a:ext cx="1890720" cy="1698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ff"/>
                  </a:solidFill>
                  <a:latin typeface="Times New Roman"/>
                </a:rPr>
                <a:t>Nielinear load 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546280" y="3205080"/>
              <a:ext cx="609840" cy="424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cxnSp>
          <p:nvCxnSpPr>
            <p:cNvPr id="311" name=""/>
            <p:cNvCxnSpPr>
              <a:stCxn id="308" idx="3"/>
              <a:endCxn id="310" idx="1"/>
            </p:cNvCxnSpPr>
            <p:nvPr/>
          </p:nvCxnSpPr>
          <p:spPr>
            <a:xfrm>
              <a:off x="2133360" y="3409920"/>
              <a:ext cx="400680" cy="864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</a:ln>
          </p:spPr>
        </p:cxnSp>
        <p:sp>
          <p:nvSpPr>
            <p:cNvPr id="312" name=""/>
            <p:cNvSpPr/>
            <p:nvPr/>
          </p:nvSpPr>
          <p:spPr>
            <a:xfrm>
              <a:off x="5556240" y="3205080"/>
              <a:ext cx="608040" cy="424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>
              <a:stCxn id="312" idx="3"/>
              <a:endCxn id="309" idx="1"/>
            </p:cNvCxnSpPr>
            <p:nvPr/>
          </p:nvCxnSpPr>
          <p:spPr>
            <a:xfrm flipV="1">
              <a:off x="6176880" y="3409560"/>
              <a:ext cx="418320" cy="864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</a:ln>
          </p:spPr>
        </p:cxnSp>
        <p:cxnSp>
          <p:nvCxnSpPr>
            <p:cNvPr id="314" name=""/>
            <p:cNvCxnSpPr/>
            <p:nvPr/>
          </p:nvCxnSpPr>
          <p:spPr>
            <a:xfrm>
              <a:off x="3155760" y="3403080"/>
              <a:ext cx="2400840" cy="108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</a:ln>
          </p:spPr>
        </p:cxnSp>
      </p:grpSp>
      <p:sp>
        <p:nvSpPr>
          <p:cNvPr id="315" name=""/>
          <p:cNvSpPr/>
          <p:nvPr/>
        </p:nvSpPr>
        <p:spPr>
          <a:xfrm>
            <a:off x="241200" y="506520"/>
            <a:ext cx="378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Równoległy APF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2614680" y="2971800"/>
            <a:ext cx="1890720" cy="3650760"/>
            <a:chOff x="2614680" y="2971800"/>
            <a:chExt cx="1890720" cy="3650760"/>
          </a:xfrm>
        </p:grpSpPr>
        <p:sp>
          <p:nvSpPr>
            <p:cNvPr id="317" name=""/>
            <p:cNvSpPr/>
            <p:nvPr/>
          </p:nvSpPr>
          <p:spPr>
            <a:xfrm>
              <a:off x="3203640" y="2971800"/>
              <a:ext cx="797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39680" indent="-13968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PCC</a:t>
              </a: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614680" y="4924080"/>
              <a:ext cx="1890720" cy="1698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ff"/>
                  </a:solidFill>
                  <a:latin typeface="Times New Roman"/>
                </a:rPr>
                <a:t>APF</a:t>
              </a:r>
              <a:endParaRPr b="0" lang="en-US" sz="4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cxnSp>
          <p:nvCxnSpPr>
            <p:cNvPr id="319" name=""/>
            <p:cNvCxnSpPr>
              <a:stCxn id="318" idx="0"/>
              <a:endCxn id="320" idx="4"/>
            </p:cNvCxnSpPr>
            <p:nvPr/>
          </p:nvCxnSpPr>
          <p:spPr>
            <a:xfrm flipH="1" flipV="1">
              <a:off x="3557520" y="3434760"/>
              <a:ext cx="3600" cy="147528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</a:ln>
          </p:spPr>
        </p:cxnSp>
        <p:sp>
          <p:nvSpPr>
            <p:cNvPr id="320" name=""/>
            <p:cNvSpPr/>
            <p:nvPr/>
          </p:nvSpPr>
          <p:spPr>
            <a:xfrm>
              <a:off x="3516480" y="3350880"/>
              <a:ext cx="81000" cy="8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759120" y="3846600"/>
            <a:ext cx="2417760" cy="825480"/>
            <a:chOff x="3759120" y="3846600"/>
            <a:chExt cx="2417760" cy="825480"/>
          </a:xfrm>
        </p:grpSpPr>
        <p:pic>
          <p:nvPicPr>
            <p:cNvPr id="322" name="" descr=""/>
            <p:cNvPicPr/>
            <p:nvPr/>
          </p:nvPicPr>
          <p:blipFill>
            <a:blip r:embed="rId1"/>
            <a:srcRect l="12654" t="7219" r="8436" b="10501"/>
            <a:stretch/>
          </p:blipFill>
          <p:spPr>
            <a:xfrm>
              <a:off x="3759120" y="3846600"/>
              <a:ext cx="2417760" cy="825480"/>
            </a:xfrm>
            <a:prstGeom prst="rect">
              <a:avLst/>
            </a:prstGeom>
            <a:ln w="19080">
              <a:solidFill>
                <a:srgbClr val="ff0000"/>
              </a:solidFill>
              <a:miter/>
            </a:ln>
          </p:spPr>
        </p:pic>
        <p:sp>
          <p:nvSpPr>
            <p:cNvPr id="323" name=""/>
            <p:cNvSpPr/>
            <p:nvPr/>
          </p:nvSpPr>
          <p:spPr>
            <a:xfrm>
              <a:off x="4098960" y="3854160"/>
              <a:ext cx="77472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APF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5556240" y="1449000"/>
            <a:ext cx="2414520" cy="1870560"/>
            <a:chOff x="5556240" y="1449000"/>
            <a:chExt cx="2414520" cy="1870560"/>
          </a:xfrm>
        </p:grpSpPr>
        <p:grpSp>
          <p:nvGrpSpPr>
            <p:cNvPr id="325" name=""/>
            <p:cNvGrpSpPr/>
            <p:nvPr/>
          </p:nvGrpSpPr>
          <p:grpSpPr>
            <a:xfrm>
              <a:off x="5556240" y="1449000"/>
              <a:ext cx="2414520" cy="951120"/>
              <a:chOff x="5556240" y="1449000"/>
              <a:chExt cx="2414520" cy="951120"/>
            </a:xfrm>
          </p:grpSpPr>
          <p:pic>
            <p:nvPicPr>
              <p:cNvPr id="326" name="" descr=""/>
              <p:cNvPicPr/>
              <p:nvPr/>
            </p:nvPicPr>
            <p:blipFill>
              <a:blip r:embed="rId2"/>
              <a:srcRect l="12302" t="7125" r="9139" b="57191"/>
              <a:stretch/>
            </p:blipFill>
            <p:spPr>
              <a:xfrm>
                <a:off x="5556240" y="1577880"/>
                <a:ext cx="2414520" cy="822240"/>
              </a:xfrm>
              <a:prstGeom prst="rect">
                <a:avLst/>
              </a:prstGeom>
              <a:ln w="19080">
                <a:solidFill>
                  <a:srgbClr val="ff0000"/>
                </a:solidFill>
                <a:miter/>
              </a:ln>
            </p:spPr>
          </p:pic>
          <p:sp>
            <p:nvSpPr>
              <p:cNvPr id="327" name=""/>
              <p:cNvSpPr/>
              <p:nvPr/>
            </p:nvSpPr>
            <p:spPr>
              <a:xfrm>
                <a:off x="6337440" y="1449000"/>
                <a:ext cx="57132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000" spc="-1" strike="noStrike" baseline="-25000">
                    <a:solidFill>
                      <a:srgbClr val="ff0000"/>
                    </a:solidFill>
                    <a:latin typeface="Times New Roman"/>
                  </a:rPr>
                  <a:t>L</a:t>
                </a:r>
                <a:endParaRPr b="0" lang="en-US" sz="2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6337440" y="2514600"/>
              <a:ext cx="0" cy="80496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1609560" y="1085760"/>
            <a:ext cx="2489040" cy="2233800"/>
            <a:chOff x="1609560" y="1085760"/>
            <a:chExt cx="2489040" cy="2233800"/>
          </a:xfrm>
        </p:grpSpPr>
        <p:grpSp>
          <p:nvGrpSpPr>
            <p:cNvPr id="330" name=""/>
            <p:cNvGrpSpPr/>
            <p:nvPr/>
          </p:nvGrpSpPr>
          <p:grpSpPr>
            <a:xfrm>
              <a:off x="1609560" y="1085760"/>
              <a:ext cx="2489040" cy="1336680"/>
              <a:chOff x="1609560" y="1085760"/>
              <a:chExt cx="2489040" cy="1336680"/>
            </a:xfrm>
          </p:grpSpPr>
          <p:pic>
            <p:nvPicPr>
              <p:cNvPr id="331" name="" descr=""/>
              <p:cNvPicPr/>
              <p:nvPr/>
            </p:nvPicPr>
            <p:blipFill>
              <a:blip r:embed="rId3"/>
              <a:srcRect l="12091" t="8907" r="9420" b="13501"/>
              <a:stretch/>
            </p:blipFill>
            <p:spPr>
              <a:xfrm>
                <a:off x="1609560" y="1085760"/>
                <a:ext cx="2414520" cy="1336680"/>
              </a:xfrm>
              <a:prstGeom prst="rect">
                <a:avLst/>
              </a:prstGeom>
              <a:ln w="19080">
                <a:solidFill>
                  <a:srgbClr val="ff0000"/>
                </a:solidFill>
                <a:miter/>
              </a:ln>
            </p:spPr>
          </p:pic>
          <p:sp>
            <p:nvSpPr>
              <p:cNvPr id="332" name=""/>
              <p:cNvSpPr/>
              <p:nvPr/>
            </p:nvSpPr>
            <p:spPr>
              <a:xfrm>
                <a:off x="3323880" y="1096560"/>
                <a:ext cx="77472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Times New Roman"/>
                  </a:rPr>
                  <a:t>U</a:t>
                </a:r>
                <a:r>
                  <a:rPr b="1" lang="en-US" sz="2000" spc="-1" strike="noStrike" baseline="-25000">
                    <a:solidFill>
                      <a:srgbClr val="0000ff"/>
                    </a:solidFill>
                    <a:latin typeface="Times New Roman"/>
                  </a:rPr>
                  <a:t>S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Times New Roman"/>
                  </a:rPr>
                  <a:t>/5</a:t>
                </a:r>
                <a:endParaRPr b="0" lang="en-US" sz="2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252520" y="1125000"/>
                <a:ext cx="57132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2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979280" y="1710720"/>
                <a:ext cx="77472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000" spc="-1" strike="noStrike" baseline="-25000">
                    <a:solidFill>
                      <a:srgbClr val="ff0000"/>
                    </a:solidFill>
                    <a:latin typeface="Times New Roman"/>
                  </a:rPr>
                  <a:t>S</a:t>
                </a:r>
                <a:endParaRPr b="0" lang="en-US" sz="2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335" name=""/>
            <p:cNvSpPr/>
            <p:nvPr/>
          </p:nvSpPr>
          <p:spPr>
            <a:xfrm>
              <a:off x="2252520" y="2514600"/>
              <a:ext cx="0" cy="80496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E2EF-426B-4CD4-8E38-B0A44D02BEE5}" type="slidenum">
              <a:t>6</a:t>
            </a:fld>
          </a:p>
        </p:txBody>
      </p:sp>
    </p:spTree>
  </p:cSld>
  <p:transition>
    <p:cover dir="d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104760" y="1863720"/>
            <a:ext cx="3638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UNIFIED POWER QUALITY 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CONDITIONER - UPQC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685800" y="343080"/>
            <a:ext cx="8229240" cy="3172680"/>
            <a:chOff x="685800" y="343080"/>
            <a:chExt cx="8229240" cy="3172680"/>
          </a:xfrm>
        </p:grpSpPr>
        <p:grpSp>
          <p:nvGrpSpPr>
            <p:cNvPr id="338" name=""/>
            <p:cNvGrpSpPr/>
            <p:nvPr/>
          </p:nvGrpSpPr>
          <p:grpSpPr>
            <a:xfrm>
              <a:off x="6568560" y="1017360"/>
              <a:ext cx="674280" cy="265680"/>
              <a:chOff x="6568560" y="1017360"/>
              <a:chExt cx="674280" cy="265680"/>
            </a:xfrm>
          </p:grpSpPr>
          <p:sp>
            <p:nvSpPr>
              <p:cNvPr id="339" name=""/>
              <p:cNvSpPr/>
              <p:nvPr/>
            </p:nvSpPr>
            <p:spPr>
              <a:xfrm>
                <a:off x="6568560" y="1017360"/>
                <a:ext cx="225000" cy="2656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793560" y="1017360"/>
                <a:ext cx="224640" cy="2656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018200" y="1017360"/>
                <a:ext cx="224640" cy="2656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>
              <a:off x="6544800" y="1161360"/>
              <a:ext cx="722520" cy="15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343" name=""/>
            <p:cNvGrpSpPr/>
            <p:nvPr/>
          </p:nvGrpSpPr>
          <p:grpSpPr>
            <a:xfrm>
              <a:off x="3404880" y="1027080"/>
              <a:ext cx="674280" cy="266040"/>
              <a:chOff x="3404880" y="1027080"/>
              <a:chExt cx="674280" cy="266040"/>
            </a:xfrm>
          </p:grpSpPr>
          <p:sp>
            <p:nvSpPr>
              <p:cNvPr id="344" name=""/>
              <p:cNvSpPr/>
              <p:nvPr/>
            </p:nvSpPr>
            <p:spPr>
              <a:xfrm rot="10800000">
                <a:off x="3854160" y="1027080"/>
                <a:ext cx="225000" cy="266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10800000">
                <a:off x="3629520" y="1027080"/>
                <a:ext cx="224640" cy="266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10800000">
                <a:off x="3404880" y="1027080"/>
                <a:ext cx="224640" cy="266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 rot="10800000">
              <a:off x="3380040" y="991080"/>
              <a:ext cx="721800" cy="16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348" name=""/>
            <p:cNvGrpSpPr/>
            <p:nvPr/>
          </p:nvGrpSpPr>
          <p:grpSpPr>
            <a:xfrm>
              <a:off x="2423160" y="1017360"/>
              <a:ext cx="674280" cy="265680"/>
              <a:chOff x="2423160" y="1017360"/>
              <a:chExt cx="674280" cy="265680"/>
            </a:xfrm>
          </p:grpSpPr>
          <p:sp>
            <p:nvSpPr>
              <p:cNvPr id="349" name=""/>
              <p:cNvSpPr/>
              <p:nvPr/>
            </p:nvSpPr>
            <p:spPr>
              <a:xfrm>
                <a:off x="2423160" y="1017360"/>
                <a:ext cx="225000" cy="2656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648160" y="1017360"/>
                <a:ext cx="224640" cy="2656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872800" y="1017360"/>
                <a:ext cx="224640" cy="2656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352" name=""/>
            <p:cNvSpPr/>
            <p:nvPr/>
          </p:nvSpPr>
          <p:spPr>
            <a:xfrm>
              <a:off x="2399400" y="1161360"/>
              <a:ext cx="721800" cy="15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85800" y="626400"/>
              <a:ext cx="1353240" cy="1067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ff"/>
                  </a:solidFill>
                  <a:latin typeface="Arial"/>
                </a:rPr>
                <a:t>Sourc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cxnSp>
          <p:nvCxnSpPr>
            <p:cNvPr id="354" name=""/>
            <p:cNvCxnSpPr>
              <a:stCxn id="349" idx="2"/>
              <a:endCxn id="353" idx="3"/>
            </p:cNvCxnSpPr>
            <p:nvPr/>
          </p:nvCxnSpPr>
          <p:spPr>
            <a:xfrm flipH="1">
              <a:off x="2056320" y="1151640"/>
              <a:ext cx="350640" cy="1008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</a:ln>
          </p:spPr>
        </p:cxnSp>
        <p:sp>
          <p:nvSpPr>
            <p:cNvPr id="355" name=""/>
            <p:cNvSpPr/>
            <p:nvPr/>
          </p:nvSpPr>
          <p:spPr>
            <a:xfrm>
              <a:off x="7562160" y="343080"/>
              <a:ext cx="1352880" cy="1600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ff"/>
                  </a:solidFill>
                  <a:latin typeface="Arial"/>
                </a:rPr>
                <a:t>Nonlinear lod (-s)</a:t>
              </a: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cxnSp>
          <p:nvCxnSpPr>
            <p:cNvPr id="356" name=""/>
            <p:cNvCxnSpPr>
              <a:stCxn id="341" idx="6"/>
              <a:endCxn id="355" idx="1"/>
            </p:cNvCxnSpPr>
            <p:nvPr/>
          </p:nvCxnSpPr>
          <p:spPr>
            <a:xfrm flipV="1">
              <a:off x="7258680" y="1144080"/>
              <a:ext cx="285480" cy="75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</a:ln>
          </p:spPr>
        </p:cxnSp>
        <p:grpSp>
          <p:nvGrpSpPr>
            <p:cNvPr id="357" name=""/>
            <p:cNvGrpSpPr/>
            <p:nvPr/>
          </p:nvGrpSpPr>
          <p:grpSpPr>
            <a:xfrm>
              <a:off x="3402000" y="1441440"/>
              <a:ext cx="674280" cy="266040"/>
              <a:chOff x="3402000" y="1441440"/>
              <a:chExt cx="674280" cy="266040"/>
            </a:xfrm>
          </p:grpSpPr>
          <p:sp>
            <p:nvSpPr>
              <p:cNvPr id="358" name=""/>
              <p:cNvSpPr/>
              <p:nvPr/>
            </p:nvSpPr>
            <p:spPr>
              <a:xfrm>
                <a:off x="3402000" y="1441440"/>
                <a:ext cx="225000" cy="266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627000" y="1441440"/>
                <a:ext cx="224640" cy="266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851640" y="1441440"/>
                <a:ext cx="224640" cy="266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361" name=""/>
            <p:cNvSpPr/>
            <p:nvPr/>
          </p:nvSpPr>
          <p:spPr>
            <a:xfrm>
              <a:off x="3378240" y="1585080"/>
              <a:ext cx="722520" cy="16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550600" y="904320"/>
              <a:ext cx="4395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632280" y="904320"/>
              <a:ext cx="43992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455520" y="1474560"/>
              <a:ext cx="0" cy="5209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550600" y="437400"/>
              <a:ext cx="5151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cc0000"/>
                  </a:solidFill>
                  <a:latin typeface="Times New Roman"/>
                </a:rPr>
                <a:t>i</a:t>
              </a:r>
              <a:r>
                <a:rPr b="1" lang="pl-PL" sz="1400" spc="-1" strike="noStrike" baseline="-25000">
                  <a:solidFill>
                    <a:srgbClr val="cc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632280" y="451440"/>
              <a:ext cx="602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cc0000"/>
                  </a:solidFill>
                  <a:latin typeface="Times New Roman"/>
                </a:rPr>
                <a:t>i</a:t>
              </a:r>
              <a:r>
                <a:rPr b="1" lang="pl-PL" sz="1400" spc="-1" strike="noStrike" baseline="-25000">
                  <a:solidFill>
                    <a:srgbClr val="cc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471360" y="1451160"/>
              <a:ext cx="515160" cy="66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cc0000"/>
                  </a:solidFill>
                  <a:latin typeface="Times New Roman"/>
                </a:rPr>
                <a:t>i</a:t>
              </a:r>
              <a:r>
                <a:rPr b="1" lang="pl-PL" sz="1400" spc="-1" strike="noStrike" baseline="-25000">
                  <a:solidFill>
                    <a:srgbClr val="cc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065760" y="2448000"/>
              <a:ext cx="1353240" cy="10677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623400" y="2759040"/>
              <a:ext cx="0" cy="4269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370" name=""/>
            <p:cNvGrpSpPr/>
            <p:nvPr/>
          </p:nvGrpSpPr>
          <p:grpSpPr>
            <a:xfrm>
              <a:off x="3989160" y="2846880"/>
              <a:ext cx="220680" cy="251280"/>
              <a:chOff x="3989160" y="2846880"/>
              <a:chExt cx="220680" cy="251280"/>
            </a:xfrm>
          </p:grpSpPr>
          <p:sp>
            <p:nvSpPr>
              <p:cNvPr id="371" name=""/>
              <p:cNvSpPr/>
              <p:nvPr/>
            </p:nvSpPr>
            <p:spPr>
              <a:xfrm>
                <a:off x="3989160" y="2869200"/>
                <a:ext cx="220680" cy="2289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989160" y="2846880"/>
                <a:ext cx="22068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>
              <a:off x="3846240" y="3160080"/>
              <a:ext cx="0" cy="2638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3623400" y="2766240"/>
              <a:ext cx="234360" cy="2307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639240" y="2973240"/>
              <a:ext cx="210600" cy="1954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545640" y="2759040"/>
              <a:ext cx="0" cy="4269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412080" y="2973960"/>
              <a:ext cx="1335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846240" y="2511720"/>
              <a:ext cx="0" cy="2638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096800" y="2641680"/>
              <a:ext cx="0" cy="2052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091040" y="3098520"/>
              <a:ext cx="0" cy="2052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3838320" y="2660400"/>
              <a:ext cx="2584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3838320" y="3290040"/>
              <a:ext cx="2584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577320" y="562680"/>
              <a:ext cx="602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cc0000"/>
                  </a:solidFill>
                  <a:latin typeface="Times New Roman"/>
                </a:rPr>
                <a:t>v</a:t>
              </a:r>
              <a:r>
                <a:rPr b="1" lang="pl-PL" sz="1400" spc="-1" strike="noStrike" baseline="-25000">
                  <a:solidFill>
                    <a:srgbClr val="cc0000"/>
                  </a:solidFill>
                  <a:latin typeface="Times New Roman"/>
                </a:rPr>
                <a:t>AF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cxnSp>
          <p:nvCxnSpPr>
            <p:cNvPr id="384" name=""/>
            <p:cNvCxnSpPr>
              <a:stCxn id="351" idx="6"/>
              <a:endCxn id="346" idx="6"/>
            </p:cNvCxnSpPr>
            <p:nvPr/>
          </p:nvCxnSpPr>
          <p:spPr>
            <a:xfrm>
              <a:off x="3113640" y="1151280"/>
              <a:ext cx="275040" cy="75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</a:ln>
          </p:spPr>
        </p:cxnSp>
        <p:cxnSp>
          <p:nvCxnSpPr>
            <p:cNvPr id="385" name=""/>
            <p:cNvCxnSpPr>
              <a:stCxn id="344" idx="2"/>
              <a:endCxn id="339" idx="2"/>
            </p:cNvCxnSpPr>
            <p:nvPr/>
          </p:nvCxnSpPr>
          <p:spPr>
            <a:xfrm flipV="1">
              <a:off x="4092480" y="1150920"/>
              <a:ext cx="2460600" cy="75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</a:ln>
          </p:spPr>
        </p:cxnSp>
        <p:sp>
          <p:nvSpPr>
            <p:cNvPr id="386" name=""/>
            <p:cNvSpPr/>
            <p:nvPr/>
          </p:nvSpPr>
          <p:spPr>
            <a:xfrm>
              <a:off x="3412080" y="1368720"/>
              <a:ext cx="67680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rot="10800000">
              <a:off x="5573160" y="2448000"/>
              <a:ext cx="1353240" cy="10677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6367680" y="2775600"/>
              <a:ext cx="0" cy="4262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389" name=""/>
            <p:cNvGrpSpPr/>
            <p:nvPr/>
          </p:nvGrpSpPr>
          <p:grpSpPr>
            <a:xfrm>
              <a:off x="5778360" y="2862720"/>
              <a:ext cx="220680" cy="251640"/>
              <a:chOff x="5778360" y="2862720"/>
              <a:chExt cx="220680" cy="251640"/>
            </a:xfrm>
          </p:grpSpPr>
          <p:sp>
            <p:nvSpPr>
              <p:cNvPr id="390" name=""/>
              <p:cNvSpPr/>
              <p:nvPr/>
            </p:nvSpPr>
            <p:spPr>
              <a:xfrm>
                <a:off x="5778360" y="2885040"/>
                <a:ext cx="220680" cy="2293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778360" y="2862720"/>
                <a:ext cx="22068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392" name=""/>
            <p:cNvSpPr/>
            <p:nvPr/>
          </p:nvSpPr>
          <p:spPr>
            <a:xfrm flipV="1">
              <a:off x="6144840" y="2539800"/>
              <a:ext cx="0" cy="2638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6132240" y="2966760"/>
              <a:ext cx="235080" cy="2311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 flipV="1">
              <a:off x="6140520" y="2791800"/>
              <a:ext cx="210600" cy="1954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6445440" y="2775600"/>
              <a:ext cx="0" cy="4262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6442920" y="2990520"/>
              <a:ext cx="1335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6144840" y="3188160"/>
              <a:ext cx="0" cy="2638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5893920" y="3115080"/>
              <a:ext cx="0" cy="2052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899680" y="2658240"/>
              <a:ext cx="0" cy="2044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893920" y="3303720"/>
              <a:ext cx="2584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893920" y="2674800"/>
              <a:ext cx="2584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419360" y="2526120"/>
              <a:ext cx="11538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419360" y="3445560"/>
              <a:ext cx="11538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703760" y="2936160"/>
              <a:ext cx="4514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703760" y="3018600"/>
              <a:ext cx="4514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4924800" y="2526120"/>
              <a:ext cx="0" cy="4096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4924800" y="3027960"/>
              <a:ext cx="0" cy="4096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545640" y="1026720"/>
              <a:ext cx="4395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409" name=""/>
            <p:cNvGrpSpPr/>
            <p:nvPr/>
          </p:nvGrpSpPr>
          <p:grpSpPr>
            <a:xfrm>
              <a:off x="6139440" y="1451160"/>
              <a:ext cx="224280" cy="597960"/>
              <a:chOff x="6139440" y="1451160"/>
              <a:chExt cx="224280" cy="597960"/>
            </a:xfrm>
          </p:grpSpPr>
          <p:sp>
            <p:nvSpPr>
              <p:cNvPr id="410" name=""/>
              <p:cNvSpPr/>
              <p:nvPr/>
            </p:nvSpPr>
            <p:spPr>
              <a:xfrm rot="5400000">
                <a:off x="6151680" y="1438920"/>
                <a:ext cx="199800" cy="2242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5400000">
                <a:off x="6152040" y="1638360"/>
                <a:ext cx="199080" cy="2242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rot="5400000">
                <a:off x="6152040" y="1837440"/>
                <a:ext cx="199080" cy="2242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413" name=""/>
            <p:cNvSpPr/>
            <p:nvPr/>
          </p:nvSpPr>
          <p:spPr>
            <a:xfrm rot="5400000">
              <a:off x="5855760" y="1682280"/>
              <a:ext cx="641160" cy="13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cxnSp>
          <p:nvCxnSpPr>
            <p:cNvPr id="414" name=""/>
            <p:cNvCxnSpPr>
              <a:stCxn id="387" idx="2"/>
              <a:endCxn id="412" idx="6"/>
            </p:cNvCxnSpPr>
            <p:nvPr/>
          </p:nvCxnSpPr>
          <p:spPr>
            <a:xfrm flipV="1">
              <a:off x="6247800" y="2066040"/>
              <a:ext cx="4680" cy="36144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</a:ln>
          </p:spPr>
        </p:cxnSp>
        <p:cxnSp>
          <p:nvCxnSpPr>
            <p:cNvPr id="415" name=""/>
            <p:cNvCxnSpPr>
              <a:stCxn id="413" idx="1"/>
            </p:cNvCxnSpPr>
            <p:nvPr/>
          </p:nvCxnSpPr>
          <p:spPr>
            <a:xfrm flipH="1">
              <a:off x="5155200" y="1427040"/>
              <a:ext cx="1019520" cy="21960"/>
            </a:xfrm>
            <a:prstGeom prst="straightConnector1">
              <a:avLst/>
            </a:prstGeom>
            <a:ln w="0">
              <a:noFill/>
            </a:ln>
          </p:spPr>
        </p:cxnSp>
        <p:cxnSp>
          <p:nvCxnSpPr>
            <p:cNvPr id="416" name=""/>
            <p:cNvCxnSpPr>
              <a:stCxn id="410" idx="2"/>
            </p:cNvCxnSpPr>
            <p:nvPr/>
          </p:nvCxnSpPr>
          <p:spPr>
            <a:xfrm flipH="1" flipV="1">
              <a:off x="6249600" y="1158120"/>
              <a:ext cx="2520" cy="27144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</a:ln>
          </p:spPr>
        </p:cxnSp>
        <p:cxnSp>
          <p:nvCxnSpPr>
            <p:cNvPr id="417" name=""/>
            <p:cNvCxnSpPr>
              <a:stCxn id="368" idx="0"/>
              <a:endCxn id="361" idx="0"/>
            </p:cNvCxnSpPr>
            <p:nvPr/>
          </p:nvCxnSpPr>
          <p:spPr>
            <a:xfrm flipH="1" flipV="1">
              <a:off x="3740040" y="1584720"/>
              <a:ext cx="2520" cy="8424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</a:ln>
          </p:spPr>
        </p:cxnSp>
        <p:sp>
          <p:nvSpPr>
            <p:cNvPr id="418" name=""/>
            <p:cNvSpPr/>
            <p:nvPr/>
          </p:nvSpPr>
          <p:spPr>
            <a:xfrm>
              <a:off x="6208560" y="1109520"/>
              <a:ext cx="89280" cy="105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2116080" y="1003680"/>
              <a:ext cx="132120" cy="2912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2159640" y="1003680"/>
              <a:ext cx="132120" cy="2912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2203560" y="1003680"/>
              <a:ext cx="132120" cy="2912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344520" y="3516480"/>
            <a:ext cx="8718480" cy="29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Stabilizacja napięcia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Kompensacja mocy biernej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Ograniczenie wahań napięcia</a:t>
            </a:r>
            <a:r>
              <a:rPr b="1" lang="pl-PL" sz="2200" spc="-1" strike="noStrike">
                <a:solidFill>
                  <a:srgbClr val="0000ff"/>
                </a:solidFill>
                <a:latin typeface="Arial"/>
              </a:rPr>
              <a:t> (ograniczenie zmian mocy czynnej i biernej)</a:t>
            </a:r>
            <a:endParaRPr b="0" lang="en-US" sz="2200" spc="-1" strike="noStrike">
              <a:solidFill>
                <a:srgbClr val="0000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Symetryzacja prądu (obciążenia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Symetryzacja napięcia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Redu</a:t>
            </a:r>
            <a:r>
              <a:rPr b="1" lang="pl-PL" sz="2400" spc="-1" strike="noStrike">
                <a:solidFill>
                  <a:srgbClr val="0000ff"/>
                </a:solidFill>
                <a:latin typeface="Arial"/>
                <a:ea typeface="Arial"/>
              </a:rPr>
              <a:t>k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c</a:t>
            </a:r>
            <a:r>
              <a:rPr b="1" lang="pl-PL" sz="2400" spc="-1" strike="noStrike">
                <a:solidFill>
                  <a:srgbClr val="0000ff"/>
                </a:solidFill>
                <a:latin typeface="Arial"/>
                <a:ea typeface="Arial"/>
              </a:rPr>
              <a:t>ja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 harmonic</a:t>
            </a:r>
            <a:r>
              <a:rPr b="1" lang="pl-PL" sz="2400" spc="-1" strike="noStrike">
                <a:solidFill>
                  <a:srgbClr val="0000ff"/>
                </a:solidFill>
                <a:latin typeface="Arial"/>
                <a:ea typeface="Arial"/>
              </a:rPr>
              <a:t>znych prądu</a:t>
            </a: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 i napięcia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ADC9-2BF1-444A-AB84-2E99929FFBFE}" type="slidenum">
              <a:t>7</a:t>
            </a:fld>
          </a:p>
        </p:txBody>
      </p:sp>
    </p:spTree>
  </p:cSld>
  <p:transition>
    <p:cover dir="d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6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1" dur="5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7" dur="50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3" dur="50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9" dur="500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5" dur="500"/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9" dur="1" fill="hold"/>
                                  <p:tgtEl>
                                    <p:spTgt spid="42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4560" y="555840"/>
            <a:ext cx="6746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Układ hybrydowy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301760" y="5489640"/>
            <a:ext cx="748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ERIES APF + PARALLEL PASSIVE FILTER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1042920" y="1758960"/>
            <a:ext cx="6946560" cy="3313440"/>
            <a:chOff x="1042920" y="1758960"/>
            <a:chExt cx="6946560" cy="3313440"/>
          </a:xfrm>
        </p:grpSpPr>
        <p:grpSp>
          <p:nvGrpSpPr>
            <p:cNvPr id="426" name=""/>
            <p:cNvGrpSpPr/>
            <p:nvPr/>
          </p:nvGrpSpPr>
          <p:grpSpPr>
            <a:xfrm>
              <a:off x="5680440" y="2304720"/>
              <a:ext cx="712800" cy="284760"/>
              <a:chOff x="5680440" y="2304720"/>
              <a:chExt cx="712800" cy="284760"/>
            </a:xfrm>
          </p:grpSpPr>
          <p:grpSp>
            <p:nvGrpSpPr>
              <p:cNvPr id="427" name=""/>
              <p:cNvGrpSpPr/>
              <p:nvPr/>
            </p:nvGrpSpPr>
            <p:grpSpPr>
              <a:xfrm>
                <a:off x="5703480" y="2304720"/>
                <a:ext cx="665640" cy="249840"/>
                <a:chOff x="5703480" y="2304720"/>
                <a:chExt cx="665640" cy="24984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5703480" y="2304720"/>
                  <a:ext cx="222120" cy="2498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5925600" y="2304720"/>
                  <a:ext cx="221760" cy="2498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6147360" y="2304720"/>
                  <a:ext cx="221760" cy="2498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1" name=""/>
              <p:cNvSpPr/>
              <p:nvPr/>
            </p:nvSpPr>
            <p:spPr>
              <a:xfrm>
                <a:off x="5680440" y="2439360"/>
                <a:ext cx="712800" cy="15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432" name=""/>
            <p:cNvGrpSpPr/>
            <p:nvPr/>
          </p:nvGrpSpPr>
          <p:grpSpPr>
            <a:xfrm>
              <a:off x="3579840" y="2280240"/>
              <a:ext cx="712800" cy="285480"/>
              <a:chOff x="3579840" y="2280240"/>
              <a:chExt cx="712800" cy="285480"/>
            </a:xfrm>
          </p:grpSpPr>
          <p:grpSp>
            <p:nvGrpSpPr>
              <p:cNvPr id="433" name=""/>
              <p:cNvGrpSpPr/>
              <p:nvPr/>
            </p:nvGrpSpPr>
            <p:grpSpPr>
              <a:xfrm>
                <a:off x="3603960" y="2315520"/>
                <a:ext cx="665640" cy="250200"/>
                <a:chOff x="3603960" y="2315520"/>
                <a:chExt cx="665640" cy="250200"/>
              </a:xfrm>
            </p:grpSpPr>
            <p:sp>
              <p:nvSpPr>
                <p:cNvPr id="434" name=""/>
                <p:cNvSpPr/>
                <p:nvPr/>
              </p:nvSpPr>
              <p:spPr>
                <a:xfrm rot="10800000">
                  <a:off x="4047480" y="2315520"/>
                  <a:ext cx="222120" cy="2502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 rot="10800000">
                  <a:off x="3825720" y="2315520"/>
                  <a:ext cx="221760" cy="2502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 rot="10800000">
                  <a:off x="3603960" y="2315520"/>
                  <a:ext cx="221760" cy="2502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7" name=""/>
              <p:cNvSpPr/>
              <p:nvPr/>
            </p:nvSpPr>
            <p:spPr>
              <a:xfrm rot="10800000">
                <a:off x="3579840" y="2280240"/>
                <a:ext cx="71280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2624760" y="2304720"/>
              <a:ext cx="712800" cy="284760"/>
              <a:chOff x="2624760" y="2304720"/>
              <a:chExt cx="712800" cy="284760"/>
            </a:xfrm>
          </p:grpSpPr>
          <p:grpSp>
            <p:nvGrpSpPr>
              <p:cNvPr id="439" name=""/>
              <p:cNvGrpSpPr/>
              <p:nvPr/>
            </p:nvGrpSpPr>
            <p:grpSpPr>
              <a:xfrm>
                <a:off x="2647800" y="2304720"/>
                <a:ext cx="665640" cy="249840"/>
                <a:chOff x="2647800" y="2304720"/>
                <a:chExt cx="665640" cy="24984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2647800" y="2304720"/>
                  <a:ext cx="222120" cy="2498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2869920" y="2304720"/>
                  <a:ext cx="221760" cy="2498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3091680" y="2304720"/>
                  <a:ext cx="221760" cy="2498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3" name=""/>
              <p:cNvSpPr/>
              <p:nvPr/>
            </p:nvSpPr>
            <p:spPr>
              <a:xfrm>
                <a:off x="2624760" y="2439360"/>
                <a:ext cx="712800" cy="15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444" name=""/>
            <p:cNvSpPr/>
            <p:nvPr/>
          </p:nvSpPr>
          <p:spPr>
            <a:xfrm>
              <a:off x="1042920" y="1936440"/>
              <a:ext cx="1336320" cy="1004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ff"/>
                  </a:solidFill>
                  <a:latin typeface="Arial"/>
                </a:rPr>
                <a:t>Sourc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cxnSp>
          <p:nvCxnSpPr>
            <p:cNvPr id="445" name=""/>
            <p:cNvCxnSpPr>
              <a:stCxn id="440" idx="2"/>
              <a:endCxn id="444" idx="3"/>
            </p:cNvCxnSpPr>
            <p:nvPr/>
          </p:nvCxnSpPr>
          <p:spPr>
            <a:xfrm flipH="1">
              <a:off x="2396520" y="2430720"/>
              <a:ext cx="236160" cy="972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</a:ln>
          </p:spPr>
        </p:cxnSp>
        <p:sp>
          <p:nvSpPr>
            <p:cNvPr id="446" name=""/>
            <p:cNvSpPr/>
            <p:nvPr/>
          </p:nvSpPr>
          <p:spPr>
            <a:xfrm>
              <a:off x="6653160" y="1936440"/>
              <a:ext cx="1336320" cy="1004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ff"/>
                  </a:solidFill>
                  <a:latin typeface="Arial"/>
                </a:rPr>
                <a:t>Nonlinear load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cxnSp>
          <p:nvCxnSpPr>
            <p:cNvPr id="447" name=""/>
            <p:cNvCxnSpPr>
              <a:stCxn id="430" idx="6"/>
              <a:endCxn id="446" idx="1"/>
            </p:cNvCxnSpPr>
            <p:nvPr/>
          </p:nvCxnSpPr>
          <p:spPr>
            <a:xfrm>
              <a:off x="6385320" y="2430720"/>
              <a:ext cx="250200" cy="972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</a:ln>
          </p:spPr>
        </p:cxnSp>
        <p:sp>
          <p:nvSpPr>
            <p:cNvPr id="448" name=""/>
            <p:cNvSpPr/>
            <p:nvPr/>
          </p:nvSpPr>
          <p:spPr>
            <a:xfrm>
              <a:off x="3267360" y="3296160"/>
              <a:ext cx="1336320" cy="1004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3575520" y="2703600"/>
              <a:ext cx="712800" cy="285480"/>
              <a:chOff x="3575520" y="2703600"/>
              <a:chExt cx="712800" cy="285480"/>
            </a:xfrm>
          </p:grpSpPr>
          <p:grpSp>
            <p:nvGrpSpPr>
              <p:cNvPr id="450" name=""/>
              <p:cNvGrpSpPr/>
              <p:nvPr/>
            </p:nvGrpSpPr>
            <p:grpSpPr>
              <a:xfrm>
                <a:off x="3598560" y="2703600"/>
                <a:ext cx="665640" cy="250200"/>
                <a:chOff x="3598560" y="2703600"/>
                <a:chExt cx="665640" cy="25020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3598560" y="2703600"/>
                  <a:ext cx="222120" cy="2502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3820680" y="2703600"/>
                  <a:ext cx="221760" cy="2502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4042440" y="2703600"/>
                  <a:ext cx="221760" cy="2502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4" name=""/>
              <p:cNvSpPr/>
              <p:nvPr/>
            </p:nvSpPr>
            <p:spPr>
              <a:xfrm>
                <a:off x="3575520" y="2838600"/>
                <a:ext cx="71280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455" name=""/>
            <p:cNvSpPr/>
            <p:nvPr/>
          </p:nvSpPr>
          <p:spPr>
            <a:xfrm>
              <a:off x="3817800" y="3589200"/>
              <a:ext cx="0" cy="4014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456" name=""/>
            <p:cNvGrpSpPr/>
            <p:nvPr/>
          </p:nvGrpSpPr>
          <p:grpSpPr>
            <a:xfrm>
              <a:off x="4178880" y="3670920"/>
              <a:ext cx="217800" cy="236880"/>
              <a:chOff x="4178880" y="3670920"/>
              <a:chExt cx="217800" cy="236880"/>
            </a:xfrm>
          </p:grpSpPr>
          <p:sp>
            <p:nvSpPr>
              <p:cNvPr id="457" name=""/>
              <p:cNvSpPr/>
              <p:nvPr/>
            </p:nvSpPr>
            <p:spPr>
              <a:xfrm>
                <a:off x="4178880" y="3692160"/>
                <a:ext cx="217800" cy="2156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178880" y="3670920"/>
                <a:ext cx="21780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459" name=""/>
            <p:cNvSpPr/>
            <p:nvPr/>
          </p:nvSpPr>
          <p:spPr>
            <a:xfrm>
              <a:off x="4037760" y="3966480"/>
              <a:ext cx="0" cy="2476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3817800" y="3595320"/>
              <a:ext cx="231480" cy="2170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833280" y="3790080"/>
              <a:ext cx="208440" cy="1839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741120" y="3589200"/>
              <a:ext cx="0" cy="4014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609000" y="3790800"/>
              <a:ext cx="1317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342240" y="4300920"/>
              <a:ext cx="0" cy="5169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330000" y="4818240"/>
              <a:ext cx="56592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975120" y="4818240"/>
              <a:ext cx="5576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523040" y="4300920"/>
              <a:ext cx="0" cy="5169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742840" y="2198160"/>
              <a:ext cx="4338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782680" y="2198160"/>
              <a:ext cx="4338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742840" y="1758960"/>
              <a:ext cx="5086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cc0000"/>
                  </a:solidFill>
                  <a:latin typeface="Times New Roman"/>
                </a:rPr>
                <a:t>i</a:t>
              </a:r>
              <a:r>
                <a:rPr b="1" lang="pl-PL" sz="1400" spc="-1" strike="noStrike" baseline="-25000">
                  <a:solidFill>
                    <a:srgbClr val="cc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782680" y="1771920"/>
              <a:ext cx="5950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cc0000"/>
                  </a:solidFill>
                  <a:latin typeface="Times New Roman"/>
                </a:rPr>
                <a:t>i</a:t>
              </a:r>
              <a:r>
                <a:rPr b="1" lang="pl-PL" sz="1400" spc="-1" strike="noStrike" baseline="-25000">
                  <a:solidFill>
                    <a:srgbClr val="cc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472" name=""/>
            <p:cNvGrpSpPr/>
            <p:nvPr/>
          </p:nvGrpSpPr>
          <p:grpSpPr>
            <a:xfrm>
              <a:off x="3880440" y="4569480"/>
              <a:ext cx="77760" cy="502920"/>
              <a:chOff x="3880440" y="4569480"/>
              <a:chExt cx="77760" cy="502920"/>
            </a:xfrm>
          </p:grpSpPr>
          <p:sp>
            <p:nvSpPr>
              <p:cNvPr id="473" name=""/>
              <p:cNvSpPr/>
              <p:nvPr/>
            </p:nvSpPr>
            <p:spPr>
              <a:xfrm>
                <a:off x="3880440" y="4569480"/>
                <a:ext cx="0" cy="5029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958200" y="4569480"/>
                <a:ext cx="0" cy="5029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475" name=""/>
            <p:cNvSpPr/>
            <p:nvPr/>
          </p:nvSpPr>
          <p:spPr>
            <a:xfrm>
              <a:off x="4037760" y="3356280"/>
              <a:ext cx="0" cy="2484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285080" y="3477960"/>
              <a:ext cx="0" cy="1929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279320" y="3908520"/>
              <a:ext cx="0" cy="1929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4029480" y="3495960"/>
              <a:ext cx="2552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4029480" y="4088160"/>
              <a:ext cx="2552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cxnSp>
          <p:nvCxnSpPr>
            <p:cNvPr id="480" name=""/>
            <p:cNvCxnSpPr>
              <a:stCxn id="442" idx="6"/>
              <a:endCxn id="436" idx="6"/>
            </p:cNvCxnSpPr>
            <p:nvPr/>
          </p:nvCxnSpPr>
          <p:spPr>
            <a:xfrm>
              <a:off x="3329640" y="2431080"/>
              <a:ext cx="255960" cy="72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</a:ln>
          </p:spPr>
        </p:cxnSp>
        <p:cxnSp>
          <p:nvCxnSpPr>
            <p:cNvPr id="481" name=""/>
            <p:cNvCxnSpPr>
              <a:stCxn id="434" idx="2"/>
              <a:endCxn id="428" idx="2"/>
            </p:cNvCxnSpPr>
            <p:nvPr/>
          </p:nvCxnSpPr>
          <p:spPr>
            <a:xfrm flipV="1">
              <a:off x="4281120" y="2430720"/>
              <a:ext cx="1407240" cy="72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</a:ln>
          </p:spPr>
        </p:cxnSp>
        <p:sp>
          <p:nvSpPr>
            <p:cNvPr id="482" name=""/>
            <p:cNvSpPr/>
            <p:nvPr/>
          </p:nvSpPr>
          <p:spPr>
            <a:xfrm>
              <a:off x="3609000" y="2635200"/>
              <a:ext cx="668160" cy="180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cxnSp>
          <p:nvCxnSpPr>
            <p:cNvPr id="483" name=""/>
            <p:cNvCxnSpPr>
              <a:stCxn id="448" idx="0"/>
              <a:endCxn id="454" idx="0"/>
            </p:cNvCxnSpPr>
            <p:nvPr/>
          </p:nvCxnSpPr>
          <p:spPr>
            <a:xfrm flipH="1" flipV="1">
              <a:off x="3933000" y="2838600"/>
              <a:ext cx="2160" cy="4377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</a:ln>
          </p:spPr>
        </p:cxnSp>
        <p:grpSp>
          <p:nvGrpSpPr>
            <p:cNvPr id="484" name=""/>
            <p:cNvGrpSpPr/>
            <p:nvPr/>
          </p:nvGrpSpPr>
          <p:grpSpPr>
            <a:xfrm>
              <a:off x="5120640" y="2835000"/>
              <a:ext cx="253080" cy="804240"/>
              <a:chOff x="5120640" y="2835000"/>
              <a:chExt cx="253080" cy="804240"/>
            </a:xfrm>
          </p:grpSpPr>
          <p:grpSp>
            <p:nvGrpSpPr>
              <p:cNvPr id="485" name=""/>
              <p:cNvGrpSpPr/>
              <p:nvPr/>
            </p:nvGrpSpPr>
            <p:grpSpPr>
              <a:xfrm>
                <a:off x="5151960" y="2860920"/>
                <a:ext cx="221760" cy="750960"/>
                <a:chOff x="5151960" y="2860920"/>
                <a:chExt cx="221760" cy="750960"/>
              </a:xfrm>
            </p:grpSpPr>
            <p:sp>
              <p:nvSpPr>
                <p:cNvPr id="486" name=""/>
                <p:cNvSpPr/>
                <p:nvPr/>
              </p:nvSpPr>
              <p:spPr>
                <a:xfrm rot="5400000">
                  <a:off x="5137560" y="2875320"/>
                  <a:ext cx="250560" cy="22176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 rot="5400000">
                  <a:off x="5137560" y="3125520"/>
                  <a:ext cx="250200" cy="22176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 rot="5400000">
                  <a:off x="5137560" y="3375720"/>
                  <a:ext cx="250200" cy="22176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9" name=""/>
              <p:cNvSpPr/>
              <p:nvPr/>
            </p:nvSpPr>
            <p:spPr>
              <a:xfrm rot="5400000">
                <a:off x="4785120" y="3170160"/>
                <a:ext cx="804240" cy="133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cxnSp>
          <p:nvCxnSpPr>
            <p:cNvPr id="490" name=""/>
            <p:cNvCxnSpPr>
              <a:stCxn id="486" idx="2"/>
              <a:endCxn id="491" idx="4"/>
            </p:cNvCxnSpPr>
            <p:nvPr/>
          </p:nvCxnSpPr>
          <p:spPr>
            <a:xfrm flipV="1">
              <a:off x="5261400" y="2494440"/>
              <a:ext cx="1080" cy="34668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</a:ln>
          </p:spPr>
        </p:cxnSp>
        <p:sp>
          <p:nvSpPr>
            <p:cNvPr id="492" name=""/>
            <p:cNvSpPr/>
            <p:nvPr/>
          </p:nvSpPr>
          <p:spPr>
            <a:xfrm>
              <a:off x="5478120" y="2978640"/>
              <a:ext cx="0" cy="4903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216760" y="2395080"/>
              <a:ext cx="88200" cy="100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043600" y="4001400"/>
              <a:ext cx="446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043600" y="4103640"/>
              <a:ext cx="446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266080" y="4103640"/>
              <a:ext cx="0" cy="5320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5266080" y="3611160"/>
              <a:ext cx="0" cy="3902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474160" y="2967840"/>
              <a:ext cx="742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Times New Roman"/>
                </a:rPr>
                <a:t>np. </a:t>
              </a: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i</a:t>
              </a:r>
              <a:r>
                <a:rPr b="1" lang="en-US" sz="1400" spc="-1" strike="noStrike" baseline="-25000">
                  <a:solidFill>
                    <a:srgbClr val="cc0000"/>
                  </a:solidFill>
                  <a:latin typeface="Times New Roman"/>
                </a:rPr>
                <a:t>(5)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683880" y="1825200"/>
              <a:ext cx="5950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cc0000"/>
                  </a:solidFill>
                  <a:latin typeface="Times New Roman"/>
                </a:rPr>
                <a:t>v</a:t>
              </a:r>
              <a:r>
                <a:rPr b="1" lang="pl-PL" sz="1400" spc="-1" strike="noStrike" baseline="-25000">
                  <a:solidFill>
                    <a:srgbClr val="cc0000"/>
                  </a:solidFill>
                  <a:latin typeface="Times New Roman"/>
                </a:rPr>
                <a:t>AF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691800" y="2284560"/>
              <a:ext cx="433800" cy="1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2405160" y="2291400"/>
              <a:ext cx="124560" cy="2746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2448360" y="2291400"/>
              <a:ext cx="124560" cy="2746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2491560" y="2291400"/>
              <a:ext cx="124560" cy="2746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925440" y="4341240"/>
              <a:ext cx="5950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cc0000"/>
                  </a:solidFill>
                  <a:latin typeface="Times New Roman"/>
                </a:rPr>
                <a:t>v</a:t>
              </a:r>
              <a:r>
                <a:rPr b="1" lang="pl-PL" sz="1400" spc="-1" strike="noStrike" baseline="-25000">
                  <a:solidFill>
                    <a:srgbClr val="cc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9B49-F9C8-45FE-B233-52C2D9697150}" type="slidenum">
              <a:t>8</a:t>
            </a:fld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440" y="179280"/>
            <a:ext cx="835668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Układ 3-fazowy, 4-przewodowy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336600" y="1370160"/>
            <a:ext cx="8426520" cy="4378320"/>
            <a:chOff x="336600" y="1370160"/>
            <a:chExt cx="8426520" cy="4378320"/>
          </a:xfrm>
        </p:grpSpPr>
        <p:sp>
          <p:nvSpPr>
            <p:cNvPr id="506" name=""/>
            <p:cNvSpPr/>
            <p:nvPr/>
          </p:nvSpPr>
          <p:spPr>
            <a:xfrm>
              <a:off x="4078440" y="3637080"/>
              <a:ext cx="41112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c0000"/>
                  </a:solidFill>
                  <a:latin typeface="Arial"/>
                </a:rPr>
                <a:t>i</a:t>
              </a:r>
              <a:r>
                <a:rPr b="1" lang="pl-PL" sz="2000" spc="-1" strike="noStrike" baseline="-25000">
                  <a:solidFill>
                    <a:srgbClr val="cc0000"/>
                  </a:solidFill>
                  <a:latin typeface="Arial"/>
                </a:rPr>
                <a:t>Ca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1735200" y="1760760"/>
              <a:ext cx="538200" cy="179280"/>
              <a:chOff x="1735200" y="1760760"/>
              <a:chExt cx="538200" cy="179280"/>
            </a:xfrm>
          </p:grpSpPr>
          <p:sp>
            <p:nvSpPr>
              <p:cNvPr id="508" name=""/>
              <p:cNvSpPr/>
              <p:nvPr/>
            </p:nvSpPr>
            <p:spPr>
              <a:xfrm>
                <a:off x="1735200" y="1760760"/>
                <a:ext cx="179640" cy="1792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914840" y="1760760"/>
                <a:ext cx="179280" cy="1792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2094120" y="1760760"/>
                <a:ext cx="179280" cy="1792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511" name=""/>
            <p:cNvSpPr/>
            <p:nvPr/>
          </p:nvSpPr>
          <p:spPr>
            <a:xfrm>
              <a:off x="1716120" y="1857600"/>
              <a:ext cx="57636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811160" y="1684440"/>
              <a:ext cx="3510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782720" y="1389240"/>
              <a:ext cx="41112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c0000"/>
                  </a:solidFill>
                  <a:latin typeface="Arial"/>
                </a:rPr>
                <a:t>i</a:t>
              </a:r>
              <a:r>
                <a:rPr b="1" lang="pl-PL" sz="2000" spc="-1" strike="noStrike" baseline="-25000">
                  <a:solidFill>
                    <a:srgbClr val="cc0000"/>
                  </a:solidFill>
                  <a:latin typeface="Arial"/>
                </a:rPr>
                <a:t>Sa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514" name=""/>
            <p:cNvGrpSpPr/>
            <p:nvPr/>
          </p:nvGrpSpPr>
          <p:grpSpPr>
            <a:xfrm>
              <a:off x="1716120" y="2213280"/>
              <a:ext cx="538200" cy="179280"/>
              <a:chOff x="1716120" y="2213280"/>
              <a:chExt cx="538200" cy="179280"/>
            </a:xfrm>
          </p:grpSpPr>
          <p:sp>
            <p:nvSpPr>
              <p:cNvPr id="515" name=""/>
              <p:cNvSpPr/>
              <p:nvPr/>
            </p:nvSpPr>
            <p:spPr>
              <a:xfrm>
                <a:off x="1716120" y="2213280"/>
                <a:ext cx="179640" cy="1792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1895760" y="2213280"/>
                <a:ext cx="179280" cy="1792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2075040" y="2213280"/>
                <a:ext cx="179280" cy="1792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518" name=""/>
            <p:cNvSpPr/>
            <p:nvPr/>
          </p:nvSpPr>
          <p:spPr>
            <a:xfrm>
              <a:off x="1697040" y="2310120"/>
              <a:ext cx="576360" cy="10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792440" y="2140200"/>
              <a:ext cx="3506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520" name=""/>
            <p:cNvGrpSpPr/>
            <p:nvPr/>
          </p:nvGrpSpPr>
          <p:grpSpPr>
            <a:xfrm>
              <a:off x="1716120" y="2735280"/>
              <a:ext cx="538200" cy="179640"/>
              <a:chOff x="1716120" y="2735280"/>
              <a:chExt cx="538200" cy="179640"/>
            </a:xfrm>
          </p:grpSpPr>
          <p:sp>
            <p:nvSpPr>
              <p:cNvPr id="521" name=""/>
              <p:cNvSpPr/>
              <p:nvPr/>
            </p:nvSpPr>
            <p:spPr>
              <a:xfrm>
                <a:off x="1716120" y="2735280"/>
                <a:ext cx="179640" cy="1796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1895760" y="2735280"/>
                <a:ext cx="179280" cy="1796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2075040" y="2735280"/>
                <a:ext cx="179280" cy="1796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524" name=""/>
            <p:cNvSpPr/>
            <p:nvPr/>
          </p:nvSpPr>
          <p:spPr>
            <a:xfrm>
              <a:off x="1697040" y="2832120"/>
              <a:ext cx="57636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792440" y="2659320"/>
              <a:ext cx="3506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492800" y="1370160"/>
              <a:ext cx="41112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c0000"/>
                  </a:solidFill>
                  <a:latin typeface="Arial"/>
                </a:rPr>
                <a:t>i</a:t>
              </a:r>
              <a:r>
                <a:rPr b="1" lang="pl-PL" sz="2000" spc="-1" strike="noStrike" baseline="-25000">
                  <a:solidFill>
                    <a:srgbClr val="cc0000"/>
                  </a:solidFill>
                  <a:latin typeface="Arial"/>
                </a:rPr>
                <a:t>La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cxnSp>
          <p:nvCxnSpPr>
            <p:cNvPr id="527" name=""/>
            <p:cNvCxnSpPr>
              <a:stCxn id="510" idx="6"/>
              <a:endCxn id="528" idx="2"/>
            </p:cNvCxnSpPr>
            <p:nvPr/>
          </p:nvCxnSpPr>
          <p:spPr>
            <a:xfrm>
              <a:off x="2285640" y="1850760"/>
              <a:ext cx="2105640" cy="108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</a:ln>
          </p:spPr>
        </p:cxnSp>
        <p:cxnSp>
          <p:nvCxnSpPr>
            <p:cNvPr id="529" name=""/>
            <p:cNvCxnSpPr>
              <a:stCxn id="517" idx="6"/>
              <a:endCxn id="530" idx="2"/>
            </p:cNvCxnSpPr>
            <p:nvPr/>
          </p:nvCxnSpPr>
          <p:spPr>
            <a:xfrm>
              <a:off x="2266920" y="2303280"/>
              <a:ext cx="2124720" cy="108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</a:ln>
          </p:spPr>
        </p:cxnSp>
        <p:cxnSp>
          <p:nvCxnSpPr>
            <p:cNvPr id="531" name=""/>
            <p:cNvCxnSpPr>
              <a:stCxn id="523" idx="6"/>
              <a:endCxn id="532" idx="2"/>
            </p:cNvCxnSpPr>
            <p:nvPr/>
          </p:nvCxnSpPr>
          <p:spPr>
            <a:xfrm>
              <a:off x="2266920" y="2825640"/>
              <a:ext cx="2124720" cy="108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</a:ln>
          </p:spPr>
        </p:cxnSp>
        <p:cxnSp>
          <p:nvCxnSpPr>
            <p:cNvPr id="533" name=""/>
            <p:cNvCxnSpPr>
              <a:stCxn id="534" idx="2"/>
              <a:endCxn id="535" idx="2"/>
            </p:cNvCxnSpPr>
            <p:nvPr/>
          </p:nvCxnSpPr>
          <p:spPr>
            <a:xfrm flipH="1" rot="16200000">
              <a:off x="3214440" y="554760"/>
              <a:ext cx="145440" cy="4823640"/>
            </a:xfrm>
            <a:prstGeom prst="bentConnector3">
              <a:avLst>
                <a:gd name="adj1" fmla="val 248138"/>
              </a:avLst>
            </a:prstGeom>
            <a:ln w="25560">
              <a:solidFill>
                <a:srgbClr val="0000ff"/>
              </a:solidFill>
              <a:miter/>
            </a:ln>
          </p:spPr>
        </p:cxnSp>
        <p:grpSp>
          <p:nvGrpSpPr>
            <p:cNvPr id="536" name=""/>
            <p:cNvGrpSpPr/>
            <p:nvPr/>
          </p:nvGrpSpPr>
          <p:grpSpPr>
            <a:xfrm>
              <a:off x="4384800" y="1760760"/>
              <a:ext cx="576000" cy="204840"/>
              <a:chOff x="4384800" y="1760760"/>
              <a:chExt cx="576000" cy="204840"/>
            </a:xfrm>
          </p:grpSpPr>
          <p:grpSp>
            <p:nvGrpSpPr>
              <p:cNvPr id="537" name=""/>
              <p:cNvGrpSpPr/>
              <p:nvPr/>
            </p:nvGrpSpPr>
            <p:grpSpPr>
              <a:xfrm>
                <a:off x="4403520" y="1760760"/>
                <a:ext cx="538200" cy="179640"/>
                <a:chOff x="4403520" y="1760760"/>
                <a:chExt cx="538200" cy="17964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4403520" y="1760760"/>
                  <a:ext cx="179640" cy="1796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4583160" y="1760760"/>
                  <a:ext cx="179280" cy="1796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4762440" y="1760760"/>
                  <a:ext cx="179280" cy="1796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0" name=""/>
              <p:cNvSpPr/>
              <p:nvPr/>
            </p:nvSpPr>
            <p:spPr>
              <a:xfrm>
                <a:off x="4384800" y="1857600"/>
                <a:ext cx="576000" cy="10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541" name=""/>
            <p:cNvSpPr/>
            <p:nvPr/>
          </p:nvSpPr>
          <p:spPr>
            <a:xfrm>
              <a:off x="4492800" y="1684440"/>
              <a:ext cx="3506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542" name=""/>
            <p:cNvGrpSpPr/>
            <p:nvPr/>
          </p:nvGrpSpPr>
          <p:grpSpPr>
            <a:xfrm>
              <a:off x="4384800" y="2213280"/>
              <a:ext cx="576000" cy="204120"/>
              <a:chOff x="4384800" y="2213280"/>
              <a:chExt cx="576000" cy="204120"/>
            </a:xfrm>
          </p:grpSpPr>
          <p:grpSp>
            <p:nvGrpSpPr>
              <p:cNvPr id="543" name=""/>
              <p:cNvGrpSpPr/>
              <p:nvPr/>
            </p:nvGrpSpPr>
            <p:grpSpPr>
              <a:xfrm>
                <a:off x="4403520" y="2213280"/>
                <a:ext cx="538200" cy="179280"/>
                <a:chOff x="4403520" y="2213280"/>
                <a:chExt cx="538200" cy="179280"/>
              </a:xfrm>
            </p:grpSpPr>
            <p:sp>
              <p:nvSpPr>
                <p:cNvPr id="530" name=""/>
                <p:cNvSpPr/>
                <p:nvPr/>
              </p:nvSpPr>
              <p:spPr>
                <a:xfrm>
                  <a:off x="4403520" y="2213280"/>
                  <a:ext cx="179640" cy="1792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4583160" y="2213280"/>
                  <a:ext cx="179280" cy="1792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4762440" y="2213280"/>
                  <a:ext cx="179280" cy="1792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6" name=""/>
              <p:cNvSpPr/>
              <p:nvPr/>
            </p:nvSpPr>
            <p:spPr>
              <a:xfrm>
                <a:off x="4384800" y="2309760"/>
                <a:ext cx="576000" cy="10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547" name=""/>
            <p:cNvSpPr/>
            <p:nvPr/>
          </p:nvSpPr>
          <p:spPr>
            <a:xfrm>
              <a:off x="4492800" y="2136960"/>
              <a:ext cx="3506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492800" y="1822680"/>
              <a:ext cx="4111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c0000"/>
                  </a:solidFill>
                  <a:latin typeface="Arial"/>
                </a:rPr>
                <a:t>i</a:t>
              </a:r>
              <a:r>
                <a:rPr b="1" lang="pl-PL" sz="2000" spc="-1" strike="noStrike" baseline="-25000">
                  <a:solidFill>
                    <a:srgbClr val="cc0000"/>
                  </a:solidFill>
                  <a:latin typeface="Arial"/>
                </a:rPr>
                <a:t>Lb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549" name=""/>
            <p:cNvGrpSpPr/>
            <p:nvPr/>
          </p:nvGrpSpPr>
          <p:grpSpPr>
            <a:xfrm>
              <a:off x="4384800" y="2735280"/>
              <a:ext cx="576000" cy="204840"/>
              <a:chOff x="4384800" y="2735280"/>
              <a:chExt cx="576000" cy="204840"/>
            </a:xfrm>
          </p:grpSpPr>
          <p:grpSp>
            <p:nvGrpSpPr>
              <p:cNvPr id="550" name=""/>
              <p:cNvGrpSpPr/>
              <p:nvPr/>
            </p:nvGrpSpPr>
            <p:grpSpPr>
              <a:xfrm>
                <a:off x="4403520" y="2735280"/>
                <a:ext cx="538200" cy="179640"/>
                <a:chOff x="4403520" y="2735280"/>
                <a:chExt cx="538200" cy="17964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4403520" y="2735280"/>
                  <a:ext cx="179640" cy="1796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4583160" y="2735280"/>
                  <a:ext cx="179280" cy="1796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4762440" y="2735280"/>
                  <a:ext cx="179280" cy="1796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3" name=""/>
              <p:cNvSpPr/>
              <p:nvPr/>
            </p:nvSpPr>
            <p:spPr>
              <a:xfrm>
                <a:off x="4384800" y="2832120"/>
                <a:ext cx="576000" cy="10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554" name=""/>
            <p:cNvSpPr/>
            <p:nvPr/>
          </p:nvSpPr>
          <p:spPr>
            <a:xfrm>
              <a:off x="4492800" y="2659320"/>
              <a:ext cx="3506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492800" y="2345040"/>
              <a:ext cx="41112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c0000"/>
                  </a:solidFill>
                  <a:latin typeface="Arial"/>
                </a:rPr>
                <a:t>i</a:t>
              </a:r>
              <a:r>
                <a:rPr b="1" lang="pl-PL" sz="2000" spc="-1" strike="noStrike" baseline="-25000">
                  <a:solidFill>
                    <a:srgbClr val="cc0000"/>
                  </a:solidFill>
                  <a:latin typeface="Arial"/>
                </a:rPr>
                <a:t>Lc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159520" y="1584360"/>
              <a:ext cx="1079280" cy="1440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ff"/>
                  </a:solidFill>
                  <a:latin typeface="Arial"/>
                </a:rPr>
                <a:t>Nonl. load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cxnSp>
          <p:nvCxnSpPr>
            <p:cNvPr id="556" name=""/>
            <p:cNvCxnSpPr>
              <a:stCxn id="545" idx="6"/>
              <a:endCxn id="535" idx="1"/>
            </p:cNvCxnSpPr>
            <p:nvPr/>
          </p:nvCxnSpPr>
          <p:spPr>
            <a:xfrm>
              <a:off x="4954320" y="2303640"/>
              <a:ext cx="191160" cy="21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</a:ln>
          </p:spPr>
        </p:cxnSp>
        <p:sp>
          <p:nvSpPr>
            <p:cNvPr id="557" name=""/>
            <p:cNvSpPr/>
            <p:nvPr/>
          </p:nvSpPr>
          <p:spPr>
            <a:xfrm>
              <a:off x="4941720" y="1851120"/>
              <a:ext cx="2178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944960" y="2826000"/>
              <a:ext cx="2174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cxnSp>
          <p:nvCxnSpPr>
            <p:cNvPr id="559" name=""/>
            <p:cNvCxnSpPr>
              <a:stCxn id="560" idx="4"/>
              <a:endCxn id="561" idx="2"/>
            </p:cNvCxnSpPr>
            <p:nvPr/>
          </p:nvCxnSpPr>
          <p:spPr>
            <a:xfrm flipH="1">
              <a:off x="3956760" y="1884240"/>
              <a:ext cx="2520" cy="17406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</a:ln>
          </p:spPr>
        </p:cxnSp>
        <p:cxnSp>
          <p:nvCxnSpPr>
            <p:cNvPr id="562" name=""/>
            <p:cNvCxnSpPr>
              <a:stCxn id="563" idx="4"/>
              <a:endCxn id="564" idx="2"/>
            </p:cNvCxnSpPr>
            <p:nvPr/>
          </p:nvCxnSpPr>
          <p:spPr>
            <a:xfrm>
              <a:off x="3419640" y="2345040"/>
              <a:ext cx="2160" cy="12801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</a:ln>
          </p:spPr>
        </p:cxnSp>
        <p:cxnSp>
          <p:nvCxnSpPr>
            <p:cNvPr id="565" name=""/>
            <p:cNvCxnSpPr>
              <a:stCxn id="566" idx="4"/>
              <a:endCxn id="567" idx="2"/>
            </p:cNvCxnSpPr>
            <p:nvPr/>
          </p:nvCxnSpPr>
          <p:spPr>
            <a:xfrm>
              <a:off x="2878200" y="2859120"/>
              <a:ext cx="2160" cy="76608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</a:ln>
          </p:spPr>
        </p:cxnSp>
        <p:sp>
          <p:nvSpPr>
            <p:cNvPr id="560" name=""/>
            <p:cNvSpPr/>
            <p:nvPr/>
          </p:nvSpPr>
          <p:spPr>
            <a:xfrm>
              <a:off x="3922560" y="1812960"/>
              <a:ext cx="71640" cy="7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449440" y="3259440"/>
              <a:ext cx="0" cy="23270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449440" y="5570640"/>
              <a:ext cx="61102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8559720" y="4476960"/>
              <a:ext cx="0" cy="11095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8283240" y="4476960"/>
              <a:ext cx="27612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382920" y="2273400"/>
              <a:ext cx="71640" cy="7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841480" y="2787840"/>
              <a:ext cx="71640" cy="71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411280" y="3216600"/>
              <a:ext cx="71640" cy="71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422520" y="4038840"/>
              <a:ext cx="0" cy="4651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960720" y="4038840"/>
              <a:ext cx="0" cy="2206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119480" y="3652920"/>
              <a:ext cx="0" cy="3510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576" name=""/>
            <p:cNvGrpSpPr/>
            <p:nvPr/>
          </p:nvGrpSpPr>
          <p:grpSpPr>
            <a:xfrm>
              <a:off x="3867120" y="3637080"/>
              <a:ext cx="179280" cy="403200"/>
              <a:chOff x="3867120" y="3637080"/>
              <a:chExt cx="179280" cy="403200"/>
            </a:xfrm>
          </p:grpSpPr>
          <p:sp>
            <p:nvSpPr>
              <p:cNvPr id="561" name=""/>
              <p:cNvSpPr/>
              <p:nvPr/>
            </p:nvSpPr>
            <p:spPr>
              <a:xfrm rot="5400000">
                <a:off x="3889440" y="3614400"/>
                <a:ext cx="134280" cy="1792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rot="5400000">
                <a:off x="3889440" y="3748680"/>
                <a:ext cx="134280" cy="1792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rot="5400000">
                <a:off x="3889440" y="3883320"/>
                <a:ext cx="134280" cy="1792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579" name=""/>
            <p:cNvSpPr/>
            <p:nvPr/>
          </p:nvSpPr>
          <p:spPr>
            <a:xfrm rot="5400000">
              <a:off x="3681360" y="3784680"/>
              <a:ext cx="43200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580" name=""/>
            <p:cNvGrpSpPr/>
            <p:nvPr/>
          </p:nvGrpSpPr>
          <p:grpSpPr>
            <a:xfrm>
              <a:off x="3330720" y="3637080"/>
              <a:ext cx="179280" cy="403200"/>
              <a:chOff x="3330720" y="3637080"/>
              <a:chExt cx="179280" cy="403200"/>
            </a:xfrm>
          </p:grpSpPr>
          <p:sp>
            <p:nvSpPr>
              <p:cNvPr id="564" name=""/>
              <p:cNvSpPr/>
              <p:nvPr/>
            </p:nvSpPr>
            <p:spPr>
              <a:xfrm rot="5400000">
                <a:off x="3353040" y="3614400"/>
                <a:ext cx="134280" cy="1792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rot="5400000">
                <a:off x="3353040" y="3748680"/>
                <a:ext cx="134280" cy="1792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rot="5400000">
                <a:off x="3353040" y="3883320"/>
                <a:ext cx="134280" cy="1792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583" name=""/>
            <p:cNvSpPr/>
            <p:nvPr/>
          </p:nvSpPr>
          <p:spPr>
            <a:xfrm rot="5400000">
              <a:off x="3144600" y="3784680"/>
              <a:ext cx="43200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003480" y="3637080"/>
              <a:ext cx="41112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c0000"/>
                  </a:solidFill>
                  <a:latin typeface="Arial"/>
                </a:rPr>
                <a:t>i</a:t>
              </a:r>
              <a:r>
                <a:rPr b="1" lang="pl-PL" sz="2000" spc="-1" strike="noStrike" baseline="-25000">
                  <a:solidFill>
                    <a:srgbClr val="cc0000"/>
                  </a:solidFill>
                  <a:latin typeface="Arial"/>
                </a:rPr>
                <a:t>Cc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041640" y="3652920"/>
              <a:ext cx="0" cy="3510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583080" y="3652920"/>
              <a:ext cx="0" cy="3510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544920" y="3637080"/>
              <a:ext cx="41112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c0000"/>
                  </a:solidFill>
                  <a:latin typeface="Arial"/>
                </a:rPr>
                <a:t>i</a:t>
              </a:r>
              <a:r>
                <a:rPr b="1" lang="pl-PL" sz="2000" spc="-1" strike="noStrike" baseline="-25000">
                  <a:solidFill>
                    <a:srgbClr val="cc0000"/>
                  </a:solidFill>
                  <a:latin typeface="Arial"/>
                </a:rPr>
                <a:t>Cb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486400" y="3488040"/>
              <a:ext cx="3276720" cy="22604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757520" y="1841760"/>
              <a:ext cx="41112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c0000"/>
                  </a:solidFill>
                  <a:latin typeface="Arial"/>
                </a:rPr>
                <a:t>i</a:t>
              </a:r>
              <a:r>
                <a:rPr b="1" lang="pl-PL" sz="2000" spc="-1" strike="noStrike" baseline="-25000">
                  <a:solidFill>
                    <a:srgbClr val="cc0000"/>
                  </a:solidFill>
                  <a:latin typeface="Arial"/>
                </a:rPr>
                <a:t>Sb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751040" y="2364120"/>
              <a:ext cx="44280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c0000"/>
                  </a:solidFill>
                  <a:latin typeface="Arial"/>
                </a:rPr>
                <a:t>i</a:t>
              </a:r>
              <a:r>
                <a:rPr b="1" lang="pl-PL" sz="2000" spc="-1" strike="noStrike" baseline="-25000">
                  <a:solidFill>
                    <a:srgbClr val="cc0000"/>
                  </a:solidFill>
                  <a:latin typeface="Arial"/>
                </a:rPr>
                <a:t>Sc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591" name=""/>
            <p:cNvGrpSpPr/>
            <p:nvPr/>
          </p:nvGrpSpPr>
          <p:grpSpPr>
            <a:xfrm>
              <a:off x="2879640" y="3576600"/>
              <a:ext cx="5545080" cy="1852560"/>
              <a:chOff x="2879640" y="3576600"/>
              <a:chExt cx="5545080" cy="1852560"/>
            </a:xfrm>
          </p:grpSpPr>
          <p:sp>
            <p:nvSpPr>
              <p:cNvPr id="592" name=""/>
              <p:cNvSpPr/>
              <p:nvPr/>
            </p:nvSpPr>
            <p:spPr>
              <a:xfrm flipH="1">
                <a:off x="3951000" y="4259520"/>
                <a:ext cx="206532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H="1">
                <a:off x="3422520" y="4491360"/>
                <a:ext cx="3306960" cy="144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>
                <a:off x="2879640" y="4722840"/>
                <a:ext cx="457056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95" name=""/>
              <p:cNvGrpSpPr/>
              <p:nvPr/>
            </p:nvGrpSpPr>
            <p:grpSpPr>
              <a:xfrm>
                <a:off x="5670720" y="3576600"/>
                <a:ext cx="2754000" cy="1852560"/>
                <a:chOff x="5670720" y="3576600"/>
                <a:chExt cx="2754000" cy="1852560"/>
              </a:xfrm>
            </p:grpSpPr>
            <p:sp>
              <p:nvSpPr>
                <p:cNvPr id="596" name=""/>
                <p:cNvSpPr/>
                <p:nvPr/>
              </p:nvSpPr>
              <p:spPr>
                <a:xfrm>
                  <a:off x="5838840" y="4948560"/>
                  <a:ext cx="0" cy="2872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97" name=""/>
                <p:cNvGrpSpPr/>
                <p:nvPr/>
              </p:nvGrpSpPr>
              <p:grpSpPr>
                <a:xfrm>
                  <a:off x="6130800" y="5007240"/>
                  <a:ext cx="176400" cy="169560"/>
                  <a:chOff x="6130800" y="5007240"/>
                  <a:chExt cx="176400" cy="169560"/>
                </a:xfrm>
              </p:grpSpPr>
              <p:sp>
                <p:nvSpPr>
                  <p:cNvPr id="598" name=""/>
                  <p:cNvSpPr/>
                  <p:nvPr/>
                </p:nvSpPr>
                <p:spPr>
                  <a:xfrm>
                    <a:off x="6130800" y="5022360"/>
                    <a:ext cx="176400" cy="1544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>
                    <a:off x="6130800" y="5007240"/>
                    <a:ext cx="176400" cy="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0" name=""/>
                <p:cNvSpPr/>
                <p:nvPr/>
              </p:nvSpPr>
              <p:spPr>
                <a:xfrm>
                  <a:off x="6016680" y="5218200"/>
                  <a:ext cx="0" cy="17784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 flipV="1">
                  <a:off x="5838840" y="4953240"/>
                  <a:ext cx="187200" cy="15552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5851440" y="5092920"/>
                  <a:ext cx="168480" cy="13176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5776920" y="4948560"/>
                  <a:ext cx="0" cy="2872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5670720" y="5092920"/>
                  <a:ext cx="10620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6019920" y="4024440"/>
                  <a:ext cx="0" cy="92880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6216480" y="4869000"/>
                  <a:ext cx="0" cy="13824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6211800" y="5177160"/>
                  <a:ext cx="0" cy="1378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 flipH="1">
                  <a:off x="6009840" y="4881600"/>
                  <a:ext cx="20628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 flipH="1">
                  <a:off x="6009840" y="5305680"/>
                  <a:ext cx="20628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5838840" y="3748320"/>
                  <a:ext cx="0" cy="2872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11" name=""/>
                <p:cNvGrpSpPr/>
                <p:nvPr/>
              </p:nvGrpSpPr>
              <p:grpSpPr>
                <a:xfrm>
                  <a:off x="6130800" y="3807000"/>
                  <a:ext cx="176400" cy="169560"/>
                  <a:chOff x="6130800" y="3807000"/>
                  <a:chExt cx="176400" cy="169560"/>
                </a:xfrm>
              </p:grpSpPr>
              <p:sp>
                <p:nvSpPr>
                  <p:cNvPr id="612" name=""/>
                  <p:cNvSpPr/>
                  <p:nvPr/>
                </p:nvSpPr>
                <p:spPr>
                  <a:xfrm>
                    <a:off x="6130800" y="3822120"/>
                    <a:ext cx="176400" cy="1544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>
                    <a:off x="6130800" y="3807000"/>
                    <a:ext cx="176400" cy="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14" name=""/>
                <p:cNvSpPr/>
                <p:nvPr/>
              </p:nvSpPr>
              <p:spPr>
                <a:xfrm flipV="1">
                  <a:off x="5838840" y="3753000"/>
                  <a:ext cx="187200" cy="15552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5851440" y="3892680"/>
                  <a:ext cx="168480" cy="13176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5776920" y="3748320"/>
                  <a:ext cx="0" cy="2872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5670720" y="3892680"/>
                  <a:ext cx="10620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6016680" y="3581640"/>
                  <a:ext cx="0" cy="17784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6216480" y="3668760"/>
                  <a:ext cx="0" cy="13824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6211800" y="3976920"/>
                  <a:ext cx="0" cy="1378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 flipH="1">
                  <a:off x="6009840" y="3681720"/>
                  <a:ext cx="20628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 flipH="1">
                  <a:off x="6009840" y="4105440"/>
                  <a:ext cx="20628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6558120" y="4948560"/>
                  <a:ext cx="0" cy="2872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24" name=""/>
                <p:cNvGrpSpPr/>
                <p:nvPr/>
              </p:nvGrpSpPr>
              <p:grpSpPr>
                <a:xfrm>
                  <a:off x="6850080" y="5007240"/>
                  <a:ext cx="176040" cy="169560"/>
                  <a:chOff x="6850080" y="5007240"/>
                  <a:chExt cx="176040" cy="169560"/>
                </a:xfrm>
              </p:grpSpPr>
              <p:sp>
                <p:nvSpPr>
                  <p:cNvPr id="625" name=""/>
                  <p:cNvSpPr/>
                  <p:nvPr/>
                </p:nvSpPr>
                <p:spPr>
                  <a:xfrm>
                    <a:off x="6850080" y="5022360"/>
                    <a:ext cx="176040" cy="1544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>
                    <a:off x="6850080" y="5007240"/>
                    <a:ext cx="176040" cy="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27" name=""/>
                <p:cNvSpPr/>
                <p:nvPr/>
              </p:nvSpPr>
              <p:spPr>
                <a:xfrm>
                  <a:off x="6735600" y="5218200"/>
                  <a:ext cx="0" cy="17784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 flipV="1">
                  <a:off x="6558120" y="4953240"/>
                  <a:ext cx="187200" cy="15552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6570720" y="5092920"/>
                  <a:ext cx="168120" cy="13176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6496200" y="4948560"/>
                  <a:ext cx="0" cy="2872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6389640" y="5092920"/>
                  <a:ext cx="10656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6738840" y="4024440"/>
                  <a:ext cx="0" cy="92880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6935760" y="4869000"/>
                  <a:ext cx="0" cy="13824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6931080" y="5177160"/>
                  <a:ext cx="0" cy="1378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 flipH="1">
                  <a:off x="6729120" y="4881600"/>
                  <a:ext cx="20628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flipH="1">
                  <a:off x="6729120" y="5305680"/>
                  <a:ext cx="20628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6558120" y="3748320"/>
                  <a:ext cx="0" cy="2872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38" name=""/>
                <p:cNvGrpSpPr/>
                <p:nvPr/>
              </p:nvGrpSpPr>
              <p:grpSpPr>
                <a:xfrm>
                  <a:off x="6850080" y="3807000"/>
                  <a:ext cx="176040" cy="169560"/>
                  <a:chOff x="6850080" y="3807000"/>
                  <a:chExt cx="176040" cy="169560"/>
                </a:xfrm>
              </p:grpSpPr>
              <p:sp>
                <p:nvSpPr>
                  <p:cNvPr id="639" name=""/>
                  <p:cNvSpPr/>
                  <p:nvPr/>
                </p:nvSpPr>
                <p:spPr>
                  <a:xfrm>
                    <a:off x="6850080" y="3822120"/>
                    <a:ext cx="176040" cy="1544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>
                    <a:off x="6850080" y="3807000"/>
                    <a:ext cx="176040" cy="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41" name=""/>
                <p:cNvSpPr/>
                <p:nvPr/>
              </p:nvSpPr>
              <p:spPr>
                <a:xfrm flipV="1">
                  <a:off x="6558120" y="3753000"/>
                  <a:ext cx="187200" cy="15552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6570720" y="3892680"/>
                  <a:ext cx="168120" cy="13176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6496200" y="3748320"/>
                  <a:ext cx="0" cy="2872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6389640" y="3892680"/>
                  <a:ext cx="10656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6735600" y="3581640"/>
                  <a:ext cx="0" cy="17784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6935760" y="3668760"/>
                  <a:ext cx="0" cy="13824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6931080" y="3976920"/>
                  <a:ext cx="0" cy="1378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 flipH="1">
                  <a:off x="6729120" y="3681720"/>
                  <a:ext cx="20628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 flipH="1">
                  <a:off x="6729120" y="4105440"/>
                  <a:ext cx="20628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7278840" y="4946760"/>
                  <a:ext cx="0" cy="2872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51" name=""/>
                <p:cNvGrpSpPr/>
                <p:nvPr/>
              </p:nvGrpSpPr>
              <p:grpSpPr>
                <a:xfrm>
                  <a:off x="7570800" y="5005440"/>
                  <a:ext cx="176040" cy="169560"/>
                  <a:chOff x="7570800" y="5005440"/>
                  <a:chExt cx="176040" cy="169560"/>
                </a:xfrm>
              </p:grpSpPr>
              <p:sp>
                <p:nvSpPr>
                  <p:cNvPr id="652" name=""/>
                  <p:cNvSpPr/>
                  <p:nvPr/>
                </p:nvSpPr>
                <p:spPr>
                  <a:xfrm>
                    <a:off x="7570800" y="5020560"/>
                    <a:ext cx="176040" cy="1544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3" name=""/>
                  <p:cNvSpPr/>
                  <p:nvPr/>
                </p:nvSpPr>
                <p:spPr>
                  <a:xfrm>
                    <a:off x="7570800" y="5005440"/>
                    <a:ext cx="176040" cy="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54" name=""/>
                <p:cNvSpPr/>
                <p:nvPr/>
              </p:nvSpPr>
              <p:spPr>
                <a:xfrm>
                  <a:off x="7456320" y="5216760"/>
                  <a:ext cx="0" cy="17784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 flipV="1">
                  <a:off x="7278840" y="4951080"/>
                  <a:ext cx="187200" cy="1558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7291440" y="5091120"/>
                  <a:ext cx="168120" cy="13176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7216920" y="4946760"/>
                  <a:ext cx="0" cy="2872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7110360" y="5091120"/>
                  <a:ext cx="10656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7459560" y="4023000"/>
                  <a:ext cx="0" cy="92844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7656480" y="4867560"/>
                  <a:ext cx="0" cy="1378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7651800" y="5175360"/>
                  <a:ext cx="0" cy="13824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 flipH="1">
                  <a:off x="7449840" y="4880160"/>
                  <a:ext cx="20628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 flipH="1">
                  <a:off x="7449840" y="5303880"/>
                  <a:ext cx="20628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7278840" y="3746520"/>
                  <a:ext cx="0" cy="28764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65" name=""/>
                <p:cNvGrpSpPr/>
                <p:nvPr/>
              </p:nvGrpSpPr>
              <p:grpSpPr>
                <a:xfrm>
                  <a:off x="7570800" y="3805560"/>
                  <a:ext cx="176040" cy="169200"/>
                  <a:chOff x="7570800" y="3805560"/>
                  <a:chExt cx="176040" cy="169200"/>
                </a:xfrm>
              </p:grpSpPr>
              <p:sp>
                <p:nvSpPr>
                  <p:cNvPr id="666" name=""/>
                  <p:cNvSpPr/>
                  <p:nvPr/>
                </p:nvSpPr>
                <p:spPr>
                  <a:xfrm>
                    <a:off x="7570800" y="3820680"/>
                    <a:ext cx="176040" cy="1540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7" name=""/>
                  <p:cNvSpPr/>
                  <p:nvPr/>
                </p:nvSpPr>
                <p:spPr>
                  <a:xfrm>
                    <a:off x="7570800" y="3805560"/>
                    <a:ext cx="176040" cy="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68" name=""/>
                <p:cNvSpPr/>
                <p:nvPr/>
              </p:nvSpPr>
              <p:spPr>
                <a:xfrm flipV="1">
                  <a:off x="7278840" y="3751560"/>
                  <a:ext cx="187200" cy="15552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7291440" y="3891240"/>
                  <a:ext cx="168120" cy="13176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7216920" y="3746520"/>
                  <a:ext cx="0" cy="28764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7110360" y="3891240"/>
                  <a:ext cx="10656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7456320" y="3579840"/>
                  <a:ext cx="0" cy="17784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7656480" y="3667320"/>
                  <a:ext cx="0" cy="13824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7651800" y="3975120"/>
                  <a:ext cx="0" cy="13824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 flipH="1">
                  <a:off x="7449840" y="3679920"/>
                  <a:ext cx="20628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 flipH="1">
                  <a:off x="7449840" y="4104000"/>
                  <a:ext cx="20628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 flipV="1">
                  <a:off x="6006960" y="3582720"/>
                  <a:ext cx="2249640" cy="180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 flipV="1">
                  <a:off x="6010200" y="5389200"/>
                  <a:ext cx="2249640" cy="180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8064360" y="392616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8064360" y="399924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 flipV="1">
                  <a:off x="8244000" y="3576600"/>
                  <a:ext cx="0" cy="36036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8064360" y="495324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8064360" y="502632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8244000" y="5032440"/>
                  <a:ext cx="0" cy="36036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8248680" y="3999240"/>
                  <a:ext cx="0" cy="95400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8215200" y="4443480"/>
                  <a:ext cx="71640" cy="71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5983200" y="4221360"/>
                  <a:ext cx="71640" cy="71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6711840" y="4453200"/>
                  <a:ext cx="71640" cy="71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7423200" y="4689720"/>
                  <a:ext cx="71280" cy="71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7858080" y="3605400"/>
                  <a:ext cx="476280" cy="78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l-PL" sz="2000" spc="-1" strike="noStrike">
                      <a:solidFill>
                        <a:srgbClr val="cc0000"/>
                      </a:solidFill>
                      <a:latin typeface="Arial"/>
                    </a:rPr>
                    <a:t>C</a:t>
                  </a:r>
                  <a:r>
                    <a:rPr b="1" lang="pl-PL" sz="2000" spc="-1" strike="noStrike" baseline="-25000">
                      <a:solidFill>
                        <a:srgbClr val="cc0000"/>
                      </a:solidFill>
                      <a:latin typeface="Arial"/>
                    </a:rPr>
                    <a:t>dc</a:t>
                  </a:r>
                  <a:endParaRPr b="0" lang="en-US" sz="20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7858080" y="4641840"/>
                  <a:ext cx="479520" cy="78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l-PL" sz="2000" spc="-1" strike="noStrike">
                      <a:solidFill>
                        <a:srgbClr val="cc0000"/>
                      </a:solidFill>
                      <a:latin typeface="Arial"/>
                    </a:rPr>
                    <a:t>C</a:t>
                  </a:r>
                  <a:r>
                    <a:rPr b="1" lang="pl-PL" sz="2000" spc="-1" strike="noStrike" baseline="-25000">
                      <a:solidFill>
                        <a:srgbClr val="cc0000"/>
                      </a:solidFill>
                      <a:latin typeface="Arial"/>
                    </a:rPr>
                    <a:t>dc</a:t>
                  </a:r>
                  <a:endParaRPr b="0" lang="en-US" sz="20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5994360" y="4167360"/>
                  <a:ext cx="258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cc0000"/>
                      </a:solidFill>
                      <a:latin typeface="Arial"/>
                    </a:rPr>
                    <a:t>a</a:t>
                  </a:r>
                  <a:endParaRPr b="0" lang="en-US" sz="20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6711840" y="4388040"/>
                  <a:ext cx="258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cc0000"/>
                      </a:solidFill>
                      <a:latin typeface="Arial"/>
                    </a:rPr>
                    <a:t>b</a:t>
                  </a:r>
                  <a:endParaRPr b="0" lang="en-US" sz="20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7429680" y="4621320"/>
                  <a:ext cx="2584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cc0000"/>
                      </a:solidFill>
                      <a:latin typeface="Arial"/>
                    </a:rPr>
                    <a:t>c</a:t>
                  </a:r>
                  <a:endParaRPr b="0" lang="en-US" sz="20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95" name=""/>
            <p:cNvSpPr/>
            <p:nvPr/>
          </p:nvSpPr>
          <p:spPr>
            <a:xfrm>
              <a:off x="4492800" y="3175200"/>
              <a:ext cx="3506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527720" y="2876760"/>
              <a:ext cx="44280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c0000"/>
                  </a:solidFill>
                  <a:latin typeface="Arial"/>
                </a:rPr>
                <a:t>i</a:t>
              </a:r>
              <a:r>
                <a:rPr b="1" lang="pl-PL" sz="2000" spc="-1" strike="noStrike" baseline="-25000">
                  <a:solidFill>
                    <a:srgbClr val="cc0000"/>
                  </a:solidFill>
                  <a:latin typeface="Arial"/>
                </a:rPr>
                <a:t>Ln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776240" y="3176640"/>
              <a:ext cx="3510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811160" y="2878200"/>
              <a:ext cx="44316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c0000"/>
                  </a:solidFill>
                  <a:latin typeface="Arial"/>
                </a:rPr>
                <a:t>i</a:t>
              </a:r>
              <a:r>
                <a:rPr b="1" lang="pl-PL" sz="2000" spc="-1" strike="noStrike" baseline="-25000">
                  <a:solidFill>
                    <a:srgbClr val="cc0000"/>
                  </a:solidFill>
                  <a:latin typeface="Arial"/>
                </a:rPr>
                <a:t>Sn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530440" y="3652920"/>
              <a:ext cx="0" cy="3510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486160" y="3622680"/>
              <a:ext cx="48096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c0000"/>
                  </a:solidFill>
                  <a:latin typeface="Arial"/>
                </a:rPr>
                <a:t>i</a:t>
              </a:r>
              <a:r>
                <a:rPr b="1" lang="pl-PL" sz="2000" spc="-1" strike="noStrike" baseline="-25000">
                  <a:solidFill>
                    <a:srgbClr val="cc0000"/>
                  </a:solidFill>
                  <a:latin typeface="Arial"/>
                </a:rPr>
                <a:t>Cn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701" name=""/>
            <p:cNvGrpSpPr/>
            <p:nvPr/>
          </p:nvGrpSpPr>
          <p:grpSpPr>
            <a:xfrm>
              <a:off x="2789280" y="3637080"/>
              <a:ext cx="179280" cy="403200"/>
              <a:chOff x="2789280" y="3637080"/>
              <a:chExt cx="179280" cy="403200"/>
            </a:xfrm>
          </p:grpSpPr>
          <p:sp>
            <p:nvSpPr>
              <p:cNvPr id="567" name=""/>
              <p:cNvSpPr/>
              <p:nvPr/>
            </p:nvSpPr>
            <p:spPr>
              <a:xfrm rot="5400000">
                <a:off x="2811600" y="3614400"/>
                <a:ext cx="134280" cy="1792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5400000">
                <a:off x="2811600" y="3748680"/>
                <a:ext cx="134280" cy="1792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5400000">
                <a:off x="2811600" y="3883320"/>
                <a:ext cx="134280" cy="1792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704" name=""/>
            <p:cNvSpPr/>
            <p:nvPr/>
          </p:nvSpPr>
          <p:spPr>
            <a:xfrm rot="5400000">
              <a:off x="2603520" y="3784680"/>
              <a:ext cx="43200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882880" y="4035600"/>
              <a:ext cx="0" cy="693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36600" y="1730520"/>
              <a:ext cx="1079280" cy="1149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ff"/>
                  </a:solidFill>
                  <a:latin typeface="Arial"/>
                </a:rPr>
                <a:t>Sourc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cxnSp>
          <p:nvCxnSpPr>
            <p:cNvPr id="706" name=""/>
            <p:cNvCxnSpPr>
              <a:stCxn id="534" idx="3"/>
              <a:endCxn id="515" idx="2"/>
            </p:cNvCxnSpPr>
            <p:nvPr/>
          </p:nvCxnSpPr>
          <p:spPr>
            <a:xfrm flipV="1">
              <a:off x="1429920" y="2303280"/>
              <a:ext cx="273960" cy="21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</a:ln>
          </p:spPr>
        </p:cxnSp>
        <p:sp>
          <p:nvSpPr>
            <p:cNvPr id="707" name=""/>
            <p:cNvSpPr/>
            <p:nvPr/>
          </p:nvSpPr>
          <p:spPr>
            <a:xfrm>
              <a:off x="1415880" y="1851120"/>
              <a:ext cx="31932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415880" y="2826000"/>
              <a:ext cx="300240" cy="61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1259-1CA4-4B89-9B8E-FB277EF5596E}" type="slidenum">
              <a:t>9</a:t>
            </a:fld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2T15:50:00Z</dcterms:created>
  <dc:creator>KANiUP</dc:creator>
  <dc:description/>
  <dc:language>en-US</dc:language>
  <cp:lastModifiedBy>Maciej Pawełek</cp:lastModifiedBy>
  <cp:lastPrinted>2001-01-17T10:51:36Z</cp:lastPrinted>
  <dcterms:modified xsi:type="dcterms:W3CDTF">2007-01-10T21:52:15Z</dcterms:modified>
  <cp:revision>1480</cp:revision>
  <dc:subject/>
  <dc:title>Energetyczny Filtr Aktywny</dc:title>
</cp:coreProperties>
</file>