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490-750C-40E4-8871-A36A0E1E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7B6-9166-4F98-ABFB-FA67F188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557-7921-4E9A-AC48-C64DBCD3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611-6679-4635-801E-97A30C03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71FA-B99D-408A-B249-4BBC49CC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5685-0248-43F3-9D97-3410EFBB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B1EA-AB03-4C68-9587-E8AE29A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CD6C-FB10-4B4E-8F58-A5006EA3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343A-9586-401E-9C9A-BD4A639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A04-98E6-4D39-9121-3DF1DCF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7321-A1AD-4715-B2B7-B26670B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345-D1BB-4906-999E-EC3067FF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F704-60B3-49CB-9B38-123CA7B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C813-F4F7-4EE8-98D4-5E053AB1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4CB-6841-4074-9A25-D9C087BE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4342-4CF6-4A99-A560-798C502D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A57-9937-40B4-B38B-DE199471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D44-C9B5-4FDD-BB16-8AB69572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93F-E7B9-47D6-949B-6EBCE52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BA2-FA27-4672-90DD-B24C00D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23E-152A-42E1-B2C4-3AEA37B6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770-0199-4767-B348-7972058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844-4BA1-4441-B73E-E07960A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9D0-D6F6-4F4F-819E-B9AE0A4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BC8D-ED82-4242-BF20-EAAF5C53D45A}" type="slidenum">
              <a:rPr b="0" lang="pl-P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079-6625-403F-8191-5010BF530C30}" type="slidenum">
              <a:rPr b="0" lang="pl-P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76520" y="2590920"/>
            <a:ext cx="5740200" cy="3111480"/>
            <a:chOff x="1676520" y="2590920"/>
            <a:chExt cx="5740200" cy="3111480"/>
          </a:xfrm>
        </p:grpSpPr>
        <p:sp>
          <p:nvSpPr>
            <p:cNvPr id="99" name=""/>
            <p:cNvSpPr/>
            <p:nvPr/>
          </p:nvSpPr>
          <p:spPr>
            <a:xfrm>
              <a:off x="5699160" y="5308560"/>
              <a:ext cx="38088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67720" y="5232240"/>
              <a:ext cx="38088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5320" y="2763000"/>
              <a:ext cx="25776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42560" y="2768760"/>
              <a:ext cx="25776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8600" y="2768760"/>
              <a:ext cx="25776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2590920"/>
              <a:ext cx="574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6520" y="5702400"/>
              <a:ext cx="574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2590920"/>
              <a:ext cx="0" cy="31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16720" y="2590920"/>
              <a:ext cx="0" cy="15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16720" y="464832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46320" y="5232240"/>
              <a:ext cx="55872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4940280"/>
              <a:ext cx="119376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32520" y="5232240"/>
              <a:ext cx="12823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47560" y="5308560"/>
              <a:ext cx="16164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49840" y="5308560"/>
              <a:ext cx="16164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0040" y="5308560"/>
              <a:ext cx="16200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76440" y="2763000"/>
              <a:ext cx="180000" cy="7272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0" y="109"/>
                  </a:moveTo>
                  <a:cubicBezTo>
                    <a:pt x="73" y="0"/>
                    <a:pt x="88" y="27"/>
                    <a:pt x="220" y="49"/>
                  </a:cubicBezTo>
                  <a:cubicBezTo>
                    <a:pt x="264" y="115"/>
                    <a:pt x="284" y="109"/>
                    <a:pt x="240" y="1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24360" y="2763000"/>
              <a:ext cx="180360" cy="7272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0" y="109"/>
                  </a:moveTo>
                  <a:cubicBezTo>
                    <a:pt x="73" y="0"/>
                    <a:pt x="88" y="27"/>
                    <a:pt x="220" y="49"/>
                  </a:cubicBezTo>
                  <a:cubicBezTo>
                    <a:pt x="264" y="115"/>
                    <a:pt x="284" y="109"/>
                    <a:pt x="240" y="1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30720" y="2763000"/>
              <a:ext cx="180000" cy="7272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0" y="109"/>
                  </a:moveTo>
                  <a:cubicBezTo>
                    <a:pt x="73" y="0"/>
                    <a:pt x="88" y="27"/>
                    <a:pt x="220" y="49"/>
                  </a:cubicBezTo>
                  <a:cubicBezTo>
                    <a:pt x="264" y="115"/>
                    <a:pt x="284" y="109"/>
                    <a:pt x="240" y="1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76440" y="2763000"/>
              <a:ext cx="1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30720" y="2763000"/>
              <a:ext cx="1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4360" y="27630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56360" y="2666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03080" y="267264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0320" y="2666880"/>
              <a:ext cx="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95800" y="536184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95800" y="5361840"/>
              <a:ext cx="266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422080" y="5361840"/>
              <a:ext cx="284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51240" y="536184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99880" y="536184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61080" y="536400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1520" y="536184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2360" y="536184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880" y="5361840"/>
              <a:ext cx="266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31520" y="5361840"/>
              <a:ext cx="266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826160" y="5361840"/>
              <a:ext cx="284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157800" y="5364000"/>
              <a:ext cx="284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03320" y="5232240"/>
              <a:ext cx="38088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ór kabla zasilając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b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bl sil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bl oś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6,7 +16 + 0,66 = 43,4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el aluminiowy w izolacji PVC ułożony pojedynczo, bezpośrednio w ziem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PN-IEC 60364-5-523 tablica 52-C3) – przekrój 16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2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el </a:t>
            </a:r>
            <a:r>
              <a:rPr b="1" lang="de-DE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KY 4 x 16mm</a:t>
            </a:r>
            <a:r>
              <a:rPr b="1" lang="de-DE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ór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ieczenia kabla zasilając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piecznik jako ochrona od zwarć i przeciążeń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la przeciążeń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az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= 1,6 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1,45 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4 ≤ 50 ≤ 5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x 50 = 80        1,45 x 52 = 75,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eży wybrać kabel o większym przekroju: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KY 4x25m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6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x 50 = 80 &lt; 1,45 x 66 = 95,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zwarć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74 A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25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ymalna wartość całki Joule’a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la prądu zwarciowego I = 11,7 kA, z charakterystyki bezpiecznik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/NH 1 50 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 A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422 500 &gt;10 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reślenie warunków zwarciowych na szynach RGnn i R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ransformato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Ob, S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00 kVA;  U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,75/0,4 kV;   Δ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650 W;  Δu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ja transformato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362320" y="4572000"/>
                <a:ext cx="5410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5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47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362320" y="5638680"/>
                <a:ext cx="5333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tancja sieci  zasilające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ja kabla zasilając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czątkowy prąd zwarciowy przy zwarciu na szynach RGn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81280" y="1981080"/>
                <a:ext cx="5016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,1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7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33920" y="3048120"/>
                <a:ext cx="414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962520"/>
                <a:ext cx="6350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7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09480" y="5257800"/>
                <a:ext cx="7925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04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17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arowy prąd zwarciow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zątkowy prąd zwarciowy przy zwarciu na szynach R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9880" y="2209680"/>
                <a:ext cx="2133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81280" y="2895480"/>
                <a:ext cx="4102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1,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4343400"/>
                <a:ext cx="7239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4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34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1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8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27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5,2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2464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ór zabezpieczeń silników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nik o mocy 13 kW wyposażony jest w zestaw rozruchowy typu BGSLA z przełącznikiem gwiazda-trójkąt i z wyzwalaczem termicznym dobranym i nastawionym na prąd znamionowy silnika. Jako zabezpieczenie od zwarć stosowane są bezpieczniki typu 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pozostałych silników jako zabezpieczenie od przeciążeń oraz łącznik manewrowy wybrane zostały wyłączniki silnikowe typu M250 wyposażone w wyzwalacze termiczne nastawione na prąd znamionowy silnika oraz wyzwalacze elektromagnetyczne nastawione fabryczn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2464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doboru zabezpiecze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silnik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nik o mocy P = 1,5 k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silnika: P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5 kW; 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8 A;  k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7; 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1,7 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ieramy wyłącznik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250 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zakresie wyzwalacza termicznego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5 – 4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óry należy nastawić na prąd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a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8 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nik o mocy P =13 k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silnika: P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 kW; 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 A;  k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4,8; 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4,8 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ieramy zestaw rozruchowy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GSLA-16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posażony w przełącznik gwiazda-trójkąt oraz stycznik z wyzwalaczem termicznym o zakresi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– 27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óry należy nastawić na prąd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a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2464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doboru zabezpiecze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silnik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nik o mocy P =13 kW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c.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ieczenie od zwarć – bezpiecznik o niepełnozakresowej charakterystyce działania (aM) dobrany wg następujących kryteriów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de-DE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1" lang="de-DE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M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z  I</a:t>
            </a:r>
            <a:r>
              <a:rPr b="1" lang="de-DE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1" lang="de-DE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dla rozruchu silnika lekkiego i występującego rzadk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l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26 A  oraz 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24,8 / 3 x 3 = 13,86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ieramy bezpiecznik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Wtz 35/63 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osowany w każdym przewodzie fazowy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ieczenia silników zestawione w tabe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22464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ór obwodów odbiorcz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y obliczeń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wód nr 1 (silnik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: silniki nr 1 i 2 o mocy ΣP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5 + 4 = 5,5 k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,5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w czasie rozruchu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ór przewod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-IEC 60364-5-523, metoda prowadzenia przewodu C, przewód w izolacji z PVC, obciążone 3 żyły miedziane, tab. 52-C3, kolumna 6 –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DY 4x 1,5 m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7,5 A &gt;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,5 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 PN-IEC 60364-5-523 uwzględnia wytrzymałość mechaniczną przekroju – nie stosuje się przewodów o przekrojach mniejszych niż 1,5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i 2,5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14400" y="4038480"/>
                <a:ext cx="6746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,7</m:t>
                        </m:r>
                        <m:r>
                          <m:t xml:space="preserve">⋅</m:t>
                        </m:r>
                        <m:r>
                          <m:t xml:space="preserve">8,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konać projekt nowej instalacji siły i oświetlenia dla pomieszczenia produkcyjnego w oparciu o da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1.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Zasila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nstalacja zasilana jest z wolnostojącej rozdzielnicy głównej (RG) 380/220 V znajdującej się w stacji transformatorowo- rozdzielczej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górne znamionowe napięcie zasilające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G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=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5,75 k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dolne znamionowe napięcie zasilające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D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=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4 k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moc zwarciowa po stronie górnego napięc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=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00 M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obciążenie maksymalne stacji zasilające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MAX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60 K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odległość ściany hali produkcyjnej od RGn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         =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464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ieważ obwód zasila dwa silniki, jako zabezpieczenie obwodu od zwarć i przeciążeń wybieramy bezpiecznik selektywny do zabezpieczenia większego silnika czyli wyłącznika M250 10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yteria doboru bezpiecznika w obwodzie odbiorczy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447920" y="3809880"/>
                <a:ext cx="1955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71600" y="4419720"/>
                <a:ext cx="185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zruch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5029200"/>
                <a:ext cx="1727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5638680"/>
                <a:ext cx="3048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z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b>
                    </m:sSub>
                    <m:r>
                      <m:t xml:space="preserve">&gt;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y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257800" y="3809880"/>
                <a:ext cx="2565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38680" y="4419720"/>
                <a:ext cx="1498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572000" y="5029200"/>
                <a:ext cx="4000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572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2246400"/>
            <a:ext cx="8610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względu na warunek nr 2 należy wybrać bezpiecznik o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 A. Wówczas konieczna jest zmiana przekroju przewodu aby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A. Wybieramy przewód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Y 4 x 4 m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2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6 x 25 = 40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45 x 32 = 46,4 A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dziewany prąd zwarciowy na końcu linii zasilającej silnik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33520" y="5105520"/>
                <a:ext cx="8305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obw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obw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4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34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27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1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8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2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05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3,3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514600" y="2133720"/>
                <a:ext cx="3733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w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γ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28800" y="3124080"/>
                <a:ext cx="58039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w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3733920"/>
            <a:ext cx="861048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dzamy selektywność zabezpieczeń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la bezpiecznika 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0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wyłącznika silnikowego M250 4 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00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ieczenia działają selektyw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piecznik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Wtz 25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instalowany w każdej fazie na początku obwodu odbiorczego nr 1 może stanowić zabezpieczenie linii od zwarć i przeciąż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wód nr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: silnik nr 3 o mocy P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 k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w czasie rozruchu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8 x 26 = 124,8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ór przewodu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-IEC 60364-5-523, metoda prowadzenia przewodu C, przewód w izolac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PVC, obciążone 3 żyły miedziane, tab. 52-C3, kolumna 6 –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DY 4x 4 mm</a:t>
            </a:r>
            <a:r>
              <a:rPr b="1" lang="pl-PL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2 A &gt; I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 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ieważ obwód zasila jeden silnik, sprawdzamy czy wybrany jako dobezpieczenie silnika bezpiecznik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Wtz 35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że stanowić zabezpieczenie od zwarć i przeciążeń linii (będzie wówczas zainstalowany na początku obwodu, a nie przy silniku; nie może być również bezpiecznikiem o charakterystyce aM a gG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bezpiecznika o prądzie znamionowym 35 A należy powiększyć przekrój przewod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przewodu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DY 4x6 m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 I</a:t>
            </a:r>
            <a:r>
              <a:rPr b="1" lang="pl-PL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z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41A)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dzam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de-DE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I</a:t>
            </a:r>
            <a:r>
              <a:rPr b="0" lang="de-DE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I</a:t>
            </a:r>
            <a:r>
              <a:rPr b="0" lang="de-DE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de-DE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0" lang="de-DE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z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6 x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1,45 x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&lt; 35 &lt; 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&gt; 124,8/3x3 = 124,8/9 = 13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x 35 = 56 &lt; 1,45 x 41 = 59,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obwodów w tabel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2743200"/>
          <a:ext cx="8610480" cy="3863880"/>
        </p:xfrm>
        <a:graphic>
          <a:graphicData uri="http://schemas.openxmlformats.org/drawingml/2006/table">
            <a:tbl>
              <a:tblPr/>
              <a:tblGrid>
                <a:gridCol w="761760"/>
                <a:gridCol w="1676520"/>
                <a:gridCol w="838080"/>
                <a:gridCol w="685800"/>
                <a:gridCol w="1981440"/>
                <a:gridCol w="761760"/>
                <a:gridCol w="1905120"/>
              </a:tblGrid>
              <a:tr h="82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 obw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 silników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 P</a:t>
                      </a:r>
                      <a:r>
                        <a:rPr b="1" lang="pl-PL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pl-PL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 przewodu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pl-PL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bezpieczenie przewodu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DY 4x4 mm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 25/2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DY 4x6 mm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 35/63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niazda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DY 4x2,5 mm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 16/2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silanie Roś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DY 3x1,5 mm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 16/2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80880" y="22096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obwodów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3581280"/>
          <a:ext cx="7315200" cy="2966760"/>
        </p:xfrm>
        <a:graphic>
          <a:graphicData uri="http://schemas.openxmlformats.org/drawingml/2006/table">
            <a:tbl>
              <a:tblPr/>
              <a:tblGrid>
                <a:gridCol w="1218960"/>
                <a:gridCol w="1447920"/>
                <a:gridCol w="1143000"/>
                <a:gridCol w="2133720"/>
                <a:gridCol w="1371600"/>
              </a:tblGrid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ry obwodów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krój przew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m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S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A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]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ąd znamionowy bezpiecznika [A]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A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]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6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1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656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56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380880" y="2209680"/>
            <a:ext cx="830592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dzenie zabezpieczeń obwodów odbiorczych w warunkach zwar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spodziewanego na szynach RO pradu zwarciowego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9,7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ktywność zabezpieczeń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19320" y="3352680"/>
            <a:ext cx="6135480" cy="2286000"/>
            <a:chOff x="1219320" y="3352680"/>
            <a:chExt cx="6135480" cy="2286000"/>
          </a:xfrm>
        </p:grpSpPr>
        <p:sp>
          <p:nvSpPr>
            <p:cNvPr id="224" name=""/>
            <p:cNvSpPr/>
            <p:nvPr/>
          </p:nvSpPr>
          <p:spPr>
            <a:xfrm>
              <a:off x="3989520" y="3352680"/>
              <a:ext cx="628560" cy="45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8240" y="4135320"/>
              <a:ext cx="138420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3xWT/NH1 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0440" y="5032440"/>
              <a:ext cx="11336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BiWtz 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70440" y="4578480"/>
              <a:ext cx="113364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3 xBiWtz 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0440" y="4008600"/>
              <a:ext cx="113364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3 xBiWtz 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70440" y="3503520"/>
              <a:ext cx="113364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3 xBiWtz 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5181480"/>
              <a:ext cx="12589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bw. nr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9920" y="4572000"/>
              <a:ext cx="125892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bw. n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9920" y="4114800"/>
              <a:ext cx="125892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bw. n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657600"/>
              <a:ext cx="125892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obw. n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2800" y="4813200"/>
              <a:ext cx="377640" cy="30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92800" y="4276800"/>
              <a:ext cx="37764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92800" y="3819600"/>
              <a:ext cx="37764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2800" y="5335560"/>
              <a:ext cx="37764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00240" y="4425840"/>
              <a:ext cx="378000" cy="30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49320" y="4122720"/>
              <a:ext cx="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45784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49320" y="4578480"/>
              <a:ext cx="239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35080" y="4425840"/>
              <a:ext cx="0" cy="3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57440" y="4425840"/>
              <a:ext cx="0" cy="3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40080" y="3819600"/>
              <a:ext cx="0" cy="18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0080" y="3971880"/>
              <a:ext cx="239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40080" y="4425840"/>
              <a:ext cx="239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0080" y="4962600"/>
              <a:ext cx="239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40080" y="5487840"/>
              <a:ext cx="239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4680" y="4813200"/>
              <a:ext cx="0" cy="3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35600" y="4275000"/>
              <a:ext cx="0" cy="3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4680" y="4275000"/>
              <a:ext cx="0" cy="3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35600" y="3816360"/>
              <a:ext cx="0" cy="30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14680" y="3816360"/>
              <a:ext cx="0" cy="30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5600" y="5335560"/>
              <a:ext cx="0" cy="30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4680" y="5335560"/>
              <a:ext cx="0" cy="30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0" y="4813200"/>
              <a:ext cx="0" cy="30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07000" y="397188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07000" y="442584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507000" y="4933800"/>
              <a:ext cx="1256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07000" y="548784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657600"/>
              <a:ext cx="75564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RGn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łki Joule’a zastosowanych w obwodach bezpieczników dla spodziewanego na szynach RO prądu zwarciowego początkowego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5,2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3520" y="3352680"/>
          <a:ext cx="7772400" cy="16002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T/NH1 5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 2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 35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Wtz16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pl-PL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A</a:t>
                      </a:r>
                      <a:r>
                        <a:rPr b="1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]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pl-PL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A</a:t>
                      </a:r>
                      <a:r>
                        <a:rPr b="1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]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700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228600" y="5334120"/>
            <a:ext cx="8915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k selektywności między zabezpieczeniem linii zasilającej RO i zabezpieczeniem obwodu nr 2. Bezpiecznikiem selektywnie działającym do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Wtz 3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T/NH1 80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na taki należy wymienić bezpiecznik w linii zasilającej 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woduje to kolejną korektę przekroju kabla zasilającego R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piecznik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T/NH1 80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ako ochrona od zwarć i przeciążeń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la przeciążeń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I</a:t>
            </a:r>
            <a:r>
              <a:rPr b="1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I</a:t>
            </a:r>
            <a:r>
              <a:rPr b="1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z I</a:t>
            </a:r>
            <a:r>
              <a:rPr b="1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6 x I</a:t>
            </a:r>
            <a:r>
              <a:rPr b="1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1,45 x I</a:t>
            </a:r>
            <a:r>
              <a:rPr b="1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4 ≤ 80 ≤ 8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x 80 = 128        1,45 x 52 = 75,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eży wybrać kabel o większym przekroju: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KY 4x50m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4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6 x 80 = 128&lt; 1,45 x 94=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b: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KY 4x35mm</a:t>
            </a:r>
            <a:r>
              <a:rPr b="1" lang="pl-PL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3A) – 1,45 x 103 = 1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Charakterystyka pomieszczenia produkcyj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wierzchni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 x b = 6 x 4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sokość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h  =  4,5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tmosfera pomieszczenia - normal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magany poziom natężenia oświetlenia 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śr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=  300 l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półczynnik odbicia ścian    ρ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s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=  0,7</a:t>
            </a:r>
            <a:r>
              <a:rPr b="0" lang="pl-PL" sz="1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półczynnik odbicia sufit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ρ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s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=  0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Times New Roman CE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spółczynnik odbicia podłogi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ρ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p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=  0,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la zwar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KY 4x50m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 = 74 A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KY 4x35m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115 A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50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30 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ymalna wartość całki Joule’a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la prądu zwarciowego I = 11,7 kA, z charakterystyki bezpiecznika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T/NH 1 80 A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00 A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KY 4x50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 690 000 &gt; 35 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KY 4x35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 200 625 &gt; 35 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Dobór aparatury w polu rozdzielnicy głównej 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 Zabezpieczenie od zwarć i przeciąże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piecznik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T/NH 1 80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zwarciowy bezpiecznika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 k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  ograniczony   bezpiecznika   dla   prądu   zwarciowego   początkowego  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,7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og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5,3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Łącznik (rozłączni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yteria doboru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Ł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ynŁ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min (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ieramy rozłącznik typu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top 63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któr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63A &gt; I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3,4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ynŁ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5kA &gt; min ( 29,8; 5,3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3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kładnik prądow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yteria doboru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zcz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min (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ieramy przekładnik prądowy typu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MOc KTM 1115.711.233.13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anyc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przekładnia – 100/5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moc znamionowa – S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klasa dokładności –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liczba przetężeniowa – n &lt;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prąd szczytowy –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zc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 kA  &gt;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3 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Ochrona przeciwporażeniowa dodatko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o środek ochrony przeciwporażeniowej dodatkowej zastosowano samoczynne wyłączenie zasilania (N-IEC 60364-4-41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dzenie skuteczności ochron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l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r 1 i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3520" y="3886200"/>
            <a:ext cx="7597800" cy="2370240"/>
            <a:chOff x="533520" y="3886200"/>
            <a:chExt cx="7597800" cy="2370240"/>
          </a:xfrm>
        </p:grpSpPr>
        <p:sp>
          <p:nvSpPr>
            <p:cNvPr id="279" name=""/>
            <p:cNvSpPr/>
            <p:nvPr/>
          </p:nvSpPr>
          <p:spPr>
            <a:xfrm>
              <a:off x="4497480" y="5811840"/>
              <a:ext cx="9126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2,5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68560" y="5219640"/>
              <a:ext cx="11494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3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7080" y="4648320"/>
              <a:ext cx="736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6,5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0120" y="5638680"/>
              <a:ext cx="5112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1800" y="4267080"/>
              <a:ext cx="38268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9520" y="3886200"/>
              <a:ext cx="3841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800600"/>
              <a:ext cx="382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5811840"/>
              <a:ext cx="11750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BGSLA 16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69240" y="5072040"/>
              <a:ext cx="5112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57800" y="5072040"/>
              <a:ext cx="5605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4648320"/>
              <a:ext cx="1084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M250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920" y="4648320"/>
              <a:ext cx="112068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M250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46560" y="3984480"/>
              <a:ext cx="6397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11160" y="4749840"/>
              <a:ext cx="1694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3xWT/NH1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5367240"/>
              <a:ext cx="147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3 xBiWtz 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62520" y="4133880"/>
              <a:ext cx="143028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3 xBiWtz 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78600" y="5516640"/>
              <a:ext cx="127944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obw. n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37200" y="4281480"/>
              <a:ext cx="12780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obw. n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0600" y="5664240"/>
              <a:ext cx="384120" cy="29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57760" y="4441680"/>
              <a:ext cx="384120" cy="29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28840" y="5033880"/>
              <a:ext cx="382320" cy="29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73240" y="4738680"/>
              <a:ext cx="0" cy="88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3520" y="5183280"/>
              <a:ext cx="63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73240" y="5183280"/>
              <a:ext cx="242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62240" y="5033880"/>
              <a:ext cx="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2160" y="5033880"/>
              <a:ext cx="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02160" y="4441680"/>
              <a:ext cx="0" cy="177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02160" y="4589640"/>
              <a:ext cx="242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6640" y="5664240"/>
              <a:ext cx="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3360" y="5664240"/>
              <a:ext cx="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08480" y="4438800"/>
              <a:ext cx="0" cy="29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0000" y="4438800"/>
              <a:ext cx="0" cy="29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4267080"/>
              <a:ext cx="76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RGn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5800" y="5638680"/>
              <a:ext cx="37800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6840" y="4589640"/>
              <a:ext cx="76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08760" y="459576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3640" y="459576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18320" y="4741920"/>
              <a:ext cx="3841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08760" y="49165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12040" y="4741920"/>
              <a:ext cx="3841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13640" y="49230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91000" y="5811840"/>
              <a:ext cx="357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5120" y="5961240"/>
              <a:ext cx="3841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62600" y="581184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8040" y="4923000"/>
              <a:ext cx="255600" cy="14904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58040" y="4330800"/>
              <a:ext cx="255600" cy="29664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2680" y="4495680"/>
              <a:ext cx="255600" cy="5940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16720" y="5070600"/>
              <a:ext cx="3776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26240" y="5029200"/>
              <a:ext cx="3776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zamy prąd zwarcia jednofazowego w p. 1 (lub 2) – sposób uproszczo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 Z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a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mpedancja a w uproszczeniu rezystancja pętli zwarc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47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5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la YKY 4 x 35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7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la YAKY 4 x 50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193920" y="2870280"/>
                <a:ext cx="2292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s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4572000"/>
                <a:ext cx="32911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w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838080" y="2590920"/>
                <a:ext cx="6782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w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4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6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352680" y="3505320"/>
                <a:ext cx="16765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90920" y="4114800"/>
                <a:ext cx="3352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2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5243400"/>
            <a:ext cx="91440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M25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 0,00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BiWtz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 0,04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0" y="3247920"/>
                <a:ext cx="19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4876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dzamy jaki jest czas działania zabezpieczenia zwarciowego M250 4 oraz bezpiecznika BiWtz 25 dla prądu 2,2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3247920"/>
                <a:ext cx="19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304920" y="2209680"/>
            <a:ext cx="8381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zamy prąd zwarcia jednofazowego w p. 3 – sposób uproszcz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971800" y="2819520"/>
                <a:ext cx="1981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s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380880" y="358128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 Z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as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mpedancja a w uproszczeniu rezystancja pętli zwar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066680" y="4191120"/>
                <a:ext cx="6400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4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743200" y="4724280"/>
                <a:ext cx="288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,8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228600" y="5486400"/>
            <a:ext cx="86104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as działania bezpiecznika WT/NH1 80 dla prądu 5,8kA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t</a:t>
            </a:r>
            <a:r>
              <a:rPr b="0" lang="pl-PL" sz="20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WT/NH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ff"/>
                </a:solidFill>
                <a:latin typeface="Symbol"/>
                <a:ea typeface="Symbol"/>
              </a:rPr>
              <a:t>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0,01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erowanie ocenia się jako skuteczne jeśli wyłączanie przy zwarciu jednofazowym następuje z czasem nie dłuższym niż 0,4 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Charakterystyka obciążenia oddziału produkcyj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współczynnik zapotrzebowania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=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współczynnik mocy oblicze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osφ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8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odbiorniki – silniki indukcyjne zwarte (prędkość  obrotowa – 1000 obr/mi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962680" cy="581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3200400"/>
          <a:ext cx="8534160" cy="2952720"/>
        </p:xfrm>
        <a:graphic>
          <a:graphicData uri="http://schemas.openxmlformats.org/drawingml/2006/table">
            <a:tbl>
              <a:tblPr/>
              <a:tblGrid>
                <a:gridCol w="533160"/>
                <a:gridCol w="1219320"/>
                <a:gridCol w="685800"/>
                <a:gridCol w="533520"/>
                <a:gridCol w="533160"/>
                <a:gridCol w="533520"/>
                <a:gridCol w="533520"/>
                <a:gridCol w="533160"/>
                <a:gridCol w="584280"/>
                <a:gridCol w="1422360"/>
                <a:gridCol w="1422360"/>
              </a:tblGrid>
              <a:tr h="622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oś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bezpiecz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ciążeni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bezpiecz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arci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Je 36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50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Je 46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50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Je 66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GSLA 16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Wtz 35/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362320"/>
            <a:ext cx="89154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lenie mocy obliczeniowej i dobór kabla zasilając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1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lenie prądu obliczeniowego dla odbiorników sił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 zainstalowana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5 + 4 + 13 = 18,5 k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 obliczeni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b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 x 18,5 = 14,8 k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oblicze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143000" y="5638680"/>
                <a:ext cx="640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obliczeniowy dla obwodów gniazd trójfazow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obwód gniazd 16-amperowych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ksymalny prąd 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ąd obliczeniowy dla odbiorników oświetleniow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przyjęte do oblicze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miary pomieszczenia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ługość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6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rokość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= 4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ierzchnia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= 24 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okość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 = 4,5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Średnie natężenie oświetlenia na płaszczyźnie roboczej:  E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ś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300 l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brane źródło światła: świetlówki firmy Philips TL – D58W/827 o parametrac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mionowy strumień: Φ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ź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200 l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ierana moc: 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ź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2 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Świetlówki są osadzone w oprawach TCW 196/259D firmy Philips (2 sztuki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egłość zawieszenia opraw od sufitu – 0,5 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jęte współczynniki odbicia pomieszczenia: ρ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7;  ρ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;  ρ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utrzymani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źnik pomieszczeni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ność oświetlenia:   η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ś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00400" y="3657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,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752480" y="4648320"/>
                <a:ext cx="5257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,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23880" y="5715000"/>
                <a:ext cx="5562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3,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Zadanie projektow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iczba opraw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Moc źródeł światł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ś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x n x P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ź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x 2 x 72 = 432 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Prąd oświetlen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jmując równomierne rozmieszczenie opraw na fazach, prąd obliczeniowy dla odbiorników oświetleniowych dla jednej faz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pl-P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bl oś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3 x 2 = 0,66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38080" y="2514600"/>
                <a:ext cx="713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śr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źr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ś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9</m:t>
                    </m:r>
                    <m:r>
                      <m:t xml:space="preserve">≈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895480" y="4495680"/>
                <a:ext cx="464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ś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ś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zabella Mróz-Radłowska</dc:creator>
  <dc:description/>
  <dc:language>en-US</dc:language>
  <cp:lastModifiedBy>NN</cp:lastModifiedBy>
  <dcterms:modified xsi:type="dcterms:W3CDTF">2004-03-10T00:15:44Z</dcterms:modified>
  <cp:revision>5</cp:revision>
  <dc:subject/>
  <dc:title>Projektowanie instalacji elektrycznych</dc:title>
</cp:coreProperties>
</file>