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93D-864B-43D4-AAA3-8B31D949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D09-D6A0-4492-8EC7-6D0F79D3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852-CC9E-4761-B4AA-3E5E64FB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0BF-EF3E-45C1-8F9F-12C911C6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F72C-A91E-4625-8250-322AB77F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17B7-9874-41C6-BBDD-A9CDACB8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A227-90F8-4D07-87CC-5231DEEF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166C-2B63-4196-8C5B-0A55A1C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6CEF-48C7-4CCB-93BF-50842078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C166-DB07-4D10-8840-45D15F62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A0C-8BE8-4642-87AF-B2C92B11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BEF-0959-411E-B603-3475879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A0B1-1653-4D3D-B881-16E68287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2DF0-3F3B-4147-8B50-7D4E032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B61-3B55-4F27-B045-707C04C5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0173-CBA1-4027-A54C-20CE2621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3E3F-4FC5-4A0C-9256-3C356212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7E2-5843-4D38-B40F-B243FC3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C30-8697-4E1F-8654-AC52B32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484-DC35-4926-BF73-016D9F10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AA9-E618-47CA-AE45-D6CD8A0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AF6-22C1-4BED-9480-80EFC40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672-C0D0-4093-9665-8B622BC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57F-77BF-4EA1-BEB5-5CC2F85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63A4-CA42-4D1A-90BC-3310C18250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9A0A-8F80-42A7-8678-5D8BBB6824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143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7600" y="24382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76520" y="3200400"/>
            <a:ext cx="5486400" cy="1968840"/>
            <a:chOff x="1676520" y="3200400"/>
            <a:chExt cx="5486400" cy="1968840"/>
          </a:xfrm>
        </p:grpSpPr>
        <p:grpSp>
          <p:nvGrpSpPr>
            <p:cNvPr id="102" name=""/>
            <p:cNvGrpSpPr/>
            <p:nvPr/>
          </p:nvGrpSpPr>
          <p:grpSpPr>
            <a:xfrm>
              <a:off x="1676520" y="3276720"/>
              <a:ext cx="5333760" cy="1892520"/>
              <a:chOff x="1676520" y="3276720"/>
              <a:chExt cx="5333760" cy="1892520"/>
            </a:xfrm>
          </p:grpSpPr>
          <p:sp>
            <p:nvSpPr>
              <p:cNvPr id="103" name=""/>
              <p:cNvSpPr/>
              <p:nvPr/>
            </p:nvSpPr>
            <p:spPr>
              <a:xfrm>
                <a:off x="2438280" y="396252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91120" y="3962520"/>
                <a:ext cx="30456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5880" y="396252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09680" y="3733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62520" y="3733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7280" y="3733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7280" y="44197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95880" y="4572360"/>
                <a:ext cx="3049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09680" y="4115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520" y="4115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67280" y="4115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472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76520" y="41151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43200" y="4115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95680" y="411516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0800" y="41151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00800" y="47246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57400" y="3276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09880" y="32767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15000" y="3276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90920" y="35816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91120" y="35816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95880" y="35816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72200" y="48009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705720" y="3581640"/>
              <a:ext cx="152280" cy="53316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81680" y="3200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3657600"/>
              <a:ext cx="228600" cy="457200"/>
            </a:xfrm>
            <a:prstGeom prst="lightningBolt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ór selektywnie działających: bezpiecznika i wyłącznika instalacyj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219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219320" y="2743200"/>
            <a:ext cx="1447200" cy="2971800"/>
            <a:chOff x="1219320" y="2743200"/>
            <a:chExt cx="1447200" cy="2971800"/>
          </a:xfrm>
        </p:grpSpPr>
        <p:sp>
          <p:nvSpPr>
            <p:cNvPr id="493" name=""/>
            <p:cNvSpPr/>
            <p:nvPr/>
          </p:nvSpPr>
          <p:spPr>
            <a:xfrm>
              <a:off x="1981080" y="464832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19320" y="495288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81080" y="335268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600200" y="2743200"/>
              <a:ext cx="532440" cy="2971800"/>
              <a:chOff x="1600200" y="2743200"/>
              <a:chExt cx="532440" cy="297180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1600200" y="2743200"/>
                <a:ext cx="532440" cy="2971800"/>
                <a:chOff x="1600200" y="2743200"/>
                <a:chExt cx="532440" cy="29718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980720" y="2743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600200" y="5105520"/>
                  <a:ext cx="380520" cy="304560"/>
                </a:xfrm>
                <a:prstGeom prst="lightningBol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1828440" y="2895480"/>
                  <a:ext cx="304200" cy="2133360"/>
                  <a:chOff x="1828440" y="2895480"/>
                  <a:chExt cx="304200" cy="213336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1828440" y="3124080"/>
                    <a:ext cx="3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828440" y="4572000"/>
                    <a:ext cx="3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980360" y="2895480"/>
                    <a:ext cx="0" cy="1905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1828440" y="3352680"/>
                    <a:ext cx="227880" cy="1676160"/>
                    <a:chOff x="1828440" y="3352680"/>
                    <a:chExt cx="227880" cy="167616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1904040" y="3352680"/>
                      <a:ext cx="15228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1980360" y="4724280"/>
                      <a:ext cx="75960" cy="76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flipV="1">
                      <a:off x="1828440" y="4800240"/>
                      <a:ext cx="15192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08" name=""/>
                <p:cNvSpPr/>
                <p:nvPr/>
              </p:nvSpPr>
              <p:spPr>
                <a:xfrm>
                  <a:off x="1980720" y="50292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1980720" y="3352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3733920" y="2133360"/>
            <a:ext cx="5409360" cy="4070160"/>
            <a:chOff x="3733920" y="2133360"/>
            <a:chExt cx="5409360" cy="4070160"/>
          </a:xfrm>
        </p:grpSpPr>
        <p:grpSp>
          <p:nvGrpSpPr>
            <p:cNvPr id="511" name=""/>
            <p:cNvGrpSpPr/>
            <p:nvPr/>
          </p:nvGrpSpPr>
          <p:grpSpPr>
            <a:xfrm>
              <a:off x="3733920" y="2133360"/>
              <a:ext cx="5409360" cy="4070160"/>
              <a:chOff x="3733920" y="2133360"/>
              <a:chExt cx="5409360" cy="40701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3733920" y="2133360"/>
                <a:ext cx="5409360" cy="4070160"/>
                <a:chOff x="3733920" y="2133360"/>
                <a:chExt cx="5409360" cy="407016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3733920" y="2133360"/>
                  <a:ext cx="5409360" cy="4070160"/>
                  <a:chOff x="3733920" y="2133360"/>
                  <a:chExt cx="5409360" cy="407016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3733920" y="2133360"/>
                    <a:ext cx="5409360" cy="4070160"/>
                    <a:chOff x="3733920" y="2133360"/>
                    <a:chExt cx="5409360" cy="407016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867280" y="2590920"/>
                      <a:ext cx="609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6" name=""/>
                    <p:cNvGrpSpPr/>
                    <p:nvPr/>
                  </p:nvGrpSpPr>
                  <p:grpSpPr>
                    <a:xfrm>
                      <a:off x="3733920" y="2133360"/>
                      <a:ext cx="5409360" cy="4070160"/>
                      <a:chOff x="3733920" y="2133360"/>
                      <a:chExt cx="5409360" cy="4070160"/>
                    </a:xfrm>
                  </p:grpSpPr>
                  <p:grpSp>
                    <p:nvGrpSpPr>
                      <p:cNvPr id="517" name=""/>
                      <p:cNvGrpSpPr/>
                      <p:nvPr/>
                    </p:nvGrpSpPr>
                    <p:grpSpPr>
                      <a:xfrm>
                        <a:off x="3733920" y="2133360"/>
                        <a:ext cx="5409360" cy="4070160"/>
                        <a:chOff x="3733920" y="2133360"/>
                        <a:chExt cx="5409360" cy="4070160"/>
                      </a:xfrm>
                    </p:grpSpPr>
                    <p:grpSp>
                      <p:nvGrpSpPr>
                        <p:cNvPr id="518" name=""/>
                        <p:cNvGrpSpPr/>
                        <p:nvPr/>
                      </p:nvGrpSpPr>
                      <p:grpSpPr>
                        <a:xfrm>
                          <a:off x="4572000" y="2133360"/>
                          <a:ext cx="4571280" cy="3660120"/>
                          <a:chOff x="4572000" y="2133360"/>
                          <a:chExt cx="4571280" cy="3660120"/>
                        </a:xfrm>
                      </p:grpSpPr>
                      <p:sp>
                        <p:nvSpPr>
                          <p:cNvPr id="519" name=""/>
                          <p:cNvSpPr/>
                          <p:nvPr/>
                        </p:nvSpPr>
                        <p:spPr>
                          <a:xfrm flipH="1" flipV="1">
                            <a:off x="4648320" y="4114440"/>
                            <a:ext cx="4418640" cy="1523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0" name=""/>
                          <p:cNvSpPr/>
                          <p:nvPr/>
                        </p:nvSpPr>
                        <p:spPr>
                          <a:xfrm flipH="1" flipV="1">
                            <a:off x="4572000" y="3276000"/>
                            <a:ext cx="4571280" cy="1371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1" name=""/>
                          <p:cNvSpPr/>
                          <p:nvPr/>
                        </p:nvSpPr>
                        <p:spPr>
                          <a:xfrm flipH="1" flipV="1">
                            <a:off x="4572000" y="2285640"/>
                            <a:ext cx="4571280" cy="198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2" name=""/>
                          <p:cNvSpPr/>
                          <p:nvPr/>
                        </p:nvSpPr>
                        <p:spPr>
                          <a:xfrm flipH="1" flipV="1">
                            <a:off x="5105520" y="2209320"/>
                            <a:ext cx="3504240" cy="1675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3" name=""/>
                          <p:cNvSpPr/>
                          <p:nvPr/>
                        </p:nvSpPr>
                        <p:spPr>
                          <a:xfrm flipH="1" flipV="1">
                            <a:off x="5715000" y="2133000"/>
                            <a:ext cx="2285280" cy="1218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4" name=""/>
                          <p:cNvSpPr/>
                          <p:nvPr/>
                        </p:nvSpPr>
                        <p:spPr>
                          <a:xfrm flipH="1" flipV="1">
                            <a:off x="4572000" y="3732840"/>
                            <a:ext cx="4571280" cy="152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5" name=""/>
                          <p:cNvSpPr/>
                          <p:nvPr/>
                        </p:nvSpPr>
                        <p:spPr>
                          <a:xfrm>
                            <a:off x="6934320" y="3200400"/>
                            <a:ext cx="83808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0A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6" name=""/>
                          <p:cNvSpPr/>
                          <p:nvPr/>
                        </p:nvSpPr>
                        <p:spPr>
                          <a:xfrm>
                            <a:off x="6934320" y="3733920"/>
                            <a:ext cx="83808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80A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7" name=""/>
                          <p:cNvSpPr/>
                          <p:nvPr/>
                        </p:nvSpPr>
                        <p:spPr>
                          <a:xfrm>
                            <a:off x="6934320" y="4114800"/>
                            <a:ext cx="83808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63A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8" name=""/>
                          <p:cNvSpPr/>
                          <p:nvPr/>
                        </p:nvSpPr>
                        <p:spPr>
                          <a:xfrm>
                            <a:off x="6934320" y="4495680"/>
                            <a:ext cx="83808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50A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9" name=""/>
                          <p:cNvSpPr/>
                          <p:nvPr/>
                        </p:nvSpPr>
                        <p:spPr>
                          <a:xfrm>
                            <a:off x="6934320" y="5029200"/>
                            <a:ext cx="83808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35A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0" name=""/>
                          <p:cNvSpPr/>
                          <p:nvPr/>
                        </p:nvSpPr>
                        <p:spPr>
                          <a:xfrm>
                            <a:off x="6934320" y="5486400"/>
                            <a:ext cx="83808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5A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1" name=""/>
                          <p:cNvSpPr/>
                          <p:nvPr/>
                        </p:nvSpPr>
                        <p:spPr>
                          <a:xfrm>
                            <a:off x="6934320" y="2666880"/>
                            <a:ext cx="838080" cy="3362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pl-PL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I</a:t>
                            </a:r>
                            <a:r>
                              <a:rPr b="1" lang="pl-PL" sz="14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nb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4419720" y="5791320"/>
                          <a:ext cx="26668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 flipV="1">
                          <a:off x="4419720" y="2666520"/>
                          <a:ext cx="0" cy="3124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3733920" y="2590920"/>
                          <a:ext cx="76176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I</a:t>
                          </a:r>
                          <a:r>
                            <a:rPr b="1" lang="en-US" sz="1400" spc="-1" strike="noStrike" baseline="30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2</a:t>
                          </a: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t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>
                          <a:off x="6629400" y="5867280"/>
                          <a:ext cx="762120" cy="33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pl-PL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I</a:t>
                          </a:r>
                          <a:r>
                            <a:rPr b="1" lang="pl-PL" sz="14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p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36" name=""/>
                      <p:cNvSpPr/>
                      <p:nvPr/>
                    </p:nvSpPr>
                    <p:spPr>
                      <a:xfrm flipH="1">
                        <a:off x="5409720" y="2895480"/>
                        <a:ext cx="838440" cy="20574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 flipH="1">
                        <a:off x="5562360" y="2971800"/>
                        <a:ext cx="990360" cy="2057400"/>
                      </a:xfrm>
                      <a:prstGeom prst="line">
                        <a:avLst/>
                      </a:prstGeom>
                      <a:ln w="381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6400800" y="2666880"/>
                        <a:ext cx="6094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W16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5638680" y="3124080"/>
                    <a:ext cx="0" cy="266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"/>
                <p:cNvSpPr/>
                <p:nvPr/>
              </p:nvSpPr>
              <p:spPr>
                <a:xfrm>
                  <a:off x="6172200" y="2971800"/>
                  <a:ext cx="0" cy="28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5257800" y="586728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2 k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867280" y="5867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4 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04920" y="63244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harakterystyki przedłukowe bezpieczników oraz wyłączania wyłączników instalacyj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selektywnego wyłącznika nadprądowego S 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1219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yłącznik selektywny S 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49568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4191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523880" y="2743200"/>
            <a:ext cx="6553440" cy="3156840"/>
            <a:chOff x="1523880" y="2743200"/>
            <a:chExt cx="6553440" cy="3156840"/>
          </a:xfrm>
        </p:grpSpPr>
        <p:sp>
          <p:nvSpPr>
            <p:cNvPr id="550" name=""/>
            <p:cNvSpPr/>
            <p:nvPr/>
          </p:nvSpPr>
          <p:spPr>
            <a:xfrm>
              <a:off x="2666880" y="3657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523880" y="2743200"/>
              <a:ext cx="6553440" cy="3156840"/>
              <a:chOff x="1523880" y="2743200"/>
              <a:chExt cx="6553440" cy="315684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1523880" y="3124080"/>
                <a:ext cx="6553440" cy="2394720"/>
                <a:chOff x="1523880" y="3124080"/>
                <a:chExt cx="6553440" cy="239472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1523880" y="3124080"/>
                  <a:ext cx="6553440" cy="2394720"/>
                  <a:chOff x="1523880" y="3124080"/>
                  <a:chExt cx="6553440" cy="239472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1523880" y="5181480"/>
                    <a:ext cx="609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523880" y="3124080"/>
                    <a:ext cx="6553440" cy="2286000"/>
                    <a:chOff x="1523880" y="3124080"/>
                    <a:chExt cx="6553440" cy="228600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1523880" y="4267080"/>
                      <a:ext cx="6098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2133720" y="3124080"/>
                      <a:ext cx="5943600" cy="2286000"/>
                      <a:chOff x="2133720" y="3124080"/>
                      <a:chExt cx="5943600" cy="2286000"/>
                    </a:xfrm>
                  </p:grpSpPr>
                  <p:grpSp>
                    <p:nvGrpSpPr>
                      <p:cNvPr id="558" name=""/>
                      <p:cNvGrpSpPr/>
                      <p:nvPr/>
                    </p:nvGrpSpPr>
                    <p:grpSpPr>
                      <a:xfrm>
                        <a:off x="2133720" y="3124080"/>
                        <a:ext cx="5410080" cy="2286000"/>
                        <a:chOff x="2133720" y="3124080"/>
                        <a:chExt cx="5410080" cy="2286000"/>
                      </a:xfrm>
                    </p:grpSpPr>
                    <p:grpSp>
                      <p:nvGrpSpPr>
                        <p:cNvPr id="559" name=""/>
                        <p:cNvGrpSpPr/>
                        <p:nvPr/>
                      </p:nvGrpSpPr>
                      <p:grpSpPr>
                        <a:xfrm>
                          <a:off x="2133720" y="3124080"/>
                          <a:ext cx="5410080" cy="2286000"/>
                          <a:chOff x="2133720" y="3124080"/>
                          <a:chExt cx="5410080" cy="2286000"/>
                        </a:xfrm>
                      </p:grpSpPr>
                      <p:sp>
                        <p:nvSpPr>
                          <p:cNvPr id="560" name=""/>
                          <p:cNvSpPr/>
                          <p:nvPr/>
                        </p:nvSpPr>
                        <p:spPr>
                          <a:xfrm>
                            <a:off x="2819520" y="3962520"/>
                            <a:ext cx="91440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B1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1" name=""/>
                          <p:cNvSpPr/>
                          <p:nvPr/>
                        </p:nvSpPr>
                        <p:spPr>
                          <a:xfrm>
                            <a:off x="2819520" y="3124080"/>
                            <a:ext cx="91440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B2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62" name=""/>
                          <p:cNvGrpSpPr/>
                          <p:nvPr/>
                        </p:nvGrpSpPr>
                        <p:grpSpPr>
                          <a:xfrm>
                            <a:off x="2133720" y="3200400"/>
                            <a:ext cx="5410080" cy="2209680"/>
                            <a:chOff x="2133720" y="3200400"/>
                            <a:chExt cx="5410080" cy="2209680"/>
                          </a:xfrm>
                        </p:grpSpPr>
                        <p:grpSp>
                          <p:nvGrpSpPr>
                            <p:cNvPr id="563" name=""/>
                            <p:cNvGrpSpPr/>
                            <p:nvPr/>
                          </p:nvGrpSpPr>
                          <p:grpSpPr>
                            <a:xfrm>
                              <a:off x="2133720" y="3428640"/>
                              <a:ext cx="5410080" cy="1981440"/>
                              <a:chOff x="2133720" y="3428640"/>
                              <a:chExt cx="5410080" cy="1981440"/>
                            </a:xfrm>
                          </p:grpSpPr>
                          <p:grpSp>
                            <p:nvGrpSpPr>
                              <p:cNvPr id="564" name=""/>
                              <p:cNvGrpSpPr/>
                              <p:nvPr/>
                            </p:nvGrpSpPr>
                            <p:grpSpPr>
                              <a:xfrm>
                                <a:off x="2133720" y="3428640"/>
                                <a:ext cx="5410080" cy="1981440"/>
                                <a:chOff x="2133720" y="3428640"/>
                                <a:chExt cx="5410080" cy="1981440"/>
                              </a:xfrm>
                            </p:grpSpPr>
                            <p:grpSp>
                              <p:nvGrpSpPr>
                                <p:cNvPr id="565" name=""/>
                                <p:cNvGrpSpPr/>
                                <p:nvPr/>
                              </p:nvGrpSpPr>
                              <p:grpSpPr>
                                <a:xfrm>
                                  <a:off x="2133720" y="3428640"/>
                                  <a:ext cx="5410080" cy="1981440"/>
                                  <a:chOff x="2133720" y="3428640"/>
                                  <a:chExt cx="5410080" cy="1981440"/>
                                </a:xfrm>
                              </p:grpSpPr>
                              <p:sp>
                                <p:nvSpPr>
                                  <p:cNvPr id="566" name=""/>
                                  <p:cNvSpPr/>
                                  <p:nvPr/>
                                </p:nvSpPr>
                                <p:spPr>
                                  <a:xfrm>
                                    <a:off x="6248520" y="3657600"/>
                                    <a:ext cx="60948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7" name=""/>
                                  <p:cNvSpPr/>
                                  <p:nvPr/>
                                </p:nvSpPr>
                                <p:spPr>
                                  <a:xfrm>
                                    <a:off x="4343400" y="3429000"/>
                                    <a:ext cx="990720" cy="38088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8" name=""/>
                                  <p:cNvSpPr/>
                                  <p:nvPr/>
                                </p:nvSpPr>
                                <p:spPr>
                                  <a:xfrm>
                                    <a:off x="3733920" y="3657600"/>
                                    <a:ext cx="60948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9" name=""/>
                                  <p:cNvSpPr/>
                                  <p:nvPr/>
                                </p:nvSpPr>
                                <p:spPr>
                                  <a:xfrm>
                                    <a:off x="5334120" y="3657600"/>
                                    <a:ext cx="60948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70" name=""/>
                                  <p:cNvSpPr/>
                                  <p:nvPr/>
                                </p:nvSpPr>
                                <p:spPr>
                                  <a:xfrm>
                                    <a:off x="2666880" y="3657600"/>
                                    <a:ext cx="60984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5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76720" y="3505320"/>
                                    <a:ext cx="457200" cy="152280"/>
                                    <a:chOff x="3276720" y="3505320"/>
                                    <a:chExt cx="457200" cy="152280"/>
                                  </a:xfrm>
                                </p:grpSpPr>
                                <p:sp>
                                  <p:nvSpPr>
                                    <p:cNvPr id="5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76720" y="3505320"/>
                                      <a:ext cx="45720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76720" y="3505320"/>
                                      <a:ext cx="0" cy="15228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33920" y="3505320"/>
                                      <a:ext cx="0" cy="15228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57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5943600" y="3428640"/>
                                    <a:ext cx="380880" cy="2286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7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019920" y="5105160"/>
                                    <a:ext cx="380880" cy="22860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5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76720" y="4267080"/>
                                    <a:ext cx="457200" cy="152280"/>
                                    <a:chOff x="3276720" y="4267080"/>
                                    <a:chExt cx="457200" cy="152280"/>
                                  </a:xfrm>
                                </p:grpSpPr>
                                <p:sp>
                                  <p:nvSpPr>
                                    <p:cNvPr id="5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76720" y="4267080"/>
                                      <a:ext cx="45720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76720" y="4267080"/>
                                      <a:ext cx="0" cy="15228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33920" y="4267080"/>
                                      <a:ext cx="0" cy="15228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581" name=""/>
                                  <p:cNvSpPr/>
                                  <p:nvPr/>
                                </p:nvSpPr>
                                <p:spPr>
                                  <a:xfrm>
                                    <a:off x="2286000" y="4419720"/>
                                    <a:ext cx="99072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2" name=""/>
                                  <p:cNvSpPr/>
                                  <p:nvPr/>
                                </p:nvSpPr>
                                <p:spPr>
                                  <a:xfrm>
                                    <a:off x="3733920" y="4419720"/>
                                    <a:ext cx="60948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3" name=""/>
                                  <p:cNvSpPr/>
                                  <p:nvPr/>
                                </p:nvSpPr>
                                <p:spPr>
                                  <a:xfrm>
                                    <a:off x="4343400" y="4191120"/>
                                    <a:ext cx="990720" cy="38088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4" name=""/>
                                  <p:cNvSpPr/>
                                  <p:nvPr/>
                                </p:nvSpPr>
                                <p:spPr>
                                  <a:xfrm>
                                    <a:off x="5334120" y="4419720"/>
                                    <a:ext cx="60948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5" name=""/>
                                  <p:cNvSpPr/>
                                  <p:nvPr/>
                                </p:nvSpPr>
                                <p:spPr>
                                  <a:xfrm>
                                    <a:off x="5943600" y="4267080"/>
                                    <a:ext cx="0" cy="15264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6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480" y="4267080"/>
                                    <a:ext cx="0" cy="15264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7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480" y="4419720"/>
                                    <a:ext cx="106704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8" name=""/>
                                  <p:cNvSpPr/>
                                  <p:nvPr/>
                                </p:nvSpPr>
                                <p:spPr>
                                  <a:xfrm>
                                    <a:off x="5867280" y="4191120"/>
                                    <a:ext cx="53352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89" name=""/>
                                  <p:cNvSpPr/>
                                  <p:nvPr/>
                                </p:nvSpPr>
                                <p:spPr>
                                  <a:xfrm>
                                    <a:off x="2286000" y="5334120"/>
                                    <a:ext cx="373392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90" name=""/>
                                  <p:cNvSpPr/>
                                  <p:nvPr/>
                                </p:nvSpPr>
                                <p:spPr>
                                  <a:xfrm>
                                    <a:off x="6858000" y="3657600"/>
                                    <a:ext cx="0" cy="16765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91" name=""/>
                                  <p:cNvSpPr/>
                                  <p:nvPr/>
                                </p:nvSpPr>
                                <p:spPr>
                                  <a:xfrm>
                                    <a:off x="6400800" y="533412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92" name=""/>
                                  <p:cNvSpPr/>
                                  <p:nvPr/>
                                </p:nvSpPr>
                                <p:spPr>
                                  <a:xfrm>
                                    <a:off x="2133720" y="4343400"/>
                                    <a:ext cx="152280" cy="15228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000000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93" name=""/>
                                  <p:cNvSpPr/>
                                  <p:nvPr/>
                                </p:nvSpPr>
                                <p:spPr>
                                  <a:xfrm>
                                    <a:off x="7391520" y="4343400"/>
                                    <a:ext cx="152280" cy="15228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000000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94" name=""/>
                                  <p:cNvSpPr/>
                                  <p:nvPr/>
                                </p:nvSpPr>
                                <p:spPr>
                                  <a:xfrm>
                                    <a:off x="2133720" y="5257800"/>
                                    <a:ext cx="152280" cy="15228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000000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95" name=""/>
                                  <p:cNvSpPr/>
                                  <p:nvPr/>
                                </p:nvSpPr>
                                <p:spPr>
                                  <a:xfrm>
                                    <a:off x="6781680" y="4648320"/>
                                    <a:ext cx="152640" cy="5331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000000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96" name=""/>
                                  <p:cNvSpPr/>
                                  <p:nvPr/>
                                </p:nvSpPr>
                                <p:spPr>
                                  <a:xfrm>
                                    <a:off x="6477120" y="3657600"/>
                                    <a:ext cx="15228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  <a:tailEnd len="med" type="triangle" w="med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597" name=""/>
                                <p:cNvSpPr/>
                                <p:nvPr/>
                              </p:nvSpPr>
                              <p:spPr>
                                <a:xfrm>
                                  <a:off x="4495680" y="3505320"/>
                                  <a:ext cx="685800" cy="307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 algn="ctr">
                                    <a:spcBef>
                                      <a:spcPts val="876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R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98" name=""/>
                              <p:cNvSpPr/>
                              <p:nvPr/>
                            </p:nvSpPr>
                            <p:spPr>
                              <a:xfrm>
                                <a:off x="4495680" y="4267080"/>
                                <a:ext cx="685800" cy="3070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 algn="ctr">
                                  <a:spcBef>
                                    <a:spcPts val="876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M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99" name=""/>
                            <p:cNvSpPr/>
                            <p:nvPr/>
                          </p:nvSpPr>
                          <p:spPr>
                            <a:xfrm>
                              <a:off x="5562720" y="4952880"/>
                              <a:ext cx="91440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 algn="ctr">
                                <a:spcBef>
                                  <a:spcPts val="876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K3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0" name=""/>
                            <p:cNvSpPr/>
                            <p:nvPr/>
                          </p:nvSpPr>
                          <p:spPr>
                            <a:xfrm>
                              <a:off x="5486400" y="3886200"/>
                              <a:ext cx="91440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 algn="ctr">
                                <a:spcBef>
                                  <a:spcPts val="876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K1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>
                              <a:off x="5486400" y="3200400"/>
                              <a:ext cx="91440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 algn="ctr">
                                <a:spcBef>
                                  <a:spcPts val="876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K2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6858000" y="4800600"/>
                          <a:ext cx="53352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03" name=""/>
                      <p:cNvSpPr/>
                      <p:nvPr/>
                    </p:nvSpPr>
                    <p:spPr>
                      <a:xfrm>
                        <a:off x="7467480" y="4267080"/>
                        <a:ext cx="609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L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4" name=""/>
                <p:cNvSpPr/>
                <p:nvPr/>
              </p:nvSpPr>
              <p:spPr>
                <a:xfrm>
                  <a:off x="6324480" y="3276720"/>
                  <a:ext cx="11430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5 x I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2209680" y="4572000"/>
                <a:ext cx="205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łówny tor prądow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09680" y="2743200"/>
                <a:ext cx="236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ównoległy tor prądow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09680" y="5562720"/>
                <a:ext cx="205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bwód pomiarow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selektywnego wyłącznika nadprądowego S 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295280" y="12193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yłącznik selektywny S 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1904400"/>
            <a:ext cx="4114800" cy="4632120"/>
            <a:chOff x="685800" y="1904400"/>
            <a:chExt cx="4114800" cy="4632120"/>
          </a:xfrm>
        </p:grpSpPr>
        <p:grpSp>
          <p:nvGrpSpPr>
            <p:cNvPr id="612" name=""/>
            <p:cNvGrpSpPr/>
            <p:nvPr/>
          </p:nvGrpSpPr>
          <p:grpSpPr>
            <a:xfrm>
              <a:off x="685800" y="1904400"/>
              <a:ext cx="4114800" cy="4041360"/>
              <a:chOff x="685800" y="1904400"/>
              <a:chExt cx="4114800" cy="404136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838080" y="1904400"/>
                <a:ext cx="3962520" cy="4041360"/>
                <a:chOff x="838080" y="1904400"/>
                <a:chExt cx="3962520" cy="404136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1371600" y="5638680"/>
                  <a:ext cx="762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,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5" name=""/>
                <p:cNvGrpSpPr/>
                <p:nvPr/>
              </p:nvGrpSpPr>
              <p:grpSpPr>
                <a:xfrm>
                  <a:off x="838080" y="1904400"/>
                  <a:ext cx="3962520" cy="3952800"/>
                  <a:chOff x="838080" y="1904400"/>
                  <a:chExt cx="3962520" cy="39528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1752480" y="5410080"/>
                    <a:ext cx="6098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, 4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838080" y="1904400"/>
                    <a:ext cx="3962520" cy="3952800"/>
                    <a:chOff x="838080" y="1904400"/>
                    <a:chExt cx="3962520" cy="3952800"/>
                  </a:xfrm>
                </p:grpSpPr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838080" y="1904400"/>
                      <a:ext cx="3962520" cy="3952800"/>
                      <a:chOff x="838080" y="1904400"/>
                      <a:chExt cx="3962520" cy="3952800"/>
                    </a:xfrm>
                  </p:grpSpPr>
                  <p:grpSp>
                    <p:nvGrpSpPr>
                      <p:cNvPr id="619" name=""/>
                      <p:cNvGrpSpPr/>
                      <p:nvPr/>
                    </p:nvGrpSpPr>
                    <p:grpSpPr>
                      <a:xfrm>
                        <a:off x="838080" y="1904400"/>
                        <a:ext cx="3962520" cy="3952800"/>
                        <a:chOff x="838080" y="1904400"/>
                        <a:chExt cx="3962520" cy="3952800"/>
                      </a:xfrm>
                    </p:grpSpPr>
                    <p:grpSp>
                      <p:nvGrpSpPr>
                        <p:cNvPr id="620" name=""/>
                        <p:cNvGrpSpPr/>
                        <p:nvPr/>
                      </p:nvGrpSpPr>
                      <p:grpSpPr>
                        <a:xfrm>
                          <a:off x="838080" y="1904400"/>
                          <a:ext cx="3962520" cy="3952800"/>
                          <a:chOff x="838080" y="1904400"/>
                          <a:chExt cx="3962520" cy="3952800"/>
                        </a:xfrm>
                      </p:grpSpPr>
                      <p:grpSp>
                        <p:nvGrpSpPr>
                          <p:cNvPr id="621" name=""/>
                          <p:cNvGrpSpPr/>
                          <p:nvPr/>
                        </p:nvGrpSpPr>
                        <p:grpSpPr>
                          <a:xfrm>
                            <a:off x="838080" y="1904400"/>
                            <a:ext cx="3962520" cy="3952800"/>
                            <a:chOff x="838080" y="1904400"/>
                            <a:chExt cx="3962520" cy="3952800"/>
                          </a:xfrm>
                        </p:grpSpPr>
                        <p:grpSp>
                          <p:nvGrpSpPr>
                            <p:cNvPr id="622" name=""/>
                            <p:cNvGrpSpPr/>
                            <p:nvPr/>
                          </p:nvGrpSpPr>
                          <p:grpSpPr>
                            <a:xfrm>
                              <a:off x="1371600" y="1904400"/>
                              <a:ext cx="3429000" cy="3952800"/>
                              <a:chOff x="1371600" y="1904400"/>
                              <a:chExt cx="3429000" cy="3952800"/>
                            </a:xfrm>
                          </p:grpSpPr>
                          <p:grpSp>
                            <p:nvGrpSpPr>
                              <p:cNvPr id="623" name=""/>
                              <p:cNvGrpSpPr/>
                              <p:nvPr/>
                            </p:nvGrpSpPr>
                            <p:grpSpPr>
                              <a:xfrm>
                                <a:off x="1371600" y="1904400"/>
                                <a:ext cx="2895480" cy="3505680"/>
                                <a:chOff x="1371600" y="1904400"/>
                                <a:chExt cx="2895480" cy="3505680"/>
                              </a:xfrm>
                            </p:grpSpPr>
                            <p:grpSp>
                              <p:nvGrpSpPr>
                                <p:cNvPr id="624" name=""/>
                                <p:cNvGrpSpPr/>
                                <p:nvPr/>
                              </p:nvGrpSpPr>
                              <p:grpSpPr>
                                <a:xfrm>
                                  <a:off x="1752480" y="1904400"/>
                                  <a:ext cx="2285280" cy="3201120"/>
                                  <a:chOff x="1752480" y="1904400"/>
                                  <a:chExt cx="2285280" cy="3201120"/>
                                </a:xfrm>
                              </p:grpSpPr>
                              <p:sp>
                                <p:nvSpPr>
                                  <p:cNvPr id="625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1752480" y="1904040"/>
                                    <a:ext cx="1828080" cy="24382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26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1905120" y="2132640"/>
                                    <a:ext cx="2132640" cy="19810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27" name=""/>
                                  <p:cNvSpPr/>
                                  <p:nvPr/>
                                </p:nvSpPr>
                                <p:spPr>
                                  <a:xfrm>
                                    <a:off x="2666880" y="4343400"/>
                                    <a:ext cx="0" cy="53352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28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2666880" y="4647600"/>
                                    <a:ext cx="304560" cy="4568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29" name=""/>
                                  <p:cNvSpPr/>
                                  <p:nvPr/>
                                </p:nvSpPr>
                                <p:spPr>
                                  <a:xfrm>
                                    <a:off x="2819520" y="5105520"/>
                                    <a:ext cx="9903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30" name="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4114800"/>
                                    <a:ext cx="0" cy="53352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31" name=""/>
                                  <p:cNvSpPr/>
                                  <p:nvPr/>
                                </p:nvSpPr>
                                <p:spPr>
                                  <a:xfrm>
                                    <a:off x="3048120" y="4724280"/>
                                    <a:ext cx="7617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32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2971800" y="4571640"/>
                                    <a:ext cx="303840" cy="1515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33" name=""/>
                                <p:cNvSpPr/>
                                <p:nvPr/>
                              </p:nvSpPr>
                              <p:spPr>
                                <a:xfrm>
                                  <a:off x="1371600" y="5410080"/>
                                  <a:ext cx="289548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4" name=""/>
                                <p:cNvSpPr/>
                                <p:nvPr/>
                              </p:nvSpPr>
                              <p:spPr>
                                <a:xfrm flipV="1">
                                  <a:off x="1371600" y="2819520"/>
                                  <a:ext cx="0" cy="25905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35" name=""/>
                              <p:cNvSpPr/>
                              <p:nvPr/>
                            </p:nvSpPr>
                            <p:spPr>
                              <a:xfrm>
                                <a:off x="3657600" y="5486400"/>
                                <a:ext cx="1143000" cy="3708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 algn="ctr">
                                  <a:spcBef>
                                    <a:spcPts val="1001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x I</a:t>
                                </a:r>
                                <a:r>
                                  <a:rPr b="1" lang="en-US" sz="1600" spc="-1" strike="noStrike" baseline="-25000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n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6" name=""/>
                            <p:cNvSpPr/>
                            <p:nvPr/>
                          </p:nvSpPr>
                          <p:spPr>
                            <a:xfrm>
                              <a:off x="838080" y="2666880"/>
                              <a:ext cx="533520" cy="3373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 algn="ctr">
                                <a:spcBef>
                                  <a:spcPts val="1001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t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>
                            <a:off x="1752480" y="3124080"/>
                            <a:ext cx="0" cy="228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>
                            <a:off x="1905120" y="3124080"/>
                            <a:ext cx="0" cy="228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>
                          <a:off x="2666880" y="4800600"/>
                          <a:ext cx="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0" name=""/>
                        <p:cNvSpPr/>
                        <p:nvPr/>
                      </p:nvSpPr>
                      <p:spPr>
                        <a:xfrm>
                          <a:off x="2971800" y="4648320"/>
                          <a:ext cx="0" cy="76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2362320" y="5410080"/>
                        <a:ext cx="6094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,5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2743200" y="5410080"/>
                      <a:ext cx="609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43" name=""/>
              <p:cNvSpPr/>
              <p:nvPr/>
            </p:nvSpPr>
            <p:spPr>
              <a:xfrm>
                <a:off x="1371600" y="5105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5800" y="49528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295280" y="6095880"/>
              <a:ext cx="243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harakterystyka 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525780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572000" y="1904400"/>
            <a:ext cx="4114800" cy="4632120"/>
            <a:chOff x="4572000" y="1904400"/>
            <a:chExt cx="4114800" cy="4632120"/>
          </a:xfrm>
        </p:grpSpPr>
        <p:grpSp>
          <p:nvGrpSpPr>
            <p:cNvPr id="648" name=""/>
            <p:cNvGrpSpPr/>
            <p:nvPr/>
          </p:nvGrpSpPr>
          <p:grpSpPr>
            <a:xfrm>
              <a:off x="4572000" y="1904400"/>
              <a:ext cx="4114800" cy="4041360"/>
              <a:chOff x="4572000" y="1904400"/>
              <a:chExt cx="4114800" cy="404136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4724280" y="1904400"/>
                <a:ext cx="3962520" cy="4041360"/>
                <a:chOff x="4724280" y="1904400"/>
                <a:chExt cx="3962520" cy="40413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5638680" y="5410080"/>
                  <a:ext cx="609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, 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4724280" y="1904400"/>
                  <a:ext cx="3962520" cy="4041360"/>
                  <a:chOff x="4724280" y="1904400"/>
                  <a:chExt cx="3962520" cy="404136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5257800" y="5638680"/>
                    <a:ext cx="7621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,0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4724280" y="1904400"/>
                    <a:ext cx="3962520" cy="3952800"/>
                    <a:chOff x="4724280" y="1904400"/>
                    <a:chExt cx="3962520" cy="3952800"/>
                  </a:xfrm>
                </p:grpSpPr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4724280" y="1904400"/>
                      <a:ext cx="3962520" cy="3952800"/>
                      <a:chOff x="4724280" y="1904400"/>
                      <a:chExt cx="3962520" cy="3952800"/>
                    </a:xfrm>
                  </p:grpSpPr>
                  <p:grpSp>
                    <p:nvGrpSpPr>
                      <p:cNvPr id="655" name=""/>
                      <p:cNvGrpSpPr/>
                      <p:nvPr/>
                    </p:nvGrpSpPr>
                    <p:grpSpPr>
                      <a:xfrm>
                        <a:off x="4724280" y="1904400"/>
                        <a:ext cx="3962520" cy="3952800"/>
                        <a:chOff x="4724280" y="1904400"/>
                        <a:chExt cx="3962520" cy="3952800"/>
                      </a:xfrm>
                    </p:grpSpPr>
                    <p:grpSp>
                      <p:nvGrpSpPr>
                        <p:cNvPr id="656" name=""/>
                        <p:cNvGrpSpPr/>
                        <p:nvPr/>
                      </p:nvGrpSpPr>
                      <p:grpSpPr>
                        <a:xfrm>
                          <a:off x="4724280" y="1904400"/>
                          <a:ext cx="3962520" cy="3952800"/>
                          <a:chOff x="4724280" y="1904400"/>
                          <a:chExt cx="3962520" cy="3952800"/>
                        </a:xfrm>
                      </p:grpSpPr>
                      <p:grpSp>
                        <p:nvGrpSpPr>
                          <p:cNvPr id="657" name=""/>
                          <p:cNvGrpSpPr/>
                          <p:nvPr/>
                        </p:nvGrpSpPr>
                        <p:grpSpPr>
                          <a:xfrm>
                            <a:off x="4724280" y="1904400"/>
                            <a:ext cx="3962520" cy="3952800"/>
                            <a:chOff x="4724280" y="1904400"/>
                            <a:chExt cx="3962520" cy="3952800"/>
                          </a:xfrm>
                        </p:grpSpPr>
                        <p:grpSp>
                          <p:nvGrpSpPr>
                            <p:cNvPr id="658" name=""/>
                            <p:cNvGrpSpPr/>
                            <p:nvPr/>
                          </p:nvGrpSpPr>
                          <p:grpSpPr>
                            <a:xfrm>
                              <a:off x="5257800" y="1904400"/>
                              <a:ext cx="3429000" cy="3952800"/>
                              <a:chOff x="5257800" y="1904400"/>
                              <a:chExt cx="3429000" cy="3952800"/>
                            </a:xfrm>
                          </p:grpSpPr>
                          <p:grpSp>
                            <p:nvGrpSpPr>
                              <p:cNvPr id="659" name=""/>
                              <p:cNvGrpSpPr/>
                              <p:nvPr/>
                            </p:nvGrpSpPr>
                            <p:grpSpPr>
                              <a:xfrm>
                                <a:off x="5257800" y="1904400"/>
                                <a:ext cx="2895480" cy="3505680"/>
                                <a:chOff x="5257800" y="1904400"/>
                                <a:chExt cx="2895480" cy="3505680"/>
                              </a:xfrm>
                            </p:grpSpPr>
                            <p:grpSp>
                              <p:nvGrpSpPr>
                                <p:cNvPr id="660" name=""/>
                                <p:cNvGrpSpPr/>
                                <p:nvPr/>
                              </p:nvGrpSpPr>
                              <p:grpSpPr>
                                <a:xfrm>
                                  <a:off x="5638680" y="1904400"/>
                                  <a:ext cx="2285280" cy="3201120"/>
                                  <a:chOff x="5638680" y="1904400"/>
                                  <a:chExt cx="2285280" cy="3201120"/>
                                </a:xfrm>
                              </p:grpSpPr>
                              <p:sp>
                                <p:nvSpPr>
                                  <p:cNvPr id="661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5638680" y="1904040"/>
                                    <a:ext cx="1828080" cy="24382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2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5791320" y="2132640"/>
                                    <a:ext cx="2132640" cy="19810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3" name=""/>
                                  <p:cNvSpPr/>
                                  <p:nvPr/>
                                </p:nvSpPr>
                                <p:spPr>
                                  <a:xfrm>
                                    <a:off x="6553080" y="4343400"/>
                                    <a:ext cx="0" cy="53352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4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6553080" y="4647600"/>
                                    <a:ext cx="304560" cy="4568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5" name=""/>
                                  <p:cNvSpPr/>
                                  <p:nvPr/>
                                </p:nvSpPr>
                                <p:spPr>
                                  <a:xfrm>
                                    <a:off x="6705720" y="5105520"/>
                                    <a:ext cx="9903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6" name=""/>
                                  <p:cNvSpPr/>
                                  <p:nvPr/>
                                </p:nvSpPr>
                                <p:spPr>
                                  <a:xfrm>
                                    <a:off x="6858000" y="4114800"/>
                                    <a:ext cx="0" cy="53352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7" name=""/>
                                  <p:cNvSpPr/>
                                  <p:nvPr/>
                                </p:nvSpPr>
                                <p:spPr>
                                  <a:xfrm>
                                    <a:off x="6934320" y="4724280"/>
                                    <a:ext cx="7617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8" name="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6858000" y="4571640"/>
                                    <a:ext cx="303840" cy="15156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stroke="0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  <a:lnTo>
                                          <a:pt x="10800" y="10800"/>
                                        </a:lnTo>
                                        <a:close/>
                                      </a:path>
                                      <a:path fill="none" w="21600" h="21600">
                                        <a:moveTo>
                                          <a:pt x="10800" y="0"/>
                                        </a:moveTo>
                                        <a:arcTo wR="10800" hR="10800" stAng="-5400000" swAng="5400000"/>
                                      </a:path>
                                    </a:pathLst>
                                  </a:custGeom>
                                  <a:noFill/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69" name=""/>
                                <p:cNvSpPr/>
                                <p:nvPr/>
                              </p:nvSpPr>
                              <p:spPr>
                                <a:xfrm>
                                  <a:off x="5257800" y="5410080"/>
                                  <a:ext cx="289548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0" name=""/>
                                <p:cNvSpPr/>
                                <p:nvPr/>
                              </p:nvSpPr>
                              <p:spPr>
                                <a:xfrm flipV="1">
                                  <a:off x="5257800" y="2819520"/>
                                  <a:ext cx="0" cy="25905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7543800" y="5486400"/>
                                <a:ext cx="1143000" cy="3708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 algn="ctr">
                                  <a:spcBef>
                                    <a:spcPts val="1001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x I</a:t>
                                </a:r>
                                <a:r>
                                  <a:rPr b="1" lang="en-US" sz="1600" spc="-1" strike="noStrike" baseline="-25000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n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72" name=""/>
                            <p:cNvSpPr/>
                            <p:nvPr/>
                          </p:nvSpPr>
                          <p:spPr>
                            <a:xfrm>
                              <a:off x="4724280" y="2666880"/>
                              <a:ext cx="533520" cy="3373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 algn="ctr">
                                <a:spcBef>
                                  <a:spcPts val="1001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t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73" name=""/>
                          <p:cNvSpPr/>
                          <p:nvPr/>
                        </p:nvSpPr>
                        <p:spPr>
                          <a:xfrm>
                            <a:off x="5638680" y="3124080"/>
                            <a:ext cx="0" cy="228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"/>
                          <p:cNvSpPr/>
                          <p:nvPr/>
                        </p:nvSpPr>
                        <p:spPr>
                          <a:xfrm>
                            <a:off x="5791320" y="3124080"/>
                            <a:ext cx="0" cy="228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>
                          <a:off x="6553080" y="4800600"/>
                          <a:ext cx="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>
                          <a:off x="6858000" y="4648320"/>
                          <a:ext cx="0" cy="76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6248520" y="5410080"/>
                        <a:ext cx="6094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,5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6629400" y="5410080"/>
                      <a:ext cx="6094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79" name=""/>
              <p:cNvSpPr/>
              <p:nvPr/>
            </p:nvSpPr>
            <p:spPr>
              <a:xfrm>
                <a:off x="4572000" y="495288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5181480" y="6095880"/>
              <a:ext cx="243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harakterystyka 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726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świetleniowe – od zwar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zejne – od zwar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niki – 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ar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ciąże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niżenia napię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utków powrotu napię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niku faz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12193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odbior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acja zasilająca silnik powinna być tak dobrana aby w warunkach normalnej pracy zapewnić zasilanie silnika napięciem znamionowy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12193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838080" y="3809880"/>
          <a:ext cx="7696440" cy="2449440"/>
        </p:xfrm>
        <a:graphic>
          <a:graphicData uri="http://schemas.openxmlformats.org/drawingml/2006/table">
            <a:tbl>
              <a:tblPr/>
              <a:tblGrid>
                <a:gridCol w="3848400"/>
                <a:gridCol w="1866600"/>
                <a:gridCol w="19814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elkoś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iana wartości przy odchyleniu napięcia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ment obrotowy maksymalny oraz rozrucho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ędkość obrot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awnoś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półczynnik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ąd stoj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yrost temperatury uzwojenia stoj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( 6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7 )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( 0,5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 )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( 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 )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872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nem pracy silnika, który zmienia warunki napięciowe na zaciskach silnika jest rozruch. Pobierany podczas rozruchu prąd jest większy od prądu znamionow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oło 2 razy dla silników pierścieniow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oło 5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8 razy dla silników klatkow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rozruchowy silników klatkowych może i dla silników o dużych mocach znamionowych (powyżej 5,5 kW) powinien być zmniejszany przez stosowanie specjalnych układów rozruchowych. Oprócz najprostszego układu przełączającego „trójkąt – gwiazda” można stosować układy elektroniczne „łagodnego start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osowanie rozrusznika „trójkąt-gwiazda”, przy początkowym połączeniu uzwojeń w gwiazdę, powoduje, że prąd w przewodach zasilających silnik zmniejsza się trzykrotn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2193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872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ciążenia w silnikach mogą być powodowa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dmiernym zwiększeniem się momentu hamującego (np. na skutek uszkodzenia maszyny napędzanej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pełnofazową prac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niżeniem napięcia zasilające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gorszeniem warunków chłodzenia na skutek podwyższenia się temperatury otoczenia ponad wartość obliczeniową w wyniku np. zabrudzenia obudow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yt częstymi załączeniami lub nadmiernym wydłużeniem czasu rozruc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rótkotrwały wzrost prądu ponad wartość znamionową silnika nie oznac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ieczności wyłączenia silnik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2193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872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arą dopuszczalnej przeciążalności silnika jest cieplna charakterystyka czasowo-prądow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12193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743200" y="2133360"/>
            <a:ext cx="4951080" cy="4239000"/>
            <a:chOff x="2743200" y="2133360"/>
            <a:chExt cx="4951080" cy="4239000"/>
          </a:xfrm>
        </p:grpSpPr>
        <p:sp>
          <p:nvSpPr>
            <p:cNvPr id="699" name=""/>
            <p:cNvSpPr/>
            <p:nvPr/>
          </p:nvSpPr>
          <p:spPr>
            <a:xfrm>
              <a:off x="5943600" y="60958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2743200" y="2133360"/>
              <a:ext cx="4951080" cy="4132800"/>
              <a:chOff x="2743200" y="2133360"/>
              <a:chExt cx="4951080" cy="4132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276720" y="2133360"/>
                <a:ext cx="4417560" cy="3886560"/>
                <a:chOff x="3276720" y="2133360"/>
                <a:chExt cx="4417560" cy="3886560"/>
              </a:xfrm>
            </p:grpSpPr>
            <p:sp>
              <p:nvSpPr>
                <p:cNvPr id="702" name=""/>
                <p:cNvSpPr/>
                <p:nvPr/>
              </p:nvSpPr>
              <p:spPr>
                <a:xfrm flipH="1" flipV="1">
                  <a:off x="3429000" y="2133000"/>
                  <a:ext cx="4265280" cy="365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3276720" y="373392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76720" y="6019920"/>
                  <a:ext cx="289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581280" y="4724280"/>
                  <a:ext cx="0" cy="129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276720" y="4724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886200" y="5181480"/>
                  <a:ext cx="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276720" y="51814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26708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276720" y="5410080"/>
                  <a:ext cx="9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647960" y="56386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276720" y="563868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" name=""/>
              <p:cNvSpPr/>
              <p:nvPr/>
            </p:nvSpPr>
            <p:spPr>
              <a:xfrm>
                <a:off x="4876920" y="601992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429000" y="601992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48120" y="601992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114800" y="601992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,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733920" y="601992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,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495680" y="6019920"/>
                <a:ext cx="38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,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57800" y="60199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x I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43200" y="3657600"/>
                <a:ext cx="68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pl-P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955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ako zabezpieczenia przeciążeniowe silników stosuje się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łączniki z wyzwalaczami termobimetalow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yczniki z wyzwalaczami termobimetalow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harakterystyki czasowo-prądowe tych wyzwalaczy mają kształt zbliżony do charakterystyk cieplnych silnika, aby więc zabezpieczenie było skuteczne jego charakterystyka musi leżeć poniżej charakterystyki silnik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aki warunek jest spełniony przy nastawieniu zabezpieczenia przeciążeniowego na prą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= ( 1,0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1,1 ) 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– prąd znamionowy silnik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ktycznie wyzwalacze przeciążeniowe nastawia się na prąd znamionowy silnika -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12193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przeciążeniowe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0292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955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łączniki silnikowe produkcji krajowej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 600 – FA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 250 – FA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bs 25 – El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ją wyzwalacze termiczne, których prąd niezadział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nosi 1,05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prąd zadziałania – 1,2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więc nastawi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zwalacza :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as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powoduje, że może wystąpi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ługotrwałe przeciążenie silnika o 5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2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przeciążeniowe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143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wa zabezpieczenia są selektywne, jeżeli ich charakterystyki czasowo-prądowe nie mają punktów wspóln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2133000"/>
            <a:ext cx="5105160" cy="4483440"/>
            <a:chOff x="609480" y="2133000"/>
            <a:chExt cx="5105160" cy="4483440"/>
          </a:xfrm>
        </p:grpSpPr>
        <p:sp>
          <p:nvSpPr>
            <p:cNvPr id="135" name=""/>
            <p:cNvSpPr/>
            <p:nvPr/>
          </p:nvSpPr>
          <p:spPr>
            <a:xfrm flipV="1">
              <a:off x="990720" y="3352680"/>
              <a:ext cx="0" cy="28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0720" y="617184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371240" y="2819880"/>
              <a:ext cx="1066320" cy="228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5120" y="51051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1752120" y="2132640"/>
              <a:ext cx="396216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5867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6248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495680" y="1828800"/>
            <a:ext cx="4876200" cy="4788000"/>
            <a:chOff x="4495680" y="1828800"/>
            <a:chExt cx="4876200" cy="4788000"/>
          </a:xfrm>
        </p:grpSpPr>
        <p:sp>
          <p:nvSpPr>
            <p:cNvPr id="144" name=""/>
            <p:cNvSpPr/>
            <p:nvPr/>
          </p:nvSpPr>
          <p:spPr>
            <a:xfrm flipV="1">
              <a:off x="4876920" y="3352680"/>
              <a:ext cx="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6920" y="6172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257800" y="2819880"/>
              <a:ext cx="106632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5105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5867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43800" y="6248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715000" y="1828440"/>
              <a:ext cx="365688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91440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ktyw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ieselektyw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bezpieczenia silnika przed skutkami zwarć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ezpieczni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 pełnozakresowej lub niepełnozakresowej charakterystyce dział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łącznik z wyzwalaczem zwarciowy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harakterystyka czasowo-prądowa zabezpieczenia zwarciowego silnika musi leżeć między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charakterystyką rozruchową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a </a:t>
            </a:r>
            <a:r>
              <a:rPr b="0" lang="pl-PL" sz="2000" spc="-1" strike="noStrike">
                <a:solidFill>
                  <a:srgbClr val="9900ff"/>
                </a:solidFill>
                <a:latin typeface="Times New Roman"/>
              </a:rPr>
              <a:t>cieplną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k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190760" y="2017800"/>
            <a:ext cx="4763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ada wyboru zabezpieczenia zwarci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1143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zwarciowe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3658320" y="380520"/>
            <a:ext cx="6888960" cy="5670720"/>
            <a:chOff x="3658320" y="380520"/>
            <a:chExt cx="6888960" cy="5670720"/>
          </a:xfrm>
        </p:grpSpPr>
        <p:grpSp>
          <p:nvGrpSpPr>
            <p:cNvPr id="734" name=""/>
            <p:cNvGrpSpPr/>
            <p:nvPr/>
          </p:nvGrpSpPr>
          <p:grpSpPr>
            <a:xfrm>
              <a:off x="3658320" y="380520"/>
              <a:ext cx="6888960" cy="5670720"/>
              <a:chOff x="3658320" y="380520"/>
              <a:chExt cx="6888960" cy="567072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3658320" y="380520"/>
                <a:ext cx="6888960" cy="5670720"/>
                <a:chOff x="3658320" y="380520"/>
                <a:chExt cx="6888960" cy="567072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3658320" y="380520"/>
                  <a:ext cx="6888960" cy="5670720"/>
                  <a:chOff x="3658320" y="380520"/>
                  <a:chExt cx="6888960" cy="5670720"/>
                </a:xfrm>
              </p:grpSpPr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3658320" y="380520"/>
                    <a:ext cx="6888960" cy="5670720"/>
                    <a:chOff x="3658320" y="380520"/>
                    <a:chExt cx="6888960" cy="5670720"/>
                  </a:xfrm>
                </p:grpSpPr>
                <p:grpSp>
                  <p:nvGrpSpPr>
                    <p:cNvPr id="738" name=""/>
                    <p:cNvGrpSpPr/>
                    <p:nvPr/>
                  </p:nvGrpSpPr>
                  <p:grpSpPr>
                    <a:xfrm>
                      <a:off x="3658320" y="380520"/>
                      <a:ext cx="6888960" cy="5641560"/>
                      <a:chOff x="3658320" y="380520"/>
                      <a:chExt cx="6888960" cy="5641560"/>
                    </a:xfrm>
                  </p:grpSpPr>
                  <p:grpSp>
                    <p:nvGrpSpPr>
                      <p:cNvPr id="739" name=""/>
                      <p:cNvGrpSpPr/>
                      <p:nvPr/>
                    </p:nvGrpSpPr>
                    <p:grpSpPr>
                      <a:xfrm>
                        <a:off x="3658320" y="380520"/>
                        <a:ext cx="6888960" cy="5385240"/>
                        <a:chOff x="3658320" y="380520"/>
                        <a:chExt cx="6888960" cy="5385240"/>
                      </a:xfrm>
                    </p:grpSpPr>
                    <p:grpSp>
                      <p:nvGrpSpPr>
                        <p:cNvPr id="740" name=""/>
                        <p:cNvGrpSpPr/>
                        <p:nvPr/>
                      </p:nvGrpSpPr>
                      <p:grpSpPr>
                        <a:xfrm>
                          <a:off x="3658320" y="380520"/>
                          <a:ext cx="6888960" cy="5385240"/>
                          <a:chOff x="3658320" y="380520"/>
                          <a:chExt cx="6888960" cy="5385240"/>
                        </a:xfrm>
                      </p:grpSpPr>
                      <p:sp>
                        <p:nvSpPr>
                          <p:cNvPr id="741" name=""/>
                          <p:cNvSpPr/>
                          <p:nvPr/>
                        </p:nvSpPr>
                        <p:spPr>
                          <a:xfrm>
                            <a:off x="6401160" y="4800600"/>
                            <a:ext cx="760320" cy="45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2" name=""/>
                          <p:cNvSpPr/>
                          <p:nvPr/>
                        </p:nvSpPr>
                        <p:spPr>
                          <a:xfrm flipH="1" flipV="1">
                            <a:off x="5714640" y="2361240"/>
                            <a:ext cx="2131920" cy="243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3" name=""/>
                          <p:cNvSpPr/>
                          <p:nvPr/>
                        </p:nvSpPr>
                        <p:spPr>
                          <a:xfrm>
                            <a:off x="5410080" y="5638680"/>
                            <a:ext cx="32000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4" name=""/>
                          <p:cNvSpPr/>
                          <p:nvPr/>
                        </p:nvSpPr>
                        <p:spPr>
                          <a:xfrm flipV="1">
                            <a:off x="5410080" y="2819160"/>
                            <a:ext cx="0" cy="2819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5" name=""/>
                          <p:cNvSpPr/>
                          <p:nvPr/>
                        </p:nvSpPr>
                        <p:spPr>
                          <a:xfrm flipV="1">
                            <a:off x="3658320" y="4419000"/>
                            <a:ext cx="3503520" cy="1218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2844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6" name=""/>
                          <p:cNvSpPr/>
                          <p:nvPr/>
                        </p:nvSpPr>
                        <p:spPr>
                          <a:xfrm>
                            <a:off x="5714640" y="2895480"/>
                            <a:ext cx="0" cy="2743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7" name=""/>
                          <p:cNvSpPr/>
                          <p:nvPr/>
                        </p:nvSpPr>
                        <p:spPr>
                          <a:xfrm flipH="1" flipV="1" rot="477000">
                            <a:off x="6817680" y="1348200"/>
                            <a:ext cx="3504240" cy="3504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99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8" name=""/>
                          <p:cNvSpPr/>
                          <p:nvPr/>
                        </p:nvSpPr>
                        <p:spPr>
                          <a:xfrm flipH="1" flipV="1" rot="394800">
                            <a:off x="6157080" y="561240"/>
                            <a:ext cx="3351600" cy="5028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e4a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9" name=""/>
                          <p:cNvSpPr/>
                          <p:nvPr/>
                        </p:nvSpPr>
                        <p:spPr>
                          <a:xfrm flipH="1" flipV="1">
                            <a:off x="6705000" y="380160"/>
                            <a:ext cx="2437200" cy="5028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>
                          <a:off x="4876920" y="2819520"/>
                          <a:ext cx="456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t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8229600" y="5715000"/>
                        <a:ext cx="45684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I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5486400" y="5715000"/>
                      <a:ext cx="45684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7162560" y="502920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4" name=""/>
                <p:cNvSpPr/>
                <p:nvPr/>
              </p:nvSpPr>
              <p:spPr>
                <a:xfrm>
                  <a:off x="6933960" y="5715000"/>
                  <a:ext cx="6094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4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1" lang="pl-PL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>
                <a:off x="5867280" y="25146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e4a8"/>
                    </a:solidFill>
                    <a:latin typeface="Times New Roman"/>
                  </a:rPr>
                  <a:t>Z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6477120" y="2514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biera się bezpiecznik o najmniejszym prądzie znamionowym, którego charakterystyka nie przecina się z charakterystyką rozruchową silnika oraz ma wystarczającą zdolność zwarciową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rM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rM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- prąd rozruchowy silnik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na dobierać wkładki bezpiecznikowe wg tablic podawanych przez producentów zabezpieczeń w zależności od mocy chronionego silnika, bez wykonywania oblicze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bór bezpiecznika do ochrony silnika od zwar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ć współczynnik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y od typu stosowanej wkładki bezpiecznikowej oraz od czasu rozruchu siln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"/>
          <p:cNvSpPr/>
          <p:nvPr/>
        </p:nvSpPr>
        <p:spPr>
          <a:xfrm>
            <a:off x="114300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bór bezpiecznika do ochrony silnika od zwar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762120" y="3276720"/>
          <a:ext cx="7467480" cy="2693880"/>
        </p:xfrm>
        <a:graphic>
          <a:graphicData uri="http://schemas.openxmlformats.org/drawingml/2006/table">
            <a:tbl>
              <a:tblPr/>
              <a:tblGrid>
                <a:gridCol w="3047760"/>
                <a:gridCol w="2133720"/>
                <a:gridCol w="2286000"/>
              </a:tblGrid>
              <a:tr h="423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zaj rozruc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 wkład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ybka – Wts,F,g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łoczna – Wtz, 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kki – M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h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,5 M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dni – 0,5 M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ężki – M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by wyłącznik nie działał zbędnie przy przepływie dużego prądu, który nie jest efektem zwarcia, np. przy rozruchu, hamowaniu przeciwprądem, wymaga się, aby prąd wyzwalacza zwarciowego (elektromagnetycznego) spełniał warune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1,2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– prąd rozruchowy siln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większości wyłączników silnikowych nie ma możliwości nastawiania prądów wyzwalaczy elektromagnetyczny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>
            <a:off x="114300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bór wyłącznika do ochrony silnika od zwar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bezpieczenie podnapięciowe silnika stanowi ochronę przed znacznym obniżeniem napięcia (co przy niezmienionym momencie hamującym grozi przegrzaniem) oraz przed skutkami powrotu napię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zypadku zaniku napięcia silniki zmniejszają prędkość. Po powrocie napięcia odbywa się samorozruch, który może być niekorzystny, ponieważ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uma prądów rozruchowych może spowodować zbędne działanie zabezpieczeń linii zasilających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głe samoczynne uruchomienie silnika może stanowić zagrożenie dla obsługi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gą uszkodzić się silniki nie przystosowane do samorozruch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lę zabezpieczeń podnapięciowych pełni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ycznik a w nim cewka sterując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łącznik wyposażony w cewkę zanikową lub przekaźnik podnapięciowy o działaniu bezzwłoczny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nastawiona na zabezpieczeniu podnapięciowym t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0,7 U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"/>
              </a:rPr>
              <a:t>Zabezpieczenie podnapięciowe silni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pełnofazowa praca silnika jest możliwa, ale wywoła asymetrię prądów wirnika i stojana i doprowadzi do takich samych uszkodzeń jak przy przeciążeni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bezpieczenie od zaniku fazy stanowi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kaźnik zaniku faz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eagujący na brak napięcia fazy i pobudzający stycznik lub wyłącznik siln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114300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e silnika od zaniku faz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28400" y="228240"/>
            <a:ext cx="87152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55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rócz zabezpieczeń silnik (jak każdy odbiornik) wymaga urządzenia, za pomocą którego można go załączyć i wyłączy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rządzeniem takim może być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łącznik silnikow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ycz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yczni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znaczony jest do manewrowania z dużą częstością łączeń ( nawet do 1200 łączeń na godzinę), o dużej trwałości mechanicznej (do kilku milionów cykli), umożliwia też zdalne załączanie i wyłączan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osażenie stycznika w przekaźniki i czujniki reagujące na różne wielkości fizyczne np. prąd, temperaturę, napięcie, pozwala na stworzenie układu rozruchowego przeznaczonego dla odbiornika zgodnie z kategorią opisującą charakter łączeń (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N-90/E-06150/1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Stycznik nie może stanowić zabezpieczenia zwarciowego silnik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114300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łączanie silnika i manewrow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28400" y="228240"/>
            <a:ext cx="87152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staw rozruchowy ze stycznikiem wykorzystujący kilka urządzeń do pracy manewrowej i ochrony silnika wymaga koordynacji charakterystyk czasowo-prądowych. Typ koordynacji określa w jaki sposób urządzenie rozruchowe silnika zachowuje się przy wystąpieniu zwarci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N-92/E-06150/41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yczniki i rozruszniki do silników). Każdy typ koordynacji daje gwarancję, że prąd zwarciowy zostanie wyłączony bez zagrożenia dla ludzi i instalacji. Różne są tylko skutki przepływu prądu dla rozrusznik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 1 – dopuszczalne jest uszkodzenie lub zniszczenie stycznika i przekaźnika przeciążeniowego. Układ taki nie zapewnia ciągłości zasilania – może być stosowany do urządzeń, od których nie zależą podstawowe funkcje procesu technologicz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 2 – dopuszczalne jest sczepienie styków stycznika pod warunkiem, że można je łatwo rozdzieli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ordynacja pełna (tylko w normie międzynarodowej IEC 947-6-2) – nie dopuszcza się do jakichkolwiek uszkodzeń elementów łączeniowych i zabezpieczając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1371600" y="114300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łączanie silnika i manewrow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00160" y="-360"/>
            <a:ext cx="89438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y zabezpieczeń silni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1219320" y="1219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abezpieczenia sil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0" y="4114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219320" y="3429000"/>
            <a:ext cx="7596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76920" y="3581280"/>
            <a:ext cx="3809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wyzwalacz przeciąże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przekaźnik przeciąże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zpiecz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609480" y="2666880"/>
            <a:ext cx="3505320" cy="3400920"/>
            <a:chOff x="609480" y="2666880"/>
            <a:chExt cx="3505320" cy="3400920"/>
          </a:xfrm>
        </p:grpSpPr>
        <p:sp>
          <p:nvSpPr>
            <p:cNvPr id="787" name=""/>
            <p:cNvSpPr/>
            <p:nvPr/>
          </p:nvSpPr>
          <p:spPr>
            <a:xfrm>
              <a:off x="1143000" y="320040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29000" y="3352680"/>
              <a:ext cx="152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0532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52680" y="41148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05320" y="4267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05320" y="4495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50532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57600" y="4495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50532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05320" y="4648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38280" y="2666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066680" y="5181480"/>
              <a:ext cx="2743200" cy="886320"/>
              <a:chOff x="1066680" y="5181480"/>
              <a:chExt cx="2743200" cy="886320"/>
            </a:xfrm>
          </p:grpSpPr>
          <p:sp>
            <p:nvSpPr>
              <p:cNvPr id="799" name=""/>
              <p:cNvSpPr/>
              <p:nvPr/>
            </p:nvSpPr>
            <p:spPr>
              <a:xfrm>
                <a:off x="1066680" y="51814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276720" y="5181480"/>
                <a:ext cx="53316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209680" y="51814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219320" y="533412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62320" y="533412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429000" y="5334120"/>
                <a:ext cx="22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362320" y="579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429000" y="579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19320" y="579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2895480" y="44197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609480" y="3200400"/>
              <a:ext cx="2514600" cy="1981080"/>
              <a:chOff x="609480" y="3200400"/>
              <a:chExt cx="2514600" cy="1981080"/>
            </a:xfrm>
          </p:grpSpPr>
          <p:sp>
            <p:nvSpPr>
              <p:cNvPr id="810" name=""/>
              <p:cNvSpPr/>
              <p:nvPr/>
            </p:nvSpPr>
            <p:spPr>
              <a:xfrm>
                <a:off x="2362320" y="3352680"/>
                <a:ext cx="15228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438280" y="37339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438280" y="42670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438280" y="4495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438280" y="4648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90920" y="4495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438280" y="32004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438280" y="46483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403360" y="3962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609480" y="3200400"/>
                <a:ext cx="838440" cy="1981080"/>
                <a:chOff x="609480" y="3200400"/>
                <a:chExt cx="838440" cy="19810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295280" y="41148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>
                  <a:off x="1218960" y="34290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295280" y="3505320"/>
                  <a:ext cx="7632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295280" y="3200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143000" y="358128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295280" y="39625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447920" y="396252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295280" y="411480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09480" y="38862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9" name=""/>
              <p:cNvSpPr/>
              <p:nvPr/>
            </p:nvSpPr>
            <p:spPr>
              <a:xfrm>
                <a:off x="1828800" y="441972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438280" y="342900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429000" y="3429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3428640" y="3962520"/>
              <a:ext cx="152640" cy="152280"/>
              <a:chOff x="3428640" y="3962520"/>
              <a:chExt cx="152640" cy="152280"/>
            </a:xfrm>
          </p:grpSpPr>
          <p:sp>
            <p:nvSpPr>
              <p:cNvPr id="833" name=""/>
              <p:cNvSpPr/>
              <p:nvPr/>
            </p:nvSpPr>
            <p:spPr>
              <a:xfrm>
                <a:off x="3429000" y="3962520"/>
                <a:ext cx="763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3428640" y="3962520"/>
                <a:ext cx="152640" cy="152280"/>
                <a:chOff x="3428640" y="3962520"/>
                <a:chExt cx="152640" cy="152280"/>
              </a:xfrm>
            </p:grpSpPr>
            <p:sp>
              <p:nvSpPr>
                <p:cNvPr id="835" name=""/>
                <p:cNvSpPr/>
                <p:nvPr/>
              </p:nvSpPr>
              <p:spPr>
                <a:xfrm flipH="1">
                  <a:off x="3428640" y="39625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504960" y="4038480"/>
                  <a:ext cx="7632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nik M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886200" y="2017800"/>
            <a:ext cx="5068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asowo-prądow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kłady zabezpieczeń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609480" y="2743200"/>
            <a:ext cx="1067040" cy="3400560"/>
            <a:chOff x="609480" y="2743200"/>
            <a:chExt cx="1067040" cy="3400560"/>
          </a:xfrm>
        </p:grpSpPr>
        <p:grpSp>
          <p:nvGrpSpPr>
            <p:cNvPr id="842" name=""/>
            <p:cNvGrpSpPr/>
            <p:nvPr/>
          </p:nvGrpSpPr>
          <p:grpSpPr>
            <a:xfrm>
              <a:off x="1066680" y="3276360"/>
              <a:ext cx="533520" cy="2513880"/>
              <a:chOff x="1066680" y="3276360"/>
              <a:chExt cx="533520" cy="251388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1143000" y="3276360"/>
                <a:ext cx="304560" cy="914040"/>
                <a:chOff x="1143000" y="3276360"/>
                <a:chExt cx="304560" cy="914040"/>
              </a:xfrm>
            </p:grpSpPr>
            <p:grpSp>
              <p:nvGrpSpPr>
                <p:cNvPr id="844" name=""/>
                <p:cNvGrpSpPr/>
                <p:nvPr/>
              </p:nvGrpSpPr>
              <p:grpSpPr>
                <a:xfrm>
                  <a:off x="1143000" y="3276360"/>
                  <a:ext cx="228240" cy="761400"/>
                  <a:chOff x="1143000" y="3276360"/>
                  <a:chExt cx="228240" cy="761400"/>
                </a:xfrm>
              </p:grpSpPr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1218600" y="3276360"/>
                    <a:ext cx="152640" cy="380160"/>
                    <a:chOff x="1218600" y="3276360"/>
                    <a:chExt cx="152640" cy="380160"/>
                  </a:xfrm>
                </p:grpSpPr>
                <p:grpSp>
                  <p:nvGrpSpPr>
                    <p:cNvPr id="846" name=""/>
                    <p:cNvGrpSpPr/>
                    <p:nvPr/>
                  </p:nvGrpSpPr>
                  <p:grpSpPr>
                    <a:xfrm>
                      <a:off x="1218600" y="3504600"/>
                      <a:ext cx="152640" cy="151920"/>
                      <a:chOff x="1218600" y="3504600"/>
                      <a:chExt cx="152640" cy="151920"/>
                    </a:xfrm>
                  </p:grpSpPr>
                  <p:sp>
                    <p:nvSpPr>
                      <p:cNvPr id="847" name=""/>
                      <p:cNvSpPr/>
                      <p:nvPr/>
                    </p:nvSpPr>
                    <p:spPr>
                      <a:xfrm>
                        <a:off x="1218960" y="3504600"/>
                        <a:ext cx="76320" cy="759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8" name=""/>
                      <p:cNvGrpSpPr/>
                      <p:nvPr/>
                    </p:nvGrpSpPr>
                    <p:grpSpPr>
                      <a:xfrm>
                        <a:off x="1218600" y="3504600"/>
                        <a:ext cx="152640" cy="151920"/>
                        <a:chOff x="1218600" y="3504600"/>
                        <a:chExt cx="152640" cy="151920"/>
                      </a:xfrm>
                    </p:grpSpPr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 flipH="1">
                          <a:off x="1218600" y="3504600"/>
                          <a:ext cx="152280" cy="1519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>
                          <a:off x="1294920" y="3580200"/>
                          <a:ext cx="76320" cy="759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1295280" y="3276360"/>
                      <a:ext cx="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2" name=""/>
                  <p:cNvSpPr/>
                  <p:nvPr/>
                </p:nvSpPr>
                <p:spPr>
                  <a:xfrm>
                    <a:off x="1143000" y="3656880"/>
                    <a:ext cx="15228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1295280" y="3809520"/>
                    <a:ext cx="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"/>
                <p:cNvSpPr/>
                <p:nvPr/>
              </p:nvSpPr>
              <p:spPr>
                <a:xfrm>
                  <a:off x="1295280" y="403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295280" y="4190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447560" y="403812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"/>
              <p:cNvSpPr/>
              <p:nvPr/>
            </p:nvSpPr>
            <p:spPr>
              <a:xfrm>
                <a:off x="1066680" y="525708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95280" y="4190400"/>
                <a:ext cx="0" cy="106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1295280" y="274320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19320" y="54100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19320" y="586728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09480" y="39621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8080" y="327636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047760" y="1523520"/>
            <a:ext cx="9095400" cy="4527720"/>
            <a:chOff x="3047760" y="1523520"/>
            <a:chExt cx="9095400" cy="4527720"/>
          </a:xfrm>
        </p:grpSpPr>
        <p:grpSp>
          <p:nvGrpSpPr>
            <p:cNvPr id="865" name=""/>
            <p:cNvGrpSpPr/>
            <p:nvPr/>
          </p:nvGrpSpPr>
          <p:grpSpPr>
            <a:xfrm>
              <a:off x="4267080" y="2666880"/>
              <a:ext cx="3733560" cy="3384360"/>
              <a:chOff x="4267080" y="2666880"/>
              <a:chExt cx="3733560" cy="3384360"/>
            </a:xfrm>
          </p:grpSpPr>
          <p:sp>
            <p:nvSpPr>
              <p:cNvPr id="866" name=""/>
              <p:cNvSpPr/>
              <p:nvPr/>
            </p:nvSpPr>
            <p:spPr>
              <a:xfrm>
                <a:off x="4800240" y="56386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4800240" y="2819160"/>
                <a:ext cx="0" cy="281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67080" y="28195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876560" y="5715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248160" y="5715000"/>
                <a:ext cx="609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952880" y="26668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e4a8"/>
                    </a:solidFill>
                    <a:latin typeface="Times New Roman"/>
                  </a:rPr>
                  <a:t>W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705360" y="5715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W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62560" y="5715000"/>
                <a:ext cx="609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047760" y="1523520"/>
              <a:ext cx="9095400" cy="4498560"/>
              <a:chOff x="3047760" y="1523520"/>
              <a:chExt cx="9095400" cy="4498560"/>
            </a:xfrm>
          </p:grpSpPr>
          <p:sp>
            <p:nvSpPr>
              <p:cNvPr id="875" name=""/>
              <p:cNvSpPr/>
              <p:nvPr/>
            </p:nvSpPr>
            <p:spPr>
              <a:xfrm>
                <a:off x="7619760" y="5715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3047760" y="1523520"/>
                <a:ext cx="9095400" cy="4351680"/>
                <a:chOff x="3047760" y="1523520"/>
                <a:chExt cx="9095400" cy="43516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5105160" y="2895480"/>
                  <a:ext cx="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553080" y="502920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391160" y="48006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90960" y="4800600"/>
                  <a:ext cx="7617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flipV="1">
                  <a:off x="5105160" y="2361240"/>
                  <a:ext cx="2132640" cy="243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3047760" y="4419000"/>
                  <a:ext cx="35049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5181480" y="1523160"/>
                  <a:ext cx="3199680" cy="320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e4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764040" y="47242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11683200">
                  <a:off x="5368680" y="2494080"/>
                  <a:ext cx="6552720" cy="259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99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781680" y="5410080"/>
                  <a:ext cx="914400" cy="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781680" y="54100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elektywność prądo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8006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438280" y="2438280"/>
            <a:ext cx="6400800" cy="4330800"/>
            <a:chOff x="2438280" y="2438280"/>
            <a:chExt cx="6400800" cy="4330800"/>
          </a:xfrm>
        </p:grpSpPr>
        <p:sp>
          <p:nvSpPr>
            <p:cNvPr id="160" name=""/>
            <p:cNvSpPr/>
            <p:nvPr/>
          </p:nvSpPr>
          <p:spPr>
            <a:xfrm flipV="1">
              <a:off x="4648320" y="27432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8320" y="58672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9200" y="2971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29200" y="373392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7280" y="5562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86400" y="373392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24480" y="48006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7280" y="2971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562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1120" y="2666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7480" y="58672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z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220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z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2971800"/>
              <a:ext cx="27432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efa selektywności przy zwarci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4280" y="2438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438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38280" y="640080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nica selektywności przy zwarci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95880" y="594324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3200400"/>
            <a:ext cx="1752480" cy="1981080"/>
            <a:chOff x="914400" y="3200400"/>
            <a:chExt cx="1752480" cy="1981080"/>
          </a:xfrm>
        </p:grpSpPr>
        <p:sp>
          <p:nvSpPr>
            <p:cNvPr id="180" name=""/>
            <p:cNvSpPr/>
            <p:nvPr/>
          </p:nvSpPr>
          <p:spPr>
            <a:xfrm>
              <a:off x="1295280" y="4191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2480" y="3200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52480" y="3809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0200" y="358128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7400" y="419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457200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4400" y="3429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400" y="4495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0200" y="4724280"/>
              <a:ext cx="457200" cy="38124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5248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7400" y="4952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nik M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809520" y="2057040"/>
            <a:ext cx="5069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asowo-prądow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kłady zabezpieczeń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00200" y="5562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972520" y="838440"/>
            <a:ext cx="9093600" cy="5288760"/>
            <a:chOff x="2972520" y="838440"/>
            <a:chExt cx="9093600" cy="5288760"/>
          </a:xfrm>
        </p:grpSpPr>
        <p:sp>
          <p:nvSpPr>
            <p:cNvPr id="894" name=""/>
            <p:cNvSpPr/>
            <p:nvPr/>
          </p:nvSpPr>
          <p:spPr>
            <a:xfrm>
              <a:off x="4724280" y="5714640"/>
              <a:ext cx="320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724280" y="28951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91120" y="289548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00600" y="5790960"/>
              <a:ext cx="45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n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72200" y="5790960"/>
              <a:ext cx="60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52880" y="26668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e4a8"/>
                  </a:solidFill>
                  <a:latin typeface="Times New Roman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543800" y="579096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29200" y="297144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76760" y="5105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715720" y="4876560"/>
              <a:ext cx="760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5029200" y="2437200"/>
              <a:ext cx="2131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972520" y="4494960"/>
              <a:ext cx="350352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1683200">
              <a:off x="5292360" y="2570040"/>
              <a:ext cx="6552000" cy="259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99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5257800" y="1370880"/>
              <a:ext cx="56368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476760" y="838440"/>
              <a:ext cx="3504240" cy="45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5200" y="4800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324480" y="274284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66680" y="2895480"/>
            <a:ext cx="1295640" cy="3400920"/>
            <a:chOff x="1066680" y="2895480"/>
            <a:chExt cx="1295640" cy="3400920"/>
          </a:xfrm>
        </p:grpSpPr>
        <p:grpSp>
          <p:nvGrpSpPr>
            <p:cNvPr id="912" name=""/>
            <p:cNvGrpSpPr/>
            <p:nvPr/>
          </p:nvGrpSpPr>
          <p:grpSpPr>
            <a:xfrm>
              <a:off x="1066680" y="2895480"/>
              <a:ext cx="1295640" cy="3400920"/>
              <a:chOff x="1066680" y="2895480"/>
              <a:chExt cx="1295640" cy="3400920"/>
            </a:xfrm>
          </p:grpSpPr>
          <p:sp>
            <p:nvSpPr>
              <p:cNvPr id="913" name=""/>
              <p:cNvSpPr/>
              <p:nvPr/>
            </p:nvSpPr>
            <p:spPr>
              <a:xfrm>
                <a:off x="1447920" y="5410080"/>
                <a:ext cx="53316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60680" y="55627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676520" y="365760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066680" y="464832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600200" y="3581280"/>
                <a:ext cx="15228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676520" y="3962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523880" y="434340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67652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676520" y="4724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676520" y="4876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828800" y="4724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676520" y="3429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76520" y="4876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676520" y="28954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600200" y="6019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219320" y="34290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639800" y="41911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1523880" y="556272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nik M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09520" y="2057040"/>
            <a:ext cx="5069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asowo-prądow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1219320" y="1066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kłady zabezpieczeń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047760" y="1523520"/>
            <a:ext cx="9095400" cy="4527720"/>
            <a:chOff x="3047760" y="1523520"/>
            <a:chExt cx="9095400" cy="4527720"/>
          </a:xfrm>
        </p:grpSpPr>
        <p:grpSp>
          <p:nvGrpSpPr>
            <p:cNvPr id="936" name=""/>
            <p:cNvGrpSpPr/>
            <p:nvPr/>
          </p:nvGrpSpPr>
          <p:grpSpPr>
            <a:xfrm>
              <a:off x="3047760" y="1523520"/>
              <a:ext cx="9095400" cy="4527720"/>
              <a:chOff x="3047760" y="1523520"/>
              <a:chExt cx="9095400" cy="452772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3047760" y="1523520"/>
                <a:ext cx="9095400" cy="4527720"/>
                <a:chOff x="3047760" y="1523520"/>
                <a:chExt cx="9095400" cy="4527720"/>
              </a:xfrm>
            </p:grpSpPr>
            <p:grpSp>
              <p:nvGrpSpPr>
                <p:cNvPr id="938" name=""/>
                <p:cNvGrpSpPr/>
                <p:nvPr/>
              </p:nvGrpSpPr>
              <p:grpSpPr>
                <a:xfrm>
                  <a:off x="3047760" y="1523520"/>
                  <a:ext cx="9095400" cy="4527720"/>
                  <a:chOff x="3047760" y="1523520"/>
                  <a:chExt cx="9095400" cy="4527720"/>
                </a:xfrm>
              </p:grpSpPr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4267080" y="2666880"/>
                    <a:ext cx="3733560" cy="3384360"/>
                    <a:chOff x="4267080" y="2666880"/>
                    <a:chExt cx="3733560" cy="338436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4800240" y="5638680"/>
                      <a:ext cx="3200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V="1">
                      <a:off x="4800240" y="2819160"/>
                      <a:ext cx="0" cy="2819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4267080" y="281952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4876560" y="5715000"/>
                      <a:ext cx="45720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248160" y="5715000"/>
                      <a:ext cx="6094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4952880" y="2666880"/>
                      <a:ext cx="5331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e4a8"/>
                          </a:solidFill>
                          <a:latin typeface="Times New Roman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6705360" y="5715000"/>
                      <a:ext cx="45720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7162560" y="5715000"/>
                      <a:ext cx="6094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3047760" y="1523520"/>
                    <a:ext cx="9095400" cy="4498560"/>
                    <a:chOff x="3047760" y="1523520"/>
                    <a:chExt cx="9095400" cy="449856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7619760" y="5715000"/>
                      <a:ext cx="4572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50" name=""/>
                    <p:cNvGrpSpPr/>
                    <p:nvPr/>
                  </p:nvGrpSpPr>
                  <p:grpSpPr>
                    <a:xfrm>
                      <a:off x="3047760" y="1523520"/>
                      <a:ext cx="9095400" cy="4351680"/>
                      <a:chOff x="3047760" y="1523520"/>
                      <a:chExt cx="9095400" cy="4351680"/>
                    </a:xfrm>
                  </p:grpSpPr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5105160" y="2895480"/>
                        <a:ext cx="0" cy="27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6553080" y="5029200"/>
                        <a:ext cx="0" cy="609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>
                        <a:off x="7391160" y="4800600"/>
                        <a:ext cx="0" cy="838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>
                        <a:off x="5790960" y="4800600"/>
                        <a:ext cx="761760" cy="45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5" name=""/>
                      <p:cNvSpPr/>
                      <p:nvPr/>
                    </p:nvSpPr>
                    <p:spPr>
                      <a:xfrm flipH="1" flipV="1">
                        <a:off x="5105160" y="2361240"/>
                        <a:ext cx="2132640" cy="243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6" name=""/>
                      <p:cNvSpPr/>
                      <p:nvPr/>
                    </p:nvSpPr>
                    <p:spPr>
                      <a:xfrm flipV="1">
                        <a:off x="3047760" y="4419000"/>
                        <a:ext cx="3504960" cy="121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7" name=""/>
                      <p:cNvSpPr/>
                      <p:nvPr/>
                    </p:nvSpPr>
                    <p:spPr>
                      <a:xfrm flipH="1" flipV="1">
                        <a:off x="5181480" y="1523160"/>
                        <a:ext cx="3199680" cy="320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e4a8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6764040" y="4724280"/>
                        <a:ext cx="0" cy="685800"/>
                      </a:xfrm>
                      <a:prstGeom prst="line">
                        <a:avLst/>
                      </a:prstGeom>
                      <a:ln w="28440">
                        <a:solidFill>
                          <a:srgbClr val="00e4a8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 rot="11683200">
                        <a:off x="5368680" y="2494080"/>
                        <a:ext cx="6552720" cy="259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9900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0" name=""/>
                      <p:cNvSpPr/>
                      <p:nvPr/>
                    </p:nvSpPr>
                    <p:spPr>
                      <a:xfrm>
                        <a:off x="6781680" y="5410080"/>
                        <a:ext cx="9144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e4a8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6781680" y="5410080"/>
                        <a:ext cx="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62" name=""/>
                <p:cNvSpPr/>
                <p:nvPr/>
              </p:nvSpPr>
              <p:spPr>
                <a:xfrm flipH="1" flipV="1">
                  <a:off x="6781680" y="2361600"/>
                  <a:ext cx="1676160" cy="320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238880" y="54100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7010280" y="5715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6707520" y="35053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990720" y="2666880"/>
            <a:ext cx="1218960" cy="3400920"/>
            <a:chOff x="990720" y="2666880"/>
            <a:chExt cx="1218960" cy="3400920"/>
          </a:xfrm>
        </p:grpSpPr>
        <p:sp>
          <p:nvSpPr>
            <p:cNvPr id="967" name=""/>
            <p:cNvSpPr/>
            <p:nvPr/>
          </p:nvSpPr>
          <p:spPr>
            <a:xfrm>
              <a:off x="1600200" y="2666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600200" y="3657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71600" y="5181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23880" y="3352680"/>
              <a:ext cx="1526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47920" y="41148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00200" y="4267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600200" y="4495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600200" y="4648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52480" y="4495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0020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23880" y="53341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23880" y="57913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90720" y="44197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523880" y="3429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143000" y="32004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1523520" y="3886200"/>
              <a:ext cx="152640" cy="152280"/>
              <a:chOff x="1523520" y="3886200"/>
              <a:chExt cx="152640" cy="152280"/>
            </a:xfrm>
          </p:grpSpPr>
          <p:sp>
            <p:nvSpPr>
              <p:cNvPr id="984" name=""/>
              <p:cNvSpPr/>
              <p:nvPr/>
            </p:nvSpPr>
            <p:spPr>
              <a:xfrm>
                <a:off x="1523880" y="3886200"/>
                <a:ext cx="763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1523520" y="3886200"/>
                <a:ext cx="152640" cy="152280"/>
                <a:chOff x="1523520" y="3886200"/>
                <a:chExt cx="152640" cy="15228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1523520" y="38862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599840" y="3962160"/>
                  <a:ext cx="7632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7600" y="2057040"/>
            <a:ext cx="8726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linii odbiorczej zasilającej kilka silni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>
            <a:off x="1219320" y="1219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wód odbiorczy zasilający kilka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523880" y="2590920"/>
            <a:ext cx="5791320" cy="2590200"/>
            <a:chOff x="1523880" y="2590920"/>
            <a:chExt cx="5791320" cy="2590200"/>
          </a:xfrm>
        </p:grpSpPr>
        <p:grpSp>
          <p:nvGrpSpPr>
            <p:cNvPr id="992" name=""/>
            <p:cNvGrpSpPr/>
            <p:nvPr/>
          </p:nvGrpSpPr>
          <p:grpSpPr>
            <a:xfrm>
              <a:off x="1523880" y="2590920"/>
              <a:ext cx="5791320" cy="2590200"/>
              <a:chOff x="1523880" y="2590920"/>
              <a:chExt cx="5791320" cy="2590200"/>
            </a:xfrm>
          </p:grpSpPr>
          <p:sp>
            <p:nvSpPr>
              <p:cNvPr id="993" name=""/>
              <p:cNvSpPr/>
              <p:nvPr/>
            </p:nvSpPr>
            <p:spPr>
              <a:xfrm>
                <a:off x="6629400" y="3276360"/>
                <a:ext cx="685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nM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1523880" y="2590920"/>
                <a:ext cx="5486400" cy="2590200"/>
                <a:chOff x="1523880" y="2590920"/>
                <a:chExt cx="5486400" cy="25902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5029200" y="3276360"/>
                  <a:ext cx="6858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6" name=""/>
                <p:cNvGrpSpPr/>
                <p:nvPr/>
              </p:nvGrpSpPr>
              <p:grpSpPr>
                <a:xfrm>
                  <a:off x="1523880" y="2590920"/>
                  <a:ext cx="5486400" cy="2590200"/>
                  <a:chOff x="1523880" y="2590920"/>
                  <a:chExt cx="5486400" cy="2590200"/>
                </a:xfrm>
              </p:grpSpPr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1523880" y="2590920"/>
                    <a:ext cx="5486400" cy="2590200"/>
                    <a:chOff x="1523880" y="2590920"/>
                    <a:chExt cx="5486400" cy="2590200"/>
                  </a:xfrm>
                </p:grpSpPr>
                <p:grpSp>
                  <p:nvGrpSpPr>
                    <p:cNvPr id="998" name=""/>
                    <p:cNvGrpSpPr/>
                    <p:nvPr/>
                  </p:nvGrpSpPr>
                  <p:grpSpPr>
                    <a:xfrm>
                      <a:off x="1523880" y="2590920"/>
                      <a:ext cx="5486400" cy="2590200"/>
                      <a:chOff x="1523880" y="2590920"/>
                      <a:chExt cx="5486400" cy="2590200"/>
                    </a:xfrm>
                  </p:grpSpPr>
                  <p:grpSp>
                    <p:nvGrpSpPr>
                      <p:cNvPr id="999" name=""/>
                      <p:cNvGrpSpPr/>
                      <p:nvPr/>
                    </p:nvGrpSpPr>
                    <p:grpSpPr>
                      <a:xfrm>
                        <a:off x="1523880" y="2590920"/>
                        <a:ext cx="5486400" cy="2590200"/>
                        <a:chOff x="1523880" y="2590920"/>
                        <a:chExt cx="5486400" cy="2590200"/>
                      </a:xfrm>
                    </p:grpSpPr>
                    <p:grpSp>
                      <p:nvGrpSpPr>
                        <p:cNvPr id="1000" name=""/>
                        <p:cNvGrpSpPr/>
                        <p:nvPr/>
                      </p:nvGrpSpPr>
                      <p:grpSpPr>
                        <a:xfrm>
                          <a:off x="1523880" y="2590920"/>
                          <a:ext cx="5486400" cy="2590200"/>
                          <a:chOff x="1523880" y="2590920"/>
                          <a:chExt cx="5486400" cy="2590200"/>
                        </a:xfrm>
                      </p:grpSpPr>
                      <p:grpSp>
                        <p:nvGrpSpPr>
                          <p:cNvPr id="1001" name=""/>
                          <p:cNvGrpSpPr/>
                          <p:nvPr/>
                        </p:nvGrpSpPr>
                        <p:grpSpPr>
                          <a:xfrm>
                            <a:off x="1523880" y="2590920"/>
                            <a:ext cx="5486400" cy="2590200"/>
                            <a:chOff x="1523880" y="2590920"/>
                            <a:chExt cx="5486400" cy="2590200"/>
                          </a:xfrm>
                        </p:grpSpPr>
                        <p:grpSp>
                          <p:nvGrpSpPr>
                            <p:cNvPr id="1002" name=""/>
                            <p:cNvGrpSpPr/>
                            <p:nvPr/>
                          </p:nvGrpSpPr>
                          <p:grpSpPr>
                            <a:xfrm>
                              <a:off x="1523880" y="2590920"/>
                              <a:ext cx="5486400" cy="2590200"/>
                              <a:chOff x="1523880" y="2590920"/>
                              <a:chExt cx="5486400" cy="2590200"/>
                            </a:xfrm>
                          </p:grpSpPr>
                          <p:grpSp>
                            <p:nvGrpSpPr>
                              <p:cNvPr id="1003" name=""/>
                              <p:cNvGrpSpPr/>
                              <p:nvPr/>
                            </p:nvGrpSpPr>
                            <p:grpSpPr>
                              <a:xfrm>
                                <a:off x="1523880" y="2590920"/>
                                <a:ext cx="5486400" cy="2590200"/>
                                <a:chOff x="1523880" y="2590920"/>
                                <a:chExt cx="5486400" cy="2590200"/>
                              </a:xfrm>
                            </p:grpSpPr>
                            <p:sp>
                              <p:nvSpPr>
                                <p:cNvPr id="1004" name=""/>
                                <p:cNvSpPr/>
                                <p:nvPr/>
                              </p:nvSpPr>
                              <p:spPr>
                                <a:xfrm>
                                  <a:off x="3276360" y="4571640"/>
                                  <a:ext cx="685800" cy="6094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05" name=""/>
                                <p:cNvSpPr/>
                                <p:nvPr/>
                              </p:nvSpPr>
                              <p:spPr>
                                <a:xfrm>
                                  <a:off x="4724280" y="4571640"/>
                                  <a:ext cx="685800" cy="6094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06" name=""/>
                                <p:cNvSpPr/>
                                <p:nvPr/>
                              </p:nvSpPr>
                              <p:spPr>
                                <a:xfrm>
                                  <a:off x="6324480" y="4571640"/>
                                  <a:ext cx="685800" cy="6094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07" name=""/>
                                <p:cNvSpPr/>
                                <p:nvPr/>
                              </p:nvSpPr>
                              <p:spPr>
                                <a:xfrm>
                                  <a:off x="2133360" y="2590920"/>
                                  <a:ext cx="0" cy="76176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08" name=""/>
                                <p:cNvSpPr/>
                                <p:nvPr/>
                              </p:nvSpPr>
                              <p:spPr>
                                <a:xfrm>
                                  <a:off x="2133360" y="3047760"/>
                                  <a:ext cx="449604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09" name=""/>
                                <p:cNvSpPr/>
                                <p:nvPr/>
                              </p:nvSpPr>
                              <p:spPr>
                                <a:xfrm>
                                  <a:off x="1523880" y="3047760"/>
                                  <a:ext cx="60948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010" name=""/>
                                <p:cNvGrpSpPr/>
                                <p:nvPr/>
                              </p:nvGrpSpPr>
                              <p:grpSpPr>
                                <a:xfrm>
                                  <a:off x="3429000" y="3047760"/>
                                  <a:ext cx="304560" cy="1523520"/>
                                  <a:chOff x="3429000" y="3047760"/>
                                  <a:chExt cx="304560" cy="1523520"/>
                                </a:xfrm>
                              </p:grpSpPr>
                              <p:sp>
                                <p:nvSpPr>
                                  <p:cNvPr id="1011" name=""/>
                                  <p:cNvSpPr/>
                                  <p:nvPr/>
                                </p:nvSpPr>
                                <p:spPr>
                                  <a:xfrm rot="5400000">
                                    <a:off x="3314880" y="3923640"/>
                                    <a:ext cx="532800" cy="3045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12" name=""/>
                                  <p:cNvSpPr/>
                                  <p:nvPr/>
                                </p:nvSpPr>
                                <p:spPr>
                                  <a:xfrm>
                                    <a:off x="3581280" y="3047760"/>
                                    <a:ext cx="0" cy="152352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013" name=""/>
                                <p:cNvGrpSpPr/>
                                <p:nvPr/>
                              </p:nvGrpSpPr>
                              <p:grpSpPr>
                                <a:xfrm>
                                  <a:off x="4876560" y="3047760"/>
                                  <a:ext cx="304560" cy="1523520"/>
                                  <a:chOff x="4876560" y="3047760"/>
                                  <a:chExt cx="304560" cy="1523520"/>
                                </a:xfrm>
                              </p:grpSpPr>
                              <p:sp>
                                <p:nvSpPr>
                                  <p:cNvPr id="1014" name=""/>
                                  <p:cNvSpPr/>
                                  <p:nvPr/>
                                </p:nvSpPr>
                                <p:spPr>
                                  <a:xfrm rot="5400000">
                                    <a:off x="4762440" y="3923640"/>
                                    <a:ext cx="532800" cy="3045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15" name=""/>
                                  <p:cNvSpPr/>
                                  <p:nvPr/>
                                </p:nvSpPr>
                                <p:spPr>
                                  <a:xfrm>
                                    <a:off x="5028840" y="3047760"/>
                                    <a:ext cx="0" cy="152352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016" name=""/>
                                <p:cNvGrpSpPr/>
                                <p:nvPr/>
                              </p:nvGrpSpPr>
                              <p:grpSpPr>
                                <a:xfrm>
                                  <a:off x="6476760" y="3047760"/>
                                  <a:ext cx="304560" cy="1523520"/>
                                  <a:chOff x="6476760" y="3047760"/>
                                  <a:chExt cx="304560" cy="1523520"/>
                                </a:xfrm>
                              </p:grpSpPr>
                              <p:sp>
                                <p:nvSpPr>
                                  <p:cNvPr id="1017" name=""/>
                                  <p:cNvSpPr/>
                                  <p:nvPr/>
                                </p:nvSpPr>
                                <p:spPr>
                                  <a:xfrm rot="5400000">
                                    <a:off x="6362640" y="3923640"/>
                                    <a:ext cx="532800" cy="3045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fffff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18" name=""/>
                                  <p:cNvSpPr/>
                                  <p:nvPr/>
                                </p:nvSpPr>
                                <p:spPr>
                                  <a:xfrm>
                                    <a:off x="6629040" y="3047760"/>
                                    <a:ext cx="0" cy="1523520"/>
                                  </a:xfrm>
                                  <a:prstGeom prst="line">
                                    <a:avLst/>
                                  </a:prstGeom>
                                  <a:ln w="1908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19" name=""/>
                                <p:cNvSpPr/>
                                <p:nvPr/>
                              </p:nvSpPr>
                              <p:spPr>
                                <a:xfrm>
                                  <a:off x="2361960" y="2895480"/>
                                  <a:ext cx="609840" cy="3042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0" name=""/>
                                <p:cNvSpPr/>
                                <p:nvPr/>
                              </p:nvSpPr>
                              <p:spPr>
                                <a:xfrm>
                                  <a:off x="2361960" y="3047760"/>
                                  <a:ext cx="60984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21" name=""/>
                              <p:cNvSpPr/>
                              <p:nvPr/>
                            </p:nvSpPr>
                            <p:spPr>
                              <a:xfrm>
                                <a:off x="1676160" y="3504960"/>
                                <a:ext cx="91440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 algn="ctr"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RO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22" name=""/>
                            <p:cNvSpPr/>
                            <p:nvPr/>
                          </p:nvSpPr>
                          <p:spPr>
                            <a:xfrm>
                              <a:off x="3276360" y="4724280"/>
                              <a:ext cx="685800" cy="3373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 algn="ctr">
                                <a:spcBef>
                                  <a:spcPts val="1001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M1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23" name=""/>
                          <p:cNvSpPr/>
                          <p:nvPr/>
                        </p:nvSpPr>
                        <p:spPr>
                          <a:xfrm>
                            <a:off x="6324480" y="4724280"/>
                            <a:ext cx="685800" cy="3373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spcBef>
                                <a:spcPts val="1001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M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>
                          <a:off x="4800600" y="4724280"/>
                          <a:ext cx="60948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M2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25" name=""/>
                      <p:cNvSpPr/>
                      <p:nvPr/>
                    </p:nvSpPr>
                    <p:spPr>
                      <a:xfrm>
                        <a:off x="3581280" y="327636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6" name=""/>
                      <p:cNvSpPr/>
                      <p:nvPr/>
                    </p:nvSpPr>
                    <p:spPr>
                      <a:xfrm>
                        <a:off x="5029200" y="335268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7" name=""/>
                      <p:cNvSpPr/>
                      <p:nvPr/>
                    </p:nvSpPr>
                    <p:spPr>
                      <a:xfrm>
                        <a:off x="6629400" y="335268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124080" y="3047760"/>
                      <a:ext cx="228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9" name=""/>
                  <p:cNvSpPr/>
                  <p:nvPr/>
                </p:nvSpPr>
                <p:spPr>
                  <a:xfrm>
                    <a:off x="3581280" y="3276360"/>
                    <a:ext cx="68580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nM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30" name=""/>
            <p:cNvSpPr/>
            <p:nvPr/>
          </p:nvSpPr>
          <p:spPr>
            <a:xfrm>
              <a:off x="2971800" y="259092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o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0" y="5486400"/>
            <a:ext cx="91440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ob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1  dla  i=1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3;        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0,9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0,95   dla   i=4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6;        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0,8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0,9   dla   i=7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17600" y="2057040"/>
            <a:ext cx="8726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bezpiecznika chroniącego linię odbiorczą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.  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o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.  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płynącego w przewodzie w czasie rozruc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płynący w linii podczas rozruchu ma wartość zależną od trybu rozruch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ozru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ilników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dnoczes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.  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rMi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ozru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ilników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olej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największy silnik uruchamiany na końc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.  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ob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nMmax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rMmax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1219320" y="1219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wód odbiorczy zasilający kilka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1,45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gdzie: 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obciążalność długotrwała przewo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prąd zadziałania urządzenia zabezpieczając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 CE"/>
              </a:rPr>
              <a:t>nw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 CE"/>
              </a:rPr>
              <a:t>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 CE"/>
              </a:rPr>
              <a:t>n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prąd znamionowy wyłączalny urządzenia zabezpieczająceg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 CE"/>
              </a:rPr>
              <a:t>w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spodziewana wartość prądu zwarciowego (początkoweg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5.    k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S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 CE"/>
              </a:rPr>
              <a:t>2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 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 – współczynnik liczbowy w [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/mm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 – przekrój przewodu w [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 – prąd zwarciowy początkowy w [A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 – czas trwania prądu zwarciowego w [s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6.     Sprawdzenie czy wybrane zabezpieczenie jest selektywne do zabezpieczeń silni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1219320" y="1143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wód odbiorczy zasilający kilka silni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1.  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Średnie natężenie oświetlenia</a:t>
            </a:r>
            <a:r>
              <a:rPr b="0" lang="pl-PL" sz="20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na płaszczyźnie</a:t>
            </a:r>
            <a:r>
              <a:rPr b="0" lang="pl-PL" sz="20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śr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ż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gdzie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 CE"/>
                <a:ea typeface="Times New Roman"/>
              </a:rPr>
              <a:t>śr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- średnie natężenie oświetlenia na rozważanej płaszczyźni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 CE"/>
                <a:ea typeface="Times New Roman"/>
              </a:rPr>
              <a:t>u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- użyteczny strumień świetlny na płaszczyźni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 - pole powierzchn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Strumień użytecz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Times New Roman CE"/>
                <a:ea typeface="Times New Roman"/>
              </a:rPr>
              <a:t>uż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=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Times New Roman CE"/>
                <a:ea typeface="Times New Roman"/>
              </a:rPr>
              <a:t>źr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n m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Times New Roman CE"/>
                <a:ea typeface="Times New Roman"/>
              </a:rPr>
              <a:t>o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gdzie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 CE"/>
                <a:ea typeface="Times New Roman"/>
              </a:rPr>
              <a:t>źr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znamionowy strumień źródła światł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ilość źródeł światła w oprawi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liczba opraw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Times New Roman CE"/>
                <a:ea typeface="Times New Roman"/>
              </a:rPr>
              <a:t>o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sprawność oświetleni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współczynnik utrzymani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1143000" y="1295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Odbiorniki oświetleniowe - o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bliczanie natężenia oświetlenia metodą spraw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-360" y="2438280"/>
            <a:ext cx="982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prawność oświetlenia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uj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ntowy strumień świetlny lampy padający na płaszczyznę robocz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leży o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ozsyłu światł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rawności opraw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spółczynników odbicia sufitu, ścian, podłogi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skaźnika pomieszczeni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pl-PL" sz="20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i="1" lang="pl-P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kaźnik pomieszcze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 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długość pomieszcz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szerokość pomieszcz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odstęp między oprawą i płaszczyzną robocz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"/>
          <p:cNvSpPr/>
          <p:nvPr/>
        </p:nvSpPr>
        <p:spPr>
          <a:xfrm>
            <a:off x="1143000" y="1295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Odbiorniki oświetleniowe - o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bliczanie natężenia oświetlenia metodą spraw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4724280" y="4572000"/>
          <a:ext cx="80964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4572000"/>
                    <a:ext cx="8096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"/>
          <p:cNvSpPr/>
          <p:nvPr/>
        </p:nvSpPr>
        <p:spPr>
          <a:xfrm>
            <a:off x="464832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59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Kod odbiciowy pomieszcze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g. normy PN-84/E02033 w pomieszczeniach przewidzianych do pracy średnie współczynniki  odbicia powinny wynosić: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sufitu - co najmniej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ścian, łącznie z oknami - od 30 do 80%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 podłogi, łącznie z urządzeniami - od 20 do 4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"/>
          <p:cNvSpPr/>
          <p:nvPr/>
        </p:nvSpPr>
        <p:spPr>
          <a:xfrm>
            <a:off x="1219320" y="1295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Odbiorniki oświetleniowe - o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bliczanie natężenia oświetlenia metodą spraw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00160" y="-360"/>
            <a:ext cx="8943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"/>
          <p:cNvSpPr/>
          <p:nvPr/>
        </p:nvSpPr>
        <p:spPr>
          <a:xfrm>
            <a:off x="1219320" y="1295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bela sprawności oświetl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152280" y="2362320"/>
          <a:ext cx="8991720" cy="4174920"/>
        </p:xfrm>
        <a:graphic>
          <a:graphicData uri="http://schemas.openxmlformats.org/drawingml/2006/table">
            <a:tbl>
              <a:tblPr/>
              <a:tblGrid>
                <a:gridCol w="1295640"/>
                <a:gridCol w="761760"/>
                <a:gridCol w="762120"/>
                <a:gridCol w="762120"/>
                <a:gridCol w="761760"/>
                <a:gridCol w="762120"/>
                <a:gridCol w="762120"/>
                <a:gridCol w="838080"/>
                <a:gridCol w="762120"/>
                <a:gridCol w="761760"/>
                <a:gridCol w="762120"/>
              </a:tblGrid>
              <a:tr h="27648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Współczynniki odb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Sufi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Śc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Podło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Wskaźnik 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Sprawność oświetl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6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4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7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6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2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38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Współczynnik utrzymania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 - u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- określa jaki uzyska się średni poziom natężenia oświetlenia po pewnym okresie eksploatac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N-84/E02033 podaje współczynnik zapasu, który jest odwrotnością współczynnika utrzyman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Współczynnik zapasu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"/>
          <p:cNvSpPr/>
          <p:nvPr/>
        </p:nvSpPr>
        <p:spPr>
          <a:xfrm>
            <a:off x="1143000" y="1219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Odbiorniki oświetleniowe - o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bliczanie natężenia oświetlenia metodą spraw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1371600" y="4800600"/>
          <a:ext cx="5486400" cy="1676520"/>
        </p:xfrm>
        <a:graphic>
          <a:graphicData uri="http://schemas.openxmlformats.org/drawingml/2006/table">
            <a:tbl>
              <a:tblPr/>
              <a:tblGrid>
                <a:gridCol w="3124080"/>
                <a:gridCol w="1219320"/>
                <a:gridCol w="1143000"/>
              </a:tblGrid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Dostęp do opr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Stopień osadzania się bru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łat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trud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Silne osadzanie się bru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Średnie  osadzanie się bru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Słabe osadzanie się bru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elektywność czaso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4400" y="3200400"/>
            <a:ext cx="1752480" cy="1981080"/>
            <a:chOff x="914400" y="3200400"/>
            <a:chExt cx="1752480" cy="1981080"/>
          </a:xfrm>
        </p:grpSpPr>
        <p:sp>
          <p:nvSpPr>
            <p:cNvPr id="196" name=""/>
            <p:cNvSpPr/>
            <p:nvPr/>
          </p:nvSpPr>
          <p:spPr>
            <a:xfrm>
              <a:off x="1295280" y="4191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3200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3809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200" y="358128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7400" y="419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5120" y="457200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3429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4495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0200" y="4724280"/>
              <a:ext cx="457200" cy="38124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4952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324480" y="4800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5181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638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 z wyzwalaczem o zwłoce czasowej z nastawam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191120" y="-151920"/>
            <a:ext cx="4952880" cy="6501240"/>
            <a:chOff x="4191120" y="-151920"/>
            <a:chExt cx="4952880" cy="6501240"/>
          </a:xfrm>
        </p:grpSpPr>
        <p:sp>
          <p:nvSpPr>
            <p:cNvPr id="212" name=""/>
            <p:cNvSpPr/>
            <p:nvPr/>
          </p:nvSpPr>
          <p:spPr>
            <a:xfrm>
              <a:off x="5867280" y="48006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648320" y="27432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8320" y="58672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2971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373392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67280" y="5562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373392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91120" y="2666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67480" y="58672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6272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z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7220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z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4280" y="2438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2438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4480" y="53341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4480" y="5105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6705720" y="-151560"/>
              <a:ext cx="2437200" cy="57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0" y="3124080"/>
              <a:ext cx="228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ranica zwarciowej obciążalności cieplnej instalacji i/lub wyłączni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5562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24480" y="5334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38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>
            <a:off x="1143000" y="1219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Odbiorniki oświetleniowe - o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bliczanie natężenia oświetlenia metodą spraw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259092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Liczba opraw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wymagana dla zapewnienia odpowiedniego poziomu natężenia oświetlenia (podane w normie PN-84/E-02033) w pomieszczeni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8129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2286000" y="3733920"/>
            <a:ext cx="3352320" cy="1043280"/>
            <a:chOff x="2286000" y="3733920"/>
            <a:chExt cx="3352320" cy="1043280"/>
          </a:xfrm>
        </p:grpSpPr>
        <p:sp>
          <p:nvSpPr>
            <p:cNvPr id="1064" name=""/>
            <p:cNvSpPr/>
            <p:nvPr/>
          </p:nvSpPr>
          <p:spPr>
            <a:xfrm>
              <a:off x="3504960" y="37339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E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śr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 •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7144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źr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• n • </a:t>
              </a:r>
              <a:r>
                <a:rPr b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os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• 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286000" y="3962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</a:rPr>
                <a:t>m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52680" y="419112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04920" y="4952880"/>
            <a:ext cx="85341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 CE"/>
              </a:rPr>
              <a:t>Przykład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 pomieszczeniu o wymiarach 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a=10m, b=20m, h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 CE"/>
              </a:rPr>
              <a:t>p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=4m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obliczyć liczbę opraw niezbędną do utrzymania średniego natężenia oświetlenia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300 l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stosować oprawę dwuświetlówkową o strumieniu lamp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 CE"/>
              </a:rPr>
              <a:t>źr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= 1000 l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 rot="10786200">
            <a:off x="304560" y="4114440"/>
            <a:ext cx="3200400" cy="914400"/>
          </a:xfrm>
          <a:prstGeom prst="wedgeEllipseCallout">
            <a:avLst>
              <a:gd name="adj1" fmla="val -35930"/>
              <a:gd name="adj2" fmla="val 92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bliczamy 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</a:rPr>
              <a:t>wskaźnik pomieszczeni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: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 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h =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0,8 – 0,5 = 4 –0,8 –0,5 = 2,7 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1219320" y="1295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Odbiorniki oświetleniowe - o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bliczanie natężenia oświetlenia metodą spraw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6400800" y="2666880"/>
          <a:ext cx="80964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666880"/>
                    <a:ext cx="80964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"/>
          <p:cNvSpPr/>
          <p:nvPr/>
        </p:nvSpPr>
        <p:spPr>
          <a:xfrm>
            <a:off x="640080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920" y="43434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Poziom płaszczyzny roboczej od podło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10840200">
            <a:off x="3882600" y="3962520"/>
            <a:ext cx="3429000" cy="914400"/>
          </a:xfrm>
          <a:prstGeom prst="wedgeEllipseCallout">
            <a:avLst>
              <a:gd name="adj1" fmla="val 53013"/>
              <a:gd name="adj2" fmla="val 78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267080" y="41148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Poziom zawieszenia oprawy od sufi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04920" y="54100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 CE"/>
              </a:rPr>
              <a:t>K = 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Przyjmując współczynniki odbi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ufitu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 -   0,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Śc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 -   0,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Podłogi  -   0,3</a:t>
            </a: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Z podanej tabeli odczytujemy </a:t>
            </a:r>
            <a:r>
              <a:rPr b="1" lang="en-US" sz="2400" spc="-1" strike="noStrike">
                <a:solidFill>
                  <a:srgbClr val="3333cc"/>
                </a:solidFill>
                <a:latin typeface="Times New Roman CE"/>
              </a:rPr>
              <a:t>sprawność oświetlenia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 CE"/>
              </a:rPr>
              <a:t>oś</a:t>
            </a:r>
            <a:r>
              <a:rPr b="1" lang="en-US" sz="2400" spc="-1" strike="noStrike">
                <a:solidFill>
                  <a:srgbClr val="3333cc"/>
                </a:solidFill>
                <a:latin typeface="Times New Roman CE"/>
              </a:rPr>
              <a:t> = 0,5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 CE"/>
              </a:rPr>
              <a:t>Współczynnik zapa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przyjmujemy równy </a:t>
            </a:r>
            <a:r>
              <a:rPr b="0" lang="en-US" sz="2400" spc="-1" strike="noStrike">
                <a:solidFill>
                  <a:srgbClr val="3333cc"/>
                </a:solidFill>
                <a:latin typeface="Times New Roman CE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Niezbędna liczba opra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1219320" y="1295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Odbiorniki oświetleniowe - o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  <a:ea typeface="Times New Roman"/>
              </a:rPr>
              <a:t>bliczanie natężenia oświetlenia metodą sprawn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0" y="5562720"/>
            <a:ext cx="3352320" cy="1043280"/>
            <a:chOff x="0" y="5562720"/>
            <a:chExt cx="3352320" cy="1043280"/>
          </a:xfrm>
        </p:grpSpPr>
        <p:sp>
          <p:nvSpPr>
            <p:cNvPr id="1084" name=""/>
            <p:cNvSpPr/>
            <p:nvPr/>
          </p:nvSpPr>
          <p:spPr>
            <a:xfrm>
              <a:off x="1218960" y="55627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E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śr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 •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440" y="60958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źr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• n • </a:t>
              </a:r>
              <a:r>
                <a:rPr b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os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• 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0" y="5791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 CE"/>
                </a:rPr>
                <a:t>m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601992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320040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300 •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00400" y="6095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1000 • 2• 0,51 • 1/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733920" y="60199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004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7712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= 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. Selektywność pseudoczaso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3200400"/>
            <a:ext cx="1752480" cy="1981080"/>
            <a:chOff x="914400" y="3200400"/>
            <a:chExt cx="1752480" cy="1981080"/>
          </a:xfrm>
        </p:grpSpPr>
        <p:sp>
          <p:nvSpPr>
            <p:cNvPr id="237" name=""/>
            <p:cNvSpPr/>
            <p:nvPr/>
          </p:nvSpPr>
          <p:spPr>
            <a:xfrm>
              <a:off x="1295280" y="4191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2480" y="32004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38098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358128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7400" y="419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5120" y="457200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3429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57400" y="4495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0200" y="4724280"/>
              <a:ext cx="457200" cy="38124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5248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4952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28600" y="5638680"/>
            <a:ext cx="426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1 – wyłącznik szyb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2 – wyłącznik szybki, ograniczają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0" y="2438280"/>
            <a:ext cx="3733560" cy="3911040"/>
            <a:chOff x="4572000" y="2438280"/>
            <a:chExt cx="3733560" cy="3911040"/>
          </a:xfrm>
        </p:grpSpPr>
        <p:sp>
          <p:nvSpPr>
            <p:cNvPr id="250" name=""/>
            <p:cNvSpPr/>
            <p:nvPr/>
          </p:nvSpPr>
          <p:spPr>
            <a:xfrm>
              <a:off x="6705360" y="48006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029200" y="27432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9200" y="58672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0080" y="2971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373392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2971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733920"/>
              <a:ext cx="8380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0" y="2666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48360" y="58672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4360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z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3080" y="5943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z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160" y="2438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62360" y="2438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05360" y="53341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160" y="5562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05360" y="5334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160" y="48006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160" y="5334120"/>
              <a:ext cx="13716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05360" y="5029200"/>
              <a:ext cx="38124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Selektywność logicz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600200" y="2590920"/>
            <a:ext cx="6095880" cy="3352680"/>
            <a:chOff x="1600200" y="2590920"/>
            <a:chExt cx="6095880" cy="3352680"/>
          </a:xfrm>
        </p:grpSpPr>
        <p:sp>
          <p:nvSpPr>
            <p:cNvPr id="273" name=""/>
            <p:cNvSpPr/>
            <p:nvPr/>
          </p:nvSpPr>
          <p:spPr>
            <a:xfrm>
              <a:off x="2743200" y="54100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600200" y="2590920"/>
              <a:ext cx="6095880" cy="3352680"/>
              <a:chOff x="1600200" y="2590920"/>
              <a:chExt cx="6095880" cy="3352680"/>
            </a:xfrm>
          </p:grpSpPr>
          <p:sp>
            <p:nvSpPr>
              <p:cNvPr id="275" name=""/>
              <p:cNvSpPr/>
              <p:nvPr/>
            </p:nvSpPr>
            <p:spPr>
              <a:xfrm>
                <a:off x="1981080" y="419112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38280" y="2590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6000" y="31240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90920" y="518148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00200" y="29718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81080" y="495288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38280" y="28954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3200" y="419112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38280" y="335268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3124080"/>
                <a:ext cx="30492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48120" y="5181480"/>
                <a:ext cx="30456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62320" y="3200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66880" y="5257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2819160" y="31240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124080" y="5181480"/>
                <a:ext cx="152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05320" y="2971800"/>
                <a:ext cx="114300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zekaźnik logiczn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6000" y="3429000"/>
                <a:ext cx="304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90920" y="5486400"/>
                <a:ext cx="3045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90920" y="3505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304812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09880" y="5105520"/>
                <a:ext cx="114300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zekaźnik logiczn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95480" y="55627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352680" y="5257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419720" y="44956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19720" y="4495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334120" y="327672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647960" y="3276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43200" y="5715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334120" y="4191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38680" y="3962520"/>
                <a:ext cx="20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Komenda blokad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52480" y="5410080"/>
                <a:ext cx="990720" cy="381240"/>
              </a:xfrm>
              <a:prstGeom prst="lightningBolt">
                <a:avLst/>
              </a:prstGeom>
              <a:solidFill>
                <a:srgbClr val="99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kterystyka wyłączania wyłącznika ograniczając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733920" y="3962520"/>
            <a:ext cx="7610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274320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5791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[k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1800" y="5562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5562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72600">
            <a:off x="3947760" y="26049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72600">
            <a:off x="4176360" y="26049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72600">
            <a:off x="4404960" y="26049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72600">
            <a:off x="4938480" y="260496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6000">
            <a:off x="58672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,5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276720" y="3961440"/>
            <a:ext cx="456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733920" y="3733920"/>
            <a:ext cx="426600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2971800"/>
            <a:ext cx="0" cy="1295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24440" y="380952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362320" y="2819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0481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742840" y="304812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895120" y="304812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3720" y="304812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657240" y="304812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648320" y="3429000"/>
            <a:ext cx="12189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4267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4114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4495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57600" y="4114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3962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67280" y="37339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zasilania instalacji w budynku mieszkalny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12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373392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57200" y="2971800"/>
            <a:ext cx="1905120" cy="2819520"/>
            <a:chOff x="457200" y="2971800"/>
            <a:chExt cx="1905120" cy="2819520"/>
          </a:xfrm>
        </p:grpSpPr>
        <p:grpSp>
          <p:nvGrpSpPr>
            <p:cNvPr id="349" name=""/>
            <p:cNvGrpSpPr/>
            <p:nvPr/>
          </p:nvGrpSpPr>
          <p:grpSpPr>
            <a:xfrm>
              <a:off x="457200" y="2971800"/>
              <a:ext cx="1905120" cy="2819520"/>
              <a:chOff x="457200" y="2971800"/>
              <a:chExt cx="1905120" cy="28195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533520" y="2971800"/>
                <a:ext cx="1828800" cy="2819520"/>
                <a:chOff x="533520" y="2971800"/>
                <a:chExt cx="1828800" cy="281952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533520" y="2971800"/>
                  <a:ext cx="1828800" cy="2819520"/>
                  <a:chOff x="533520" y="2971800"/>
                  <a:chExt cx="1828800" cy="281952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33520" y="2971800"/>
                    <a:ext cx="1600200" cy="2819520"/>
                    <a:chOff x="533520" y="2971800"/>
                    <a:chExt cx="1600200" cy="281952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533520" y="2971800"/>
                      <a:ext cx="1600200" cy="2514600"/>
                      <a:chOff x="533520" y="2971800"/>
                      <a:chExt cx="1600200" cy="251460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533520" y="2971800"/>
                        <a:ext cx="1600200" cy="2514600"/>
                        <a:chOff x="533520" y="2971800"/>
                        <a:chExt cx="1600200" cy="251460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533520" y="2971800"/>
                          <a:ext cx="1600200" cy="2514600"/>
                          <a:chOff x="533520" y="2971800"/>
                          <a:chExt cx="1600200" cy="2514600"/>
                        </a:xfrm>
                      </p:grpSpPr>
                      <p:grpSp>
                        <p:nvGrpSpPr>
                          <p:cNvPr id="356" name=""/>
                          <p:cNvGrpSpPr/>
                          <p:nvPr/>
                        </p:nvGrpSpPr>
                        <p:grpSpPr>
                          <a:xfrm>
                            <a:off x="533520" y="2971800"/>
                            <a:ext cx="1371600" cy="2514600"/>
                            <a:chOff x="533520" y="2971800"/>
                            <a:chExt cx="1371600" cy="2514600"/>
                          </a:xfrm>
                        </p:grpSpPr>
                        <p:grpSp>
                          <p:nvGrpSpPr>
                            <p:cNvPr id="357" name=""/>
                            <p:cNvGrpSpPr/>
                            <p:nvPr/>
                          </p:nvGrpSpPr>
                          <p:grpSpPr>
                            <a:xfrm>
                              <a:off x="533520" y="2971800"/>
                              <a:ext cx="1371600" cy="2514600"/>
                              <a:chOff x="533520" y="2971800"/>
                              <a:chExt cx="1371600" cy="2514600"/>
                            </a:xfrm>
                          </p:grpSpPr>
                          <p:grpSp>
                            <p:nvGrpSpPr>
                              <p:cNvPr id="358" name=""/>
                              <p:cNvGrpSpPr/>
                              <p:nvPr/>
                            </p:nvGrpSpPr>
                            <p:grpSpPr>
                              <a:xfrm>
                                <a:off x="533520" y="2971800"/>
                                <a:ext cx="1295280" cy="2514600"/>
                                <a:chOff x="533520" y="2971800"/>
                                <a:chExt cx="1295280" cy="2514600"/>
                              </a:xfrm>
                            </p:grpSpPr>
                            <p:grpSp>
                              <p:nvGrpSpPr>
                                <p:cNvPr id="359" name=""/>
                                <p:cNvGrpSpPr/>
                                <p:nvPr/>
                              </p:nvGrpSpPr>
                              <p:grpSpPr>
                                <a:xfrm>
                                  <a:off x="533520" y="4114800"/>
                                  <a:ext cx="1295280" cy="1295280"/>
                                  <a:chOff x="533520" y="4114800"/>
                                  <a:chExt cx="1295280" cy="1295280"/>
                                </a:xfrm>
                              </p:grpSpPr>
                              <p:grpSp>
                                <p:nvGrpSpPr>
                                  <p:cNvPr id="3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62120" y="4114800"/>
                                    <a:ext cx="1066680" cy="1295280"/>
                                    <a:chOff x="762120" y="4114800"/>
                                    <a:chExt cx="1066680" cy="1295280"/>
                                  </a:xfrm>
                                </p:grpSpPr>
                                <p:sp>
                                  <p:nvSpPr>
                                    <p:cNvPr id="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62120" y="4495680"/>
                                      <a:ext cx="76176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6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762120" y="4114800"/>
                                      <a:ext cx="1066680" cy="838080"/>
                                      <a:chOff x="762120" y="4114800"/>
                                      <a:chExt cx="1066680" cy="838080"/>
                                    </a:xfrm>
                                  </p:grpSpPr>
                                  <p:grpSp>
                                    <p:nvGrpSpPr>
                                      <p:cNvPr id="363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838080" y="4114800"/>
                                        <a:ext cx="990720" cy="609480"/>
                                        <a:chOff x="838080" y="4114800"/>
                                        <a:chExt cx="990720" cy="609480"/>
                                      </a:xfrm>
                                    </p:grpSpPr>
                                    <p:sp>
                                      <p:nvSpPr>
                                        <p:cNvPr id="364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914400" y="4495680"/>
                                          <a:ext cx="0" cy="152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6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143000" y="4495680"/>
                                          <a:ext cx="0" cy="152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66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371600" y="4495680"/>
                                          <a:ext cx="0" cy="152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67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838080" y="4114800"/>
                                          <a:ext cx="990720" cy="609480"/>
                                          <a:chOff x="838080" y="4114800"/>
                                          <a:chExt cx="990720" cy="609480"/>
                                        </a:xfrm>
                                      </p:grpSpPr>
                                      <p:sp>
                                        <p:nvSpPr>
                                          <p:cNvPr id="368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95280" y="4114800"/>
                                            <a:ext cx="304920" cy="152280"/>
                                          </a:xfrm>
                                          <a:prstGeom prst="rect">
                                            <a:avLst/>
                                          </a:prstGeom>
                                          <a:solidFill>
                                            <a:srgbClr val="ffffff"/>
                                          </a:solidFill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lIns="90000" rIns="90000" tIns="46800" bIns="4680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69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143000" y="4191120"/>
                                            <a:ext cx="68580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70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143000" y="4191120"/>
                                            <a:ext cx="0" cy="30456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71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95280" y="4648320"/>
                                            <a:ext cx="76320" cy="7596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000000"/>
                                          </a:solidFill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lIns="90000" rIns="90000" tIns="6840" bIns="684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72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066680" y="4648320"/>
                                            <a:ext cx="76320" cy="7596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000000"/>
                                          </a:solidFill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lIns="90000" rIns="90000" tIns="6840" bIns="684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73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838080" y="4648320"/>
                                            <a:ext cx="76320" cy="75960"/>
                                          </a:xfrm>
                                          <a:prstGeom prst="ellipse">
                                            <a:avLst/>
                                          </a:prstGeom>
                                          <a:solidFill>
                                            <a:srgbClr val="000000"/>
                                          </a:solidFill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wrap="none" lIns="90000" rIns="90000" tIns="6840" bIns="6840" anchor="ctr">
                                            <a:noAutofit/>
                                          </a:bodyPr>
                                          <a:p>
                                            <a:endParaRPr b="0" lang="en-US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imes New Roman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37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762120" y="4724280"/>
                                        <a:ext cx="152280" cy="22860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75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990720" y="4724280"/>
                                        <a:ext cx="152280" cy="22860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7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19320" y="4724280"/>
                                        <a:ext cx="152280" cy="22860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914400" y="4952880"/>
                                      <a:ext cx="0" cy="4572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43000" y="4952880"/>
                                      <a:ext cx="0" cy="4572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371600" y="4952880"/>
                                      <a:ext cx="0" cy="4572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380" name=""/>
                                  <p:cNvSpPr/>
                                  <p:nvPr/>
                                </p:nvSpPr>
                                <p:spPr>
                                  <a:xfrm>
                                    <a:off x="533520" y="5029200"/>
                                    <a:ext cx="380880" cy="228600"/>
                                  </a:xfrm>
                                  <a:prstGeom prst="lightningBolt">
                                    <a:avLst/>
                                  </a:prstGeom>
                                  <a:solidFill>
                                    <a:srgbClr val="ff0000"/>
                                  </a:solidFill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24840" bIns="2484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81" name=""/>
                                <p:cNvSpPr/>
                                <p:nvPr/>
                              </p:nvSpPr>
                              <p:spPr>
                                <a:xfrm>
                                  <a:off x="1828800" y="2971800"/>
                                  <a:ext cx="0" cy="25146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>
                                <a:off x="1752480" y="4876920"/>
                                <a:ext cx="152640" cy="304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83" name=""/>
                            <p:cNvSpPr/>
                            <p:nvPr/>
                          </p:nvSpPr>
                          <p:spPr>
                            <a:xfrm>
                              <a:off x="1828800" y="4876920"/>
                              <a:ext cx="0" cy="3045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1828800" y="3124080"/>
                            <a:ext cx="3049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>
                            <a:off x="1828800" y="3581280"/>
                            <a:ext cx="3049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1828800" y="4191120"/>
                            <a:ext cx="3049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 flipH="1">
                          <a:off x="1523520" y="3124080"/>
                          <a:ext cx="304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 flipH="1">
                          <a:off x="1523520" y="3581280"/>
                          <a:ext cx="304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1676520" y="5334120"/>
                        <a:ext cx="30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0" name=""/>
                    <p:cNvSpPr/>
                    <p:nvPr/>
                  </p:nvSpPr>
                  <p:spPr>
                    <a:xfrm flipV="1">
                      <a:off x="1828800" y="53341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1" name=""/>
                  <p:cNvSpPr/>
                  <p:nvPr/>
                </p:nvSpPr>
                <p:spPr>
                  <a:xfrm>
                    <a:off x="1905120" y="4876920"/>
                    <a:ext cx="4572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219320" y="3809880"/>
                    <a:ext cx="4572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3" name=""/>
                <p:cNvSpPr/>
                <p:nvPr/>
              </p:nvSpPr>
              <p:spPr>
                <a:xfrm>
                  <a:off x="1905120" y="434340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200" spc="-1" strike="noStrike">
                      <a:solidFill>
                        <a:srgbClr val="000000"/>
                      </a:solidFill>
                      <a:latin typeface="Times New Roman"/>
                    </a:rPr>
                    <a:t>wl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457200" y="46483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85800" y="5486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934320" y="3048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6019920"/>
            <a:ext cx="1828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– spodziewany prąd zwarci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666880" y="1294920"/>
            <a:ext cx="3961440" cy="5245200"/>
            <a:chOff x="2666880" y="1294920"/>
            <a:chExt cx="3961440" cy="5245200"/>
          </a:xfrm>
        </p:grpSpPr>
        <p:grpSp>
          <p:nvGrpSpPr>
            <p:cNvPr id="399" name=""/>
            <p:cNvGrpSpPr/>
            <p:nvPr/>
          </p:nvGrpSpPr>
          <p:grpSpPr>
            <a:xfrm>
              <a:off x="2666880" y="1294920"/>
              <a:ext cx="3961440" cy="4604040"/>
              <a:chOff x="2666880" y="1294920"/>
              <a:chExt cx="3961440" cy="46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2666880" y="31240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895480" y="556272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10080" y="556272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5840" y="55627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047760" y="1294920"/>
                <a:ext cx="3580560" cy="4267800"/>
                <a:chOff x="3047760" y="1294920"/>
                <a:chExt cx="3580560" cy="42678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047760" y="5562720"/>
                  <a:ext cx="25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3047760" y="3200400"/>
                  <a:ext cx="0" cy="236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14440" y="4038480"/>
                  <a:ext cx="0" cy="152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3200040" y="1294920"/>
                  <a:ext cx="3428280" cy="4267080"/>
                  <a:chOff x="3200040" y="1294920"/>
                  <a:chExt cx="3428280" cy="42670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4267080" y="1294560"/>
                    <a:ext cx="1828080" cy="426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99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3200040" y="1447560"/>
                    <a:ext cx="3428280" cy="4114440"/>
                    <a:chOff x="3200040" y="1447560"/>
                    <a:chExt cx="3428280" cy="41144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flipH="1" flipV="1">
                      <a:off x="4343040" y="1447200"/>
                      <a:ext cx="2285280" cy="411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99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12" name=""/>
                    <p:cNvGrpSpPr/>
                    <p:nvPr/>
                  </p:nvGrpSpPr>
                  <p:grpSpPr>
                    <a:xfrm>
                      <a:off x="3200040" y="1447560"/>
                      <a:ext cx="2437560" cy="4114440"/>
                      <a:chOff x="3200040" y="1447560"/>
                      <a:chExt cx="2437560" cy="4114440"/>
                    </a:xfrm>
                  </p:grpSpPr>
                  <p:grpSp>
                    <p:nvGrpSpPr>
                      <p:cNvPr id="413" name=""/>
                      <p:cNvGrpSpPr/>
                      <p:nvPr/>
                    </p:nvGrpSpPr>
                    <p:grpSpPr>
                      <a:xfrm>
                        <a:off x="3200040" y="1447560"/>
                        <a:ext cx="2437560" cy="4114440"/>
                        <a:chOff x="3200040" y="1447560"/>
                        <a:chExt cx="2437560" cy="4114440"/>
                      </a:xfrm>
                    </p:grpSpPr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flipH="1" flipV="1">
                          <a:off x="3885840" y="1447200"/>
                          <a:ext cx="1370880" cy="411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 flipH="1" flipV="1">
                          <a:off x="3962160" y="1447200"/>
                          <a:ext cx="1675440" cy="411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16" name=""/>
                        <p:cNvGrpSpPr/>
                        <p:nvPr/>
                      </p:nvGrpSpPr>
                      <p:grpSpPr>
                        <a:xfrm>
                          <a:off x="3200040" y="2361960"/>
                          <a:ext cx="1828800" cy="2895840"/>
                          <a:chOff x="3200040" y="2361960"/>
                          <a:chExt cx="1828800" cy="2895840"/>
                        </a:xfrm>
                      </p:grpSpPr>
                      <p:grpSp>
                        <p:nvGrpSpPr>
                          <p:cNvPr id="417" name=""/>
                          <p:cNvGrpSpPr/>
                          <p:nvPr/>
                        </p:nvGrpSpPr>
                        <p:grpSpPr>
                          <a:xfrm>
                            <a:off x="3200040" y="2361960"/>
                            <a:ext cx="1828800" cy="2895840"/>
                            <a:chOff x="3200040" y="2361960"/>
                            <a:chExt cx="1828800" cy="2895840"/>
                          </a:xfrm>
                        </p:grpSpPr>
                        <p:sp>
                          <p:nvSpPr>
                            <p:cNvPr id="418" name=""/>
                            <p:cNvSpPr/>
                            <p:nvPr/>
                          </p:nvSpPr>
                          <p:spPr>
                            <a:xfrm flipH="1" flipV="1">
                              <a:off x="3200040" y="2361600"/>
                              <a:ext cx="1370880" cy="259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10800" y="0"/>
                                  </a:moveTo>
                                  <a:arcTo wR="10800" hR="10800" stAng="-5400000" swAng="5400000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10800" y="0"/>
                                  </a:moveTo>
                                  <a:arcTo wR="10800" hR="10800" stAng="-5400000" swAng="5400000"/>
                                </a:path>
                              </a:pathLst>
                            </a:custGeom>
                            <a:noFill/>
                            <a:ln w="2844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9" name=""/>
                            <p:cNvSpPr/>
                            <p:nvPr/>
                          </p:nvSpPr>
                          <p:spPr>
                            <a:xfrm flipH="1" flipV="1">
                              <a:off x="3200040" y="2590200"/>
                              <a:ext cx="1370880" cy="2133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10800" y="0"/>
                                  </a:moveTo>
                                  <a:arcTo wR="10800" hR="10800" stAng="-5400000" swAng="5400000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10800" y="0"/>
                                  </a:moveTo>
                                  <a:arcTo wR="10800" hR="10800" stAng="-5400000" swAng="5400000"/>
                                </a:path>
                              </a:pathLst>
                            </a:custGeom>
                            <a:noFill/>
                            <a:ln w="2844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0" name=""/>
                            <p:cNvSpPr/>
                            <p:nvPr/>
                          </p:nvSpPr>
                          <p:spPr>
                            <a:xfrm>
                              <a:off x="3885840" y="4724280"/>
                              <a:ext cx="0" cy="53352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1" name=""/>
                            <p:cNvSpPr/>
                            <p:nvPr/>
                          </p:nvSpPr>
                          <p:spPr>
                            <a:xfrm>
                              <a:off x="3885840" y="5257800"/>
                              <a:ext cx="114300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22" name=""/>
                          <p:cNvSpPr/>
                          <p:nvPr/>
                        </p:nvSpPr>
                        <p:spPr>
                          <a:xfrm>
                            <a:off x="3200040" y="3276720"/>
                            <a:ext cx="381240" cy="30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876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400" spc="-1" strike="noStrike">
                                <a:solidFill>
                                  <a:srgbClr val="3333cc"/>
                                </a:solidFill>
                                <a:latin typeface="Times New Roman"/>
                              </a:rPr>
                              <a:t>W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3733560" y="3048120"/>
                        <a:ext cx="45720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F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4190760" y="3048120"/>
                      <a:ext cx="3808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ff"/>
                          </a:solidFill>
                          <a:latin typeface="Times New Roman"/>
                        </a:rPr>
                        <a:t>F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25" name=""/>
            <p:cNvSpPr/>
            <p:nvPr/>
          </p:nvSpPr>
          <p:spPr>
            <a:xfrm>
              <a:off x="2971800" y="6019920"/>
              <a:ext cx="25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abezpieczenia działają selektywn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867280" y="1447560"/>
            <a:ext cx="3048120" cy="5092560"/>
            <a:chOff x="5867280" y="1447560"/>
            <a:chExt cx="3048120" cy="5092560"/>
          </a:xfrm>
        </p:grpSpPr>
        <p:grpSp>
          <p:nvGrpSpPr>
            <p:cNvPr id="427" name=""/>
            <p:cNvGrpSpPr/>
            <p:nvPr/>
          </p:nvGrpSpPr>
          <p:grpSpPr>
            <a:xfrm>
              <a:off x="5867280" y="1447560"/>
              <a:ext cx="3048120" cy="4451400"/>
              <a:chOff x="5867280" y="1447560"/>
              <a:chExt cx="3048120" cy="4451400"/>
            </a:xfrm>
          </p:grpSpPr>
          <p:sp>
            <p:nvSpPr>
              <p:cNvPr id="428" name=""/>
              <p:cNvSpPr/>
              <p:nvPr/>
            </p:nvSpPr>
            <p:spPr>
              <a:xfrm>
                <a:off x="5867280" y="31240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5880" y="5562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10480" y="5562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67480" y="55627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48520" y="55627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6248520" y="320040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96080" y="403848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6400800" y="1447560"/>
                <a:ext cx="2437560" cy="4114440"/>
                <a:chOff x="6400800" y="1447560"/>
                <a:chExt cx="2437560" cy="4114440"/>
              </a:xfrm>
            </p:grpSpPr>
            <p:sp>
              <p:nvSpPr>
                <p:cNvPr id="436" name=""/>
                <p:cNvSpPr/>
                <p:nvPr/>
              </p:nvSpPr>
              <p:spPr>
                <a:xfrm flipH="1" flipV="1">
                  <a:off x="7086600" y="1447200"/>
                  <a:ext cx="1370880" cy="411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 flipV="1">
                  <a:off x="7162920" y="1447200"/>
                  <a:ext cx="1675440" cy="411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6400800" y="2361960"/>
                  <a:ext cx="1828800" cy="2895840"/>
                  <a:chOff x="6400800" y="2361960"/>
                  <a:chExt cx="1828800" cy="289584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400800" y="2361960"/>
                    <a:ext cx="1828800" cy="2895840"/>
                    <a:chOff x="6400800" y="2361960"/>
                    <a:chExt cx="1828800" cy="289584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flipV="1">
                      <a:off x="6400800" y="2361600"/>
                      <a:ext cx="1370880" cy="259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flipV="1">
                      <a:off x="6400800" y="2590200"/>
                      <a:ext cx="1370880" cy="21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7086600" y="4724280"/>
                      <a:ext cx="0" cy="533520"/>
                    </a:xfrm>
                    <a:prstGeom prst="line">
                      <a:avLst/>
                    </a:prstGeom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086600" y="5257800"/>
                      <a:ext cx="1143000" cy="0"/>
                    </a:xfrm>
                    <a:prstGeom prst="line">
                      <a:avLst/>
                    </a:prstGeom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4" name=""/>
                  <p:cNvSpPr/>
                  <p:nvPr/>
                </p:nvSpPr>
                <p:spPr>
                  <a:xfrm>
                    <a:off x="6400800" y="3276720"/>
                    <a:ext cx="3812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W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5" name=""/>
            <p:cNvSpPr/>
            <p:nvPr/>
          </p:nvSpPr>
          <p:spPr>
            <a:xfrm>
              <a:off x="6248520" y="6019920"/>
              <a:ext cx="25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Zabezpieczenia działają nieselektywn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ór selektywnie działających bezpieczni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523880" y="12193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lektywność zabezpiec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6680" y="2743200"/>
            <a:ext cx="1447920" cy="2895480"/>
            <a:chOff x="1066680" y="2743200"/>
            <a:chExt cx="1447920" cy="2895480"/>
          </a:xfrm>
        </p:grpSpPr>
        <p:grpSp>
          <p:nvGrpSpPr>
            <p:cNvPr id="450" name=""/>
            <p:cNvGrpSpPr/>
            <p:nvPr/>
          </p:nvGrpSpPr>
          <p:grpSpPr>
            <a:xfrm>
              <a:off x="1066680" y="2743200"/>
              <a:ext cx="1447920" cy="2895480"/>
              <a:chOff x="1066680" y="2743200"/>
              <a:chExt cx="1447920" cy="289548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066680" y="2743200"/>
                <a:ext cx="914400" cy="2895480"/>
                <a:chOff x="1066680" y="2743200"/>
                <a:chExt cx="914400" cy="289548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1447560" y="2743200"/>
                  <a:ext cx="533520" cy="2895480"/>
                  <a:chOff x="1447560" y="2743200"/>
                  <a:chExt cx="533520" cy="289548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1676160" y="2743200"/>
                    <a:ext cx="304920" cy="2895480"/>
                    <a:chOff x="1676160" y="2743200"/>
                    <a:chExt cx="304920" cy="2895480"/>
                  </a:xfrm>
                </p:grpSpPr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1676160" y="2819520"/>
                      <a:ext cx="304920" cy="2819160"/>
                      <a:chOff x="1676160" y="2819520"/>
                      <a:chExt cx="304920" cy="2819160"/>
                    </a:xfrm>
                  </p:grpSpPr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1676160" y="2819520"/>
                        <a:ext cx="304920" cy="2819160"/>
                        <a:chOff x="1676160" y="2819520"/>
                        <a:chExt cx="304920" cy="2819160"/>
                      </a:xfrm>
                    </p:grpSpPr>
                    <p:grpSp>
                      <p:nvGrpSpPr>
                        <p:cNvPr id="456" name=""/>
                        <p:cNvGrpSpPr/>
                        <p:nvPr/>
                      </p:nvGrpSpPr>
                      <p:grpSpPr>
                        <a:xfrm>
                          <a:off x="1752480" y="2819520"/>
                          <a:ext cx="152280" cy="2819160"/>
                          <a:chOff x="1752480" y="2819520"/>
                          <a:chExt cx="152280" cy="2819160"/>
                        </a:xfrm>
                      </p:grpSpPr>
                      <p:sp>
                        <p:nvSpPr>
                          <p:cNvPr id="457" name=""/>
                          <p:cNvSpPr/>
                          <p:nvPr/>
                        </p:nvSpPr>
                        <p:spPr>
                          <a:xfrm>
                            <a:off x="1752480" y="3352680"/>
                            <a:ext cx="152280" cy="3049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8" name=""/>
                          <p:cNvSpPr/>
                          <p:nvPr/>
                        </p:nvSpPr>
                        <p:spPr>
                          <a:xfrm>
                            <a:off x="1752480" y="4724280"/>
                            <a:ext cx="152280" cy="3049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9" name=""/>
                          <p:cNvSpPr/>
                          <p:nvPr/>
                        </p:nvSpPr>
                        <p:spPr>
                          <a:xfrm>
                            <a:off x="1828800" y="2819520"/>
                            <a:ext cx="0" cy="2819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1676160" y="3124080"/>
                          <a:ext cx="304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1676160" y="4572000"/>
                        <a:ext cx="304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1828800" y="2743200"/>
                      <a:ext cx="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3" name=""/>
                  <p:cNvSpPr/>
                  <p:nvPr/>
                </p:nvSpPr>
                <p:spPr>
                  <a:xfrm>
                    <a:off x="1447560" y="5105520"/>
                    <a:ext cx="381240" cy="304560"/>
                  </a:xfrm>
                  <a:prstGeom prst="lightningBol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4" name=""/>
                <p:cNvSpPr/>
                <p:nvPr/>
              </p:nvSpPr>
              <p:spPr>
                <a:xfrm>
                  <a:off x="1066680" y="4952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1" lang="pl-P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828800" y="335268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828800" y="47242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809880" y="2209680"/>
            <a:ext cx="5104800" cy="3888720"/>
            <a:chOff x="3809880" y="2209680"/>
            <a:chExt cx="5104800" cy="3888720"/>
          </a:xfrm>
        </p:grpSpPr>
        <p:grpSp>
          <p:nvGrpSpPr>
            <p:cNvPr id="468" name=""/>
            <p:cNvGrpSpPr/>
            <p:nvPr/>
          </p:nvGrpSpPr>
          <p:grpSpPr>
            <a:xfrm>
              <a:off x="3809880" y="2209680"/>
              <a:ext cx="5104800" cy="3876120"/>
              <a:chOff x="3809880" y="2209680"/>
              <a:chExt cx="5104800" cy="387612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809880" y="2209680"/>
                <a:ext cx="5104800" cy="3876120"/>
                <a:chOff x="3809880" y="2209680"/>
                <a:chExt cx="5104800" cy="387612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809880" y="2209680"/>
                  <a:ext cx="5104800" cy="3504960"/>
                  <a:chOff x="3809880" y="2209680"/>
                  <a:chExt cx="5104800" cy="350496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267080" y="2209680"/>
                    <a:ext cx="4647600" cy="3504960"/>
                    <a:chOff x="4267080" y="2209680"/>
                    <a:chExt cx="4647600" cy="3504960"/>
                  </a:xfrm>
                </p:grpSpPr>
                <p:grpSp>
                  <p:nvGrpSpPr>
                    <p:cNvPr id="472" name=""/>
                    <p:cNvGrpSpPr/>
                    <p:nvPr/>
                  </p:nvGrpSpPr>
                  <p:grpSpPr>
                    <a:xfrm>
                      <a:off x="4267080" y="2209680"/>
                      <a:ext cx="4647600" cy="3504960"/>
                      <a:chOff x="4267080" y="2209680"/>
                      <a:chExt cx="4647600" cy="3504960"/>
                    </a:xfrm>
                  </p:grpSpPr>
                  <p:sp>
                    <p:nvSpPr>
                      <p:cNvPr id="473" name=""/>
                      <p:cNvSpPr/>
                      <p:nvPr/>
                    </p:nvSpPr>
                    <p:spPr>
                      <a:xfrm>
                        <a:off x="6248520" y="5486400"/>
                        <a:ext cx="609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" name=""/>
                      <p:cNvSpPr/>
                      <p:nvPr/>
                    </p:nvSpPr>
                    <p:spPr>
                      <a:xfrm flipH="1" flipV="1">
                        <a:off x="4800600" y="4418640"/>
                        <a:ext cx="2895120" cy="10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" name=""/>
                      <p:cNvSpPr/>
                      <p:nvPr/>
                    </p:nvSpPr>
                    <p:spPr>
                      <a:xfrm flipH="1" flipV="1">
                        <a:off x="5029200" y="4342680"/>
                        <a:ext cx="3656880" cy="45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" name=""/>
                      <p:cNvSpPr/>
                      <p:nvPr/>
                    </p:nvSpPr>
                    <p:spPr>
                      <a:xfrm flipH="1" flipV="1">
                        <a:off x="4876920" y="4190400"/>
                        <a:ext cx="3961440" cy="76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" name=""/>
                      <p:cNvSpPr/>
                      <p:nvPr/>
                    </p:nvSpPr>
                    <p:spPr>
                      <a:xfrm flipH="1" flipV="1">
                        <a:off x="4952880" y="3200040"/>
                        <a:ext cx="3656880" cy="106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ff0000"/>
                        </a:solidFill>
                        <a:prstDash val="dash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" name=""/>
                      <p:cNvSpPr/>
                      <p:nvPr/>
                    </p:nvSpPr>
                    <p:spPr>
                      <a:xfrm flipH="1" flipV="1">
                        <a:off x="4800600" y="2210040"/>
                        <a:ext cx="4114080" cy="228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" name=""/>
                      <p:cNvSpPr/>
                      <p:nvPr/>
                    </p:nvSpPr>
                    <p:spPr>
                      <a:xfrm flipH="1" flipV="1">
                        <a:off x="4952880" y="2209320"/>
                        <a:ext cx="3809520" cy="167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28440">
                        <a:solidFill>
                          <a:srgbClr val="3333cc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267080" y="5638680"/>
                        <a:ext cx="2971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 flipV="1">
                        <a:off x="4343400" y="2819160"/>
                        <a:ext cx="0" cy="2895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6934320" y="3962520"/>
                      <a:ext cx="9144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6934320" y="4495680"/>
                      <a:ext cx="9144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6934320" y="5029200"/>
                      <a:ext cx="9144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>
                    <a:off x="3809880" y="2743200"/>
                    <a:ext cx="457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lang="en-US" sz="16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"/>
                <p:cNvSpPr/>
                <p:nvPr/>
              </p:nvSpPr>
              <p:spPr>
                <a:xfrm>
                  <a:off x="6858000" y="5715000"/>
                  <a:ext cx="7621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6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1" lang="pl-P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5867280" y="33526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5562720" y="57913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2 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14:21:30Z</dcterms:created>
  <dc:creator>Izabella Mróz-Radłowska</dc:creator>
  <dc:description/>
  <dc:language>en-US</dc:language>
  <cp:lastModifiedBy>Izabella Mróz-Radlowska</cp:lastModifiedBy>
  <dcterms:modified xsi:type="dcterms:W3CDTF">2003-05-09T11:27:09Z</dcterms:modified>
  <cp:revision>8</cp:revision>
  <dc:subject/>
  <dc:title>Projektowanie instalacji elektrycznych</dc:title>
</cp:coreProperties>
</file>