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9888538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9CD-9EB3-4A7F-8434-3D0C071C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8DD-CB4C-4F17-92CF-CA511C8F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B45-D3D4-4229-B4AF-77902524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5E86-6B43-4E5A-B6CC-7F690012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7EA4-77CB-4A90-8BBD-86B0555E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D2D0-7F96-4446-BAE2-381A7BAE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7495-3467-40BA-B0DE-2FFD943C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2533-0600-48D2-BC2E-F4D792E3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FE18-BBE6-462F-A25E-CF8A671C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D1EB-13A2-4D38-A7D2-867F2666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0774-935D-4769-A273-AED6EF83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ACD-FC11-4A40-807F-A3BDE7C7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E470-ABCA-494D-B91C-ECDB6772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F895-348D-4AC8-8016-C3165E65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E320-F815-43F7-B5A8-2EDE271C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F828-11F1-45B0-B328-4F9541A9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21EC-B979-4342-A845-6C82AFC0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C21-AC8A-4D7A-8F82-D38BBDEC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69E-158F-4D4A-A992-9E3E7FBC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FF8-E09A-4855-BBAE-4815A0CE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736-C6D0-450B-B937-52E89F27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944-76FB-484F-87B5-ED1BF57F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56C5-2DF1-4B53-AEDA-5BB6DFE8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4C6-1103-4BBA-A10D-A4ABFDB1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64B1-4436-4168-A47B-E46103219B9B}" type="slidenum">
              <a:rPr b="0" lang="pl-P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4A09-A139-40CB-BF97-24D34C40E507}" type="slidenum">
              <a:rPr b="0" lang="pl-P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Instalacje elektrycz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886040"/>
            <a:ext cx="8839440" cy="47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6600cc"/>
                </a:solidFill>
                <a:latin typeface="Times New Roman CE"/>
              </a:rPr>
              <a:t>Ustawa z dnia 12 września 2002r. o normaliz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 CE"/>
              </a:rPr>
              <a:t>Dz. U. nr 169     z 2002 r. - poz. 1386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6600cc"/>
                </a:solidFill>
                <a:latin typeface="Times New Roman CE"/>
              </a:rPr>
              <a:t>Ustawa z dnia 3 kwietnia 1993 r. o badaniach i certyfik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 CE"/>
              </a:rPr>
              <a:t>Dz. U. nr 55 z 1993 r. - poz. 250, Dz. U. nr 95 z 1995 r. - poz. 471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6600cc"/>
                </a:solidFill>
                <a:latin typeface="Times New Roman CE"/>
              </a:rPr>
              <a:t>Ustawa z dnia 7 lipca 1994 r. “Prawo Budowlane”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 CE"/>
              </a:rPr>
              <a:t>Dz. U. nr 89  z 1994 r. - poz. 414, Dz. U. nr 100  z 1996 r. - poz. 465,               Dz. U. nr 106 z 1996 r. - poz. 496. Dz. U. nr 146  z 1996 r. - poz. 680, Dz. U. nr 88 z 1997 r. - poz. 554, Dz.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 CE"/>
              </a:rPr>
              <a:t>U. nr 111 z 1997 r.         - poz. 726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6600cc"/>
                </a:solidFill>
                <a:latin typeface="Times New Roman CE"/>
              </a:rPr>
              <a:t>Ustawa z dnia 10 kwietnia 1997 r. “Prawo Energetyczne”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 CE"/>
              </a:rPr>
              <a:t>Dz. U. nr 54 z 1997 r. - poz. 348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dane charakterystyczne zasil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3. Wartości i tolerancje parametrów zasil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a) napięcie i tolerancje napię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napięcia poniżej 120V:   6,  12,  24,  48,  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napięcia od 120V  do 1kV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sieci trójfazowo czteroprzewodowe - 230/400V, 400/690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sieci trójfazowe trójprzewodowe - 1000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dane charakterystyczne zasil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3. Wartości i tolerancje parametrów zasilan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b) częstotliwość i tolerancje częstotliwośc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50 Hz  + 0,2 Hz  - 0,5 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c) maksymalny prąd dopuszczalny długotrw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la układu trójfazowego 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om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= 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om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3 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cos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d) spodziewany prąd zwar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dane charakterystyczne zasil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4. Ochrona przed porażeni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5. Wymagania szczególne dostawcy energi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 Black"/>
              </a:rPr>
              <a:t>Określenie mocy obliczeniowej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 Black"/>
              </a:rPr>
              <a:t>  -  P</a:t>
            </a:r>
            <a:r>
              <a:rPr b="1" lang="pl-PL" sz="3600" spc="-1" strike="noStrike" baseline="-25000">
                <a:solidFill>
                  <a:srgbClr val="000000"/>
                </a:solidFill>
                <a:latin typeface="Arial Black"/>
              </a:rPr>
              <a:t>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</a:rPr>
              <a:t>Odbiorcy bytow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dla pojedynczego mieszk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om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=  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+ M 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moc największego odbiornik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moc zapotrzebowana na 1 osobę w mieszkaniu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M - liczba osób, dla których zaprojektowano mieszkani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 Black"/>
              </a:rPr>
              <a:t>Określenie mocy obliczeniowej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 Black"/>
              </a:rPr>
              <a:t>  -  P</a:t>
            </a:r>
            <a:r>
              <a:rPr b="1" lang="pl-PL" sz="3600" spc="-1" strike="noStrike" baseline="-25000">
                <a:solidFill>
                  <a:srgbClr val="000000"/>
                </a:solidFill>
                <a:latin typeface="Arial Black"/>
              </a:rPr>
              <a:t>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51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</a:t>
            </a:r>
            <a:r>
              <a:rPr b="1" lang="pl-PL" sz="2800" spc="-1" strike="noStrike">
                <a:solidFill>
                  <a:srgbClr val="000000"/>
                </a:solidFill>
                <a:latin typeface="Times New Roman CE"/>
              </a:rPr>
              <a:t>Odbiorcy bytow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dla wewnętrznej linii zasilającej (wlz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om wlz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= 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j wlz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j wlz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współczynnik jednoczesności dla wl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liczba mieszkań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 zasilanie 1-faz.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   zasilanie 3-fa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-3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,00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,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4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0,80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0,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5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0,80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0,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0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0,50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0,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5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0,45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0,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25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0,35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0,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 Black"/>
              </a:rPr>
              <a:t>Określenie mocy obliczeniowej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 Black"/>
              </a:rPr>
              <a:t>  -  P</a:t>
            </a:r>
            <a:r>
              <a:rPr b="1" lang="pl-PL" sz="3600" spc="-1" strike="noStrike" baseline="-25000">
                <a:solidFill>
                  <a:srgbClr val="000000"/>
                </a:solidFill>
                <a:latin typeface="Arial Black"/>
              </a:rPr>
              <a:t>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51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</a:t>
            </a:r>
            <a:r>
              <a:rPr b="1" lang="pl-PL" sz="2800" spc="-1" strike="noStrike">
                <a:solidFill>
                  <a:srgbClr val="000000"/>
                </a:solidFill>
                <a:latin typeface="Times New Roman CE"/>
              </a:rPr>
              <a:t>Odbiorcy bytow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dla złącza o kilku wlz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om złącza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om wlz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+ 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inne, oprócz wlz obciążenia zasilane ze złąc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 Black"/>
              </a:rPr>
              <a:t>Określenie mocy obliczeniowej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 Black"/>
              </a:rPr>
              <a:t>  -  P</a:t>
            </a:r>
            <a:r>
              <a:rPr b="1" lang="pl-PL" sz="3600" spc="-1" strike="noStrike" baseline="-25000">
                <a:solidFill>
                  <a:srgbClr val="000000"/>
                </a:solidFill>
                <a:latin typeface="Arial Black"/>
              </a:rPr>
              <a:t>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31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</a:t>
            </a:r>
            <a:r>
              <a:rPr b="1" lang="pl-PL" sz="2800" spc="-1" strike="noStrike">
                <a:solidFill>
                  <a:srgbClr val="000000"/>
                </a:solidFill>
                <a:latin typeface="Times New Roman CE"/>
              </a:rPr>
              <a:t>Odbiorcy komunal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dla obiektu, w którym można wydzielić charakterystyczne grupy odbiornik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om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j i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N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gdzi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N 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- suma mocy znamionowych i-tej grupy odbiorników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j 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- współczynnik jednoczesności i-tej grupy odbiornik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dla dowolnego obiekt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om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= 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N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gdzi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- współczynnik zapotrzebowania obiektu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N 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- suma mocy znamionowych odbiorników.-dla złącza o kilku wlz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22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dane o obwodach realizujących określone  funkc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miejsce poboru mo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spodziewane obciąże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dzienne i roczne wahania obciąże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ymagania dotyczące sterowania, sygnalizacj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dane o zasilaniu awaryjny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bateria akumulator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ogniwo galwanicz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niezależny agregat prądotwórcz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oddzielna linia zasilająca z sieci rozdzielcz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Źródło rezerwowe powinno mieć odpowiedni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m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niezawodnoś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dane znamion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czas przełącz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arunki otocze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[wg PN-IEC 60364-3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lasyfikacja wpływów otoczen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oznaczenie kod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6600"/>
                </a:solidFill>
                <a:latin typeface="Tahoma"/>
              </a:rPr>
              <a:t>LITERA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l-PL" sz="3200" spc="-1" strike="noStrike">
                <a:solidFill>
                  <a:srgbClr val="ff0000"/>
                </a:solidFill>
                <a:latin typeface="Tahoma"/>
              </a:rPr>
              <a:t>LITERA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l-PL" sz="3200" spc="-1" strike="noStrike">
                <a:solidFill>
                  <a:srgbClr val="6600cc"/>
                </a:solidFill>
                <a:latin typeface="Tahoma"/>
              </a:rPr>
              <a:t>Cyf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np.  </a:t>
            </a:r>
            <a:r>
              <a:rPr b="0" lang="pl-PL" sz="3200" spc="-1" strike="noStrike">
                <a:solidFill>
                  <a:srgbClr val="006600"/>
                </a:solidFill>
                <a:latin typeface="Tahoma"/>
              </a:rPr>
              <a:t>A</a:t>
            </a:r>
            <a:r>
              <a:rPr b="0" lang="pl-PL" sz="32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pl-PL" sz="32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6600cc"/>
                </a:solidFill>
                <a:latin typeface="Times New Roman"/>
              </a:rPr>
              <a:t>Rozpo</a:t>
            </a:r>
            <a:r>
              <a:rPr b="0" lang="pl-PL" sz="2800" spc="-1" strike="noStrike">
                <a:solidFill>
                  <a:srgbClr val="6600cc"/>
                </a:solidFill>
                <a:latin typeface="Times New Roman CE"/>
              </a:rPr>
              <a:t>rządzenie Ministra Infrastruktury z dnia 12 kwietnia 2002r</a:t>
            </a: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. - </a:t>
            </a:r>
            <a:r>
              <a:rPr b="0" lang="pl-PL" sz="2800" spc="-1" strike="noStrike">
                <a:solidFill>
                  <a:srgbClr val="6600cc"/>
                </a:solidFill>
                <a:latin typeface="Times New Roman CE"/>
              </a:rPr>
              <a:t>w sprawie warunków technicznych, jakim powinny odpowiadać budynki i ich usytuowani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Instalacje i urządzenia elektryczne powinny zapewniać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1. Dostarczanie energii elektrycznej o odpowiednich parametrach technicznych do odbiorników, stosownie do potrzeb użytkowy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2. Ochronę przed porażeniem prądem elektrycznym, przepięciami łączeniowymi i atmosferycznymi, powstaniem pożaru, wybuchem i innymi szkodam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arunki otocze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[wg PN-IEC 60364-3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klasyfikacja wpływów otoczeni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Times New Roman CE"/>
              </a:rPr>
              <a:t>pierwsza LITERA</a:t>
            </a: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 - ogólna kategoria wpływ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Times New Roman CE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  -  środowisk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Times New Roman CE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  - użytkowa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Times New Roman CE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  -  konstrukcja obiektów budowlany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arunki otocze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[wg PN-IEC 60364-3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lasyfikacja wpływów otoczen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druga LITERA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charakter wpływu zewnętrzneg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arunki otocze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[wg PN-IEC 60364-3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lasyfikacja wpływów otoczen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00cc"/>
                </a:solidFill>
                <a:latin typeface="Times New Roman CE"/>
              </a:rPr>
              <a:t>CYFRA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klasa w obszarze każdego wpływu zewnętr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np.: </a:t>
            </a:r>
            <a:r>
              <a:rPr b="0" lang="pl-PL" sz="2400" spc="-1" strike="noStrike">
                <a:solidFill>
                  <a:srgbClr val="006600"/>
                </a:solidFill>
                <a:latin typeface="Times New Roman CE"/>
              </a:rPr>
              <a:t>A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A</a:t>
            </a:r>
            <a:r>
              <a:rPr b="0" lang="pl-PL" sz="2400" spc="-1" strike="noStrike">
                <a:solidFill>
                  <a:srgbClr val="6600cc"/>
                </a:solidFill>
                <a:latin typeface="Times New Roman C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6600"/>
                </a:solidFill>
                <a:latin typeface="Times New Roman CE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środowisk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6600"/>
                </a:solidFill>
                <a:latin typeface="Times New Roman CE"/>
              </a:rPr>
              <a:t>A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środowisko, temperatura otocze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6600"/>
                </a:solidFill>
                <a:latin typeface="Times New Roman CE"/>
              </a:rPr>
              <a:t>A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A</a:t>
            </a:r>
            <a:r>
              <a:rPr b="0" lang="pl-PL" sz="2400" spc="-1" strike="noStrike">
                <a:solidFill>
                  <a:srgbClr val="6600cc"/>
                </a:solidFill>
                <a:latin typeface="Times New Roman CE"/>
              </a:rPr>
              <a:t>4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środowisko, temperatura otoczenia od -5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 CE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C do +4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 CE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arunki otocze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[wg PN-IEC 60364-3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e względu na: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obecność wody (</a:t>
            </a:r>
            <a:r>
              <a:rPr b="0" lang="pl-PL" sz="28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obecność obcych ciał stałych (</a:t>
            </a:r>
            <a:r>
              <a:rPr b="0" lang="pl-PL" sz="28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zdolności użytkownika (</a:t>
            </a:r>
            <a:r>
              <a:rPr b="0" lang="pl-PL" sz="28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d urządzenia elektrycznego wymaga się osłony chroniącej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urządzenie przed wpływem środowis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użytkownika przed kontaktem z urządzeni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lasyfikacja osłon i stopnie ochrony [wg. PN-92/E-08106 - zastąpiona przez PN-EN 60529:2002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Kod </a:t>
            </a:r>
            <a:r>
              <a:rPr b="0" lang="pl-PL" sz="3200" spc="-1" strike="noStrike">
                <a:solidFill>
                  <a:srgbClr val="0000ff"/>
                </a:solidFill>
                <a:latin typeface="Tahoma"/>
              </a:rPr>
              <a:t> IP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 (Internal Protection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ff"/>
                </a:solidFill>
                <a:latin typeface="Times New Roman"/>
              </a:rPr>
              <a:t>IP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cyfra cyfra  + (nieobowiązująco) litera lit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p. </a:t>
            </a:r>
            <a:r>
              <a:rPr b="0" lang="pl-PL" sz="3200" spc="-1" strike="noStrike">
                <a:solidFill>
                  <a:srgbClr val="0000ff"/>
                </a:solidFill>
                <a:latin typeface="Times New Roman"/>
              </a:rPr>
              <a:t>IP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od  </a:t>
            </a: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IP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(Internal Protection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- pierwsza cyfra - od 0 do 6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- określa stopień ochrony ludzi przed dotknięciem części pod napięciem lub ruchomych oraz ochrony urządzenia przed przedostaniem się ciał stały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od  </a:t>
            </a: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IP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(Internal Protection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druga cyfra - od 0 do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określa stopień ochrony urządzenia przed działaniem w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np.: </a:t>
            </a: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IP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2 - obudowa chroni osoby przed dostępem palcem do części niebezpiecz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3 - obudowa chroni urządzenie przed szkodliwymi skutkami wody natryskiwa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od  </a:t>
            </a: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IP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(Internal Protection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np.: </a:t>
            </a: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IP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23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2 i 3 - jak poprzedn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C - obudowa chroni przed dostępem do części niebezpiecznych osoby operujące narzędziem o średnicy 2,5mm i długości nie większej niż 100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S - badania ochrony przed skutkami przedostającej się wody przeprowadzono przy wszystkich częściach urządzenia nieruchomych- druga cyfra - od 0 do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lasy ochronności urządzeń elektrycz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36440" y="2573280"/>
          <a:ext cx="8893440" cy="47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2573280"/>
                    <a:ext cx="8893440" cy="47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0000"/>
          </a:bodyPr>
          <a:p>
            <a:pPr lvl="2" marL="228600" indent="-457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457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lasy ochronności urządzeń elektrycznych - zakres i przykłady zastosow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lasa 0 - w pomieszczeniach o izolowanych ścianach i podłogach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   (izolowane stanowisk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w obwodach zasilanych z transformatora separacyj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lasa I - w pomieszczeniach mieszkalnych i przemysłow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np. silniki, pralki, chłodziarki, kuchenki elektrycz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lasa II - we wszystkich pomieszczeni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np. młynki do kawy, suszarki do włosów, golarki, ręczne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elektronarzędz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lasa III - we wszystkich pomieszczeni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np. zabawki, przenośne lampy, niektóre elektronarzędz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6600cc"/>
                </a:solidFill>
                <a:latin typeface="Times New Roman"/>
              </a:rPr>
              <a:t>Rozpo</a:t>
            </a:r>
            <a:r>
              <a:rPr b="0" lang="pl-PL" sz="2800" spc="-1" strike="noStrike">
                <a:solidFill>
                  <a:srgbClr val="6600cc"/>
                </a:solidFill>
                <a:latin typeface="Times New Roman CE"/>
              </a:rPr>
              <a:t>rządzenie Ministra Infrastruktury z dnia 12 kwietnia 2002r</a:t>
            </a: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. - </a:t>
            </a:r>
            <a:r>
              <a:rPr b="0" lang="pl-PL" sz="2800" spc="-1" strike="noStrike">
                <a:solidFill>
                  <a:srgbClr val="6600cc"/>
                </a:solidFill>
                <a:latin typeface="Times New Roman CE"/>
              </a:rPr>
              <a:t>w sprawie warunków technicznych, jakim powinny odpowiadać budynki i ich usytuowani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3. Ochronę przed emisją drgań i hałasu powyżej dopuszczalnego poziomu oraz przed szkodliwym oddziaływaniem pola elektromagnetyczn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szczegół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Typ przewodów i sposób ich instalowania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Wybór typu przewodów i sposobu instalowania zależy o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łaściwości środowis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łaściwości ścian lub innych części obiektu budowlanego przeznaczonych do układania przewod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dostępności przewodów dla ludzi i zwierzą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oddziaływań elektromechanicznych mogących powstać podczas zwar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innych oddziaływań, na które mogą być narażone przewody podczas budowy instalacji elektrycznej lub/i w czasie jej eksploat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szczegół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Typy przewod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K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Przewody instalacyj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Szynoprzewo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szczegół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Typy przewod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Kable np. </a:t>
            </a:r>
            <a:r>
              <a:rPr b="0" lang="pl-PL" sz="2800" spc="-1" strike="noStrike">
                <a:solidFill>
                  <a:srgbClr val="ff0000"/>
                </a:solidFill>
                <a:latin typeface="Times New Roman CE"/>
              </a:rPr>
              <a:t>YA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kab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AK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kabel aluminiow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AKY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kabel aluminiowy w izolacji żyły z polichlorku winy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YAKY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kabel aluminiowy w izolacji żyły z polichlorku winylu i powłoce z PC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szczegół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Typy przewod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Kable np. </a:t>
            </a:r>
            <a:r>
              <a:rPr b="0" lang="pl-PL" sz="2800" spc="-1" strike="noStrike">
                <a:solidFill>
                  <a:srgbClr val="ff0000"/>
                </a:solidFill>
                <a:latin typeface="Times New Roman CE"/>
              </a:rPr>
              <a:t>YK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Kable np. </a:t>
            </a:r>
            <a:r>
              <a:rPr b="0" lang="pl-PL" sz="2800" spc="-1" strike="noStrike">
                <a:solidFill>
                  <a:srgbClr val="ff0000"/>
                </a:solidFill>
                <a:latin typeface="Times New Roman CE"/>
              </a:rPr>
              <a:t>YKX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kabel miedzi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KX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kabel miedziany w izolacji żyły z polietyl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KXs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kabel miedziany w izolacji żyły z polietylenu usieciowa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YKX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kabel miedziany w izolacji żyły z polietylenu i powłoce       z  polichlorku winyl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szczegół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Typy przewod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Przewody instalacyj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D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drut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lin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AD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drut aluminiowy goły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AL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linka aluminiowa goł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DY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drut miedziany w izolacji żyły z polichlorku winy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YDY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drut miedziany w izolacji żyły z polietylenu i powłoce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  z  polichlorku winyl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np. 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YLY 4x10mm</a:t>
            </a:r>
            <a:r>
              <a:rPr b="0" lang="pl-PL" sz="2400" spc="-1" strike="noStrike" baseline="30000">
                <a:solidFill>
                  <a:srgbClr val="ff0000"/>
                </a:solidFill>
                <a:latin typeface="Times New Roman CE"/>
              </a:rPr>
              <a:t>2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linka miedziana czterożyłowa o przekroju każdej żyły 10mm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; izolacja  każdej żyły z  polichlorku winylu (PCV) i wspólna powłoka z  polichlorku winyl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szczegół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Sposoby prowadzenia przewodów - przewody instalacyjne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od tynkiem: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w rurk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zatapi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 tynku - przewody wtynk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na tynku: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w rurach polwinitow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w rurach stalow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w listw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na korytkach, drabinkach, wspornik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 kanałach kablowych (podłogowych,  naścienny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szczegół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Sposoby prowadzenia przewodów - kable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bezpośrednio w zie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 przepustach kablow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90720" y="3581280"/>
            <a:ext cx="761760" cy="152280"/>
            <a:chOff x="990720" y="3581280"/>
            <a:chExt cx="761760" cy="152280"/>
          </a:xfrm>
        </p:grpSpPr>
        <p:sp>
          <p:nvSpPr>
            <p:cNvPr id="159" name=""/>
            <p:cNvSpPr/>
            <p:nvPr/>
          </p:nvSpPr>
          <p:spPr>
            <a:xfrm flipH="1">
              <a:off x="1218600" y="358128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70880" y="358128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523880" y="3581280"/>
              <a:ext cx="75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358128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0720" y="36572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H="1">
            <a:off x="1218960" y="43434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371600" y="43434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523880" y="43434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4572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5334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066680" y="5334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5334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5334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371240" y="5334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676160" y="5334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56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4560" y="1371240"/>
            <a:ext cx="8839080" cy="5029560"/>
            <a:chOff x="304560" y="1371240"/>
            <a:chExt cx="8839080" cy="5029560"/>
          </a:xfrm>
        </p:grpSpPr>
        <p:grpSp>
          <p:nvGrpSpPr>
            <p:cNvPr id="178" name=""/>
            <p:cNvGrpSpPr/>
            <p:nvPr/>
          </p:nvGrpSpPr>
          <p:grpSpPr>
            <a:xfrm>
              <a:off x="304560" y="1371240"/>
              <a:ext cx="8839080" cy="1676880"/>
              <a:chOff x="304560" y="1371240"/>
              <a:chExt cx="8839080" cy="1676880"/>
            </a:xfrm>
          </p:grpSpPr>
          <p:sp>
            <p:nvSpPr>
              <p:cNvPr id="179" name="PlaceHolder 2"/>
              <p:cNvSpPr>
                <a:spLocks noGrp="1"/>
              </p:cNvSpPr>
              <p:nvPr>
                <p:ph/>
              </p:nvPr>
            </p:nvSpPr>
            <p:spPr>
              <a:xfrm>
                <a:off x="304560" y="1371240"/>
                <a:ext cx="8839080" cy="947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46080" bIns="46080" anchor="t">
                <a:normAutofit fontScale="16000"/>
              </a:bodyPr>
              <a:p>
                <a:pPr lvl="2" marL="182880" indent="-36360">
                  <a:lnSpc>
                    <a:spcPct val="100000"/>
                  </a:lnSpc>
                  <a:spcBef>
                    <a:spcPts val="601"/>
                  </a:spcBef>
                  <a:buClr>
                    <a:srgbClr val="ffcc00"/>
                  </a:buClr>
                  <a:buFont typeface="Monotype Sorts" charset="2"/>
                  <a:buChar char="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00"/>
                    </a:solidFill>
                    <a:latin typeface="Times New Roman CE"/>
                  </a:rPr>
                  <a:t>Informacje szczegółowe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lvl="2" marL="182880" indent="-36360">
                  <a:lnSpc>
                    <a:spcPct val="100000"/>
                  </a:lnSpc>
                  <a:spcBef>
                    <a:spcPts val="601"/>
                  </a:spcBef>
                  <a:buClr>
                    <a:srgbClr val="ffcc00"/>
                  </a:buClr>
                  <a:buFont typeface="Monotype Sorts" charset="2"/>
                  <a:buChar char="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 CE"/>
                  </a:rPr>
                  <a:t>Sposoby prowadzenia przewodów - oznaczenia</a:t>
                </a:r>
                <a:br>
                  <a:rPr sz="2400"/>
                </a:br>
                <a:r>
                  <a:rPr b="0" lang="pl-PL" sz="2400" spc="-1" strike="noStrike">
                    <a:solidFill>
                      <a:srgbClr val="000000"/>
                    </a:solidFill>
                    <a:latin typeface="Times New Roman C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lvl="4" marL="329040" indent="0">
                  <a:lnSpc>
                    <a:spcPct val="100000"/>
                  </a:lnSpc>
                  <a:spcBef>
                    <a:spcPts val="601"/>
                  </a:spcBef>
                  <a:buNone/>
                  <a:tabLst>
                    <a:tab algn="l" pos="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 CE"/>
                  </a:rPr>
                  <a:t>- linia prowadzona na ścianie lub na tynku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lvl="4" marL="329040" indent="0">
                  <a:spcBef>
                    <a:spcPts val="499"/>
                  </a:spcBef>
                  <a:buNone/>
                  <a:tabLst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lvl="3" marL="255960" indent="0">
                  <a:lnSpc>
                    <a:spcPct val="100000"/>
                  </a:lnSpc>
                  <a:spcBef>
                    <a:spcPts val="601"/>
                  </a:spcBef>
                  <a:buNone/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 CE"/>
                  </a:rPr>
                  <a:t>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 CE"/>
                  </a:rPr>
                  <a:t>	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 CE"/>
                  </a:rPr>
                  <a:t>	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 CE"/>
                  </a:rPr>
                  <a:t>- linia prowadzona w tynku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lvl="2" marL="182880" indent="0">
                  <a:lnSpc>
                    <a:spcPct val="100000"/>
                  </a:lnSpc>
                  <a:spcBef>
                    <a:spcPts val="601"/>
                  </a:spcBef>
                  <a:buNone/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lvl="3" marL="255960" indent="0">
                  <a:lnSpc>
                    <a:spcPct val="100000"/>
                  </a:lnSpc>
                  <a:spcBef>
                    <a:spcPts val="601"/>
                  </a:spcBef>
                  <a:buNone/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 CE"/>
                  </a:rPr>
                  <a:t>	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 CE"/>
                  </a:rPr>
                  <a:t>	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 CE"/>
                  </a:rPr>
                  <a:t>- linia prowadzona pod tynkiem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marL="54720" indent="0" algn="ctr">
                  <a:lnSpc>
                    <a:spcPct val="100000"/>
                  </a:lnSpc>
                  <a:spcBef>
                    <a:spcPts val="60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lvl="2" marL="182880" indent="0" algn="just">
                  <a:lnSpc>
                    <a:spcPct val="100000"/>
                  </a:lnSpc>
                  <a:spcBef>
                    <a:spcPts val="601"/>
                  </a:spcBef>
                  <a:buNone/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 CE"/>
                  </a:rPr>
                  <a:t>linia prowadzona pod podłogą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lvl="2" marL="182880" indent="0" algn="just">
                  <a:lnSpc>
                    <a:spcPct val="100000"/>
                  </a:lnSpc>
                  <a:spcBef>
                    <a:spcPts val="601"/>
                  </a:spcBef>
                  <a:buNone/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lvl="2" marL="182880" indent="0" algn="just">
                  <a:lnSpc>
                    <a:spcPct val="100000"/>
                  </a:lnSpc>
                  <a:spcBef>
                    <a:spcPts val="601"/>
                  </a:spcBef>
                  <a:buNone/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- linia prowadzona w podłodze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43000" y="28288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95280" y="2901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1218960" y="2901960"/>
                <a:ext cx="75960" cy="1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1371600" y="2901960"/>
                <a:ext cx="76320" cy="1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1523880" y="2901960"/>
                <a:ext cx="76320" cy="1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47920" y="29019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914400" y="63244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990360" y="62485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295280" y="6248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1599840" y="62485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90720" y="62485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95280" y="6248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00200" y="62485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62120" y="2971800"/>
            <a:ext cx="838080" cy="152280"/>
            <a:chOff x="762120" y="297180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1143000" y="2971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120" y="3124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990720" y="5562720"/>
            <a:ext cx="609480" cy="228600"/>
            <a:chOff x="990720" y="5562720"/>
            <a:chExt cx="609480" cy="228600"/>
          </a:xfrm>
        </p:grpSpPr>
        <p:sp>
          <p:nvSpPr>
            <p:cNvPr id="198" name=""/>
            <p:cNvSpPr/>
            <p:nvPr/>
          </p:nvSpPr>
          <p:spPr>
            <a:xfrm>
              <a:off x="11430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9528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79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66680" y="5562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6668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90720" y="5638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914400" y="4724280"/>
            <a:ext cx="609480" cy="228600"/>
            <a:chOff x="914400" y="4724280"/>
            <a:chExt cx="609480" cy="228600"/>
          </a:xfrm>
        </p:grpSpPr>
        <p:sp>
          <p:nvSpPr>
            <p:cNvPr id="205" name=""/>
            <p:cNvSpPr/>
            <p:nvPr/>
          </p:nvSpPr>
          <p:spPr>
            <a:xfrm>
              <a:off x="114300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28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43000" y="4952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14400" y="4876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914400" y="6477120"/>
            <a:ext cx="685800" cy="152280"/>
            <a:chOff x="914400" y="6477120"/>
            <a:chExt cx="685800" cy="152280"/>
          </a:xfrm>
        </p:grpSpPr>
        <p:sp>
          <p:nvSpPr>
            <p:cNvPr id="210" name=""/>
            <p:cNvSpPr/>
            <p:nvPr/>
          </p:nvSpPr>
          <p:spPr>
            <a:xfrm flipH="1">
              <a:off x="1143000" y="64771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19320" y="647712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43000" y="6629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14400" y="6477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219320" y="3962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85800" y="1523880"/>
            <a:ext cx="7848720" cy="2666880"/>
            <a:chOff x="685800" y="1523880"/>
            <a:chExt cx="7848720" cy="2666880"/>
          </a:xfrm>
        </p:grpSpPr>
        <p:sp>
          <p:nvSpPr>
            <p:cNvPr id="216" name="PlaceHolder 2"/>
            <p:cNvSpPr>
              <a:spLocks noGrp="1"/>
            </p:cNvSpPr>
            <p:nvPr>
              <p:ph/>
            </p:nvPr>
          </p:nvSpPr>
          <p:spPr>
            <a:xfrm>
              <a:off x="685800" y="1523880"/>
              <a:ext cx="784872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 fontScale="17000"/>
            </a:bodyPr>
            <a:p>
              <a:pPr lvl="2" marL="194040" indent="-38520">
                <a:lnSpc>
                  <a:spcPct val="100000"/>
                </a:lnSpc>
                <a:spcBef>
                  <a:spcPts val="601"/>
                </a:spcBef>
                <a:buClr>
                  <a:srgbClr val="ffcc00"/>
                </a:buClr>
                <a:buFont typeface="Monotype Sorts" charset="2"/>
                <a:buChar char="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</a:rPr>
                <a:t>Informacje szczegółow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194040" indent="-38520">
                <a:lnSpc>
                  <a:spcPct val="100000"/>
                </a:lnSpc>
                <a:spcBef>
                  <a:spcPts val="601"/>
                </a:spcBef>
                <a:buClr>
                  <a:srgbClr val="ffcc00"/>
                </a:buClr>
                <a:buFont typeface="Monotype Sorts" charset="2"/>
                <a:buChar char="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Sposoby prowadzenia przewodów - kable</a:t>
              </a:r>
              <a:br>
                <a:rPr sz="2400"/>
              </a:b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194040" indent="0">
                <a:lnSpc>
                  <a:spcPct val="100000"/>
                </a:lnSpc>
                <a:spcBef>
                  <a:spcPts val="601"/>
                </a:spcBef>
                <a:buNone/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 CE"/>
                </a:rPr>
                <a:t>	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 CE"/>
                </a:rPr>
                <a:t>	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- linia prowadzona w rurze ochronnej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58320" indent="0">
                <a:lnSpc>
                  <a:spcPct val="100000"/>
                </a:lnSpc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58320" indent="0">
                <a:lnSpc>
                  <a:spcPct val="100000"/>
                </a:lnSpc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	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	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	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- linia prowadzona w listwi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58320" indent="0">
                <a:lnSpc>
                  <a:spcPct val="100000"/>
                </a:lnSpc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58320" indent="0">
                <a:lnSpc>
                  <a:spcPct val="100000"/>
                </a:lnSpc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	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	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	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- linia prowadzona w korytku kablowy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58320" indent="0">
                <a:lnSpc>
                  <a:spcPct val="100000"/>
                </a:lnSpc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58320" indent="0">
                <a:lnSpc>
                  <a:spcPct val="100000"/>
                </a:lnSpc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	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	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	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- linia prowadzona na drabince kablowej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58320" indent="0">
                <a:lnSpc>
                  <a:spcPct val="100000"/>
                </a:lnSpc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58320" indent="0">
                <a:lnSpc>
                  <a:spcPct val="100000"/>
                </a:lnSpc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	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	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	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- linia prowadzona na wspornikac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194040" indent="0" algn="just">
                <a:lnSpc>
                  <a:spcPct val="100000"/>
                </a:lnSpc>
                <a:spcBef>
                  <a:spcPts val="601"/>
                </a:spcBef>
                <a:buNone/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838080" y="4038480"/>
              <a:ext cx="762120" cy="152280"/>
              <a:chOff x="838080" y="4038480"/>
              <a:chExt cx="762120" cy="152280"/>
            </a:xfrm>
          </p:grpSpPr>
          <p:sp>
            <p:nvSpPr>
              <p:cNvPr id="218" name=""/>
              <p:cNvSpPr/>
              <p:nvPr/>
            </p:nvSpPr>
            <p:spPr>
              <a:xfrm>
                <a:off x="838080" y="40384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19320" y="40384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114300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szczegół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rzekrój przewodów [ wg. PN-IEC 60364-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Minimalny przekrój przewodów powinien być określony stosownie 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dopuszczalnej maksymalnej temperatury przewo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dopuszczalnego spadku napię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oddziaływań elektromechanicznych mogących powstać         w czasie zwar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innych oddziaływań mechanicznych, na które mogą być narażone przew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maksymalnej impedancji ze względu na zabezpieczenie        od zwar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Projekt instalacji elektrycznej powinien zawierać: [ wg PN-IEC-60364-1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informacje szczegół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szczegół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rzekrój przewodów [ wg. PN-IEC 60364-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Obciążalność prądowa długotrwała przewodów i kabli elektroenergetycz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Obciążalność  prądowa  długotrwała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przewodu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(prąd długotrwale dopuszczalny) -  skuteczna wartość prądu, który przepływając w czasie nieskończenie długim przez przewód spowoduje podwyższenie temperatury przewodu od standardowej wartości temperatury otoczeni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do wartości granicznej dopuszczalnej długotrwale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dd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9000"/>
          </a:bodyPr>
          <a:p>
            <a:pPr marL="99360" indent="-99360" algn="ctr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Obciążalność prądowa długotrwała przewodów i kabli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elektroenergetycz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9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9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9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9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31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31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rzy czy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31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31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286000" y="2743200"/>
                <a:ext cx="388620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d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666880" y="4952880"/>
                <a:ext cx="2971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ϑ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ϑ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1000"/>
          </a:bodyPr>
          <a:p>
            <a:pPr marL="72000" indent="-72000" algn="ctr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Obciążalność prądowa długotrwała przewodów i kabli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elektroenergetycz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2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72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2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dd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przyrost temperatury dopuszczalny długotrwal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2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s   - przekrój przewodu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2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S  - powierzchnia zewnętrzna przewodu o jednostkowej długości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2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rezystywność materiału przewodu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2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od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współczynnik oddawania ciepła do otoczeni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2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 CE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- współczynnik strat dodatkowych wywołany wpływem pól               magnetycznych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2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2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239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239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239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6000"/>
          </a:bodyPr>
          <a:p>
            <a:pPr marL="123480" indent="-123480" algn="ctr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</a:rPr>
              <a:t>Wyznaczenie przekroju przewodów ze względu na obciążalność prądową długotrwałą [wg. PN-IEC 60364-5-52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23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41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Wybór typu przewo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1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2. Wybór sposobu ułożenia przewo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1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3. Wybór materiału żyły przewo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1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4. Wybór liczby żył przewodu obciążonych prąd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1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5. Odczytanie po dokonaniu wyborów w  p. 1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4. z odpowiedniej tabeli normy najmniejszego przekroju przewodu, którego obciążalność długotrwała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jest większa od prądu obciążenia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obc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23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</a:rPr>
              <a:t>Wyznaczenie przekroju przewodów ze względu na obciążalność prądową długotrwał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rzebieg obciążenia przewodu podczas pracy ciągł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752480" y="4191120"/>
            <a:ext cx="5410440" cy="1739880"/>
            <a:chOff x="1752480" y="4191120"/>
            <a:chExt cx="5410440" cy="1739880"/>
          </a:xfrm>
        </p:grpSpPr>
        <p:sp>
          <p:nvSpPr>
            <p:cNvPr id="236" name=""/>
            <p:cNvSpPr/>
            <p:nvPr/>
          </p:nvSpPr>
          <p:spPr>
            <a:xfrm>
              <a:off x="2133720" y="556272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133720" y="426672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14600" y="47242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14600" y="472428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81680" y="5562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52480" y="4191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28800" y="5334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</a:rPr>
              <a:t>Wyznaczenie przekroju przewodów ze względu na obciążalność prądową długotrwał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rzebieg nagrzewania przewodu podczas pracy ciągł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828800" y="4191120"/>
            <a:ext cx="5562720" cy="2044440"/>
            <a:chOff x="1828800" y="4191120"/>
            <a:chExt cx="5562720" cy="2044440"/>
          </a:xfrm>
        </p:grpSpPr>
        <p:sp>
          <p:nvSpPr>
            <p:cNvPr id="246" name=""/>
            <p:cNvSpPr/>
            <p:nvPr/>
          </p:nvSpPr>
          <p:spPr>
            <a:xfrm>
              <a:off x="2362320" y="556272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362320" y="426672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200" y="47242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10280" y="5562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108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54100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623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4724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62320" y="54100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43200" y="4686480"/>
              <a:ext cx="2286000" cy="723600"/>
            </a:xfrm>
            <a:custGeom>
              <a:avLst/>
              <a:gdLst/>
              <a:ahLst/>
              <a:rect l="l" t="t" r="r" b="b"/>
              <a:pathLst>
                <a:path w="1440" h="456">
                  <a:moveTo>
                    <a:pt x="0" y="456"/>
                  </a:moveTo>
                  <a:cubicBezTo>
                    <a:pt x="48" y="300"/>
                    <a:pt x="96" y="144"/>
                    <a:pt x="336" y="72"/>
                  </a:cubicBezTo>
                  <a:cubicBezTo>
                    <a:pt x="576" y="0"/>
                    <a:pt x="1256" y="32"/>
                    <a:pt x="1440" y="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4724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4320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895120" y="47242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2408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408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24080" y="541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3200" y="5257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43200" y="5562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24080" y="571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867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28800" y="44956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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 CE"/>
                </a:rPr>
                <a:t>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05120" y="510552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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 C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</a:rPr>
              <a:t>Wyznaczenie przekroju przewodów ze względu na obciążalność prądową długotrwał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rzebieg obciążenia przewodu podczas pracy dorywcz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752480" y="4191120"/>
            <a:ext cx="5410440" cy="1739880"/>
            <a:chOff x="1752480" y="4191120"/>
            <a:chExt cx="5410440" cy="1739880"/>
          </a:xfrm>
        </p:grpSpPr>
        <p:sp>
          <p:nvSpPr>
            <p:cNvPr id="271" name=""/>
            <p:cNvSpPr/>
            <p:nvPr/>
          </p:nvSpPr>
          <p:spPr>
            <a:xfrm>
              <a:off x="2133720" y="556272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133720" y="426672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14600" y="47242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81680" y="5562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52480" y="4191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8800" y="5334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1800" y="47242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72000" y="47242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29200" y="47242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14600" y="4724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2000" y="4724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23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81280" y="54100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971440" y="5410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1460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14600" y="4952880"/>
              <a:ext cx="4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t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 CE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81280" y="4952880"/>
              <a:ext cx="4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t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 CE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</a:rPr>
              <a:t>Wyznaczenie przekroju przewodów ze względu na obciążalność prądową długotrwał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rzebieg nagrzewania przewodu podczas pracy dorywcz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523880" y="3505320"/>
            <a:ext cx="5867640" cy="2539080"/>
            <a:chOff x="1523880" y="3505320"/>
            <a:chExt cx="5867640" cy="2539080"/>
          </a:xfrm>
        </p:grpSpPr>
        <p:sp>
          <p:nvSpPr>
            <p:cNvPr id="292" name=""/>
            <p:cNvSpPr/>
            <p:nvPr/>
          </p:nvSpPr>
          <p:spPr>
            <a:xfrm>
              <a:off x="1905120" y="373392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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 CE"/>
                </a:rPr>
                <a:t>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1523880" y="3505320"/>
              <a:ext cx="5867640" cy="2539080"/>
              <a:chOff x="1523880" y="3505320"/>
              <a:chExt cx="5867640" cy="2539080"/>
            </a:xfrm>
          </p:grpSpPr>
          <p:sp>
            <p:nvSpPr>
              <p:cNvPr id="294" name=""/>
              <p:cNvSpPr/>
              <p:nvPr/>
            </p:nvSpPr>
            <p:spPr>
              <a:xfrm>
                <a:off x="2362320" y="5410080"/>
                <a:ext cx="358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1523880" y="3505320"/>
                <a:ext cx="5867640" cy="2539080"/>
                <a:chOff x="1523880" y="3505320"/>
                <a:chExt cx="5867640" cy="25390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362320" y="5562720"/>
                  <a:ext cx="4800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200400" y="3962520"/>
                  <a:ext cx="320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010280" y="5562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Times New Roman CE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905120" y="3505320"/>
                  <a:ext cx="457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57400" y="5410080"/>
                  <a:ext cx="30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Times New Roman CE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971800" y="4343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743200" y="464832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743200" y="4952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124080" y="4724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124080" y="5105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124080" y="54100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743200" y="556272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124080" y="57150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666880" y="5638680"/>
                  <a:ext cx="5335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Times New Roman CE"/>
                    </a:rPr>
                    <a:t>t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Times New Roman CE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905120" y="5105520"/>
                  <a:ext cx="6858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</a:t>
                  </a:r>
                  <a:r>
                    <a:rPr b="0" lang="pl-PL" sz="2000" spc="-1" strike="noStrike" baseline="-25000">
                      <a:solidFill>
                        <a:srgbClr val="000000"/>
                      </a:solidFill>
                      <a:latin typeface="Times New Roman CE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2362320" y="3657600"/>
                  <a:ext cx="0" cy="19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514600" y="3962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19520" y="3962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743200" y="3949560"/>
                  <a:ext cx="2590920" cy="1460520"/>
                </a:xfrm>
                <a:custGeom>
                  <a:avLst/>
                  <a:gdLst/>
                  <a:ahLst/>
                  <a:rect l="l" t="t" r="r" b="b"/>
                  <a:pathLst>
                    <a:path w="1632" h="920">
                      <a:moveTo>
                        <a:pt x="0" y="920"/>
                      </a:moveTo>
                      <a:cubicBezTo>
                        <a:pt x="56" y="612"/>
                        <a:pt x="112" y="304"/>
                        <a:pt x="384" y="152"/>
                      </a:cubicBezTo>
                      <a:cubicBezTo>
                        <a:pt x="656" y="0"/>
                        <a:pt x="1144" y="4"/>
                        <a:pt x="1632" y="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743200" y="4343400"/>
                  <a:ext cx="380880" cy="1066680"/>
                </a:xfrm>
                <a:custGeom>
                  <a:avLst/>
                  <a:gdLst/>
                  <a:ahLst/>
                  <a:rect l="l" t="t" r="r" b="b"/>
                  <a:pathLst>
                    <a:path w="240" h="672">
                      <a:moveTo>
                        <a:pt x="0" y="672"/>
                      </a:moveTo>
                      <a:cubicBezTo>
                        <a:pt x="28" y="536"/>
                        <a:pt x="56" y="400"/>
                        <a:pt x="96" y="288"/>
                      </a:cubicBezTo>
                      <a:cubicBezTo>
                        <a:pt x="136" y="176"/>
                        <a:pt x="216" y="48"/>
                        <a:pt x="24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124080" y="4343400"/>
                  <a:ext cx="1828800" cy="1092240"/>
                </a:xfrm>
                <a:custGeom>
                  <a:avLst/>
                  <a:gdLst/>
                  <a:ahLst/>
                  <a:rect l="l" t="t" r="r" b="b"/>
                  <a:pathLst>
                    <a:path w="1152" h="688">
                      <a:moveTo>
                        <a:pt x="0" y="0"/>
                      </a:moveTo>
                      <a:cubicBezTo>
                        <a:pt x="72" y="232"/>
                        <a:pt x="144" y="464"/>
                        <a:pt x="336" y="576"/>
                      </a:cubicBezTo>
                      <a:cubicBezTo>
                        <a:pt x="528" y="688"/>
                        <a:pt x="840" y="680"/>
                        <a:pt x="1152" y="672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952880" y="4343400"/>
                  <a:ext cx="381240" cy="1066680"/>
                </a:xfrm>
                <a:custGeom>
                  <a:avLst/>
                  <a:gdLst/>
                  <a:ahLst/>
                  <a:rect l="l" t="t" r="r" b="b"/>
                  <a:pathLst>
                    <a:path w="240" h="672">
                      <a:moveTo>
                        <a:pt x="0" y="672"/>
                      </a:moveTo>
                      <a:cubicBezTo>
                        <a:pt x="28" y="536"/>
                        <a:pt x="56" y="400"/>
                        <a:pt x="96" y="288"/>
                      </a:cubicBezTo>
                      <a:cubicBezTo>
                        <a:pt x="136" y="176"/>
                        <a:pt x="216" y="48"/>
                        <a:pt x="24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334120" y="4343400"/>
                  <a:ext cx="152280" cy="304920"/>
                </a:xfrm>
                <a:custGeom>
                  <a:avLst/>
                  <a:gdLst/>
                  <a:ahLst/>
                  <a:rect l="l" t="t" r="r" b="b"/>
                  <a:pathLst>
                    <a:path w="96" h="192">
                      <a:moveTo>
                        <a:pt x="0" y="0"/>
                      </a:moveTo>
                      <a:cubicBezTo>
                        <a:pt x="40" y="80"/>
                        <a:pt x="80" y="160"/>
                        <a:pt x="96" y="192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124080" y="4343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362320" y="4343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66880" y="434340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743200" y="42670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962520" y="5638680"/>
                  <a:ext cx="5331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Times New Roman CE"/>
                    </a:rPr>
                    <a:t>t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Times New Roman CE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743200" y="3962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952880" y="54100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952880" y="57150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523880" y="4038480"/>
                  <a:ext cx="7621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</a:t>
                  </a:r>
                  <a:r>
                    <a:rPr b="0" lang="pl-PL" sz="2000" spc="-1" strike="noStrike" baseline="-25000">
                      <a:solidFill>
                        <a:srgbClr val="000000"/>
                      </a:solidFill>
                      <a:latin typeface="Times New Roman CE"/>
                    </a:rPr>
                    <a:t>p ma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7000"/>
          </a:bodyPr>
          <a:p>
            <a:pPr marL="126720" indent="-126720" algn="ctr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</a:rPr>
              <a:t>Wyznaczenie przekroju przewodów ze względu na obciążalność prądową długotrwał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26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26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Obciążalność przewodu podczas pracy dorywczej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26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26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26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26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26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26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26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895480" y="3862440"/>
                <a:ext cx="23623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438280" y="4800600"/>
                <a:ext cx="32004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58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057400" y="4114800"/>
            <a:ext cx="5029200" cy="1770480"/>
            <a:chOff x="2057400" y="4114800"/>
            <a:chExt cx="5029200" cy="1770480"/>
          </a:xfrm>
        </p:grpSpPr>
        <p:sp>
          <p:nvSpPr>
            <p:cNvPr id="334" name=""/>
            <p:cNvSpPr/>
            <p:nvPr/>
          </p:nvSpPr>
          <p:spPr>
            <a:xfrm>
              <a:off x="2438280" y="556272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438280" y="426672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48120" y="47242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05320" y="47242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19920" y="47242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43400" y="47242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62720" y="47242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00600" y="47242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3400" y="4724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62720" y="4724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43200" y="5410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05320" y="5410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124080" y="5105520"/>
              <a:ext cx="38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 CE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33920" y="4952880"/>
              <a:ext cx="380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</a:rPr>
                <a:t>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 CE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58000" y="548640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57400" y="4114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33720" y="53341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48120" y="4724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52280" y="1600200"/>
            <a:ext cx="8839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</a:rPr>
              <a:t>Wyznaczenie przekroju przewodów ze względu na obciążalność prądową długotrwał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rzebieg obciążenia przewodu podczas pracy przerywa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</a:rPr>
              <a:t>Informacje podstawow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dane charakterystyczne zasil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dane o obwodach realizujących określone  funkc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dane o awaryjnym zasilan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arunki otocze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</a:rPr>
              <a:t>Wyznaczenie przekroju przewodów ze względu na obciążalność prądową długotrwał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rzebieg nagrzewania przewodu podczas pracy przerywa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523880" y="3505320"/>
            <a:ext cx="5867640" cy="2425680"/>
            <a:chOff x="1523880" y="3505320"/>
            <a:chExt cx="5867640" cy="2425680"/>
          </a:xfrm>
        </p:grpSpPr>
        <p:sp>
          <p:nvSpPr>
            <p:cNvPr id="356" name=""/>
            <p:cNvSpPr/>
            <p:nvPr/>
          </p:nvSpPr>
          <p:spPr>
            <a:xfrm>
              <a:off x="2362320" y="556272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10280" y="5562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05120" y="35053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54100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05120" y="510552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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 C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362320" y="36576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3880" y="4419720"/>
              <a:ext cx="762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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 CE"/>
                </a:rPr>
                <a:t>d 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62320" y="403848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62320" y="541008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62320" y="472428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666880" y="4038480"/>
              <a:ext cx="60984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432"/>
                  </a:moveTo>
                  <a:cubicBezTo>
                    <a:pt x="40" y="300"/>
                    <a:pt x="80" y="168"/>
                    <a:pt x="144" y="96"/>
                  </a:cubicBezTo>
                  <a:cubicBezTo>
                    <a:pt x="208" y="24"/>
                    <a:pt x="296" y="12"/>
                    <a:pt x="38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76720" y="4038480"/>
              <a:ext cx="60948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0"/>
                  </a:moveTo>
                  <a:cubicBezTo>
                    <a:pt x="64" y="132"/>
                    <a:pt x="128" y="264"/>
                    <a:pt x="192" y="336"/>
                  </a:cubicBezTo>
                  <a:cubicBezTo>
                    <a:pt x="256" y="408"/>
                    <a:pt x="320" y="420"/>
                    <a:pt x="384" y="4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95680" y="4038480"/>
              <a:ext cx="60984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0"/>
                  </a:moveTo>
                  <a:cubicBezTo>
                    <a:pt x="64" y="132"/>
                    <a:pt x="128" y="264"/>
                    <a:pt x="192" y="336"/>
                  </a:cubicBezTo>
                  <a:cubicBezTo>
                    <a:pt x="256" y="408"/>
                    <a:pt x="320" y="420"/>
                    <a:pt x="384" y="4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86200" y="4038480"/>
              <a:ext cx="60948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432"/>
                  </a:moveTo>
                  <a:cubicBezTo>
                    <a:pt x="40" y="300"/>
                    <a:pt x="80" y="168"/>
                    <a:pt x="144" y="96"/>
                  </a:cubicBezTo>
                  <a:cubicBezTo>
                    <a:pt x="208" y="24"/>
                    <a:pt x="296" y="12"/>
                    <a:pt x="38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05520" y="4038480"/>
              <a:ext cx="60948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432"/>
                  </a:moveTo>
                  <a:cubicBezTo>
                    <a:pt x="40" y="300"/>
                    <a:pt x="80" y="168"/>
                    <a:pt x="144" y="96"/>
                  </a:cubicBezTo>
                  <a:cubicBezTo>
                    <a:pt x="208" y="24"/>
                    <a:pt x="296" y="12"/>
                    <a:pt x="38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23880" y="3809880"/>
              <a:ext cx="762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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 CE"/>
                </a:rPr>
                <a:t>d 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6000"/>
          </a:bodyPr>
          <a:p>
            <a:pPr marL="157680" indent="-157680" algn="ctr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</a:rPr>
              <a:t>Wyznaczenie przekroju przewodów ze względu na obciążalność prądową długotrwał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5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57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Obciążalność przewodu podczas pracy przerywa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25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25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2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2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2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2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                         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2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25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35812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3429000" y="3429000"/>
                <a:ext cx="2057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066680" y="4648320"/>
                <a:ext cx="38862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943600" y="5181480"/>
                <a:ext cx="21337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</a:rPr>
              <a:t>Wyznaczenie przekroju przewodów ze względu na obciążalność prądową długotrwałą [wg. PBUE z.10] - obciążenie dowol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Jeżeli znany jest przebieg prądu rzeczywistego, czyl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można obliczyć prąd zastępcz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gdzie T - czas pracy, w ciągu którego ustali się temperatura części wiodącej prąd lub cykl p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429000" y="3429000"/>
                <a:ext cx="1676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743200" y="4648320"/>
                <a:ext cx="3200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</a:rPr>
              <a:t>Wyznaczenie przekroju przewodów ze względu na obciążalność prądową długotrwałą - współczynniki poprawkow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</a:rPr>
              <a:t>Przykład obliczeniowy 1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Dobrać przekrój kabla przy założeniach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1. - I</a:t>
            </a:r>
            <a:r>
              <a:rPr b="0" lang="pl-PL" sz="2600" spc="-1" strike="noStrike" baseline="-25000">
                <a:solidFill>
                  <a:srgbClr val="000000"/>
                </a:solidFill>
                <a:latin typeface="Times New Roman CE"/>
              </a:rPr>
              <a:t>obc</a:t>
            </a: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 = 150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2. - kabel aluminiowy 4-żyłowy niskiego napięcia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3. - izolacja kabla - PCV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4. - kabel ułożony bezpośrednio w ziemi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5. - praca w temperaturze odniesienia +15</a:t>
            </a:r>
            <a:r>
              <a:rPr b="0" lang="pl-PL" sz="2600" spc="-1" strike="noStrike" baseline="30000">
                <a:solidFill>
                  <a:srgbClr val="000000"/>
                </a:solidFill>
                <a:latin typeface="Times New Roman CE"/>
              </a:rPr>
              <a:t>0</a:t>
            </a: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C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6. - obok, w odległości 0,3m prowadzony inny kab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</a:rPr>
              <a:t>Wyznaczenie przekroju przewodów ze względu na obciążalność prądową długotrwałą - współczynniki poprawkow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zykład obliczeniowy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d.1, 2, 3, 4: z tablicy 52-C3 normy PN-IEC-60364-5-523 - przekrój kabl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</a:t>
            </a:r>
            <a:r>
              <a:rPr b="0" lang="pl-PL" sz="2000" spc="-1" strike="noStrike">
                <a:solidFill>
                  <a:srgbClr val="0000ff"/>
                </a:solidFill>
                <a:latin typeface="Times New Roman CE"/>
              </a:rPr>
              <a:t>YAKY 4x120mm</a:t>
            </a:r>
            <a:r>
              <a:rPr b="0" lang="pl-PL" sz="2000" spc="-1" strike="noStrike" baseline="30000">
                <a:solidFill>
                  <a:srgbClr val="0000ff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-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= 157A &gt; 150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d. 5: - temperatura odniesienia inna niż standardowa - z tablicy 52-D2 normy PN-IEC 60364-5-523 - współczynnik poprawkowy –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1,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d. 6: - sąsiedztwo innego przewodu - z tablicy 52-E3 normy PN-IEC 60364-5-523 - współczynnik poprawkowy –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0,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rekta przekroju -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nownie z tablicy 52-C3 normy PN-IEC 60364-5-523 - skorygowany przekrój kabl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</a:t>
            </a:r>
            <a:r>
              <a:rPr b="0" lang="pl-PL" sz="2000" spc="-1" strike="noStrike">
                <a:solidFill>
                  <a:srgbClr val="0000ff"/>
                </a:solidFill>
                <a:latin typeface="Times New Roman CE"/>
              </a:rPr>
              <a:t>YAKY 4x150mm</a:t>
            </a:r>
            <a:r>
              <a:rPr b="0" lang="pl-PL" sz="2000" spc="-1" strike="noStrike" baseline="30000">
                <a:solidFill>
                  <a:srgbClr val="0000ff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-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= 178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295800" y="4943520"/>
                <a:ext cx="4012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c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opr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8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</a:rPr>
              <a:t>Wyznaczenie przekroju przewodów ze względu na obciążalność prądową długotrwałą - współczynniki poprawkow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</a:rPr>
              <a:t>Przykład obliczeniowy 2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Dobrać przekrój przewodu instalacyjnego przy założeniach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1. - I</a:t>
            </a:r>
            <a:r>
              <a:rPr b="0" lang="pl-PL" sz="2600" spc="-1" strike="noStrike" baseline="-25000">
                <a:solidFill>
                  <a:srgbClr val="000000"/>
                </a:solidFill>
                <a:latin typeface="Times New Roman CE"/>
              </a:rPr>
              <a:t>obc</a:t>
            </a: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 = 48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2. - przewód miedziany 4-żyłowy niskiego napięcia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3. - izolacja przewodu - PCV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4. - przewód ułożony na tynku,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5. - praca w temperaturze odniesienia +35</a:t>
            </a:r>
            <a:r>
              <a:rPr b="0" lang="pl-PL" sz="2600" spc="-1" strike="noStrike" baseline="30000">
                <a:solidFill>
                  <a:srgbClr val="000000"/>
                </a:solidFill>
                <a:latin typeface="Times New Roman CE"/>
              </a:rPr>
              <a:t>0</a:t>
            </a: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C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6. - w sąsiedztwie w odległości mniejszej niż średnica przewodu  prowadzone są dwa inne przewod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</a:rPr>
              <a:t>Wyznaczenie przekroju przewodów ze względu na obciążalność prądową długotrwałą  - współczynniki poprawkow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</a:rPr>
              <a:t>Przykład obliczeniow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d.1, 2, 3, 4: z tablicy 52-C3 normy PN-IEC 60364-5-523 (kolumna 6 – metoda C) - przekrój przewod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</a:t>
            </a:r>
            <a:r>
              <a:rPr b="0" lang="pl-PL" sz="2000" spc="-1" strike="noStrike">
                <a:solidFill>
                  <a:srgbClr val="0000ff"/>
                </a:solidFill>
                <a:latin typeface="Times New Roman CE"/>
              </a:rPr>
              <a:t>YDY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(lub</a:t>
            </a:r>
            <a:r>
              <a:rPr b="0" lang="pl-PL" sz="2000" spc="-1" strike="noStrike">
                <a:solidFill>
                  <a:srgbClr val="0000ff"/>
                </a:solidFill>
                <a:latin typeface="Times New Roman CE"/>
              </a:rPr>
              <a:t> YL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)</a:t>
            </a:r>
            <a:r>
              <a:rPr b="0" lang="pl-PL" sz="2000" spc="-1" strike="noStrike">
                <a:solidFill>
                  <a:srgbClr val="0000ff"/>
                </a:solidFill>
                <a:latin typeface="Times New Roman CE"/>
              </a:rPr>
              <a:t> 4x10mm</a:t>
            </a:r>
            <a:r>
              <a:rPr b="0" lang="pl-PL" sz="2000" spc="-1" strike="noStrike" baseline="30000">
                <a:solidFill>
                  <a:srgbClr val="0000ff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-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= 57A &gt; 48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d. 5: - temperatura odniesienia inna niż standardowa - z tablicy 52-D1 normy PN-IEC 60364-5-523 (kolumna 6) - współczynnik poprawkowy -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0,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d. 6: - sąsiedztwo innych przewodów - z tablicy 52-E1 normy PN-IEC 60364-5-523 – pozycja 2 - współczynnik poprawkowy –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= 0,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korekta przekroju -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onownie z tablicy 52-C3 - skorygowany przekrój przewod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- </a:t>
            </a:r>
            <a:r>
              <a:rPr b="0" lang="pl-PL" sz="2000" spc="-1" strike="noStrike">
                <a:solidFill>
                  <a:srgbClr val="0000ff"/>
                </a:solidFill>
                <a:latin typeface="Times New Roman CE"/>
              </a:rPr>
              <a:t>YLY 4x16mm</a:t>
            </a:r>
            <a:r>
              <a:rPr b="0" lang="pl-PL" sz="2000" spc="-1" strike="noStrike" baseline="30000">
                <a:solidFill>
                  <a:srgbClr val="0000ff"/>
                </a:solidFill>
                <a:latin typeface="Times New Roman CE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-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 CE"/>
              </a:rPr>
              <a:t>z 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= 76A &gt; 64,6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46560" y="5248440"/>
                <a:ext cx="394956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c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opr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</a:rPr>
              <a:t>Informacje szczegółow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typ przewodów, sposób ich instalowania, przekrój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rodzaje zabezpieczeń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yłączenie awaryjn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urządzenia odłączając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zajemne oddziaływanie instalacji elektrycznych i nieelektrycznych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dostęp do wyposażenia elektryczn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dane charakterystyczne zasilania [ wg PN-IEC 60364-1 oraz PN-IEC 60364-3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1. Rodzaj prądu - przemienny i/lub stał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2. Nazwa i liczba przewod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rzewody fazowe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L1  L2  L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rzewód  neutralny                          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rzewód ochronny                            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przewód ochronno-neutralny           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9296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2. Nazwa i liczba przewodów - układy sie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Sieci </a:t>
            </a: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T</a:t>
            </a:r>
            <a:r>
              <a:rPr b="0" lang="pl-PL" sz="2400" spc="-1" strike="noStrike">
                <a:solidFill>
                  <a:srgbClr val="006600"/>
                </a:solidFill>
                <a:latin typeface="Times New Roman CE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bezpośrednie połączenie punktu neutralnego układu z ziemi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N - bezpośrednie połączenie dostępnych części przewodzących z uziemionym punktem neutralnym sie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T</a:t>
            </a:r>
            <a:r>
              <a:rPr b="0" lang="pl-PL" sz="2400" spc="-1" strike="noStrike">
                <a:solidFill>
                  <a:srgbClr val="006600"/>
                </a:solidFill>
                <a:latin typeface="Times New Roman CE"/>
              </a:rPr>
              <a:t>N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</a:t>
            </a:r>
            <a:r>
              <a:rPr b="0" lang="pl-PL" sz="2400" spc="-1" strike="noStrike">
                <a:solidFill>
                  <a:srgbClr val="ffff00"/>
                </a:solidFill>
                <a:latin typeface="Times New Roman C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Times New Roman CE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występuje przewód 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T</a:t>
            </a:r>
            <a:r>
              <a:rPr b="0" lang="pl-PL" sz="2400" spc="-1" strike="noStrike">
                <a:solidFill>
                  <a:srgbClr val="006600"/>
                </a:solidFill>
                <a:latin typeface="Times New Roman CE"/>
              </a:rPr>
              <a:t>N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występują przewody N i 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T</a:t>
            </a:r>
            <a:r>
              <a:rPr b="0" lang="pl-PL" sz="2400" spc="-1" strike="noStrike">
                <a:solidFill>
                  <a:srgbClr val="006600"/>
                </a:solidFill>
                <a:latin typeface="Times New Roman CE"/>
              </a:rPr>
              <a:t>N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</a:t>
            </a:r>
            <a:r>
              <a:rPr b="0" lang="pl-PL" sz="2400" spc="-1" strike="noStrike">
                <a:solidFill>
                  <a:srgbClr val="ffff00"/>
                </a:solidFill>
                <a:latin typeface="Times New Roman CE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</a:t>
            </a:r>
            <a:r>
              <a:rPr b="0" lang="pl-PL" sz="2400" spc="-1" strike="noStrike">
                <a:solidFill>
                  <a:srgbClr val="ff0000"/>
                </a:solidFill>
                <a:latin typeface="Times New Roman C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 Black"/>
              </a:rPr>
              <a:t>Projekt instalacji elektrycznej</a:t>
            </a:r>
            <a:r>
              <a:rPr b="0" lang="pl-PL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9296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Informacje podstawo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2. Nazwa i liczba przewodów - układy sie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Sieci </a:t>
            </a: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T</a:t>
            </a:r>
            <a:r>
              <a:rPr b="0" lang="pl-PL" sz="2400" spc="-1" strike="noStrike">
                <a:solidFill>
                  <a:srgbClr val="6600cc"/>
                </a:solidFill>
                <a:latin typeface="Times New Roman CE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bezpośrednie połączenie punktu neutralnego układu z ziemi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00cc"/>
                </a:solidFill>
                <a:latin typeface="Times New Roman CE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- bezpośrednie połączenie dostępnych części przewodzących niezależnie od uziemienia punktu neutralnego sie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Sieci </a:t>
            </a:r>
            <a:r>
              <a:rPr b="0" lang="pl-PL" sz="2400" spc="-1" strike="noStrike">
                <a:solidFill>
                  <a:srgbClr val="009999"/>
                </a:solidFill>
                <a:latin typeface="Times New Roman CE"/>
              </a:rPr>
              <a:t>I</a:t>
            </a:r>
            <a:r>
              <a:rPr b="0" lang="pl-PL" sz="2400" spc="-1" strike="noStrike">
                <a:solidFill>
                  <a:srgbClr val="6600cc"/>
                </a:solidFill>
                <a:latin typeface="Times New Roman C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99"/>
                </a:solidFill>
                <a:latin typeface="Times New Roman CE"/>
              </a:rPr>
              <a:t>I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- wszystkie części będące pod napięciem są izolowane od ziemi lub punkt neutralny sieci jest połączony z ziemią przez impedancję o dużej wartości</a:t>
            </a:r>
            <a:r>
              <a:rPr b="0" lang="pl-PL" sz="2400" spc="-1" strike="noStrike">
                <a:solidFill>
                  <a:srgbClr val="009999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4T12:59:38Z</dcterms:created>
  <dc:creator>Izabella Mróz-Radlowska</dc:creator>
  <dc:description/>
  <dc:language>en-US</dc:language>
  <cp:lastModifiedBy>Izabella Mróz-Radlowska</cp:lastModifiedBy>
  <cp:lastPrinted>2001-03-06T19:58:45Z</cp:lastPrinted>
  <dcterms:modified xsi:type="dcterms:W3CDTF">2003-05-15T16:25:20Z</dcterms:modified>
  <cp:revision>16</cp:revision>
  <dc:subject/>
  <dc:title>Projektowanie instalacji elektrycznych</dc:title>
</cp:coreProperties>
</file>