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405-D48F-45E9-BDC5-76433C99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FA3-5229-454B-A739-14A56710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A27-1B79-4AFF-8EC2-5CFC425B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3CD-5DB1-4F5D-A97E-33FB8EC5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A3AE-82C5-444E-81B6-D8980768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70C4-0AB1-4386-B3C8-FAC8414A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32D5-B269-4341-B81F-242ACC9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C9D0-C20B-4335-B6D9-39EDDF8B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10F8-9DC1-4A87-BCA1-BA4092D2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C43A-067D-4AEF-A0D8-7CDABD11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D58C-45CE-481B-9294-3E5AC78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364-5C80-4376-B643-76C88629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D4C8-72DC-4B59-9362-49C7DA10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7639-DFF7-4D90-AB9F-6A60F07E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2A3E-056C-4C18-8829-53C67F89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6E98-68E3-4F5C-9960-B35FE44A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B01D-73AE-43B2-8D93-EBC1D184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53C-7740-4FA9-AA58-D4F80F9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03E-6D98-41E2-B332-AEB761ED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5E6-2653-4C06-9B1C-57A4544B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F51-E629-4C77-BC21-E223A613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C22-B6D2-4451-B88C-06228971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985-9BE9-456C-BDBE-4C4F4999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901-F813-4BD2-908F-EB9FABA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27FE-F03E-4A57-844B-707ED31C3D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9747-3809-46A9-B7F9-9996EADFCF87}" type="slidenum">
              <a:rPr b="0" lang="en-US" sz="1400" spc="-1" strike="noStrike">
                <a:solidFill>
                  <a:srgbClr val="ff99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28240"/>
            <a:ext cx="87152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linii niskiego napięcia (w tym przewodu instalacyjnego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295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napięci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w lin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895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668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100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26668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6668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2590920"/>
            <a:ext cx="5638680" cy="1450080"/>
            <a:chOff x="2057400" y="2590920"/>
            <a:chExt cx="5638680" cy="1450080"/>
          </a:xfrm>
        </p:grpSpPr>
        <p:sp>
          <p:nvSpPr>
            <p:cNvPr id="107" name=""/>
            <p:cNvSpPr/>
            <p:nvPr/>
          </p:nvSpPr>
          <p:spPr>
            <a:xfrm>
              <a:off x="3657600" y="3048120"/>
              <a:ext cx="762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3200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19720" y="3200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19520" y="38098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32767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0080" y="327672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769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28195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259092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3276720"/>
              <a:ext cx="91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5520" y="3276720"/>
              <a:ext cx="91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4120" y="32004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4120" y="3809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3276720"/>
              <a:ext cx="228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3657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28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28195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3080" y="3276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d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66680" y="4572000"/>
            <a:ext cx="70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j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562720"/>
            <a:ext cx="693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15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Zabezpieczenia przeciążeni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yłączniki wyposażone w wyzwalacze przeciążeni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Bezpieczniki topikowe ogólnego przeznaczenia z pełnozakresową charakterystyką wyłącz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Zabezpieczenia zwarci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yłączniki wyposażone w wyzwalacze zwarci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Bezpieczniki topikowe ogólnego przeznaczenia z pełnozakresową charakterystyką wyłącz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kładki topikowe dobezpieczeniowe ( z niepełnozakresową charakterystyką wyłączan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219320"/>
            <a:ext cx="891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Rodzaje urządzeń zabezpieczający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15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398320"/>
            <a:ext cx="9144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Zabezpieczenia przeciążeniowo - zwarci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yłączniki wyposażone w wyzwalacze przeciążeniowe i wyzwalacze zwarci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yłączniki współpracujące z bezpiecznikami topikowy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yłączniki wyposażone w wyzwalacze przeciążeniowe i dobezpieczeniowe wkładki topik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Bezpieczniki topikowe ogólnego przeznaczenia z pełnozakresową charakterystyką wyłącz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1219320"/>
            <a:ext cx="891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Rodzaje urządzeń zabezpieczający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4720" y="228600"/>
            <a:ext cx="8639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65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Są to łączniki bezstykowe jednorazowego działan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Przerwanie obwodu następuje samoczynnie po przekroczeniu określonej wartości prądu w czasie zależnym od prądu i typu bezpieczni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Elementem wykonawczym jest element topikowy – drut lub paski miedzi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Element topikowy umieszczony jest wewnątrz korpusu ceramicznego wypełnionego piaskiem kwarcowy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219320"/>
            <a:ext cx="723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W czasie przepływu prądu przez bezpiecznik element topikowy nagrzewa się a jego temperatura jest zależna od wartości prąd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2193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1143000"/>
            <a:ext cx="739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 - działan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33526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Prąd przeciąże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Prąd zwar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14400" y="3809880"/>
            <a:ext cx="2742840" cy="2450520"/>
            <a:chOff x="914400" y="3809880"/>
            <a:chExt cx="2742840" cy="2450520"/>
          </a:xfrm>
        </p:grpSpPr>
        <p:grpSp>
          <p:nvGrpSpPr>
            <p:cNvPr id="205" name=""/>
            <p:cNvGrpSpPr/>
            <p:nvPr/>
          </p:nvGrpSpPr>
          <p:grpSpPr>
            <a:xfrm>
              <a:off x="1411920" y="4073400"/>
              <a:ext cx="2245320" cy="2187000"/>
              <a:chOff x="1411920" y="4073400"/>
              <a:chExt cx="2245320" cy="2187000"/>
            </a:xfrm>
          </p:grpSpPr>
          <p:sp>
            <p:nvSpPr>
              <p:cNvPr id="206" name=""/>
              <p:cNvSpPr/>
              <p:nvPr/>
            </p:nvSpPr>
            <p:spPr>
              <a:xfrm>
                <a:off x="3428640" y="50288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411920" y="4073400"/>
                <a:ext cx="2245320" cy="2187000"/>
                <a:chOff x="1411920" y="4073400"/>
                <a:chExt cx="2245320" cy="2187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752480" y="50288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1411920" y="4073400"/>
                  <a:ext cx="2245320" cy="2187000"/>
                  <a:chOff x="1411920" y="4073400"/>
                  <a:chExt cx="2245320" cy="21870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1523880" y="50288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1523880" y="53337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428640" y="50288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428640" y="53337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599840" y="5181480"/>
                    <a:ext cx="1905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V="1" rot="10704600">
                    <a:off x="1614960" y="4100040"/>
                    <a:ext cx="1980720" cy="213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V="1" rot="16282200">
                    <a:off x="1511640" y="4024800"/>
                    <a:ext cx="1980000" cy="2133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352680" y="51814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590560" y="4114800"/>
                    <a:ext cx="0" cy="129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19" name=""/>
            <p:cNvSpPr/>
            <p:nvPr/>
          </p:nvSpPr>
          <p:spPr>
            <a:xfrm flipH="1" flipV="1">
              <a:off x="914400" y="3809880"/>
              <a:ext cx="1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105520" y="3809880"/>
            <a:ext cx="2514600" cy="2590920"/>
            <a:chOff x="5105520" y="3809880"/>
            <a:chExt cx="2514600" cy="2590920"/>
          </a:xfrm>
        </p:grpSpPr>
        <p:grpSp>
          <p:nvGrpSpPr>
            <p:cNvPr id="221" name=""/>
            <p:cNvGrpSpPr/>
            <p:nvPr/>
          </p:nvGrpSpPr>
          <p:grpSpPr>
            <a:xfrm>
              <a:off x="5334120" y="3962520"/>
              <a:ext cx="2286000" cy="2438280"/>
              <a:chOff x="5334120" y="3962520"/>
              <a:chExt cx="2286000" cy="243828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334120" y="3962520"/>
                <a:ext cx="2286000" cy="2438280"/>
                <a:chOff x="5334120" y="3962520"/>
                <a:chExt cx="2286000" cy="2438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391520" y="50292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562720" y="50292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5334120" y="3962520"/>
                  <a:ext cx="2286000" cy="2438280"/>
                  <a:chOff x="5334120" y="3962520"/>
                  <a:chExt cx="2286000" cy="24382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5334120" y="50292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5334120" y="53341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391520" y="50292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391520" y="53341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486400" y="5181840"/>
                    <a:ext cx="1905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477840" y="3962520"/>
                    <a:ext cx="1065600" cy="243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6019920" y="39625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>
                    <a:off x="5486400" y="3962520"/>
                    <a:ext cx="1066320" cy="243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>
                <a:off x="7315200" y="5181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H="1" flipV="1">
              <a:off x="5105520" y="3809880"/>
              <a:ext cx="1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[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112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[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miejsce przeciąże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Napięcie znamion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– bezpiecznik musi być tak dobrany aby napięcie sieci nie przekraczało 110% napięcia znamionowego bezpieczn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rąd znamionowy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–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– wartość prądu, który wkładka może przewodzić ciągle bez uszkodze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rąd niezadziałania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–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(probierczy dolny –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nf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) – największa wartość prądu, który wkładka topikowa jest w stanie przewodzić bez stopienia się w określonym (umownym) cza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rąd zadziałania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–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(probierczy górny –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) – najmniejsza wartość prądu, która powoduje zadziałanie wkładki w określonym czasie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114300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 - parame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Times New Roman CE"/>
              </a:rPr>
              <a:t>5.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Charakterystyka czasowo-prądowa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– krzywa przedstawiająca średnie czasy przedłukowe (między początkiem wystąpienia prądu mogącego przetopić topik a chwilą zapłonu łuku) lub czasy wyłączania (suma czasu przedłukowego i łukowego) w zależności od spodziewanego prą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( Charakterystyka prezentowana jest w skalach logarytmicznych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43400" y="1828440"/>
            <a:ext cx="4611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Charakterystyka pasmowa bezpiecznik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06668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 - parame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790960" y="-609840"/>
            <a:ext cx="27424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28195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495680" y="-609840"/>
            <a:ext cx="5409360" cy="7226640"/>
            <a:chOff x="4495680" y="-609840"/>
            <a:chExt cx="5409360" cy="7226640"/>
          </a:xfrm>
        </p:grpSpPr>
        <p:sp>
          <p:nvSpPr>
            <p:cNvPr id="249" name=""/>
            <p:cNvSpPr/>
            <p:nvPr/>
          </p:nvSpPr>
          <p:spPr>
            <a:xfrm>
              <a:off x="5410080" y="28195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 CE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 CE"/>
                </a:rPr>
                <a:t>I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 CE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495680" y="-609840"/>
              <a:ext cx="5409360" cy="7226640"/>
              <a:chOff x="4495680" y="-609840"/>
              <a:chExt cx="5409360" cy="722664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181480" y="2361960"/>
                <a:ext cx="0" cy="37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81480" y="609588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62720" y="2819520"/>
                <a:ext cx="0" cy="342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257800" y="6172200"/>
                <a:ext cx="685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 C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 CE"/>
                  </a:rPr>
                  <a:t>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 CE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5943600" y="-609840"/>
                <a:ext cx="3961440" cy="670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05520" y="3124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81480" y="5638680"/>
                <a:ext cx="22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24280" y="228600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 CE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24280" y="2895480"/>
                <a:ext cx="457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 CE"/>
                  </a:rPr>
                  <a:t>t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 CE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95680" y="5410080"/>
                <a:ext cx="60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 CE"/>
                  </a:rPr>
                  <a:t>0,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229600" y="617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 CE"/>
                  </a:rPr>
                  <a:t>I [A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95880" y="5638680"/>
                <a:ext cx="533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 CE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 CE"/>
                  </a:rPr>
                  <a:t>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 CE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10280" y="5257800"/>
                <a:ext cx="533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 CE"/>
                  </a:rPr>
                  <a:t>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 CE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72200" y="3657600"/>
                <a:ext cx="0" cy="2514600"/>
              </a:xfrm>
              <a:prstGeom prst="line">
                <a:avLst/>
              </a:prstGeom>
              <a:ln w="93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43600" y="624852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Times New Roman CE"/>
                  </a:rPr>
                  <a:t>np..50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05520" y="4191120"/>
                <a:ext cx="11430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105520" y="5105520"/>
                <a:ext cx="11430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7200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Times New Roman CE"/>
                  </a:rPr>
                  <a:t>4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72000" y="48769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Times New Roman CE"/>
                  </a:rPr>
                  <a:t>0,2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181480" y="2895480"/>
                <a:ext cx="609840" cy="685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181480" y="3276720"/>
                <a:ext cx="609840" cy="685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257800" y="3657600"/>
                <a:ext cx="533520" cy="6858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5181120" y="4038480"/>
                <a:ext cx="685800" cy="7621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181120" y="4800600"/>
                <a:ext cx="838440" cy="9144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181120" y="4343400"/>
                <a:ext cx="762120" cy="838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334120" y="5105520"/>
                <a:ext cx="838080" cy="9903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867280" y="5486400"/>
                <a:ext cx="457200" cy="6094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400440" y="5867280"/>
                <a:ext cx="228600" cy="2286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81680" y="5334120"/>
                <a:ext cx="14479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324480" y="4572000"/>
                <a:ext cx="2057400" cy="1219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095880" y="3809880"/>
                <a:ext cx="2438640" cy="1524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19920" y="3276720"/>
                <a:ext cx="2438280" cy="1295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19920" y="2895480"/>
                <a:ext cx="2286000" cy="1143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 CE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harakterystyka 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– krzywa przedstawiająca zależnoś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962160" y="20574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1066680"/>
            <a:ext cx="74678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 - parame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143240" y="3000240"/>
          <a:ext cx="85752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3000240"/>
                    <a:ext cx="8575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219320" y="3352680"/>
            <a:ext cx="2085840" cy="139068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91" name=""/>
          <p:cNvSpPr/>
          <p:nvPr/>
        </p:nvSpPr>
        <p:spPr>
          <a:xfrm flipV="1">
            <a:off x="4876920" y="2895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56386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876920" y="3199320"/>
            <a:ext cx="609480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876920" y="1599120"/>
            <a:ext cx="6094800" cy="304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2971800"/>
            <a:ext cx="6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n-US" sz="16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 CE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CE"/>
              </a:rPr>
              <a:t>[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 CE"/>
              </a:rPr>
              <a:t>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5791320"/>
            <a:ext cx="114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Times New Roman CE"/>
              </a:rPr>
              <a:t>k</a:t>
            </a: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 [k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2819520"/>
            <a:ext cx="266724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2856"/>
              <a:gd name="adj5" fmla="val 256250"/>
              <a:gd name="adj6" fmla="val -9166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Charakterystyka wyłącz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733920"/>
            <a:ext cx="274320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2777"/>
              <a:gd name="adj5" fmla="val 244097"/>
              <a:gd name="adj6" fmla="val -1944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Charakterystyka przedłuk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143240" y="3000240"/>
          <a:ext cx="857520" cy="85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3240" y="3000240"/>
                    <a:ext cx="8575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8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 C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Charakterystyka prądu ograniczon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– krzywa przedstawiająca zależność prądu ograniczonego od spodziewa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121932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 - parame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952880" y="2819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5715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952880" y="2895480"/>
            <a:ext cx="228600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952880" y="4419360"/>
            <a:ext cx="281952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05520" y="3962160"/>
            <a:ext cx="259056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400800" y="3200400"/>
            <a:ext cx="1219320" cy="380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2666880"/>
            <a:ext cx="609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[k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72400" y="5867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1" lang="pl-PL" sz="1600" spc="-1" strike="noStrike" baseline="-25000">
                <a:solidFill>
                  <a:srgbClr val="000000"/>
                </a:solidFill>
                <a:latin typeface="Times New Roman CE"/>
              </a:rPr>
              <a:t>k</a:t>
            </a:r>
            <a:r>
              <a:rPr b="1" lang="pl-PL" sz="1600" spc="-1" strike="noStrike">
                <a:solidFill>
                  <a:srgbClr val="000000"/>
                </a:solidFill>
                <a:latin typeface="Times New Roman CE"/>
              </a:rPr>
              <a:t>[k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19920" y="29718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 CE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7240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25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97880" y="3657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100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19360" y="1905120"/>
            <a:ext cx="4383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Charakterystyka prądu ograniczone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7697880" y="2971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E"/>
              </a:rPr>
              <a:t>400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38098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4343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 CE"/>
              </a:rPr>
              <a:t>4 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 CE"/>
              </a:rPr>
              <a:t>11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 CE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 CE"/>
              </a:rPr>
              <a:t>9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 CE"/>
              </a:rPr>
              <a:t>2,5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8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 C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Zdolność wyłączania wkładki bezpiecznik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– największa wartość skuteczna spodziewanego prądu zwarciowego, którą wkładka topikowa jest w stanie przerwać przy określonym napięci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ądy wyłączalne dla bezpieczników instalacyjnych wynoszą od 8 do 100 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Bezpieczniki przemysłowe mają prąd wyłączalny rzędu 100 lub 120 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295280" y="129528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 - parame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edług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N-91/E-06160/10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odpowiednik IEC-60269-1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dolność bezpiecznika do ochrony urządzeń od skutków przetężeń określa pierwsza z dwóch lit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-  wkładka topikowa o pełnozakresowej zdolności wyłączania zdolna do wyłączania obwodu w zakresie prądów od minimalnego powodującego stopienie topika do znamionowej zdolności wyłącz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wkładka topikowa o niepełnozakresowej zdolności wyłączania zdolna do wyłączania obwodu w zakresie prądów od pewnej krotności prądu znamionowego do znamionowej zdolności wyłączania. Bezpiecznik taki nie wyłącza zwykle małych prądów przeciążeniowych i stosowany jest tylko jako zabezpieczenie zwarciowe (najczęściej dobezpieczenie układu, który od przeciążeń chroniony jest innym łączniki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121932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 - oznaczen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228240"/>
            <a:ext cx="87152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295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napięci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w lin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95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133720"/>
            <a:ext cx="80010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res wskazowy napięć i prądów dla linii o modelu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 j X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obciążeniu o charakterze indukcyjny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429000"/>
            <a:ext cx="6553080" cy="2158200"/>
            <a:chOff x="1143000" y="3429000"/>
            <a:chExt cx="6553080" cy="2158200"/>
          </a:xfrm>
        </p:grpSpPr>
        <p:sp>
          <p:nvSpPr>
            <p:cNvPr id="134" name=""/>
            <p:cNvSpPr/>
            <p:nvPr/>
          </p:nvSpPr>
          <p:spPr>
            <a:xfrm>
              <a:off x="1905120" y="4724280"/>
              <a:ext cx="2971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6920" y="4724280"/>
              <a:ext cx="685800" cy="53352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05120" y="4724280"/>
              <a:ext cx="45720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562720" y="3733560"/>
              <a:ext cx="990360" cy="152424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876920" y="3809880"/>
              <a:ext cx="1600200" cy="9144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905120" y="3809880"/>
              <a:ext cx="464796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6920" y="47242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53080" y="3809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43000" y="3429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4800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6920" y="4724280"/>
              <a:ext cx="1676160" cy="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504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48006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05120" y="51051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6920" y="51814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Times New Roman"/>
                </a:rPr>
                <a:t>L</a:t>
              </a:r>
              <a:r>
                <a:rPr b="1" lang="en-US" sz="1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R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72200" y="426708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800080"/>
                  </a:solidFill>
                  <a:latin typeface="Times New Roman"/>
                </a:rPr>
                <a:t>j</a:t>
              </a:r>
              <a:r>
                <a:rPr b="1" lang="pl-PL" sz="1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I</a:t>
              </a:r>
              <a:r>
                <a:rPr b="1" lang="pl-PL" sz="1800" spc="-1" strike="noStrike" baseline="-25000">
                  <a:solidFill>
                    <a:srgbClr val="800080"/>
                  </a:solidFill>
                  <a:latin typeface="Times New Roman"/>
                </a:rPr>
                <a:t>L</a:t>
              </a:r>
              <a:r>
                <a:rPr b="1" lang="pl-PL" sz="1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X</a:t>
              </a:r>
              <a:r>
                <a:rPr b="1" lang="pl-PL" sz="1800" spc="-1" strike="noStrike" baseline="-25000">
                  <a:solidFill>
                    <a:srgbClr val="80008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6920" y="40384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Times New Roman"/>
                </a:rPr>
                <a:t>L</a:t>
              </a:r>
              <a:r>
                <a:rPr b="1" lang="en-US" sz="1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Z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4800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ff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>
                  <a:solidFill>
                    <a:srgbClr val="9900ff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3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2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 C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eznaczenie bezpiecznika do zabezpieczenia określonych obwodów i urządzeń oznaczane jest drugą literą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L</a:t>
            </a:r>
            <a:r>
              <a:rPr b="0" lang="pl-PL" sz="2000" spc="-1" strike="noStrike">
                <a:solidFill>
                  <a:srgbClr val="3333cc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– do przewodów i kab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– do silni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R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– do elementów energoelektroniczn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– do urządzeń elektroenergetycznych górnicz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Tr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– do transformator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– ogólnego przeznaczen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ykład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imes New Roman CE"/>
              </a:rPr>
              <a:t>NH WT-01/gG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bezpiecznik przemysłowy (mocowany w gnieździe za pomocą styków nożowych lub połączeniem śrubowym) o wkładce topikowej zwłocznej ogólnego przeznacze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1219320"/>
            <a:ext cx="746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 - oznaczen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72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edług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N-87/E-93100/01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 IEC 60269-3) 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N-85/E-06171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Można stosować oznaczenia charakteryzujące sposób działania wkładek instalacyjnyc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Bi-Wt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- wkładka o działaniu szybkim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Bi-Wt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- wkładka o działaniu zwłoczny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Btp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- wkładka o działaniu bardzo szybkim do zabezpieczeń urządzeń energoelektroniczn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D III Bi-Wts 35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charakterystyka szybka gF) - typ wkładki, oznaczenie wkładki, typ charakterystyk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D IV H Bi-Wtz 80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(charakterystyka zwłoczna g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114300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 - oznaczen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5500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CE"/>
              </a:rPr>
              <a:t>Umowne czasy prób oraz prądy probiercze wkładek topikowych bezpiecznikó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219320" y="1066680"/>
            <a:ext cx="701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Bezpieczniki topikowe - parame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28600" y="2209680"/>
          <a:ext cx="8686800" cy="4462560"/>
        </p:xfrm>
        <a:graphic>
          <a:graphicData uri="http://schemas.openxmlformats.org/drawingml/2006/table">
            <a:tbl>
              <a:tblPr/>
              <a:tblGrid>
                <a:gridCol w="973080"/>
                <a:gridCol w="2397240"/>
                <a:gridCol w="1703160"/>
                <a:gridCol w="1805040"/>
                <a:gridCol w="180828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kres prądu znamionoweg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mowny czas pró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ąd probierczy (krotność pradu znam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kład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pl-PL" sz="12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n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pl-PL" sz="12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-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– 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 –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 –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–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–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– 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 –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 –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szystkie wartości prą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orm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yłączniki samoczynne przeznaczone do ochrony przewodów i kabli od skutków przetęże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N-90/E-06150/20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. Aparatura rozdzielcza i sterownicza niskonapięciowa. Wyłącznik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N-90/E-93002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. Wyłączniki nadprądowe do instalacji domowych i podobny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N-90/E-93003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. Wyłączniki samoczynne do zabezpieczania urządzeń elektryczny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21932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Wyłączniki nadmiarow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87264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ziałanie wyłączników i ich charakterystyki czasowo - prądowe wynikają z reakcji na przepływ prądu nadmiarowego dwóch wyzwalacz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członu przeciążeniowego (termobimetalowego) – o charakterystyce czasowo – prądowej zależ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członu zwarciowego (elektromagnetycznego) – o charakterystyce czasowo – prądowej niezależ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106668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Wyłączniki nadmiarowe - działan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15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 CE"/>
              </a:rPr>
              <a:t>Charakterystyka wyzwalacza przeciążeni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114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1066680" y="990720"/>
            <a:ext cx="7620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Wyłączniki nadmiarowe - działan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142640" y="1446840"/>
            <a:ext cx="3656880" cy="42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28600" y="1143000"/>
            <a:ext cx="4723560" cy="5164920"/>
            <a:chOff x="228600" y="1143000"/>
            <a:chExt cx="4723560" cy="5164920"/>
          </a:xfrm>
        </p:grpSpPr>
        <p:sp>
          <p:nvSpPr>
            <p:cNvPr id="352" name=""/>
            <p:cNvSpPr/>
            <p:nvPr/>
          </p:nvSpPr>
          <p:spPr>
            <a:xfrm flipV="1">
              <a:off x="914400" y="327636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14400" y="571500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1142640" y="1294560"/>
              <a:ext cx="3047040" cy="42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1447560" y="1142640"/>
              <a:ext cx="350424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600" y="3200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57913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14400" y="3657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4300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4792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8080" y="58672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3333cc"/>
                  </a:solidFill>
                  <a:latin typeface="Times New Roman CE"/>
                </a:rPr>
                <a:t>I</a:t>
              </a:r>
              <a:r>
                <a:rPr b="1" lang="pl-PL" sz="2000" spc="-1" strike="noStrike" baseline="-25000">
                  <a:solidFill>
                    <a:srgbClr val="3333cc"/>
                  </a:solidFill>
                  <a:latin typeface="Times New Roman CE"/>
                </a:rPr>
                <a:t>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95280" y="58672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3333cc"/>
                  </a:solidFill>
                  <a:latin typeface="Times New Roman CE"/>
                </a:rPr>
                <a:t>I</a:t>
              </a:r>
              <a:r>
                <a:rPr b="1" lang="pl-PL" sz="2000" spc="-1" strike="noStrike" baseline="-25000">
                  <a:solidFill>
                    <a:srgbClr val="3333cc"/>
                  </a:solidFill>
                  <a:latin typeface="Times New Roman C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191120" y="1981080"/>
            <a:ext cx="4572000" cy="49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I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 CE"/>
              </a:rPr>
              <a:t>n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umowny 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prąd niezadział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– taka wartość prądu, która może przepływać przez wyłącznik w określonym (umownym) czasie nie powodując jego dział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I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 CE"/>
              </a:rPr>
              <a:t>t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umowny 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prąd zadział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– taka wartość prądu, która przepływając przez wyłącznik spowoduje jego zadziałanie przed upływem określonego (umownego) czas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zas umowny  ( </a:t>
            </a:r>
            <a:r>
              <a:rPr b="0" lang="pl-PL" sz="2000" spc="-1" strike="noStrike">
                <a:solidFill>
                  <a:srgbClr val="3333cc"/>
                </a:solidFill>
                <a:latin typeface="Times New Roman CE"/>
              </a:rPr>
              <a:t>t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 CE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 h – dla wyłączników o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63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 h – dla wyłączników o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&gt; 63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505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 CE"/>
              </a:rPr>
              <a:t>t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 CE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15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04920" y="1980720"/>
            <a:ext cx="41148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 CE"/>
              </a:rPr>
              <a:t>Charakterystyka wyzwalacza zwarci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990720"/>
            <a:ext cx="7620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Wyłączniki nadmiarowe - działan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1142640" y="1446840"/>
            <a:ext cx="3656880" cy="42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3124080"/>
            <a:ext cx="3124080" cy="2920320"/>
            <a:chOff x="685800" y="3124080"/>
            <a:chExt cx="3124080" cy="2920320"/>
          </a:xfrm>
        </p:grpSpPr>
        <p:sp>
          <p:nvSpPr>
            <p:cNvPr id="371" name=""/>
            <p:cNvSpPr/>
            <p:nvPr/>
          </p:nvSpPr>
          <p:spPr>
            <a:xfrm>
              <a:off x="1219320" y="556236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9320" y="320004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09680" y="3352680"/>
              <a:ext cx="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9680" y="52578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5800" y="3124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09680" y="5257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09680" y="50292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81080" y="563868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3333cc"/>
                  </a:solidFill>
                  <a:latin typeface="Times New Roman CE"/>
                </a:rPr>
                <a:t>I</a:t>
              </a:r>
              <a:r>
                <a:rPr b="1" lang="pl-PL" sz="1800" spc="-1" strike="noStrike" baseline="-25000">
                  <a:solidFill>
                    <a:srgbClr val="3333cc"/>
                  </a:solidFill>
                  <a:latin typeface="Times New Roman CE"/>
                </a:rPr>
                <a:t>bezzw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267080" y="3352680"/>
            <a:ext cx="457200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ąd zadziałania bezzwłocznego – </a:t>
            </a:r>
            <a:r>
              <a:rPr b="1" lang="pl-PL" sz="2000" spc="-1" strike="noStrike">
                <a:solidFill>
                  <a:srgbClr val="3333cc"/>
                </a:solidFill>
                <a:latin typeface="Times New Roman CE"/>
              </a:rPr>
              <a:t>I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 CE"/>
              </a:rPr>
              <a:t>bezzwl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minimalna wartość prądu, która powoduje samoczynne zadziałanie wyłącznika bez celowej zwłoki.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8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Powinny działać zgodnie z pasmem znormalizowanej charakterystyki czasowo-prądowej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Przewiduje się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3 główne typy charakterystyki czasowo-prądowej: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 CE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Times New Roman CE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Times New Roman C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wyróżnione w zależności od wartości prądu zadziałania bezzwłoczn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90760" y="2017800"/>
            <a:ext cx="4763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Charakterystyki wyłączników instalacyjny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1295280"/>
            <a:ext cx="723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Wyłączniki instalacyj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867280" y="1675440"/>
            <a:ext cx="380952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5943600" y="1752840"/>
            <a:ext cx="365688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343400" y="1370880"/>
            <a:ext cx="6324120" cy="5214960"/>
            <a:chOff x="4343400" y="1370880"/>
            <a:chExt cx="6324120" cy="5214960"/>
          </a:xfrm>
        </p:grpSpPr>
        <p:sp>
          <p:nvSpPr>
            <p:cNvPr id="388" name=""/>
            <p:cNvSpPr/>
            <p:nvPr/>
          </p:nvSpPr>
          <p:spPr>
            <a:xfrm flipV="1">
              <a:off x="5029200" y="259092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29200" y="563868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5334120" y="1370520"/>
              <a:ext cx="4418640" cy="30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5715000" y="1676880"/>
              <a:ext cx="365688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3600" y="3352680"/>
              <a:ext cx="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24480" y="36576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5943600" y="4343040"/>
              <a:ext cx="472392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6324480" y="4342320"/>
              <a:ext cx="396216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34320" y="38862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6324480" y="4037760"/>
              <a:ext cx="39621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6934320" y="4342320"/>
              <a:ext cx="274248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6934320" y="4037760"/>
              <a:ext cx="2742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7543800" y="4190400"/>
              <a:ext cx="1523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43800" y="396252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43600" y="41911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77120" y="4419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 C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86600" y="4419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 CE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43400" y="2590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t [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24680" y="5715000"/>
              <a:ext cx="99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I/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 CE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4120" y="2895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5000" y="2895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29200" y="5791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 CE"/>
                </a:rPr>
                <a:t>1,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86400" y="5791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 CE"/>
                </a:rPr>
                <a:t>1,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43600" y="4876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24480" y="4724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4724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43800" y="46483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3600" y="5562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2448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38680" y="62485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 CE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19920" y="5791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 C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29400" y="5791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 CE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38880" y="57913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 C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872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Urządzenie zabezpieczające od przeciążeń powinno być tak dobrane, aby przerwanie przepływu prądu przeciążeniowego nastąpiło zanim pojawi się niebezpieczeństwo uszkodzenia izolacji przewodów, połączeń, zacisków lub otoczenia na skutek nadmiernego wzrostu temperatu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Zabezpieczenie zwarciowe powinno być tak dobrane, aby przerwanie przepływu prądu zwarciowego nastąpiło zanim wystąpi niebezpieczeństwo uszkodzeń cieplnych i mechanicznych w przewodach lub ich połączeni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11430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2017440"/>
            <a:ext cx="8726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Należy wybrać urządzenie zabezpieczające o najmniejszym prądzie znamionowym, którego charakterystyki działania spełniają poniższe warun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 CE"/>
              </a:rPr>
              <a:t>B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 CE"/>
              </a:rPr>
              <a:t>n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 CE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 CE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1,45 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 CE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gdzi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 CE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– przewidywany prąd obciążenia przew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 C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– prąd znamionowy (lub nastawiony) urządzen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zabezpieczając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– obciążalność długotrwała przew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– prąd zadziałania urządzenia zabezpieczając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1219320" y="11430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 przeciążeniowy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adek napięcia dla linii o modelu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+ j X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L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 = Re {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} = Re { (I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+ j I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’’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 (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+ j X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– I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’’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[V]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adek napięcia dla linii o modelu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L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 = Re {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} = Re { (I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+ j I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’’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 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[V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295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napięci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w lin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895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74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ażde urządzenie zabezpieczające przed skutkami prądu zwarciowego powinno spełniać poniższe warun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Zabezpieczenie zwarciowe powinno mieć zdolność do przerywania prądu zwarciowego o wartości nie mniejszej od wartości spodziewanego prądu zwarciowego w miejscu zainstalowania danego urządze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cc"/>
                </a:solidFill>
                <a:latin typeface="Times New Roman CE"/>
              </a:rPr>
              <a:t>I</a:t>
            </a:r>
            <a:r>
              <a:rPr b="1" lang="pl-PL" sz="2800" spc="-1" strike="noStrike" baseline="-25000">
                <a:solidFill>
                  <a:srgbClr val="3333cc"/>
                </a:solidFill>
                <a:latin typeface="Times New Roman CE"/>
              </a:rPr>
              <a:t>nw</a:t>
            </a:r>
            <a:r>
              <a:rPr b="1" lang="pl-PL" sz="2800" spc="-1" strike="noStrike">
                <a:solidFill>
                  <a:srgbClr val="3333cc"/>
                </a:solidFill>
                <a:latin typeface="Times New Roman CE"/>
              </a:rPr>
              <a:t> </a:t>
            </a:r>
            <a:r>
              <a:rPr b="1" lang="pl-PL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pl-PL" sz="2800" spc="-1" strike="noStrike">
                <a:solidFill>
                  <a:srgbClr val="3333cc"/>
                </a:solidFill>
                <a:latin typeface="Times New Roman CE"/>
              </a:rPr>
              <a:t> I</a:t>
            </a:r>
            <a:r>
              <a:rPr b="1" lang="pl-PL" sz="2800" spc="-1" strike="noStrike" baseline="-25000">
                <a:solidFill>
                  <a:srgbClr val="3333cc"/>
                </a:solidFill>
                <a:latin typeface="Times New Roman CE"/>
              </a:rPr>
              <a:t>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400" spc="-1" strike="noStrike">
                <a:solidFill>
                  <a:srgbClr val="3333cc"/>
                </a:solidFill>
                <a:latin typeface="Times New Roman CE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 CE"/>
              </a:rPr>
              <a:t>nw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– prąd znamionowy wyłączalny urządzenia zabezpieczającego (znamionowa zdolność zwarciow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400" spc="-1" strike="noStrike">
                <a:solidFill>
                  <a:srgbClr val="3333cc"/>
                </a:solidFill>
                <a:latin typeface="Times New Roman CE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 CE"/>
              </a:rPr>
              <a:t>ws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– spodziewana wartość prądu wyłączeniowego obwodu (praktycznie w instalacjach – prąd zwarciowy początkow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2952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 zwarciowy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74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 C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Czas przepływu prądu zwarciowego powinien być taki, aby temperatura przewodów nie przekroczyła granicznej wartości dopuszczalnej przy zwarci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k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 CE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S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 CE"/>
              </a:rPr>
              <a:t>2 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 I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 CE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k – współczynnik liczbowy w [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s/mm], odpowiadający jednosekundowej dopuszczalnej gęstości prądu podczas zwarci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S – przekrój przewodu w [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]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I – prąd zwarciowy początkowy w [A]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 – czas trwania prądu zwarciowego w [s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Wartość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t zabezpieczenia należy odczytać z charakterystyk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d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 zwarciowy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74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artości współczynników  k w [A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/mm] dla przewod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Z żyłami miedzianymi w izolacji z gumy, butylenu, polietylenu usieciowanego lub etylenu-propylenu  </a:t>
            </a:r>
            <a:r>
              <a:rPr b="1" lang="pl-PL" sz="2400" spc="-1" strike="noStrike">
                <a:solidFill>
                  <a:srgbClr val="3333cc"/>
                </a:solidFill>
                <a:latin typeface="Times New Roman CE"/>
              </a:rPr>
              <a:t>k = 135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Z żyłami miedzianymi w izolacji z PVC i dla połączeń przewodów miedzianych lutowanych cyną  </a:t>
            </a:r>
            <a:r>
              <a:rPr b="1" lang="pl-PL" sz="2400" spc="-1" strike="noStrike">
                <a:solidFill>
                  <a:srgbClr val="3333cc"/>
                </a:solidFill>
                <a:latin typeface="Times New Roman CE"/>
              </a:rPr>
              <a:t>k = 115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Z żyłami aluminiowymi w izolacji z gumy, butylenu, polietylenu usieciowanego lub etylenu-propylenu  </a:t>
            </a:r>
            <a:r>
              <a:rPr b="1" lang="pl-PL" sz="2400" spc="-1" strike="noStrike">
                <a:solidFill>
                  <a:srgbClr val="3333cc"/>
                </a:solidFill>
                <a:latin typeface="Times New Roman CE"/>
              </a:rPr>
              <a:t>k = 8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Z żyłami aluminiowymi w izolacji z PVC   </a:t>
            </a:r>
            <a:r>
              <a:rPr b="1" lang="pl-PL" sz="2400" spc="-1" strike="noStrike">
                <a:solidFill>
                  <a:srgbClr val="3333cc"/>
                </a:solidFill>
                <a:latin typeface="Times New Roman CE"/>
              </a:rPr>
              <a:t>k = 74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2952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 zwarciowy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574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 C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Znamionowy prąd urządzenia zabezpieczającego przed skutkami zwarcia może być większy od obciążalności prądowej długotrwałej przewod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 CE"/>
              </a:rPr>
              <a:t>n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3333cc"/>
                </a:solidFill>
                <a:latin typeface="Times New Roman CE"/>
              </a:rPr>
              <a:t> 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 CE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 zwarciowy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851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ane: - prąd obciążenia –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50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wybrano przewód YLY 5 x 10 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o obciążalnośc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50 A (metoda B1 tab. 52-C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spodziewany prąd zwarciowy I = 2 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-458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imes New Roman C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 CE"/>
              </a:rPr>
              <a:t>Stosujemy bezpiecznik jako zabezpieczenie od zwarć i przeciążeń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-458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 CE"/>
              </a:rPr>
              <a:t>Dobór zabezpieczenia przeciążeniowego</a:t>
            </a:r>
            <a:r>
              <a:rPr b="0" lang="pl-PL" sz="2000" spc="-1" strike="noStrike">
                <a:solidFill>
                  <a:srgbClr val="33cc33"/>
                </a:solidFill>
                <a:latin typeface="Times New Roman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. 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 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ff0000"/>
                </a:solidFill>
                <a:latin typeface="Times New Roman CE"/>
              </a:rPr>
              <a:t>I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 CE"/>
              </a:rPr>
              <a:t>n</a:t>
            </a:r>
            <a:r>
              <a:rPr b="0" lang="pl-PL" sz="2000" spc="-1" strike="noStrike">
                <a:solidFill>
                  <a:srgbClr val="ff0000"/>
                </a:solidFill>
                <a:latin typeface="Times New Roman CE"/>
              </a:rPr>
              <a:t> = 50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. 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1,45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bezpieczników o charakterystykach gL lub gG i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50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1.6 x 50 = 80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,45 x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73,95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ff0000"/>
                </a:solidFill>
                <a:latin typeface="Times New Roman CE"/>
              </a:rPr>
              <a:t>Warunek 2. nie jest spełniony.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ff0000"/>
                </a:solidFill>
                <a:latin typeface="Times New Roman CE"/>
              </a:rPr>
              <a:t>Należy zmienić przekrój przewod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 Wybieramy </a:t>
            </a:r>
            <a:r>
              <a:rPr b="0" lang="pl-PL" sz="2000" spc="-1" strike="noStrike">
                <a:solidFill>
                  <a:srgbClr val="ff0000"/>
                </a:solidFill>
                <a:latin typeface="Times New Roman CE"/>
              </a:rPr>
              <a:t>YLY 5 x 16 mm</a:t>
            </a:r>
            <a:r>
              <a:rPr b="0" lang="pl-PL" sz="2000" spc="-1" strike="noStrike" baseline="30000">
                <a:solidFill>
                  <a:srgbClr val="ff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o obciążalności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68 A. Wówcz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,45 x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95,2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1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 zwarciowych - przykł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imes New Roman C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 CE"/>
              </a:rPr>
              <a:t>Stosujemy bezpiecznik jako zabezpieczenie od zwarć i przeciążeń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 CE"/>
              </a:rPr>
              <a:t>Dobór zabezpieczenia zwarciow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wybranego bezpiecznika sprawdzamy warunek zwarciow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S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I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 New Roman CE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bezpiecznika przemysłowego typu NH o charakterystyce gL lub g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50 A (WTN – 01 50 A) odczytujemy z katalogu bezpieczników wartość maksymalną całki Joule’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t = 10500 A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 New Roman CE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zastosowanego przewodu typu YLY 5 x 16 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obliczam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11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16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3385600 A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ff0000"/>
                </a:solidFill>
                <a:latin typeface="Times New Roman CE"/>
              </a:rPr>
              <a:t>Wybrany bezpiecznik prawidłowo chroni przewód od zwar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12952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 zwarciowych - przykł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ane: - prąd obciążenia –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50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wybrano przewód YLY 5 x 10 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o obciążalnośc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50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spodziewany prąd zwarciowy I = 2 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imes New Roman CE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 CE"/>
              </a:rPr>
              <a:t>Stosujemy wyłącznik instalacyjny jako zabezpieczenie od zwarć i przeciążeń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 CE"/>
              </a:rPr>
              <a:t>Dobór zabezpieczenia przeciążeniow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. 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 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ff0000"/>
                </a:solidFill>
                <a:latin typeface="Times New Roman CE"/>
              </a:rPr>
              <a:t>I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 CE"/>
              </a:rPr>
              <a:t>n</a:t>
            </a:r>
            <a:r>
              <a:rPr b="0" lang="pl-PL" sz="2000" spc="-1" strike="noStrike">
                <a:solidFill>
                  <a:srgbClr val="ff0000"/>
                </a:solidFill>
                <a:latin typeface="Times New Roman CE"/>
              </a:rPr>
              <a:t> = 50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. 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1,45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wyłączników instalacyjnych o 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50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1,45 x 50 = 72,5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,45 x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73,95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arunek 2.  jest spełniony. Przewód </a:t>
            </a:r>
            <a:r>
              <a:rPr b="0" lang="pl-PL" sz="2000" spc="-1" strike="noStrike">
                <a:solidFill>
                  <a:srgbClr val="ff0000"/>
                </a:solidFill>
                <a:latin typeface="Times New Roman CE"/>
              </a:rPr>
              <a:t>YLY 5 x 10 mm</a:t>
            </a:r>
            <a:r>
              <a:rPr b="0" lang="pl-PL" sz="2000" spc="-1" strike="noStrike" baseline="30000">
                <a:solidFill>
                  <a:srgbClr val="ff0000"/>
                </a:solidFill>
                <a:latin typeface="Times New Roman CE"/>
              </a:rPr>
              <a:t>2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jest odpowiednio chroniony od przeciążeń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 zwarciowych - przykł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imes New Roman CE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 CE"/>
              </a:rPr>
              <a:t>Stosujemy wyłącznik instalacyjny jako zabezpieczenie od zwarć i przeciąże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 CE"/>
              </a:rPr>
              <a:t>Dobór zabezpieczenia zwarciow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wybranego wyłącznika instalacyjnego sprawdzamy warunek zwarciow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S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I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 New Roman CE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wyłącznika instalacyjnego  np.. typu S 190 B 50 A odczytujemy z katalogu wyłączników wartość  całki Joule’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t = 9000 A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imes New Roman CE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zastosowanego przewodu typu YLY 5 x 10 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obliczam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11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1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1322500 A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ff0000"/>
                </a:solidFill>
                <a:latin typeface="Times New Roman CE"/>
              </a:rPr>
              <a:t>Wybrany wyłącznik prawidłowo chroni przewód od zwar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 zwarciowych - przykł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-305280" y="3962520"/>
            <a:ext cx="5410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Jako ochrona od zwarć i przeciążeń zastosowany bezpiecznik WTN –01 50A wymaga </a:t>
            </a:r>
            <a:r>
              <a:rPr b="0" lang="en-US" sz="2400" spc="-1" strike="noStrike">
                <a:solidFill>
                  <a:srgbClr val="ff0000"/>
                </a:solidFill>
                <a:latin typeface="Times New Roman CE"/>
              </a:rPr>
              <a:t>powiększ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przekroju przewodu. Trzeba wybrać przewód </a:t>
            </a:r>
            <a:r>
              <a:rPr b="0" lang="en-US" sz="2400" spc="-1" strike="noStrike">
                <a:solidFill>
                  <a:srgbClr val="ff0000"/>
                </a:solidFill>
                <a:latin typeface="Times New Roman CE"/>
              </a:rPr>
              <a:t>YLY 5 x 16 m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 C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76560" y="3962520"/>
            <a:ext cx="4002120" cy="16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Jako ochrona od zwarć i przeciążeń zastosowany wyłącznik instalacyjny S 190 B 50 A prawidłowo chroni dobrany przewód </a:t>
            </a:r>
            <a:r>
              <a:rPr b="0" lang="en-US" sz="2400" spc="-1" strike="noStrike">
                <a:solidFill>
                  <a:srgbClr val="ff0000"/>
                </a:solidFill>
                <a:latin typeface="Times New Roman CE"/>
              </a:rPr>
              <a:t>YLY 5 x 10 m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 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12952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Dobór zabezpieczeń zwarciowych - porównan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21337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2209680"/>
            <a:ext cx="83818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Dla danych:  - prąd obciążenia –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50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wybrano przewód YLY 5 x 10 m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o obciążaln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50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spodziewany prąd zwarciowy I = 2 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dek napięcia dla linii obliczony w 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1295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napięci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w lin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124080" y="3276720"/>
          <a:ext cx="267660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76720"/>
                    <a:ext cx="26766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191120" y="3962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295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puszczal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a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napięci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[wg PBUE z. 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2438280"/>
          <a:ext cx="8686800" cy="3144960"/>
        </p:xfrm>
        <a:graphic>
          <a:graphicData uri="http://schemas.openxmlformats.org/drawingml/2006/table">
            <a:tbl>
              <a:tblPr/>
              <a:tblGrid>
                <a:gridCol w="1981080"/>
                <a:gridCol w="1409760"/>
                <a:gridCol w="1333440"/>
                <a:gridCol w="1295640"/>
                <a:gridCol w="1218960"/>
                <a:gridCol w="144792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wnętrzne linie zasilają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cje odbior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zaj instal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silane ze wspólnej sie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silane ze stacji transformatoro-wych w obiekcie budowlany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silane z wewnętrznych linii zasilając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silane bezpośrednio       z  sieci elektroenerge-tycznej 1 k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silane bezpośrednio z głównych rozdzielni stacji  transformator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cje o U</a:t>
                      </a:r>
                      <a:r>
                        <a:rPr b="0" lang="pl-PL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2V, wspólne dla odbiorników oświetleniowych i grzej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cje o U</a:t>
                      </a:r>
                      <a:r>
                        <a:rPr b="0" lang="pl-PL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2V, nie zasilające  odbiorników oświetleniow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8600" y="5791320"/>
            <a:ext cx="861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padki napięć w instalacjach odbiorczych mogą przekraczać podane wartości, lecz suma spadków napięć w instalacjach odbiorczych i liniach wewnętrznych nie powinna przekraczać sumy spadków napięć podanych w tablic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1295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obór przekroju przewodów na 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puszczal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a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895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666880"/>
            <a:ext cx="8458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przewodu o przekroju dobranym wg kryterium nagrzewania prądem roboczym i po sprawdzeniu czy dobrane zabezpieczenia nie wymagają powiększenia przekroju należy obliczyć procentowy spadek napięcia i sprawdzić, c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313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jmniejsze przekroje żył przewodów dopuszczalne ze względu na wytrzymałość mechaniczn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1295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obór przekroju przewodów na wytrzymałość mechaniczn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895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2895480"/>
          <a:ext cx="8610480" cy="3733920"/>
        </p:xfrm>
        <a:graphic>
          <a:graphicData uri="http://schemas.openxmlformats.org/drawingml/2006/table">
            <a:tbl>
              <a:tblPr/>
              <a:tblGrid>
                <a:gridCol w="533160"/>
                <a:gridCol w="4648320"/>
                <a:gridCol w="1752480"/>
                <a:gridCol w="1676520"/>
              </a:tblGrid>
              <a:tr h="362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zaj przewodów i sposób ułoż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jmniejszy przekrój żył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m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edzia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miniow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wody gołe ułożone w pomieszczenia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wody gołe ułożone na zewnątrz pomieszcze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wody izolowane bez powłoki lub pancer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łożone po wierzchu na zewnątrz pomieszcze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wody izolowane w obwodach sygnalizacyjnych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rowniczych i pomiarow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zewody izolowane nie wymienione w lp. 3 i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)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,5)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Ustalenia nie dotyczą przewodów ochronnych i szynow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Zabezpieczenia przewodó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209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Przewody robocze instalacji elektroenergetycznych powinny być zabezpieczone przed skutkami zwarć i przeciążeń przez urządzenie zabezpieczające, które samoczynnie wyłączy zasila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N-IEC 60364-4-43.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Instalacje elektryczne w obiektach budowlanych. Ochrona zapewniająca bezpieczeństwo. Ochrona przed prądem przetężeniowy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25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N-IEC 60364-4-473.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Instalacje elektryczne w obiektach budowlanych. Ochrona zapewniająca bezpieczeństwo. Środki ochrony przed prądem przetężeniowy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15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jekt instalacji elektryczn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7600" y="3047760"/>
            <a:ext cx="8726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Zabezpieczenia przeciążeniowe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– urządzenia zabezpieczające tylko przed skutkami prądu przeciążeni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Zabezpieczenia zwarciowe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– urządzenia zabezpieczające tylko przed skutkami prądu zwarci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Zabezpieczenia przeciążeniowo-zwarciowe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- urządzenia zabezpieczające jednocześnie przed skutkami prądu przeciążeniowego i zwarci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219320"/>
            <a:ext cx="8915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Zabezpieczenia przewodó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 – 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rodzaje urządzeń zabezpieczający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9:34:11Z</dcterms:created>
  <dc:creator>Izabella Mróz-Radłowska</dc:creator>
  <dc:description/>
  <dc:language>en-US</dc:language>
  <cp:lastModifiedBy>Izabella Mróz-Radlowska</cp:lastModifiedBy>
  <dcterms:modified xsi:type="dcterms:W3CDTF">2003-05-09T11:10:52Z</dcterms:modified>
  <cp:revision>8</cp:revision>
  <dc:subject/>
  <dc:title>Projektowanie instalacji elektrycznej </dc:title>
</cp:coreProperties>
</file>